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8AE0-3DF1-44A1-A04D-20FB0169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12F8-64E1-4E9B-81F4-5F47F58A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A37-EB93-4A43-BDCE-7D6698D8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CA18-C8D2-49F4-BB97-69C07E4E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48E3-387C-469E-9C4C-011CD774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A882-D8E5-480E-B15E-5264DD0E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4993-C431-417D-A8B3-46F6B05F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A98A-7352-42E0-9CBA-42CF7190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6522-6105-464D-8ACC-9C0C48B0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B02D-A151-45A8-95FB-B8BBB6A3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92D4-380B-45C6-9CCE-B890FFCB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F60E-B1AC-468B-A87B-7011F9A5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F1E7-D887-43C5-9E75-6191862A0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139760"/>
            <a:ext cx="7772400" cy="130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Tectonic Evolution of the Arctic Region Since the Ordovic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09600" y="2908440"/>
            <a:ext cx="67215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L.A. Lawver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L.M. Gahaga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and D.A. Campb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2000, University of Texas Institute for Geophys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July 9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1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uras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Kimmeridg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retac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Alb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aleog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Ypr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Quater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4200" y="1173240"/>
            <a:ext cx="776124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e wish to thank th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LATES’ sponsors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r their support: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oco, Elf, Exxon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orsk Hydro, and Statoil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31800" y="1411200"/>
            <a:ext cx="78408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For more information, contact: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isa M. Gahagan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Institute for Geophysics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4412 Spicewood Springs Rd., Bldg. 600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ustin, TX  78759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lates@ig.utexas.edu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1924200" y="2371680"/>
            <a:ext cx="5295600" cy="21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23560" y="1587240"/>
            <a:ext cx="6659640" cy="39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The following animation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is an abbreviated version,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showing reconstructions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every 50 million years.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The original animation shows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reconstructions from 450 to 0 Ma,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every 1 million ye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rdovic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Carad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4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von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Pragh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rbonifer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ournai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3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rbonifer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Kasimov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2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erm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atar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2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uras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arly Sinemur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23:30:48Z</dcterms:created>
  <dc:creator>bandone</dc:creator>
  <dc:description/>
  <dc:language>en-US</dc:language>
  <cp:lastModifiedBy>template</cp:lastModifiedBy>
  <dcterms:modified xsi:type="dcterms:W3CDTF">2000-08-25T18:27:09Z</dcterms:modified>
  <cp:revision>11</cp:revision>
  <dc:subject/>
  <dc:title>No Slide Title</dc:title>
</cp:coreProperties>
</file>