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E0E-1E3C-49E3-B4A0-E521ED71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E63-F4B8-48BC-90BA-3BDBAB0D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AC94-B2A5-45C8-8A8A-2FFCD20B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23F-F456-420C-92FB-67BA964D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9A6-0799-4A49-8AB8-7A5B8AAD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87D-005C-45B7-A0C6-02F2B7D9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129-5338-4DBF-B7F2-187C0A90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B4A-2CEE-453E-AFFE-8BA32117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7AB-9629-4F14-81DF-C55F0A91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806-8225-48E4-9948-2B22AA70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E28-4B38-4093-B1E1-8DEA102E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16E4-2F5C-474E-A57B-DDB9FEA0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315E-9D80-48A9-8FA0-EEE863FCB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39760"/>
            <a:ext cx="7772400" cy="13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ectonic Evolution of the Arctic Region Since the Ordovi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9600" y="2908440"/>
            <a:ext cx="67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A. Lawv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M. Gahaga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nd D.A.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000, University of Texas Institute for Geo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July 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immerid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t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Al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le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Ypr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uater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4200" y="1173240"/>
            <a:ext cx="77612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wish to thank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TES’ sponsor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their support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oco, Elf, Exxon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sk Hydro, and Stato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1800" y="1411200"/>
            <a:ext cx="7840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or more information, contact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sa M. Gahaga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stitute for Geophysic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412 Spicewood Springs Rd., Bldg. 600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in, TX  78759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lates@ig.utexas.edu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924200" y="2371680"/>
            <a:ext cx="529560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3560" y="1587240"/>
            <a:ext cx="665964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following animation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s an abbreviated version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howing reconstruction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50 million years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original animation show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reconstructions from 450 to 0 Ma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1 million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dov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Cara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Pragh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urna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simov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arly Sinemu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3:30:48Z</dcterms:created>
  <dc:creator>bandone</dc:creator>
  <dc:description/>
  <dc:language>en-US</dc:language>
  <cp:lastModifiedBy>template</cp:lastModifiedBy>
  <dcterms:modified xsi:type="dcterms:W3CDTF">2000-08-25T18:27:09Z</dcterms:modified>
  <cp:revision>11</cp:revision>
  <dc:subject/>
  <dc:title>No Slide Title</dc:title>
</cp:coreProperties>
</file>