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B88-0AA5-461D-9382-5C7D2A46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40E-76B8-4939-A612-5B17C84A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19A-619E-4FD4-821D-929940A3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76D-6C36-4B55-AC1C-CAD31662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345-FAA1-4923-94BA-6438A247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F6D-410F-4A76-8759-2B2CCCA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7C3-8474-4813-AF1A-8260ACB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4DD-C14F-4AA0-AAE2-6A494380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261-A30E-46C4-8263-C89E59E4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323-1308-49DF-94C6-EF3DA2F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E1B-69E7-4DDA-B1F7-B13F22F4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926-E49F-4C6B-BE4F-20AA7853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4BE3-CAD2-4CA8-B414-99A5D8A7C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39760"/>
            <a:ext cx="7772400" cy="13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ectonic Evolution of the Arctic Region Since the Ordovi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9600" y="2908440"/>
            <a:ext cx="67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A. Lawv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M. Gahaga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nd D.A.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000, University of Texas Institute for Geo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July 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immerid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t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Al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le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Ypr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uater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4200" y="1173240"/>
            <a:ext cx="77612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wish to thank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TES’ sponsor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their support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oco, Elf, Exxon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sk Hydro, and Stato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1800" y="1411200"/>
            <a:ext cx="7840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or more information, contact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sa M. Gahaga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stitute for Geophysic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412 Spicewood Springs Rd., Bldg. 600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in, TX  78759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lates@ig.utexas.edu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924200" y="2371680"/>
            <a:ext cx="529560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3560" y="1587240"/>
            <a:ext cx="665964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following animation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s an abbreviated version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howing reconstruction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50 million years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original animation show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reconstructions from 450 to 0 Ma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1 million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dov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Cara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Pragh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urna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simov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arly Sinemu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3:30:48Z</dcterms:created>
  <dc:creator>bandone</dc:creator>
  <dc:description/>
  <dc:language>en-US</dc:language>
  <cp:lastModifiedBy>template</cp:lastModifiedBy>
  <dcterms:modified xsi:type="dcterms:W3CDTF">2000-08-25T18:27:09Z</dcterms:modified>
  <cp:revision>11</cp:revision>
  <dc:subject/>
  <dc:title>No Slide Title</dc:title>
</cp:coreProperties>
</file>