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CC0-318E-4FA7-96E0-9F30CAA8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49A-47DE-402D-BF1D-C8FDD77A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436-2796-42D1-8ECA-3F01C2DA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515-E590-4933-ADFE-AD46A6EE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519-A340-407C-9C6F-07CAE257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131-F3CD-480C-A8B2-B2556A35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524-22B2-43B5-9DD7-D3F68E8F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203-DFEB-4B0E-B358-09D719C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135-43DA-4B63-919C-DCE25680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CDA-8973-4115-8B34-FE059A61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AB7-6B6C-49DB-A51D-DA3E750C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89D-78B0-4271-95D0-ED72BB60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9AC4-5B87-4601-A24A-6E78CB146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39760"/>
            <a:ext cx="7772400" cy="13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ectonic Evolution of the Arctic Region Since the Ordovi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9600" y="2908440"/>
            <a:ext cx="67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A. Lawv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M. Gahaga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nd D.A.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000, University of Texas Institute for Geo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July 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immerid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t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Al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le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Ypr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uater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4200" y="1173240"/>
            <a:ext cx="77612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wish to thank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TES’ sponsor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their support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oco, Elf, Exxon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sk Hydro, and Stato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1800" y="1411200"/>
            <a:ext cx="7840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or more information, contact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sa M. Gahaga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stitute for Geophysic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412 Spicewood Springs Rd., Bldg. 600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in, TX  78759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lates@ig.utexas.edu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924200" y="2371680"/>
            <a:ext cx="529560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3560" y="1587240"/>
            <a:ext cx="665964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following animation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s an abbreviated version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howing reconstruction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50 million years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original animation show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reconstructions from 450 to 0 Ma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1 million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dov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Cara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Pragh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urna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simov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arly Sinemu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3:30:48Z</dcterms:created>
  <dc:creator>bandone</dc:creator>
  <dc:description/>
  <dc:language>en-US</dc:language>
  <cp:lastModifiedBy>template</cp:lastModifiedBy>
  <dcterms:modified xsi:type="dcterms:W3CDTF">2000-08-25T18:27:09Z</dcterms:modified>
  <cp:revision>11</cp:revision>
  <dc:subject/>
  <dc:title>No Slide Title</dc:title>
</cp:coreProperties>
</file>