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B4F-7903-4740-B4D3-9680A3BA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9A7-DD90-46CF-B7E7-4FF60F3D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23A-BC93-46D6-982A-CCE4E825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EC3-46FF-410C-8A8A-5D6FE30C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149-7F36-44D4-AB28-7E32AB22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E90-965D-4892-8CEC-AB1D7F95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DBA-42B5-42D8-981F-49DB9C2B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38D-EB24-4BF3-B314-25A3634E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AD0-FC1B-4C46-AF28-36E6E093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481-473D-49B4-85C9-43A473D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3F2-23E1-44AF-BAD8-01AE337C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F98-31E4-4131-ACA9-8DA757A4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8DF3-1DD5-484A-A1C8-B6EB2BC81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39760"/>
            <a:ext cx="7772400" cy="130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Tectonic Evolution of the Arctic Region Since the Ordovi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9600" y="2908440"/>
            <a:ext cx="6721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A. Lawv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M. Gahaga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nd D.A.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2000, University of Texas Institute for Geo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July 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immeridg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etac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Alb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aleo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Ypr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Quater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4200" y="1173240"/>
            <a:ext cx="77612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wish to thank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TES’ sponsor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their support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oco, Elf, Exxon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sk Hydro, and Statoi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1800" y="1411200"/>
            <a:ext cx="7840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or more information, contact: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isa M. Gahaga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stitute for Geophysic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4412 Spicewood Springs Rd., Bldg. 600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ustin, TX  78759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lates@ig.utexas.edu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924200" y="2371680"/>
            <a:ext cx="529560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23560" y="1587240"/>
            <a:ext cx="665964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following animation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is an abbreviated version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howing reconstruction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50 million years.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original animation show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reconstructions from 450 to 0 Ma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1 million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dovi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Cara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Pragh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urna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asimov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m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a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arly Sinemu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3:30:48Z</dcterms:created>
  <dc:creator>bandone</dc:creator>
  <dc:description/>
  <dc:language>en-US</dc:language>
  <cp:lastModifiedBy>template</cp:lastModifiedBy>
  <dcterms:modified xsi:type="dcterms:W3CDTF">2000-08-25T18:27:09Z</dcterms:modified>
  <cp:revision>11</cp:revision>
  <dc:subject/>
  <dc:title>No Slide Title</dc:title>
</cp:coreProperties>
</file>