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22F-0FF6-4965-ABBE-B0AAC71B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F9D-025B-42D1-A09A-C364E989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A43-C0AE-4D87-A6BA-1D446D4A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50C-71D9-4B93-945E-F5DEED0F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BE5-DB8E-4E50-BA11-A60ACDEC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208-3C5D-49E2-BB69-0AD24C67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C94-70E1-40E1-9AD2-A3DAAEFD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D78-F631-4EEA-8A4F-817E7A9D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A69-046F-4AE2-B352-C8058178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EFE-9C8C-4122-9123-727B08B3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501-0188-4CBC-9CA9-AEEECD90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E70-0989-445C-9E79-773D6635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A8E1-7087-4BDE-9953-41B972E83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39760"/>
            <a:ext cx="7772400" cy="130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Tectonic Evolution of the Arctic Region Since the Ordovi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9600" y="2908440"/>
            <a:ext cx="6721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A. Lawv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M. Gahaga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nd D.A.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2000, University of Texas Institute for Geo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July 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immeridg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etac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Alb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aleo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Ypr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Quater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4200" y="1173240"/>
            <a:ext cx="77612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wish to thank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TES’ sponsor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their support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oco, Elf, Exxon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sk Hydro, and Statoi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1800" y="1411200"/>
            <a:ext cx="7840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or more information, contact: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isa M. Gahaga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stitute for Geophysic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4412 Spicewood Springs Rd., Bldg. 600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ustin, TX  78759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lates@ig.utexas.edu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924200" y="2371680"/>
            <a:ext cx="529560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23560" y="1587240"/>
            <a:ext cx="665964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following animation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is an abbreviated version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howing reconstruction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50 million years.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original animation show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reconstructions from 450 to 0 Ma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1 million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dovi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Cara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Pragh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urna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asimov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m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a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arly Sinemu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3:30:48Z</dcterms:created>
  <dc:creator>bandone</dc:creator>
  <dc:description/>
  <dc:language>en-US</dc:language>
  <cp:lastModifiedBy>template</cp:lastModifiedBy>
  <dcterms:modified xsi:type="dcterms:W3CDTF">2000-08-25T18:27:09Z</dcterms:modified>
  <cp:revision>11</cp:revision>
  <dc:subject/>
  <dc:title>No Slide Title</dc:title>
</cp:coreProperties>
</file>