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B50-AFB4-4995-A495-E8140BE1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051-724D-468D-AAAC-D3944618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C5C-8D0D-431F-8327-80C74F4D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A0D-D056-4A45-AC3E-E335FD70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370-3888-406B-B2E5-7B1A2C9B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5F0-2F2B-4102-9302-7FE2B89E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A8C-187F-4677-818C-A312A1E7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53F-606F-4615-AF2D-BFF246AB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8DC-F709-4E49-8494-4A77028A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789-1B7B-43AF-9E4C-8D17643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198-F8A7-4DD8-8BDA-880C8DB1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8CF-DE98-4356-BDEE-DF94B252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9990-9993-4CD2-87A8-83B6B6C6B68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79280" y="-46080"/>
            <a:ext cx="8713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L’assonometria  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(dal greco áxon = asse e métron = misura, cioè misura in base agli as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La rappresentazione assonometrica si basa sulla proiezione di un oggetto tridimensionale da un centro di proiezione posto all'infinito (centro improprio) su di un piano di rappresentazione detto quadro assonomet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Si tratta di una </a:t>
            </a:r>
            <a:r>
              <a:rPr b="1" lang="it-IT" sz="2000" spc="-1" strike="noStrike">
                <a:solidFill>
                  <a:srgbClr val="ff3300"/>
                </a:solidFill>
                <a:latin typeface="CG Omega"/>
              </a:rPr>
              <a:t>proiezione parallela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 o cilindrica che si caratterizza per il fatto di avere un centro di vista improprio e dunque i raggi visuali paralleli tra di l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ssonometria5b"/>
          <p:cNvPicPr/>
          <p:nvPr/>
        </p:nvPicPr>
        <p:blipFill>
          <a:blip r:embed="rId1"/>
          <a:srcRect l="3178" t="3445" r="1589" b="3717"/>
          <a:stretch/>
        </p:blipFill>
        <p:spPr>
          <a:xfrm>
            <a:off x="1547640" y="2935440"/>
            <a:ext cx="590400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25987" t="19321" r="19205" b="18523"/>
          <a:stretch/>
        </p:blipFill>
        <p:spPr>
          <a:xfrm>
            <a:off x="179280" y="260280"/>
            <a:ext cx="8691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2360" y="260280"/>
            <a:ext cx="85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ssonometria caval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ssonometria cavaliera è una proiezione parallela obliqua in cui il quadro è considerato parallelo o coincidente con uno dei piani coordinati cartesi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tale ambito possiamo distinguere l’assonometria cavaliera e l’assonometria cavaliera militare, che presentano una diversa relazione  tra la terna di assi x, y e z e la giacitura del piano assonometr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diluggo-95-31-7"/>
          <p:cNvPicPr/>
          <p:nvPr/>
        </p:nvPicPr>
        <p:blipFill>
          <a:blip r:embed="rId1"/>
          <a:stretch/>
        </p:blipFill>
        <p:spPr>
          <a:xfrm>
            <a:off x="179280" y="1989000"/>
            <a:ext cx="8425080" cy="412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iluggo-95-31-8"/>
          <p:cNvPicPr/>
          <p:nvPr/>
        </p:nvPicPr>
        <p:blipFill>
          <a:blip r:embed="rId2"/>
          <a:srcRect l="4759" t="48864" r="2483" b="40970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diluggo-95-31-1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ssonometria caval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iluggo-95-31-9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28110" t="19321" r="28892" b="20203"/>
          <a:stretch/>
        </p:blipFill>
        <p:spPr>
          <a:xfrm>
            <a:off x="324000" y="981000"/>
            <a:ext cx="6551640" cy="518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7020000" y="2852640"/>
            <a:ext cx="1692360" cy="368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onome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grosso004"/>
          <p:cNvPicPr/>
          <p:nvPr/>
        </p:nvPicPr>
        <p:blipFill>
          <a:blip r:embed="rId1"/>
          <a:stretch/>
        </p:blipFill>
        <p:spPr>
          <a:xfrm rot="21424800">
            <a:off x="-422280" y="139320"/>
            <a:ext cx="5616720" cy="47768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250920" y="507600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Disegno di un punto in assonome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ttangolo 3"/>
          <p:cNvSpPr/>
          <p:nvPr/>
        </p:nvSpPr>
        <p:spPr>
          <a:xfrm>
            <a:off x="4859280" y="189000"/>
            <a:ext cx="40687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UNI EN ISO 5456‑3 riporta alcune importanti norme per la costruzione delle assonometr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posizione degli assi coordinati rispetto al quadro deve essere tale che la proiezione di uno degli assi risult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 vertic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'oggetto da rappresentare deve essere disposto in posizione tale che i suoi assi e le linee di contorno siano 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aralle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per quanto possibile, agli assi coordinati e in modo che risultino 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evidenz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 le tre viste che sarebbero state scelte per la rappresentazione dello stesso oggetto in proiezione ortogona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li assi di simmetria dell’oggetto 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 devono essere tracciati,se non nel caso che risultino necessar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linee rappresentanti contorni o spigoli nascosti devono essere 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mess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a meno che non siano ritenute utili per chiarire maggiormente la rappresent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tratteggi per mettere in evidenza una sezione devono essere tracciati di preferenza secondo angoli di 45° 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spet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 agli assi e contorni della se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32129" t="29081" r="33147" b="16323"/>
          <a:stretch/>
        </p:blipFill>
        <p:spPr>
          <a:xfrm>
            <a:off x="324000" y="1844640"/>
            <a:ext cx="5435280" cy="4808520"/>
          </a:xfrm>
          <a:prstGeom prst="rect">
            <a:avLst/>
          </a:prstGeom>
          <a:ln w="0">
            <a:noFill/>
          </a:ln>
        </p:spPr>
      </p:pic>
      <p:sp>
        <p:nvSpPr>
          <p:cNvPr id="77" name="Rettangolo 2"/>
          <p:cNvSpPr/>
          <p:nvPr/>
        </p:nvSpPr>
        <p:spPr>
          <a:xfrm>
            <a:off x="250920" y="189000"/>
            <a:ext cx="86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accato Assonome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 può essere utile osservare in assonometria contemporaneamente l’interno e l’esterno di un oggetto. Ciò si ottiene considerando dei piani secanti l’oggetto (uno, due o anche più) ricavando la sezione in assonometria e disegnando la parte di oggetto riman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50920" y="20736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elementi di rifer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Gli elementi di riferimento dell’assonometria so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un centro di vista improprio R ∞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un piano assonometric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una terna di assi x,y, 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i segmenti Ux, Uy, Uz che definiscono le unità di mis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diluggo-95-31-4"/>
          <p:cNvPicPr/>
          <p:nvPr/>
        </p:nvPicPr>
        <p:blipFill>
          <a:blip r:embed="rId1"/>
          <a:srcRect l="0" t="2444" r="0" b="0"/>
          <a:stretch/>
        </p:blipFill>
        <p:spPr>
          <a:xfrm>
            <a:off x="1619280" y="2852640"/>
            <a:ext cx="7369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diluggo-95-31-5"/>
          <p:cNvPicPr/>
          <p:nvPr/>
        </p:nvPicPr>
        <p:blipFill>
          <a:blip r:embed="rId1"/>
          <a:srcRect l="1802" t="0" r="38606" b="0"/>
          <a:stretch/>
        </p:blipFill>
        <p:spPr>
          <a:xfrm>
            <a:off x="0" y="620640"/>
            <a:ext cx="5940360" cy="569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assonometria5c"/>
          <p:cNvPicPr/>
          <p:nvPr/>
        </p:nvPicPr>
        <p:blipFill>
          <a:blip r:embed="rId2"/>
          <a:stretch/>
        </p:blipFill>
        <p:spPr>
          <a:xfrm>
            <a:off x="4427640" y="1214280"/>
            <a:ext cx="4716360" cy="233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assonometria5d"/>
          <p:cNvPicPr/>
          <p:nvPr/>
        </p:nvPicPr>
        <p:blipFill>
          <a:blip r:embed="rId3"/>
          <a:stretch/>
        </p:blipFill>
        <p:spPr>
          <a:xfrm>
            <a:off x="4427640" y="4114800"/>
            <a:ext cx="4716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iluggo-95-31-6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iluggo-95-32-1"/>
          <p:cNvPicPr/>
          <p:nvPr/>
        </p:nvPicPr>
        <p:blipFill>
          <a:blip r:embed="rId1"/>
          <a:srcRect l="4630" t="6060" r="10022" b="3331"/>
          <a:stretch/>
        </p:blipFill>
        <p:spPr>
          <a:xfrm>
            <a:off x="5724360" y="453960"/>
            <a:ext cx="3024360" cy="2452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79280" y="601200"/>
            <a:ext cx="518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Quando la direzione del centro di vista </a:t>
            </a: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R∞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 è ortogonale rispetto al piano π la proiezione assonometrica si dice ortogo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Il riferimento sul quadro è dato dagli assi x’, y’, z’, aventi origine in O’ che sono le proiezioni sul piano π degli assi x, y, z aventi origine in 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Gli assi x, y, z intersecano il piano π nei punti Tx, Ty, Tz, mentre le intersezioni dei piani coordinati xy, yz, xz, con il piano π saranno individuate rispettivamente dalle tracce t</a:t>
            </a:r>
            <a:r>
              <a:rPr b="0" lang="it-IT" sz="1800" spc="-1" strike="noStrike">
                <a:solidFill>
                  <a:srgbClr val="000000"/>
                </a:solidFill>
                <a:latin typeface="CG Omega"/>
              </a:rPr>
              <a:t>xy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, t</a:t>
            </a:r>
            <a:r>
              <a:rPr b="0" lang="it-IT" sz="1800" spc="-1" strike="noStrike">
                <a:solidFill>
                  <a:srgbClr val="000000"/>
                </a:solidFill>
                <a:latin typeface="CG Omega"/>
              </a:rPr>
              <a:t>yz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, t</a:t>
            </a:r>
            <a:r>
              <a:rPr b="0" lang="it-IT" sz="1800" spc="-1" strike="noStrike">
                <a:solidFill>
                  <a:srgbClr val="000000"/>
                </a:solidFill>
                <a:latin typeface="CG Omega"/>
              </a:rPr>
              <a:t>xz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, che sono anche i lati del triangolo che si viene a formare sul piano π nell’intersezione con i triedro dei piani coordin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Questo triangolo è detto triangolo fondamentale o </a:t>
            </a:r>
            <a:r>
              <a:rPr b="1" lang="it-IT" sz="2000" spc="-1" strike="noStrike">
                <a:solidFill>
                  <a:srgbClr val="ff3300"/>
                </a:solidFill>
                <a:latin typeface="CG Omega"/>
              </a:rPr>
              <a:t>triangolo delle tracce 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ed O’ è l’ortocentro di questo triango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Assonometria ortog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diluggo-95-32-2"/>
          <p:cNvPicPr/>
          <p:nvPr/>
        </p:nvPicPr>
        <p:blipFill>
          <a:blip r:embed="rId2"/>
          <a:srcRect l="5938" t="2830" r="4933" b="5712"/>
          <a:stretch/>
        </p:blipFill>
        <p:spPr>
          <a:xfrm>
            <a:off x="5364000" y="2714760"/>
            <a:ext cx="3780000" cy="3527280"/>
          </a:xfrm>
          <a:prstGeom prst="rect">
            <a:avLst/>
          </a:prstGeom>
          <a:ln w="0">
            <a:noFill/>
          </a:ln>
        </p:spPr>
      </p:pic>
      <p:sp>
        <p:nvSpPr>
          <p:cNvPr id="53" name="Figura a mano libera 5"/>
          <p:cNvSpPr/>
          <p:nvPr/>
        </p:nvSpPr>
        <p:spPr>
          <a:xfrm>
            <a:off x="6261120" y="3735360"/>
            <a:ext cx="1854360" cy="1905120"/>
          </a:xfrm>
          <a:custGeom>
            <a:avLst/>
            <a:gdLst/>
            <a:ahLst/>
            <a:rect l="l" t="t" r="r" b="b"/>
            <a:pathLst>
              <a:path w="1854200" h="1905000">
                <a:moveTo>
                  <a:pt x="355600" y="0"/>
                </a:moveTo>
                <a:lnTo>
                  <a:pt x="0" y="1905000"/>
                </a:lnTo>
                <a:lnTo>
                  <a:pt x="1854200" y="1600200"/>
                </a:lnTo>
                <a:lnTo>
                  <a:pt x="355600" y="0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79280" y="-343440"/>
            <a:ext cx="518472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assonometria isometrica, dimetrica, trime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Se il triedro interseca il piano assonometrico in modo da formare un triangolo delle tracce </a:t>
            </a: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equilatero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, l’assonometria si dice </a:t>
            </a:r>
            <a:r>
              <a:rPr b="0" lang="it-IT" sz="2000" spc="-1" strike="noStrike">
                <a:solidFill>
                  <a:srgbClr val="ff3300"/>
                </a:solidFill>
                <a:latin typeface="CG Omega"/>
              </a:rPr>
              <a:t>isometrica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 o </a:t>
            </a:r>
            <a:r>
              <a:rPr b="0" lang="it-IT" sz="2000" spc="-1" strike="noStrike">
                <a:solidFill>
                  <a:srgbClr val="ff3300"/>
                </a:solidFill>
                <a:latin typeface="CG Omega"/>
              </a:rPr>
              <a:t>monometrica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 e l’unità di misura si proietta in tre segmenti uguali tra di l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Se il triedro interseca il piano assonometrico in modo da formare un triangolo delle tracce </a:t>
            </a: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isoscele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, l’assonometria si dice </a:t>
            </a:r>
            <a:r>
              <a:rPr b="0" lang="it-IT" sz="2000" spc="-1" strike="noStrike">
                <a:solidFill>
                  <a:srgbClr val="ff3300"/>
                </a:solidFill>
                <a:latin typeface="CG Omega"/>
              </a:rPr>
              <a:t>dimetrica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. Si ha un sistema di assi con due angoli al centro uguali: l’unità di misura si proietta in due segmenti uguali tra loro e uno diver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Se il triedro interseca il piano assonometrico in modo da formare un triangolo delle tracce </a:t>
            </a: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scaleno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, l’assonometria si dice </a:t>
            </a:r>
            <a:r>
              <a:rPr b="0" lang="it-IT" sz="2000" spc="-1" strike="noStrike">
                <a:solidFill>
                  <a:srgbClr val="ff3300"/>
                </a:solidFill>
                <a:latin typeface="CG Omega"/>
              </a:rPr>
              <a:t>trimetrica</a:t>
            </a:r>
            <a:r>
              <a:rPr b="0" lang="it-IT" sz="2000" spc="-1" strike="noStrike">
                <a:solidFill>
                  <a:srgbClr val="000000"/>
                </a:solidFill>
                <a:latin typeface="CG Omega"/>
              </a:rPr>
              <a:t>. L’unità di misura si proietta in segmenti minori dell’unità di misura e diversi tra l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diluggo-95-32-3"/>
          <p:cNvPicPr/>
          <p:nvPr/>
        </p:nvPicPr>
        <p:blipFill>
          <a:blip r:embed="rId1"/>
          <a:srcRect l="0" t="0" r="0" b="2144"/>
          <a:stretch/>
        </p:blipFill>
        <p:spPr>
          <a:xfrm>
            <a:off x="5364000" y="0"/>
            <a:ext cx="366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79280" y="286920"/>
            <a:ext cx="56880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Assonometria isome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G Omega"/>
              </a:rPr>
              <a:t>L’assonometria isometrica è un’assonometria ortogonale i cui assi assonometrici - proiezione ortogonale di assi cartesiani ugualmente inclinati rispetto al quadro - formano angoli di 120°. Le relative unità di misura risultano ugualmente accorciate, e precisamente ux = uy = uz= 0,8 dove u è l'unità degli assi cartesiani nello spaz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G Omega"/>
              </a:rPr>
              <a:t>Nell’assonometria isometrica il triangolo delle tracce è un qualunque triangolo equilatero che abbia i vertici sugli assi assonometrici e ciascun lato tzx, txy, tyz, perpendicolare a un as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G Omega"/>
              </a:rPr>
              <a:t>Le diverse grandezze dei triangoli dipendono dalla distanza del quadro dall’origine O degli assi cartesi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diluggo-95-32-5"/>
          <p:cNvPicPr/>
          <p:nvPr/>
        </p:nvPicPr>
        <p:blipFill>
          <a:blip r:embed="rId1"/>
          <a:srcRect l="18716" t="0" r="15159" b="0"/>
          <a:stretch/>
        </p:blipFill>
        <p:spPr>
          <a:xfrm>
            <a:off x="6012000" y="260280"/>
            <a:ext cx="2954160" cy="266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iluggo-95-32-6"/>
          <p:cNvPicPr/>
          <p:nvPr/>
        </p:nvPicPr>
        <p:blipFill>
          <a:blip r:embed="rId2"/>
          <a:srcRect l="8354" t="0" r="7251" b="0"/>
          <a:stretch/>
        </p:blipFill>
        <p:spPr>
          <a:xfrm>
            <a:off x="5938920" y="3068640"/>
            <a:ext cx="3205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6308640"/>
            <a:ext cx="9144000" cy="398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Assonometria Obliq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assonometria5d"/>
          <p:cNvPicPr/>
          <p:nvPr/>
        </p:nvPicPr>
        <p:blipFill>
          <a:blip r:embed="rId1"/>
          <a:stretch/>
        </p:blipFill>
        <p:spPr>
          <a:xfrm>
            <a:off x="179280" y="2935440"/>
            <a:ext cx="5688000" cy="33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79280" y="-20880"/>
            <a:ext cx="504036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G Omega"/>
              </a:rPr>
              <a:t>Il riferimento e il teorema di Pohl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G Omega"/>
              </a:rPr>
              <a:t>Nel caso dell’assonometria obliqua esistono infinite possibili scelte del centro di proiezione escludendo la direzione ortogonale (si ricade nelle proiezioni ortogonali) e quella parallela al quad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G Omega"/>
              </a:rPr>
              <a:t>Alcune direzioni del centro R∞ possono comportare delle deformazioni vistose, sono pertanto da scart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G Omega"/>
              </a:rPr>
              <a:t>Appare opportuno, piuttosto che stabilire la direzione ottimale di R∞ assegnare sul quadro sia gli assi assonometrici, sia le relative unità di mis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G Omega"/>
              </a:rPr>
              <a:t>Questa possibilità è assicurata dal teorema di Pohlke (sull’assonometria) secondo il qua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grosso006"/>
          <p:cNvPicPr/>
          <p:nvPr/>
        </p:nvPicPr>
        <p:blipFill>
          <a:blip r:embed="rId1"/>
          <a:stretch/>
        </p:blipFill>
        <p:spPr>
          <a:xfrm>
            <a:off x="5580000" y="189000"/>
            <a:ext cx="3108240" cy="4032000"/>
          </a:xfrm>
          <a:prstGeom prst="rect">
            <a:avLst/>
          </a:prstGeom>
          <a:ln w="0">
            <a:noFill/>
          </a:ln>
        </p:spPr>
      </p:pic>
      <p:sp>
        <p:nvSpPr>
          <p:cNvPr id="63" name="Rettangolo 4"/>
          <p:cNvSpPr/>
          <p:nvPr/>
        </p:nvSpPr>
        <p:spPr>
          <a:xfrm>
            <a:off x="250920" y="4653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“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lti, sul piano di quadro π, tre segmenti U’x, U’y, U’z, uscenti da uno stesso punto O’, aventi lunghezze e direzioni arbitrarie, esiste sempre un centro di proiezione, a distanza infinita, individuato dalla direzione l, tale che essi possono sempre essere considerati come proiezione su π, dalla direzione l, di tre segmenti di uguale lunghezza U e a due a due perpendicolari tra lor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49:17Z</dcterms:created>
  <dc:creator>DAU.UNICT</dc:creator>
  <dc:description/>
  <dc:language>en-US</dc:language>
  <cp:lastModifiedBy>Veronica</cp:lastModifiedBy>
  <dcterms:modified xsi:type="dcterms:W3CDTF">2017-03-20T17:16:44Z</dcterms:modified>
  <cp:revision>68</cp:revision>
  <dc:subject/>
  <dc:title>Diapositiva 1</dc:title>
</cp:coreProperties>
</file>