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9890-124B-4EA6-B7F5-67254157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5A1D-6A9A-42F6-AABA-02AB9195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0F1A-BF54-4008-A33A-FB8E0589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290B-A46C-46AA-A7CD-65408385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AEC5-5765-4D8F-B339-76BB422E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0A2B-38FC-43D3-92A9-39E49C29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64C8-A628-4C45-A368-6F703AFD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89A1-BACA-4731-85E1-0C71AB83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C407-68DA-4649-B50C-6267E2AE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098D-4E4B-4FD8-B10E-CA96415B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B81F-DA32-4BC5-865F-3C94B8E2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13D-CA24-4EF6-8AB1-57CDB675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E49B-ECB0-4D6B-8D12-EC540C9E1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248520"/>
            <a:ext cx="1600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2514600" cy="111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352680" y="609480"/>
            <a:ext cx="2514600" cy="111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324480" y="609480"/>
            <a:ext cx="2514600" cy="111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33520" y="914400"/>
            <a:ext cx="215712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ONE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81280" y="914400"/>
            <a:ext cx="215748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ONE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553080" y="914400"/>
            <a:ext cx="215748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ONE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38280" y="2057400"/>
            <a:ext cx="44481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verbs To Ponder On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E0B-518C-43BF-B8CE-E6A7EBE23080}" type="slidenum">
              <a:t>1</a:t>
            </a:fld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380880"/>
            <a:ext cx="77724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bundance of money ruins you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nglish Prover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ay your horse dies and your money's gone, your relatives change into strangers.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hinese Prover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5EC-62F2-4897-970F-B7F02A17FE39}" type="slidenum">
              <a:t>10</a:t>
            </a:fld>
          </a:p>
        </p:txBody>
      </p:sp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30492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ve does wonders, but money makes marriages.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rench Prover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who can persuade someone not to gamble has earned money for hi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hinese Prover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82AF-0CC7-40C1-89C7-21D4EAB9AC69}" type="slidenum">
              <a:t>11</a:t>
            </a:fld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38088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ey spent on the brain is never spent in vain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English Prover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 many desires harm the mind; to desire much money harms the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BD6-4E10-455D-A753-2F6308D6C1EF}" type="slidenum">
              <a:t>12</a:t>
            </a:fld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380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better in times of need to have a friend rather than money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reek proverb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ey made through dishonest practices will not last l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inese Prover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ADFE-A02E-4E7D-86A0-4FEEC90EBDE1}" type="slidenum">
              <a:t>13</a:t>
            </a:fld>
          </a:p>
        </p:txBody>
      </p:sp>
    </p:spTree>
  </p:cSld>
  <p:transition spd="med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0880" y="304920"/>
            <a:ext cx="838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people are masters of money, and some people are slaves of it. 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Russian Prover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ey lent, an enemy made. 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Portuguese Proverb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4F8B-0FCC-46C0-8AD8-C032B3270DA7}" type="slidenum">
              <a:t>14</a:t>
            </a:fld>
          </a:p>
        </p:txBody>
      </p:sp>
    </p:spTree>
  </p:cSld>
  <p:transition spd="med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648560" cy="3809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14400" y="5867280"/>
            <a:ext cx="7543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38088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ey saved is as good as money gained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anish Prover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ey taken, freedom forsake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rman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49D-AC05-4930-9618-6A08A0F9FF1B}" type="slidenum">
              <a:t>15</a:t>
            </a:fld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4267080" cy="4224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9480" y="3049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have the money, your opinion is accept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brew Proverb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ey is sharper than a swor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verb from Gh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97AF-3CC8-48D2-BAC0-CEC569AB2DC4}" type="slidenum">
              <a:t>16</a:t>
            </a:fld>
          </a:p>
        </p:txBody>
      </p:sp>
    </p:spTree>
  </p:cSld>
  <p:transition spd="med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8120" y="380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066680"/>
            <a:ext cx="3429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ealth is the greatest gift, contentment is the greatest wealth, a trusted friend is the best relative, Nibbana is the greatest bli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5410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Budd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5029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Metta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. Oh Teik 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27C-FB2C-4087-BFBB-E06943508E17}" type="slidenum">
              <a:t>17</a:t>
            </a:fld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6934320" cy="4622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457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hen money speaks, the truth keeps silent.  </a:t>
            </a:r>
            <a:r>
              <a:rPr b="1" i="1" lang="en-US" sz="2200" spc="-1" strike="noStrike">
                <a:solidFill>
                  <a:srgbClr val="ffff00"/>
                </a:solidFill>
                <a:latin typeface="Arial"/>
              </a:rPr>
              <a:t>Russian prover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With money you can buy a house, but not a home.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br>
              <a:rPr sz="2200"/>
            </a:br>
            <a:r>
              <a:rPr b="1" i="1" lang="en-US" sz="2200" spc="-1" strike="noStrike">
                <a:solidFill>
                  <a:srgbClr val="ffff00"/>
                </a:solidFill>
                <a:latin typeface="Arial"/>
                <a:ea typeface="宋体"/>
              </a:rPr>
              <a:t>Chinese Pro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0A40-E7B3-4E98-9799-6C4FED533AEC}" type="slidenum">
              <a:t>2</a:t>
            </a:fld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6324480" cy="3232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2120" y="457200"/>
            <a:ext cx="761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money is like holy water; everyone helps himself to it.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talian proverb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money you can buy a clock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not time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91EB-7402-4580-B6B6-1A51C31AAFC0}" type="slidenum">
              <a:t>3</a:t>
            </a:fld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5257800" cy="3135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38088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tting money is like digging with a needle. Spending it is like water soaking into the s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Japanese proverb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money you can buy a bed, but not sleep.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BC34-A4AF-4C77-B83E-9AB27BBAA75B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3886200" cy="3695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5335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ter a rich man gets rich, his next ambition is to get richer.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merican proverb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money you can buy a book, but not knowledge.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A56-A6E0-420D-A28A-3B9B6D995427}" type="slidenum">
              <a:t>5</a:t>
            </a:fld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4305240" cy="3673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4572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ool may earn money, but it takes a wise man to keep it.   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English Prover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money you can buy a doctor, but not good health. 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A3C3-6353-4582-81F3-5B2049EAD76B}" type="slidenum">
              <a:t>6</a:t>
            </a:fld>
          </a:p>
        </p:txBody>
      </p:sp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715000" cy="3813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30492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it hurts to spend your money, you will go hungry.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frican Prover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money you can buy a position, but not respect.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41F-2A47-4930-A2BB-9C8639A38F47}" type="slidenum">
              <a:t>7</a:t>
            </a:fld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38080" y="38088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rds are caught with seed, men with money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rmenian Prover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money you can buy blood, but not life.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BF75-4729-4015-881D-3B1659AB2E71}" type="slidenum">
              <a:t>8</a:t>
            </a:fld>
          </a:p>
        </p:txBody>
      </p:sp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30492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ce the last tree is cut and the last river poisoned, you will find you cannot eat your money.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anadian Prover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money you can buy sex, but not love.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hinese Prover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4DB-7199-4806-85D6-8B49056EDCD7}" type="slidenum">
              <a:t>9</a:t>
            </a:fld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20:44:11Z</dcterms:created>
  <dc:creator>VISTA</dc:creator>
  <dc:description/>
  <dc:language>en-US</dc:language>
  <cp:lastModifiedBy>VISTA</cp:lastModifiedBy>
  <dcterms:modified xsi:type="dcterms:W3CDTF">2009-09-01T02:05:15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