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8D3D-54EC-48DD-8384-316EFEBC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C910-92C7-48D8-BD90-395BCABAB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F968-D7AF-460F-B025-FBA5C4A7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985-2E14-4A13-A1B5-616A5C70D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26B5-2770-49D3-ADF4-A08C04D18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507E-A87B-4085-BCF5-4243C5D1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14B1-4688-4946-8ECD-E7A9E51E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65F-1A6F-47E5-9620-07CE4963D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9066-352C-4F90-9EFF-2BFB61871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D5BF-26A6-4BAE-85DC-E377126C2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27E2-BE80-4F6B-9AC8-3DE67480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3DFA-E790-4FDF-8AED-DDDEC69D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95E8-44CE-41F9-B3F6-DD1651637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248520"/>
            <a:ext cx="1600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609480"/>
            <a:ext cx="2514600" cy="111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3352680" y="609480"/>
            <a:ext cx="2514600" cy="111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324480" y="609480"/>
            <a:ext cx="2514600" cy="1114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33520" y="914400"/>
            <a:ext cx="215712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ON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581280" y="914400"/>
            <a:ext cx="215748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ON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553080" y="914400"/>
            <a:ext cx="2157480" cy="55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MONE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38280" y="2057400"/>
            <a:ext cx="44481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verbs To Ponder On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7986-FC68-4E07-8F80-7D279691F77A}" type="slidenum">
              <a:t>1</a:t>
            </a:fld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380880"/>
            <a:ext cx="77724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bundance of money ruins you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English Prover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day your horse dies and your money's gone, your relatives change into strangers.</a:t>
            </a:r>
            <a:br>
              <a:rPr sz="2800"/>
            </a:b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hinese Prover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EDFD-9270-4B0D-9D93-285364369252}" type="slidenum">
              <a:t>10</a:t>
            </a:fld>
          </a:p>
        </p:txBody>
      </p:sp>
    </p:spTree>
  </p:cSld>
  <p:transition spd="med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533520" y="30492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ve does wonders, but money makes marriages.   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French Prover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who can persuade someone not to gamble has earned money for hi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Chinese Prover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84D-19E2-4156-8AB3-187D5DA54D62}" type="slidenum">
              <a:t>11</a:t>
            </a:fld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52480" y="266688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04920" y="38088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ey spent on the brain is never spent in vain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English Prover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 many desires harm the mind; to desire much money harms the bod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20A6-89F4-4807-8CE5-48038135C9AA}" type="slidenum">
              <a:t>12</a:t>
            </a:fld>
          </a:p>
        </p:txBody>
      </p:sp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676520" y="274320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38088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t is better in times of need to have a friend rather than money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reek proverb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ey made through dishonest practices will not last 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hinese Prover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4B6B-C047-45C7-BE6E-992008CFDF89}" type="slidenum">
              <a:t>13</a:t>
            </a:fld>
          </a:p>
        </p:txBody>
      </p:sp>
    </p:spTree>
  </p:cSld>
  <p:transition spd="med">
    <p:push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0880" y="304920"/>
            <a:ext cx="838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 people are masters of money, and some people are slaves of it. 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Russian Prover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ey lent, an enemy made. </a:t>
            </a:r>
            <a:br>
              <a:rPr sz="2800"/>
            </a:b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Portuguese Proverb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D700-8739-4ED8-8036-455AEFE00A3B}" type="slidenum">
              <a:t>14</a:t>
            </a:fld>
          </a:p>
        </p:txBody>
      </p:sp>
    </p:spTree>
  </p:cSld>
  <p:transition spd="med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7648560" cy="3809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14400" y="5867280"/>
            <a:ext cx="7543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33520" y="38088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ey saved is as good as money gained.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anish Prover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ey taken, freedom forsaken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rman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E202-54C7-40BF-84DE-495DEFDAAC36}" type="slidenum">
              <a:t>15</a:t>
            </a:fld>
          </a:p>
        </p:txBody>
      </p:sp>
    </p:spTree>
  </p:cSld>
  <p:transition spd="med"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514600" y="2362320"/>
            <a:ext cx="4267080" cy="4224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09480" y="304920"/>
            <a:ext cx="784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you have the money, your opinion is accepte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Hebrew Proverb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ey is sharper than a sword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overb from Gh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6AAA-654D-4AD6-9DC2-64CB18B50F2F}" type="slidenum">
              <a:t>16</a:t>
            </a:fld>
          </a:p>
        </p:txBody>
      </p:sp>
    </p:spTree>
  </p:cSld>
  <p:transition spd="med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048120" y="3808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1066680"/>
            <a:ext cx="3429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ealth is the greatest gift, contentment is the greatest wealth, a trusted friend is the best relative, Nibbana is the greatest bli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410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Budd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943600" y="5029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Metta,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. Oh Teik B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7743-8A76-4AF3-91CC-5ADF380B228D}" type="slidenum">
              <a:t>17</a:t>
            </a:fld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6934320" cy="46227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4572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hen money speaks, the truth keeps silent.  </a:t>
            </a:r>
            <a:r>
              <a:rPr b="1" i="1" lang="en-US" sz="2200" spc="-1" strike="noStrike">
                <a:solidFill>
                  <a:srgbClr val="ffff00"/>
                </a:solidFill>
                <a:latin typeface="Arial"/>
              </a:rPr>
              <a:t>Russian prover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With money you can buy a house, but not a home.</a:t>
            </a:r>
            <a:r>
              <a:rPr b="1" i="1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br>
              <a:rPr sz="2200"/>
            </a:br>
            <a:r>
              <a:rPr b="1" i="1" lang="en-US" sz="2200" spc="-1" strike="noStrike">
                <a:solidFill>
                  <a:srgbClr val="ffff00"/>
                </a:solidFill>
                <a:latin typeface="Arial"/>
                <a:ea typeface="宋体"/>
              </a:rPr>
              <a:t>Chinese Prover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188B-CC99-4BBA-87D3-85C5F5E5355C}" type="slidenum">
              <a:t>2</a:t>
            </a:fld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371600" y="3124080"/>
            <a:ext cx="6324480" cy="3232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2120" y="457200"/>
            <a:ext cx="7619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ublic money is like holy water; everyone helps himself to it.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Italian proverb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money you can buy a clock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ut not time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6762-298A-46C6-9466-61E3455DA0AC}" type="slidenum">
              <a:t>3</a:t>
            </a:fld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05120" y="3276720"/>
            <a:ext cx="5257800" cy="3135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38088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tting money is like digging with a needle. Spending it is like water soaking into the s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Japanese proverb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money you can buy a bed, but not sleep.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  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5458-453D-4CAE-8260-746850AA777C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3886200" cy="3695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920" y="5335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fter a rich man gets rich, his next ambition is to get richer.  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merican proverb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money you can buy a book, but not knowledge.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510-95D7-4848-B530-C993AC4A6400}" type="slidenum">
              <a:t>5</a:t>
            </a:fld>
          </a:p>
        </p:txBody>
      </p: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62320" y="2666880"/>
            <a:ext cx="4305240" cy="3673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85800" y="457200"/>
            <a:ext cx="7924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fool may earn money, but it takes a wise man to keep it.   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English Prover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money you can buy a doctor, but not good health.  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C189-B600-4096-95D1-89F207A56E8E}" type="slidenum">
              <a:t>6</a:t>
            </a:fld>
          </a:p>
        </p:txBody>
      </p:sp>
    </p:spTree>
  </p:cSld>
  <p:transition spd="med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676520" y="2438280"/>
            <a:ext cx="5715000" cy="3813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304920"/>
            <a:ext cx="80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f it hurts to spend your money, you will go hungry.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frican Prover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money you can buy a position, but not respect.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41E9-3C03-47E4-AE58-415D3DB7A346}" type="slidenum">
              <a:t>7</a:t>
            </a:fld>
          </a:p>
        </p:txBody>
      </p:sp>
    </p:spTree>
  </p:cSld>
  <p:transition spd="med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8080" y="380880"/>
            <a:ext cx="7620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irds are caught with seed, men with money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Armenian Prover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th money you can buy blood, but not life.  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hinese Pro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C697-14F8-4DD1-A1BE-271FA9633A75}" type="slidenum">
              <a:t>8</a:t>
            </a:fld>
          </a:p>
        </p:txBody>
      </p:sp>
    </p:spTree>
  </p:cSld>
  <p:transition spd="med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5715000" cy="38098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304920"/>
            <a:ext cx="7772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nce the last tree is cut and the last river poisoned, you will find you cannot eat your money.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anadian Proverb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th money you can buy sex, but not love. 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hinese Prover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1155-BDC0-4E29-839E-7CAED45663C0}" type="slidenum">
              <a:t>9</a:t>
            </a:fld>
          </a:p>
        </p:txBody>
      </p:sp>
    </p:spTree>
  </p:cSld>
  <p:transition spd="med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20:44:11Z</dcterms:created>
  <dc:creator>VISTA</dc:creator>
  <dc:description/>
  <dc:language>en-US</dc:language>
  <cp:lastModifiedBy>VISTA</cp:lastModifiedBy>
  <dcterms:modified xsi:type="dcterms:W3CDTF">2009-09-01T02:05:15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