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7A3-590E-4F50-B6F0-5AE43E11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B32-C350-4844-9C93-789CEF5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B68-A720-49EC-9C75-6770A4C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E3F-74B9-467E-A81A-3AEC8F1D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93C-82F7-4FC7-AF7F-276EBA99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F4A-8441-486E-B487-74C9BDB9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1BD-E543-4E36-83F5-14F0388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9D4-E0F2-4B2F-828A-652528A0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D0F-B849-4753-9A75-0356160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27C-DDF0-4529-A38F-0468A25D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06B-7A5E-4BD1-804D-4BA65DC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9A5-DBB1-49C5-A9F1-7A30CF3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DBEB-C3B2-4A01-8D0A-A438CDB70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48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526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514600" cy="11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914400"/>
            <a:ext cx="215712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2057400"/>
            <a:ext cx="4448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verbs To Ponder O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3C9-807A-4957-995B-5D3C1E278BFE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380880"/>
            <a:ext cx="7772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bundance of money ruins you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lish Prover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your horse dies and your money's gone, your relatives change into strangers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C98-6C6D-4BDF-A2B5-B160037B9C06}" type="slidenum">
              <a:t>10</a:t>
            </a:fld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304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ve does wonders, but money makes marriages.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nc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ho can persuade someone not to gamble has earned money for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A52-0DBA-43EC-B3F9-ECB9BD9D5616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3808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spent on the brain is never spent in v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many desires harm the mind; to desire much money harms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022-4E8D-4709-B1CE-882D694D4BF1}" type="slidenum">
              <a:t>12</a:t>
            </a:fld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80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better in times of need to have a friend rather than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eek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made through dishonest practices will not last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3BA-CF1F-4D5F-AD52-681296298883}" type="slidenum">
              <a:t>13</a:t>
            </a:fld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0492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eople are masters of money, and some people are slaves of it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Russ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lent, an enemy made.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ortuguese Prover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2CC-2583-45B1-BD45-3D4E9AA44809}" type="slidenum">
              <a:t>14</a:t>
            </a:fld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4856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5867280"/>
            <a:ext cx="7543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80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saved is as good as money gained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n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taken, freedom forsake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rman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535-10C7-495D-BF72-00CEC0A839ED}" type="slidenum">
              <a:t>15</a:t>
            </a:fld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2670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04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have the money, your opinion is accep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brew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is sharper than a swor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verb from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63F-CD90-4C3A-8431-D9E5C4B8287D}" type="slidenum">
              <a:t>16</a:t>
            </a:fld>
          </a:p>
        </p:txBody>
      </p:sp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81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06668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lth is the greatest gift, contentment is the greatest wealth, a trusted friend is the best relative, Nibbana is the greatest bli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410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Budd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5029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Metta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. Oh Teik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B3D-F27C-4919-8935-8D98FA5FB04D}" type="slidenum">
              <a:t>17</a:t>
            </a:fld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money speaks, the truth keeps silent. 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Russian pro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With money you can buy a house, but not a home.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br>
              <a:rPr sz="2200"/>
            </a:br>
            <a:r>
              <a:rPr b="1" i="1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Chinese Pro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231-8059-4A29-92F6-CF200F39AA4E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324480" cy="32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457200"/>
            <a:ext cx="761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money is like holy water; everyone helps himself to i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talian proverb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clock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not time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91F-4D46-4F23-9A19-D3D03322601D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257800" cy="313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money is like digging with a needle. Spending it is like water soaking into the s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apanese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ed, but not sleep.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E81-6618-4546-A70E-8A766780A831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886200" cy="369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335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a rich man gets rich, his next ambition is to get richer.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erican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ook, but not knowledge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3A5-DB8C-45F5-9BCA-3D663B5DB0A1}" type="slidenum">
              <a:t>5</a:t>
            </a:fld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30524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572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ool may earn money, but it takes a wise man to keep it.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a doctor, but not good health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D34-DD49-45F0-90C3-054B4E621011}" type="slidenum">
              <a:t>6</a:t>
            </a:fld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381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049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 hurts to spend your money, you will go hungry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frican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position, but not respec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E58-239A-4DE3-873A-4229114B9D47}" type="slidenum">
              <a:t>7</a:t>
            </a:fld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ds are caught with seed, men with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rmenian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blood, but not life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7FC-6EA6-45A8-B31C-539FD9E42F7C}" type="slidenum">
              <a:t>8</a:t>
            </a:fld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the last tree is cut and the last river poisoned, you will find you cannot eat your money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ad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sex, but not love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B64-5FBA-43F2-A392-0E1DC5695EB3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44:11Z</dcterms:created>
  <dc:creator>VISTA</dc:creator>
  <dc:description/>
  <dc:language>en-US</dc:language>
  <cp:lastModifiedBy>VISTA</cp:lastModifiedBy>
  <dcterms:modified xsi:type="dcterms:W3CDTF">2009-09-01T02:05:1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