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043-808F-420B-9B15-395192CE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346-EBA9-4335-AE2C-0F57096B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7A3-389E-4D2E-B1BD-9D22A7E6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E51-C76F-4D99-B7CC-6216E138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F35-E2F4-4FAB-B621-6CB252A0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62C-D6DE-4350-B1BE-47EAE5D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D13-EE8B-45B5-AC6E-659A7D5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04B-E299-42CF-9813-B0B26AE0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27A-4A35-403C-9B63-E3C2761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13B-3B9D-4B09-B280-066DF41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D09-03F5-49DC-9D53-0499D3D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0AE-8180-474E-A084-981BA0E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4BF-148A-4D5C-8BD9-C2DD579ABAF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21055-SPINOLA_BUSSOLENGO(VR)2.xls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21055-SPINOLA_INTERVENTI_%20BUSSOLENGO(VR)2.xl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lossario%20SISTEMA.doc" TargetMode="External"/><Relationship Id="rId2" Type="http://schemas.openxmlformats.org/officeDocument/2006/relationships/hyperlink" Target="file:///glossario%20MATERIALI.doc" TargetMode="External"/><Relationship Id="rId3" Type="http://schemas.openxmlformats.org/officeDocument/2006/relationships/hyperlink" Target="file:///glossario%20DEGRAD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I.R.V.V. – I.U.A.V.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ACCORDO QUADRO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CONVENZIONI OPERATIVE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PROGRAMMA TRIENNAL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D.S.A. – D.C.A.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Valutazione speditiva dei costi d’intervento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it-IT" sz="2400" spc="-1" strike="noStrike">
                <a:solidFill>
                  <a:srgbClr val="e5ffff"/>
                </a:solidFill>
                <a:latin typeface="Tahoma"/>
              </a:rPr>
              <a:t>VILLA SPINOLA</a:t>
            </a:r>
            <a:br>
              <a:rPr sz="2400"/>
            </a:br>
            <a:r>
              <a:rPr b="1" lang="it-IT" sz="2400" spc="-1" strike="noStrike">
                <a:solidFill>
                  <a:srgbClr val="e5ffff"/>
                </a:solidFill>
                <a:latin typeface="Tahoma"/>
              </a:rPr>
              <a:t>BUSSOLENGO (VR)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nalisi dei materiali e del degrad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Codici di valutazione quantitativ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C : UNIC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lt; 5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NT :  PUNTUAL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5-1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MT : LIMITAT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11-2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F :   DIFFUS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21-5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V :  PREVALENTE    51-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V : UNIVOCO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gt; 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IPOTESI, NON QUANTIFICAB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055-SPINOLA_BUSSOLENGO(VR)2.x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Valutazione speditiva dei costi d’intervento 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Codici di valutazione quantitativ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C : UNIC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lt; 5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NT :  PUNTUAL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5-1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MT : LIMITAT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11-2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F :   DIFFUS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21-5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V :  PREVALENTE    51-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V : UNIVOCO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gt; 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IPOTESI, NON QUANTIFICAB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055-SPINOLA_INTERVENTI_ BUSSOLENGO(VR)2.x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5ffff"/>
                </a:solidFill>
                <a:latin typeface="Tahoma"/>
              </a:rPr>
              <a:t>Analisi dei materiali e del degrado</a:t>
            </a:r>
            <a:br>
              <a:rPr sz="2800"/>
            </a:br>
            <a:r>
              <a:rPr b="0" lang="it-IT" sz="2800" spc="-1" strike="noStrike">
                <a:solidFill>
                  <a:srgbClr val="e5ffff"/>
                </a:solidFill>
                <a:latin typeface="Tahoma"/>
              </a:rPr>
              <a:t> Glossar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glossario SISTEMA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lossario MATERIALI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glossario DEGRADO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Piante piano seminterrato e terr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7" descr="Pianta seminterrato"/>
          <p:cNvPicPr/>
          <p:nvPr/>
        </p:nvPicPr>
        <p:blipFill>
          <a:blip r:embed="rId1"/>
          <a:stretch/>
        </p:blipFill>
        <p:spPr>
          <a:xfrm>
            <a:off x="996840" y="1981080"/>
            <a:ext cx="29592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Pianta piano terra"/>
          <p:cNvPicPr/>
          <p:nvPr/>
        </p:nvPicPr>
        <p:blipFill>
          <a:blip r:embed="rId2"/>
          <a:stretch/>
        </p:blipFill>
        <p:spPr>
          <a:xfrm>
            <a:off x="518940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Piante piano primo e copertur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pianta piano primo"/>
          <p:cNvPicPr/>
          <p:nvPr/>
        </p:nvPicPr>
        <p:blipFill>
          <a:blip r:embed="rId1"/>
          <a:stretch/>
        </p:blipFill>
        <p:spPr>
          <a:xfrm>
            <a:off x="1039680" y="1981080"/>
            <a:ext cx="28735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anta copertura"/>
          <p:cNvPicPr/>
          <p:nvPr/>
        </p:nvPicPr>
        <p:blipFill>
          <a:blip r:embed="rId2"/>
          <a:stretch/>
        </p:blipFill>
        <p:spPr>
          <a:xfrm>
            <a:off x="5202360" y="1981080"/>
            <a:ext cx="293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8" descr="3D_a"/>
          <p:cNvPicPr/>
          <p:nvPr/>
        </p:nvPicPr>
        <p:blipFill>
          <a:blip r:embed="rId1"/>
          <a:stretch/>
        </p:blipFill>
        <p:spPr>
          <a:xfrm>
            <a:off x="1716120" y="1981080"/>
            <a:ext cx="57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3D_b"/>
          <p:cNvPicPr/>
          <p:nvPr/>
        </p:nvPicPr>
        <p:blipFill>
          <a:blip r:embed="rId1"/>
          <a:stretch/>
        </p:blipFill>
        <p:spPr>
          <a:xfrm>
            <a:off x="1731960" y="1981080"/>
            <a:ext cx="56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3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5" descr="3D_c"/>
          <p:cNvPicPr/>
          <p:nvPr/>
        </p:nvPicPr>
        <p:blipFill>
          <a:blip r:embed="rId1"/>
          <a:stretch/>
        </p:blipFill>
        <p:spPr>
          <a:xfrm>
            <a:off x="1741320" y="1981080"/>
            <a:ext cx="56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3D_d"/>
          <p:cNvPicPr/>
          <p:nvPr/>
        </p:nvPicPr>
        <p:blipFill>
          <a:blip r:embed="rId1"/>
          <a:stretch/>
        </p:blipFill>
        <p:spPr>
          <a:xfrm>
            <a:off x="1722600" y="1981080"/>
            <a:ext cx="56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Valutazione speditiva dei costi d’intervent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Dati metrologici e quantitativi di partenz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COPERTA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173,77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PIANI f.t.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CALPESTABIL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20,71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SOFFITTI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20,71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IMETRO ESTERNO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54,32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IMETRO INTERNO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437,93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LTEZZA ALLA GRONDA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9,60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VOLUME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1668,19 m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VILUPPO SUPERFICI ESTERN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91,00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LTEZZA MEDIA PIA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3,00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VILUPPO SUPERFICI INTERN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1313,79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PORTA ES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7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FINESTRA ES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PORTA IN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20:01:15Z</dcterms:created>
  <dc:creator>pratali</dc:creator>
  <dc:description/>
  <dc:language>en-US</dc:language>
  <cp:lastModifiedBy>Sergio Pratali Maffei</cp:lastModifiedBy>
  <dcterms:modified xsi:type="dcterms:W3CDTF">2017-10-05T16:13:36Z</dcterms:modified>
  <cp:revision>40</cp:revision>
  <dc:subject/>
  <dc:title>Diapositiva 1</dc:title>
</cp:coreProperties>
</file>