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319-0612-45DF-A5A3-46E0B13B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31D-2F66-4773-B5C4-953202E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5A4-4114-4C5C-850E-507574DC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AFE-E23B-4DC5-8AEE-FCD0216A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BF9-B5AA-4C97-8CE7-048EB1D8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19F-AA0F-471B-8BC0-CCD9017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291-3860-443F-8A6B-1EAB5109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E9D-559D-44A4-B7E6-5FAC2B8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021-4CB4-4BF6-B802-E6EE158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D79-15E1-4B25-A8F9-F2BEE6A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1FE-6F70-4F79-9E9D-0F0349E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31A-187C-4E3F-86FA-4C144C4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4C3C-C4EF-4784-B5B8-10169FB9208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21055-SPINOLA_BUSSOLENGO(VR)2.xls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21055-SPINOLA_INTERVENTI_%20BUSSOLENGO(VR)2.xl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lossario%20SISTEMA.doc" TargetMode="External"/><Relationship Id="rId2" Type="http://schemas.openxmlformats.org/officeDocument/2006/relationships/hyperlink" Target="file:///glossario%20MATERIALI.doc" TargetMode="External"/><Relationship Id="rId3" Type="http://schemas.openxmlformats.org/officeDocument/2006/relationships/hyperlink" Target="file:///glossario%20DEGRAD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I.R.V.V. – I.U.A.V.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ACCORDO QUADRO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CONVENZIONI OPERATIVE</a:t>
            </a:r>
            <a:br>
              <a:rPr sz="1800"/>
            </a:br>
            <a:r>
              <a:rPr b="0" lang="it-IT" sz="1800" spc="-1" strike="noStrike">
                <a:solidFill>
                  <a:srgbClr val="e5ffff"/>
                </a:solidFill>
                <a:latin typeface="Tahoma"/>
              </a:rPr>
              <a:t>PROGRAMMA TRIENNALE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D.S.A. – D.C.A.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e5ffff"/>
                </a:solidFill>
                <a:latin typeface="Tahoma"/>
              </a:rPr>
              <a:t>Valutazione speditiva dei costi d’intervento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it-IT" sz="2400" spc="-1" strike="noStrike">
                <a:solidFill>
                  <a:srgbClr val="e5ffff"/>
                </a:solidFill>
                <a:latin typeface="Tahoma"/>
              </a:rPr>
              <a:t>VILLA SPINOLA</a:t>
            </a:r>
            <a:br>
              <a:rPr sz="2400"/>
            </a:br>
            <a:r>
              <a:rPr b="1" lang="it-IT" sz="2400" spc="-1" strike="noStrike">
                <a:solidFill>
                  <a:srgbClr val="e5ffff"/>
                </a:solidFill>
                <a:latin typeface="Tahoma"/>
              </a:rPr>
              <a:t>BUSSOLENGO (VR)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nalisi dei materiali e del degrad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Codici di valutazione quantitativ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C : UNIC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lt; 5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NT :  PUNTUAL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5-1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MT : LIMITAT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11-2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F :   DIFFUS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21-5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V :  PREVALENTE    51-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V : UNIVOCO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gt; 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IPOTESI, NON QUANTIFICAB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055-SPINOLA_BUSSOLENGO(VR)2.x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Valutazione speditiva dei costi d’intervento 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 Codici di valutazione quantitativ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C : UNIC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lt; 5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NT :  PUNTUALE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5-1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MT : LIMITAT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11-2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DIF :   DIFFUSO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21-5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RV :  PREVALENTE    51-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UNV : UNIVOCO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&gt; 80%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: IPOTESI, NON QUANTIFICABI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055-SPINOLA_INTERVENTI_ BUSSOLENGO(VR)2.x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5ffff"/>
                </a:solidFill>
                <a:latin typeface="Tahoma"/>
              </a:rPr>
              <a:t>Analisi dei materiali e del degrado</a:t>
            </a:r>
            <a:br>
              <a:rPr sz="2800"/>
            </a:br>
            <a:r>
              <a:rPr b="0" lang="it-IT" sz="2800" spc="-1" strike="noStrike">
                <a:solidFill>
                  <a:srgbClr val="e5ffff"/>
                </a:solidFill>
                <a:latin typeface="Tahoma"/>
              </a:rPr>
              <a:t> Glossari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glossario SISTEMA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lossario MATERIALI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glossario DEGRADO.d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Piante piano seminterrato e terr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7" descr="Pianta seminterrato"/>
          <p:cNvPicPr/>
          <p:nvPr/>
        </p:nvPicPr>
        <p:blipFill>
          <a:blip r:embed="rId1"/>
          <a:stretch/>
        </p:blipFill>
        <p:spPr>
          <a:xfrm>
            <a:off x="996840" y="1981080"/>
            <a:ext cx="29592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Pianta piano terra"/>
          <p:cNvPicPr/>
          <p:nvPr/>
        </p:nvPicPr>
        <p:blipFill>
          <a:blip r:embed="rId2"/>
          <a:stretch/>
        </p:blipFill>
        <p:spPr>
          <a:xfrm>
            <a:off x="518940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Piante piano primo e copertur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pianta piano primo"/>
          <p:cNvPicPr/>
          <p:nvPr/>
        </p:nvPicPr>
        <p:blipFill>
          <a:blip r:embed="rId1"/>
          <a:stretch/>
        </p:blipFill>
        <p:spPr>
          <a:xfrm>
            <a:off x="1039680" y="1981080"/>
            <a:ext cx="28735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ianta copertura"/>
          <p:cNvPicPr/>
          <p:nvPr/>
        </p:nvPicPr>
        <p:blipFill>
          <a:blip r:embed="rId2"/>
          <a:stretch/>
        </p:blipFill>
        <p:spPr>
          <a:xfrm>
            <a:off x="5202360" y="1981080"/>
            <a:ext cx="293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8" descr="3D_a"/>
          <p:cNvPicPr/>
          <p:nvPr/>
        </p:nvPicPr>
        <p:blipFill>
          <a:blip r:embed="rId1"/>
          <a:stretch/>
        </p:blipFill>
        <p:spPr>
          <a:xfrm>
            <a:off x="1716120" y="1981080"/>
            <a:ext cx="57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3D_b"/>
          <p:cNvPicPr/>
          <p:nvPr/>
        </p:nvPicPr>
        <p:blipFill>
          <a:blip r:embed="rId1"/>
          <a:stretch/>
        </p:blipFill>
        <p:spPr>
          <a:xfrm>
            <a:off x="1731960" y="1981080"/>
            <a:ext cx="5680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3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5" descr="3D_c"/>
          <p:cNvPicPr/>
          <p:nvPr/>
        </p:nvPicPr>
        <p:blipFill>
          <a:blip r:embed="rId1"/>
          <a:stretch/>
        </p:blipFill>
        <p:spPr>
          <a:xfrm>
            <a:off x="1741320" y="1981080"/>
            <a:ext cx="56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Rilievo speditiv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Assonometrie schematiche .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3D_d"/>
          <p:cNvPicPr/>
          <p:nvPr/>
        </p:nvPicPr>
        <p:blipFill>
          <a:blip r:embed="rId1"/>
          <a:stretch/>
        </p:blipFill>
        <p:spPr>
          <a:xfrm>
            <a:off x="1722600" y="1981080"/>
            <a:ext cx="569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Valutazione speditiva dei costi d’intervento</a:t>
            </a:r>
            <a:br>
              <a:rPr sz="2400"/>
            </a:br>
            <a:r>
              <a:rPr b="0" lang="it-IT" sz="2400" spc="-1" strike="noStrike">
                <a:solidFill>
                  <a:srgbClr val="e5ffff"/>
                </a:solidFill>
                <a:latin typeface="Tahoma"/>
              </a:rPr>
              <a:t>Dati metrologici e quantitativi di partenz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COPERTA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173,77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PIANI f.t.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CALPESTABIL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20,71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UPERFICIE SOFFITTI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20,71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IMETRO ESTERNO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54,32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PERIMETRO INTERNO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437,93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LTEZZA ALLA GRONDA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9,60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VOLUME: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1668,19 m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VILUPPO SUPERFICI ESTERN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491,00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LTEZZA MEDIA PIA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3,00 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SVILUPPO SUPERFICI INTERNE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1313,79 m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PORTA ES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  7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FINESTRA ES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N° FORI PORTA INTERNI: 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                                       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20:01:15Z</dcterms:created>
  <dc:creator>pratali</dc:creator>
  <dc:description/>
  <dc:language>en-US</dc:language>
  <cp:lastModifiedBy>Sergio Pratali Maffei</cp:lastModifiedBy>
  <dcterms:modified xsi:type="dcterms:W3CDTF">2017-10-05T16:13:36Z</dcterms:modified>
  <cp:revision>40</cp:revision>
  <dc:subject/>
  <dc:title>Diapositiva 1</dc:title>
</cp:coreProperties>
</file>