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F64-0639-4E93-9960-3B8E4380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5A0-BA67-4691-9DE6-1A655AA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965-DA55-45F2-B357-5CE19E85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71F-17B6-4B08-A547-E3BB1563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57E-A73B-4C54-ACE4-A87C83D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EBC-97B4-4375-A717-A5300FC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843-FEF6-4DD0-8002-05B08A38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E69-72AC-4823-B2A2-01F572E2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A5D-20AF-4342-8384-A0B536B9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3D9-53E9-486B-9AE5-22E6BB7D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BE8-EF7C-4F86-B680-33DD5C1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A79-09EE-48E1-A5FB-A1E5650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02FF-7655-409C-B626-06C84DCE0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3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573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3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1722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730080"/>
            <a:ext cx="761976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5:29:21Z</dcterms:created>
  <dc:creator>Demo</dc:creator>
  <dc:description/>
  <dc:language>en-US</dc:language>
  <cp:lastModifiedBy>Demo</cp:lastModifiedBy>
  <dcterms:modified xsi:type="dcterms:W3CDTF">2003-11-09T18:50:12Z</dcterms:modified>
  <cp:revision>48</cp:revision>
  <dc:subject/>
  <dc:title>Nessun titolo diapositiva</dc:title>
</cp:coreProperties>
</file>