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13A-84A1-48EC-9249-9FCBFD2F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897-CA3B-420B-BE9D-60200D76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475-CAD4-4CF4-90E5-0C8A3E30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742-D411-4F37-98C8-00602E0F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ED4-F61E-47FC-AF11-72D560B6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D7E-F08E-414D-84CC-EC8B4BF1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6C2-1A0B-47A2-8B43-F8B638BB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F66-FB05-4774-BC2E-0CEEA10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F86-CBF8-4772-BA39-8BCEF6DF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C2E-71B1-4F7F-886A-FD02F7EC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59C-EE61-4F35-8215-819F35C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26E-202E-4B1B-B763-4EEAB40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0943-1A1B-4CC7-A9CB-6187C046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0736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9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273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5:29:21Z</dcterms:created>
  <dc:creator>Demo</dc:creator>
  <dc:description/>
  <dc:language>en-US</dc:language>
  <cp:lastModifiedBy>Demo</cp:lastModifiedBy>
  <dcterms:modified xsi:type="dcterms:W3CDTF">2003-11-09T18:50:39Z</dcterms:modified>
  <cp:revision>50</cp:revision>
  <dc:subject/>
  <dc:title>Nessun titolo diapositiva</dc:title>
</cp:coreProperties>
</file>