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009-56DB-4AA9-B6F7-FB85021C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838-91C9-46D6-BD1E-8B53B5AD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765-BCD2-448C-9651-C4C1A525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73C-50BB-42B5-9BEF-134579D6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CF6-9DA1-47B6-ABCF-83E5E086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BE2-EF66-4119-9EA2-09B503C0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D7C-53D8-49B1-BB2B-4BEAE55E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67E-4627-47BA-BF14-8E204ECC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F47-54D0-4FAD-8576-04BD7655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8B0-CB24-4A59-A1BF-AD8F7FB1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083-8548-4871-B5CD-6B0648AD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234-08DF-4BA6-B181-9C19070E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85FC-4190-4781-A444-5B28974B1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46000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7980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76040"/>
            <a:ext cx="815364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176040"/>
            <a:ext cx="9601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611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93800" y="0"/>
            <a:ext cx="575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3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5:29:21Z</dcterms:created>
  <dc:creator>Demo</dc:creator>
  <dc:description/>
  <dc:language>en-US</dc:language>
  <cp:lastModifiedBy>Demo</cp:lastModifiedBy>
  <dcterms:modified xsi:type="dcterms:W3CDTF">2003-11-09T18:40:01Z</dcterms:modified>
  <cp:revision>36</cp:revision>
  <dc:subject/>
  <dc:title>Nessun titolo diapositiva</dc:title>
</cp:coreProperties>
</file>