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6360" y="365040"/>
            <a:ext cx="85312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5366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6360" y="1825560"/>
            <a:ext cx="853128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06360" y="3954240"/>
            <a:ext cx="853128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6360" y="365040"/>
            <a:ext cx="85312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5366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6360" y="1825560"/>
            <a:ext cx="4163040" cy="40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7840" y="1825560"/>
            <a:ext cx="4163040" cy="40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8CC4DE-21E8-4262-BD78-C30D11E64E7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6360" y="365040"/>
            <a:ext cx="85312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53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AA43D0-D492-4D3E-8C67-540A9F04516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306360" y="365040"/>
            <a:ext cx="85312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B90C38-9719-44B0-8503-4ED55C81321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6360" y="365040"/>
            <a:ext cx="85312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5366"/>
              </a:solidFill>
              <a:latin typeface="Century Gothic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6360" y="1825560"/>
            <a:ext cx="416304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7840" y="1825560"/>
            <a:ext cx="4163040" cy="40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6360" y="3954240"/>
            <a:ext cx="416304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C3EAE9-DBC8-40F7-AD18-C8EC8C2F798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6360" y="365040"/>
            <a:ext cx="85312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5366"/>
              </a:solidFill>
              <a:latin typeface="Century Gothic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6360" y="1825560"/>
            <a:ext cx="4163040" cy="40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7840" y="1825560"/>
            <a:ext cx="416304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7840" y="3954240"/>
            <a:ext cx="416304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6CE7C3-F1C2-4F3C-A8BF-E514973E3E0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6360" y="365040"/>
            <a:ext cx="85312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5366"/>
              </a:solidFill>
              <a:latin typeface="Century Gothic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6360" y="1825560"/>
            <a:ext cx="416304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7840" y="1825560"/>
            <a:ext cx="416304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306360" y="3954240"/>
            <a:ext cx="853128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A84DF4-F090-4381-AB2C-CDDBEDD7745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6360" y="365040"/>
            <a:ext cx="85312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5366"/>
              </a:solidFill>
              <a:latin typeface="Century Gothic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6360" y="1825560"/>
            <a:ext cx="853128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06360" y="3954240"/>
            <a:ext cx="853128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A38C01-270D-4E36-90EE-14ACC127C7A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6360" y="365040"/>
            <a:ext cx="85312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5366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6360" y="1825560"/>
            <a:ext cx="416304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7840" y="1825560"/>
            <a:ext cx="416304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306360" y="3954240"/>
            <a:ext cx="416304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7840" y="3954240"/>
            <a:ext cx="416304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EC36F0-6A00-4798-9D8A-DD868450C64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6360" y="365040"/>
            <a:ext cx="85312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5366"/>
              </a:solidFill>
              <a:latin typeface="Century Gothic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6360" y="1825560"/>
            <a:ext cx="27468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191040" y="1825560"/>
            <a:ext cx="27468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75360" y="1825560"/>
            <a:ext cx="27468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306360" y="3954240"/>
            <a:ext cx="27468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191040" y="3954240"/>
            <a:ext cx="27468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75360" y="3954240"/>
            <a:ext cx="27468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354F46-DAF1-4025-89EB-7E1BAD513B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6360" y="365040"/>
            <a:ext cx="85312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5366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6360" y="1825560"/>
            <a:ext cx="416304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7840" y="1825560"/>
            <a:ext cx="416304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6360" y="3954240"/>
            <a:ext cx="416304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7840" y="3954240"/>
            <a:ext cx="416304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6360" y="365040"/>
            <a:ext cx="85312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5366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6360" y="1825560"/>
            <a:ext cx="27468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91040" y="1825560"/>
            <a:ext cx="27468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75360" y="1825560"/>
            <a:ext cx="27468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06360" y="3954240"/>
            <a:ext cx="27468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91040" y="3954240"/>
            <a:ext cx="27468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75360" y="3954240"/>
            <a:ext cx="27468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8F57-DB53-4530-84A8-DFEF50A7E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6360" y="365040"/>
            <a:ext cx="85312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5366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06360" y="1825560"/>
            <a:ext cx="8531280" cy="40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D0F8-409F-4BAB-88CD-A5DCD60D6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6360" y="365040"/>
            <a:ext cx="85312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536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6360" y="1825560"/>
            <a:ext cx="8531280" cy="40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71DC-5FBF-4B3C-B571-8B0DD4594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6360" y="365040"/>
            <a:ext cx="85312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5366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6360" y="1825560"/>
            <a:ext cx="4163040" cy="40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7840" y="1825560"/>
            <a:ext cx="4163040" cy="40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4A57-0030-4024-94A9-D337C1A67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6360" y="365040"/>
            <a:ext cx="85312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53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9702-6DE4-40DC-8BEB-ACFF32190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06360" y="365040"/>
            <a:ext cx="85312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3003-20CE-4264-90E2-035282F2E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6360" y="365040"/>
            <a:ext cx="85312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5366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6360" y="1825560"/>
            <a:ext cx="416304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7840" y="1825560"/>
            <a:ext cx="4163040" cy="40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06360" y="3954240"/>
            <a:ext cx="416304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88BB-C085-4086-A0EC-5CD96D37F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6360" y="365040"/>
            <a:ext cx="85312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53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06360" y="1825560"/>
            <a:ext cx="8531280" cy="40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6360" y="365040"/>
            <a:ext cx="85312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536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6360" y="1825560"/>
            <a:ext cx="4163040" cy="40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7840" y="1825560"/>
            <a:ext cx="416304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7840" y="3954240"/>
            <a:ext cx="416304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3533-894D-4DFE-A1B3-9B208694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6360" y="365040"/>
            <a:ext cx="85312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5366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6360" y="1825560"/>
            <a:ext cx="416304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7840" y="1825560"/>
            <a:ext cx="416304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06360" y="3954240"/>
            <a:ext cx="853128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4C51-9C12-41B9-84C4-3356E2B4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6360" y="365040"/>
            <a:ext cx="85312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5366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6360" y="1825560"/>
            <a:ext cx="853128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06360" y="3954240"/>
            <a:ext cx="853128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3C47-CFD0-4558-B354-24B99D906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6360" y="365040"/>
            <a:ext cx="85312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5366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6360" y="1825560"/>
            <a:ext cx="416304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7840" y="1825560"/>
            <a:ext cx="416304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6360" y="3954240"/>
            <a:ext cx="416304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7840" y="3954240"/>
            <a:ext cx="416304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ED55-CD63-4CF3-9F4C-6AE716D9F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6360" y="365040"/>
            <a:ext cx="85312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5366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6360" y="1825560"/>
            <a:ext cx="27468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1040" y="1825560"/>
            <a:ext cx="27468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75360" y="1825560"/>
            <a:ext cx="27468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06360" y="3954240"/>
            <a:ext cx="27468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1040" y="3954240"/>
            <a:ext cx="27468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75360" y="3954240"/>
            <a:ext cx="27468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7F01-87AE-46A5-9962-7D2F7DC82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6360" y="365040"/>
            <a:ext cx="85312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5366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06360" y="1825560"/>
            <a:ext cx="8531280" cy="40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6360" y="365040"/>
            <a:ext cx="85312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5366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6360" y="1825560"/>
            <a:ext cx="8531280" cy="40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6360" y="365040"/>
            <a:ext cx="85312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5366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6360" y="1825560"/>
            <a:ext cx="4163040" cy="40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7840" y="1825560"/>
            <a:ext cx="4163040" cy="40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6360" y="365040"/>
            <a:ext cx="85312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5366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6360" y="365040"/>
            <a:ext cx="85312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5366"/>
              </a:solidFill>
              <a:latin typeface="Century Gothic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06360" y="1825560"/>
            <a:ext cx="8531280" cy="40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306360" y="365040"/>
            <a:ext cx="85312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6360" y="365040"/>
            <a:ext cx="85312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5366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6360" y="1825560"/>
            <a:ext cx="416304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7840" y="1825560"/>
            <a:ext cx="4163040" cy="40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306360" y="3954240"/>
            <a:ext cx="416304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6360" y="365040"/>
            <a:ext cx="85312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5366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6360" y="1825560"/>
            <a:ext cx="4163040" cy="40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7840" y="1825560"/>
            <a:ext cx="416304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7840" y="3954240"/>
            <a:ext cx="416304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6360" y="365040"/>
            <a:ext cx="85312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536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6360" y="1825560"/>
            <a:ext cx="416304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7840" y="1825560"/>
            <a:ext cx="416304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06360" y="3954240"/>
            <a:ext cx="853128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6360" y="365040"/>
            <a:ext cx="85312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536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6360" y="1825560"/>
            <a:ext cx="853128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06360" y="3954240"/>
            <a:ext cx="853128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6360" y="365040"/>
            <a:ext cx="85312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5366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6360" y="1825560"/>
            <a:ext cx="416304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7840" y="1825560"/>
            <a:ext cx="416304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6360" y="3954240"/>
            <a:ext cx="416304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7840" y="3954240"/>
            <a:ext cx="416304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6360" y="365040"/>
            <a:ext cx="85312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5366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6360" y="1825560"/>
            <a:ext cx="27468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191040" y="1825560"/>
            <a:ext cx="27468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75360" y="1825560"/>
            <a:ext cx="27468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306360" y="3954240"/>
            <a:ext cx="27468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191040" y="3954240"/>
            <a:ext cx="27468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75360" y="3954240"/>
            <a:ext cx="27468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78B7B-2D5F-4B00-B4AF-106EE1754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6360" y="365040"/>
            <a:ext cx="85312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5366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06360" y="1825560"/>
            <a:ext cx="8531280" cy="40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6D39A-EFEB-4188-9090-278346FF7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6360" y="365040"/>
            <a:ext cx="85312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536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6360" y="1825560"/>
            <a:ext cx="8531280" cy="40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FA2AB-34B8-4D5E-A1F1-F38AFEA40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6360" y="365040"/>
            <a:ext cx="85312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5366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06360" y="1825560"/>
            <a:ext cx="4163040" cy="40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7840" y="1825560"/>
            <a:ext cx="4163040" cy="40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6360" y="365040"/>
            <a:ext cx="85312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5366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6360" y="1825560"/>
            <a:ext cx="4163040" cy="40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7840" y="1825560"/>
            <a:ext cx="4163040" cy="40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82A22-5538-44A2-B5C4-7406E0FEA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6360" y="365040"/>
            <a:ext cx="85312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53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EC96E-1160-43D1-9FE1-7DFB5A066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06360" y="365040"/>
            <a:ext cx="85312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68853-2844-4D05-B8CB-1BA2B7AAD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6360" y="365040"/>
            <a:ext cx="85312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5366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6360" y="1825560"/>
            <a:ext cx="416304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7840" y="1825560"/>
            <a:ext cx="4163040" cy="40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6360" y="3954240"/>
            <a:ext cx="416304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5FA7C-C39E-46C8-A5A3-36343D120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6360" y="365040"/>
            <a:ext cx="85312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5366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6360" y="1825560"/>
            <a:ext cx="4163040" cy="40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7840" y="1825560"/>
            <a:ext cx="416304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7840" y="3954240"/>
            <a:ext cx="416304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C42D3-FCE0-4699-90DF-7E0FE348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6360" y="365040"/>
            <a:ext cx="85312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5366"/>
              </a:solidFill>
              <a:latin typeface="Century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6360" y="1825560"/>
            <a:ext cx="416304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7840" y="1825560"/>
            <a:ext cx="416304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06360" y="3954240"/>
            <a:ext cx="853128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A51F3-AD04-47E3-AB6B-03C00432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6360" y="365040"/>
            <a:ext cx="85312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5366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6360" y="1825560"/>
            <a:ext cx="853128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06360" y="3954240"/>
            <a:ext cx="853128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17D68-775B-4FDD-954A-5C0388EB6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6360" y="365040"/>
            <a:ext cx="85312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5366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6360" y="1825560"/>
            <a:ext cx="416304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7840" y="1825560"/>
            <a:ext cx="416304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6360" y="3954240"/>
            <a:ext cx="416304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7840" y="3954240"/>
            <a:ext cx="416304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2B2D1-9CD5-41D3-823D-07ED2CC6E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6360" y="365040"/>
            <a:ext cx="85312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5366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6360" y="1825560"/>
            <a:ext cx="27468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91040" y="1825560"/>
            <a:ext cx="27468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75360" y="1825560"/>
            <a:ext cx="27468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06360" y="3954240"/>
            <a:ext cx="27468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91040" y="3954240"/>
            <a:ext cx="27468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75360" y="3954240"/>
            <a:ext cx="27468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EBC7B-9919-40E2-BB82-454B4C5DF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6360" y="365040"/>
            <a:ext cx="85312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5366"/>
              </a:solidFill>
              <a:latin typeface="Century Gothic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6360" y="365040"/>
            <a:ext cx="85312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5366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06360" y="1825560"/>
            <a:ext cx="8531280" cy="40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6360" y="365040"/>
            <a:ext cx="85312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5366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6360" y="1825560"/>
            <a:ext cx="8531280" cy="40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6360" y="365040"/>
            <a:ext cx="85312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5366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6360" y="1825560"/>
            <a:ext cx="4163040" cy="40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7840" y="1825560"/>
            <a:ext cx="4163040" cy="40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6360" y="365040"/>
            <a:ext cx="85312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5366"/>
              </a:solidFill>
              <a:latin typeface="Century Gothic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06360" y="365040"/>
            <a:ext cx="85312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6360" y="365040"/>
            <a:ext cx="85312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5366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6360" y="1825560"/>
            <a:ext cx="416304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7840" y="1825560"/>
            <a:ext cx="4163040" cy="40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06360" y="3954240"/>
            <a:ext cx="416304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6360" y="365040"/>
            <a:ext cx="85312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5366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6360" y="1825560"/>
            <a:ext cx="4163040" cy="40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7840" y="1825560"/>
            <a:ext cx="416304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7840" y="3954240"/>
            <a:ext cx="416304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6360" y="365040"/>
            <a:ext cx="85312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5366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6360" y="1825560"/>
            <a:ext cx="416304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7840" y="1825560"/>
            <a:ext cx="416304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06360" y="3954240"/>
            <a:ext cx="853128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6360" y="365040"/>
            <a:ext cx="85312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5366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6360" y="1825560"/>
            <a:ext cx="853128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06360" y="3954240"/>
            <a:ext cx="853128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6360" y="365040"/>
            <a:ext cx="85312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5366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6360" y="1825560"/>
            <a:ext cx="416304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7840" y="1825560"/>
            <a:ext cx="416304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6360" y="3954240"/>
            <a:ext cx="416304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7840" y="3954240"/>
            <a:ext cx="416304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06360" y="365040"/>
            <a:ext cx="85312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6360" y="365040"/>
            <a:ext cx="85312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5366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6360" y="1825560"/>
            <a:ext cx="27468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91040" y="1825560"/>
            <a:ext cx="27468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75360" y="1825560"/>
            <a:ext cx="27468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06360" y="3954240"/>
            <a:ext cx="27468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91040" y="3954240"/>
            <a:ext cx="27468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75360" y="3954240"/>
            <a:ext cx="27468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6360" y="365040"/>
            <a:ext cx="85312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5366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06360" y="1825560"/>
            <a:ext cx="8531280" cy="40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6360" y="365040"/>
            <a:ext cx="85312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5366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6360" y="1825560"/>
            <a:ext cx="8531280" cy="40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6360" y="365040"/>
            <a:ext cx="85312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5366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6360" y="1825560"/>
            <a:ext cx="4163040" cy="40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7840" y="1825560"/>
            <a:ext cx="4163040" cy="40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6360" y="365040"/>
            <a:ext cx="85312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5366"/>
              </a:solidFill>
              <a:latin typeface="Century Gothic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306360" y="365040"/>
            <a:ext cx="85312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6360" y="365040"/>
            <a:ext cx="85312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5366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6360" y="1825560"/>
            <a:ext cx="416304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7840" y="1825560"/>
            <a:ext cx="4163040" cy="40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06360" y="3954240"/>
            <a:ext cx="416304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6360" y="365040"/>
            <a:ext cx="85312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5366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6360" y="1825560"/>
            <a:ext cx="4163040" cy="40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7840" y="1825560"/>
            <a:ext cx="416304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7840" y="3954240"/>
            <a:ext cx="416304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6360" y="365040"/>
            <a:ext cx="85312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5366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6360" y="1825560"/>
            <a:ext cx="416304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7840" y="1825560"/>
            <a:ext cx="416304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06360" y="3954240"/>
            <a:ext cx="853128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6360" y="365040"/>
            <a:ext cx="85312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5366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6360" y="1825560"/>
            <a:ext cx="416304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7840" y="1825560"/>
            <a:ext cx="4163040" cy="40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06360" y="3954240"/>
            <a:ext cx="416304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6360" y="365040"/>
            <a:ext cx="85312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5366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6360" y="1825560"/>
            <a:ext cx="853128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06360" y="3954240"/>
            <a:ext cx="853128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6360" y="365040"/>
            <a:ext cx="85312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536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6360" y="1825560"/>
            <a:ext cx="416304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7840" y="1825560"/>
            <a:ext cx="416304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6360" y="3954240"/>
            <a:ext cx="416304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7840" y="3954240"/>
            <a:ext cx="416304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6360" y="365040"/>
            <a:ext cx="85312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536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6360" y="1825560"/>
            <a:ext cx="27468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91040" y="1825560"/>
            <a:ext cx="27468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75360" y="1825560"/>
            <a:ext cx="27468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06360" y="3954240"/>
            <a:ext cx="27468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191040" y="3954240"/>
            <a:ext cx="27468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75360" y="3954240"/>
            <a:ext cx="27468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6360" y="365040"/>
            <a:ext cx="85312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5366"/>
              </a:solidFill>
              <a:latin typeface="Century Gothic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306360" y="1825560"/>
            <a:ext cx="8531280" cy="40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6360" y="365040"/>
            <a:ext cx="85312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536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6360" y="1825560"/>
            <a:ext cx="8531280" cy="40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6360" y="365040"/>
            <a:ext cx="85312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5366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6360" y="1825560"/>
            <a:ext cx="4163040" cy="40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7840" y="1825560"/>
            <a:ext cx="4163040" cy="40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6360" y="365040"/>
            <a:ext cx="85312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5366"/>
              </a:solidFill>
              <a:latin typeface="Century Gothic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306360" y="365040"/>
            <a:ext cx="85312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6360" y="365040"/>
            <a:ext cx="85312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5366"/>
              </a:solidFill>
              <a:latin typeface="Century Gothic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6360" y="1825560"/>
            <a:ext cx="416304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7840" y="1825560"/>
            <a:ext cx="4163040" cy="40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306360" y="3954240"/>
            <a:ext cx="416304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6360" y="365040"/>
            <a:ext cx="85312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5366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6360" y="1825560"/>
            <a:ext cx="4163040" cy="40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825560"/>
            <a:ext cx="416304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7840" y="3954240"/>
            <a:ext cx="416304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6360" y="365040"/>
            <a:ext cx="85312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536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6360" y="1825560"/>
            <a:ext cx="4163040" cy="40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7840" y="1825560"/>
            <a:ext cx="416304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7840" y="3954240"/>
            <a:ext cx="416304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6360" y="365040"/>
            <a:ext cx="85312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5366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6360" y="1825560"/>
            <a:ext cx="416304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7840" y="1825560"/>
            <a:ext cx="416304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306360" y="3954240"/>
            <a:ext cx="853128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6360" y="365040"/>
            <a:ext cx="85312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5366"/>
              </a:solidFill>
              <a:latin typeface="Century Gothi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6360" y="1825560"/>
            <a:ext cx="853128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06360" y="3954240"/>
            <a:ext cx="853128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6360" y="365040"/>
            <a:ext cx="85312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5366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06360" y="1825560"/>
            <a:ext cx="416304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7840" y="1825560"/>
            <a:ext cx="416304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306360" y="3954240"/>
            <a:ext cx="416304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7840" y="3954240"/>
            <a:ext cx="416304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06360" y="365040"/>
            <a:ext cx="85312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5366"/>
              </a:solidFill>
              <a:latin typeface="Century Gothic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06360" y="1825560"/>
            <a:ext cx="27468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91040" y="1825560"/>
            <a:ext cx="27468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75360" y="1825560"/>
            <a:ext cx="27468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306360" y="3954240"/>
            <a:ext cx="27468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91040" y="3954240"/>
            <a:ext cx="27468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75360" y="3954240"/>
            <a:ext cx="27468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6360" y="365040"/>
            <a:ext cx="85312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5366"/>
              </a:solidFill>
              <a:latin typeface="Century Gothic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306360" y="1825560"/>
            <a:ext cx="8531280" cy="40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6360" y="365040"/>
            <a:ext cx="85312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5366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6360" y="1825560"/>
            <a:ext cx="8531280" cy="40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6360" y="365040"/>
            <a:ext cx="85312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5366"/>
              </a:solidFill>
              <a:latin typeface="Century Gothic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6360" y="1825560"/>
            <a:ext cx="4163040" cy="40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7840" y="1825560"/>
            <a:ext cx="4163040" cy="40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6360" y="365040"/>
            <a:ext cx="85312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5366"/>
              </a:solidFill>
              <a:latin typeface="Century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6360" y="365040"/>
            <a:ext cx="85312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5366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6360" y="1825560"/>
            <a:ext cx="416304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825560"/>
            <a:ext cx="416304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6360" y="3954240"/>
            <a:ext cx="853128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306360" y="365040"/>
            <a:ext cx="85312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6360" y="365040"/>
            <a:ext cx="85312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5366"/>
              </a:solidFill>
              <a:latin typeface="Century Gothic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6360" y="1825560"/>
            <a:ext cx="416304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7840" y="1825560"/>
            <a:ext cx="4163040" cy="40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06360" y="3954240"/>
            <a:ext cx="416304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6360" y="365040"/>
            <a:ext cx="85312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5366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06360" y="1825560"/>
            <a:ext cx="4163040" cy="40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7840" y="1825560"/>
            <a:ext cx="416304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7840" y="3954240"/>
            <a:ext cx="416304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6360" y="365040"/>
            <a:ext cx="85312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536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06360" y="1825560"/>
            <a:ext cx="416304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7840" y="1825560"/>
            <a:ext cx="416304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306360" y="3954240"/>
            <a:ext cx="853128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6360" y="365040"/>
            <a:ext cx="85312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536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6360" y="1825560"/>
            <a:ext cx="853128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06360" y="3954240"/>
            <a:ext cx="853128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6360" y="365040"/>
            <a:ext cx="85312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5366"/>
              </a:solidFill>
              <a:latin typeface="Century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06360" y="1825560"/>
            <a:ext cx="416304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7840" y="1825560"/>
            <a:ext cx="416304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306360" y="3954240"/>
            <a:ext cx="416304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7840" y="3954240"/>
            <a:ext cx="416304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6360" y="365040"/>
            <a:ext cx="85312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5366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6360" y="1825560"/>
            <a:ext cx="27468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191040" y="1825560"/>
            <a:ext cx="27468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75360" y="1825560"/>
            <a:ext cx="27468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306360" y="3954240"/>
            <a:ext cx="27468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191040" y="3954240"/>
            <a:ext cx="27468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75360" y="3954240"/>
            <a:ext cx="27468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8A2516-7F60-4A2C-AC9B-8A458616E2A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6360" y="365040"/>
            <a:ext cx="85312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5366"/>
              </a:solidFill>
              <a:latin typeface="Century Gothic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306360" y="1825560"/>
            <a:ext cx="8531280" cy="40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90A1C1-AC18-49E0-A2C8-FA9D364C76CC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6360" y="365040"/>
            <a:ext cx="85312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5366"/>
              </a:solidFill>
              <a:latin typeface="Century Gothic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6360" y="1825560"/>
            <a:ext cx="8531280" cy="40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9F8F1B-5B99-4D8F-A21B-F2626E405B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6360" y="1825560"/>
            <a:ext cx="8531280" cy="40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  <a:p>
            <a:pPr lvl="1" marL="4680" algn="ctr">
              <a:lnSpc>
                <a:spcPct val="130000"/>
              </a:lnSpc>
              <a:spcBef>
                <a:spcPts val="751"/>
              </a:spcBef>
              <a:buClr>
                <a:srgbClr val="005366"/>
              </a:buClr>
              <a:buFont typeface="Arial"/>
              <a:buChar char="–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  <a:p>
            <a:pPr lvl="2" marL="4680" algn="ctr">
              <a:lnSpc>
                <a:spcPct val="13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  <a:p>
            <a:pPr lvl="3" marL="266760" indent="-174600" algn="ctr">
              <a:lnSpc>
                <a:spcPct val="130000"/>
              </a:lnSpc>
              <a:spcBef>
                <a:spcPts val="751"/>
              </a:spcBef>
              <a:buClr>
                <a:srgbClr val="005366"/>
              </a:buClr>
              <a:buFont typeface="Wingdings" charset="2"/>
              <a:buChar char="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  <a:p>
            <a:pPr lvl="4" marL="468360" indent="-174600" algn="ctr">
              <a:lnSpc>
                <a:spcPct val="130000"/>
              </a:lnSpc>
              <a:spcBef>
                <a:spcPts val="751"/>
              </a:spcBef>
              <a:buClr>
                <a:srgbClr val="999999"/>
              </a:buClr>
              <a:buFont typeface="Wingdings" charset="2"/>
              <a:buChar char="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  <a:p>
            <a:pPr lvl="5" marL="468360" indent="-174600" algn="ctr">
              <a:lnSpc>
                <a:spcPct val="13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  <a:p>
            <a:pPr lvl="6" marL="468360" indent="-174600" algn="ctr">
              <a:lnSpc>
                <a:spcPct val="13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06360" y="365040"/>
            <a:ext cx="85312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5366"/>
                </a:solidFill>
                <a:latin typeface="Century Gothic"/>
              </a:rPr>
              <a:t>Click to edit the title text format</a:t>
            </a:r>
            <a:endParaRPr b="0" lang="en-US" sz="3300" spc="-1" strike="noStrike">
              <a:solidFill>
                <a:srgbClr val="005366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ABD60E-9AC0-4C38-8ED7-821E5C05244A}" type="datetime3">
              <a:rPr b="0" lang="it-IT" sz="1200" spc="-1" strike="noStrike">
                <a:solidFill>
                  <a:srgbClr val="898989"/>
                </a:solidFill>
                <a:latin typeface="Century Gothic"/>
              </a:rPr>
              <a:t>30 luglio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422CB7-108E-48DA-AB4C-D5BF12994C44}" type="slidenum">
              <a:rPr b="0" lang="it-IT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ttangolo 3"/>
          <p:cNvSpPr/>
          <p:nvPr/>
        </p:nvSpPr>
        <p:spPr>
          <a:xfrm>
            <a:off x="0" y="6137280"/>
            <a:ext cx="9144000" cy="22320"/>
          </a:xfrm>
          <a:prstGeom prst="rect">
            <a:avLst/>
          </a:prstGeom>
          <a:solidFill>
            <a:srgbClr val="005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8354880" y="6159600"/>
            <a:ext cx="4827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D306E-DFC6-4FFB-8050-69959BF9316A}" type="slidenum">
              <a:rPr b="1" lang="it-IT" sz="600" spc="-1" strike="noStrike">
                <a:solidFill>
                  <a:srgbClr val="999999"/>
                </a:solidFill>
                <a:latin typeface="Century Gothic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Immagine 8" descr=""/>
          <p:cNvPicPr/>
          <p:nvPr/>
        </p:nvPicPr>
        <p:blipFill>
          <a:blip r:embed="rId2"/>
          <a:stretch/>
        </p:blipFill>
        <p:spPr>
          <a:xfrm>
            <a:off x="306360" y="6354720"/>
            <a:ext cx="2143080" cy="2872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306360" y="1825560"/>
            <a:ext cx="8531280" cy="40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  <a:p>
            <a:pPr lvl="1" marL="4680" algn="ctr">
              <a:lnSpc>
                <a:spcPct val="130000"/>
              </a:lnSpc>
              <a:spcBef>
                <a:spcPts val="751"/>
              </a:spcBef>
              <a:buClr>
                <a:srgbClr val="005366"/>
              </a:buClr>
              <a:buFont typeface="Arial"/>
              <a:buChar char="–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  <a:p>
            <a:pPr lvl="2" marL="4680" algn="ctr">
              <a:lnSpc>
                <a:spcPct val="13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  <a:p>
            <a:pPr lvl="3" marL="266760" indent="-174600" algn="ctr">
              <a:lnSpc>
                <a:spcPct val="130000"/>
              </a:lnSpc>
              <a:spcBef>
                <a:spcPts val="751"/>
              </a:spcBef>
              <a:buClr>
                <a:srgbClr val="005366"/>
              </a:buClr>
              <a:buFont typeface="Wingdings" charset="2"/>
              <a:buChar char="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  <a:p>
            <a:pPr lvl="4" marL="468360" indent="-174600" algn="ctr">
              <a:lnSpc>
                <a:spcPct val="130000"/>
              </a:lnSpc>
              <a:spcBef>
                <a:spcPts val="751"/>
              </a:spcBef>
              <a:buClr>
                <a:srgbClr val="999999"/>
              </a:buClr>
              <a:buFont typeface="Wingdings" charset="2"/>
              <a:buChar char="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  <a:p>
            <a:pPr lvl="5" marL="468360" indent="-174600" algn="ctr">
              <a:lnSpc>
                <a:spcPct val="13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  <a:p>
            <a:pPr lvl="6" marL="468360" indent="-174600" algn="ctr">
              <a:lnSpc>
                <a:spcPct val="13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306360" y="365040"/>
            <a:ext cx="85312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5366"/>
                </a:solidFill>
                <a:latin typeface="Century Gothic"/>
              </a:rPr>
              <a:t>Click to edit the title text format</a:t>
            </a:r>
            <a:endParaRPr b="0" lang="en-US" sz="3300" spc="-1" strike="noStrike">
              <a:solidFill>
                <a:srgbClr val="005366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ttangolo 6"/>
          <p:cNvSpPr/>
          <p:nvPr/>
        </p:nvSpPr>
        <p:spPr>
          <a:xfrm>
            <a:off x="0" y="6137280"/>
            <a:ext cx="914400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Immagine 7" descr=""/>
          <p:cNvPicPr/>
          <p:nvPr/>
        </p:nvPicPr>
        <p:blipFill>
          <a:blip r:embed="rId2"/>
          <a:stretch/>
        </p:blipFill>
        <p:spPr>
          <a:xfrm>
            <a:off x="3500280" y="6354720"/>
            <a:ext cx="2143440" cy="287280"/>
          </a:xfrm>
          <a:prstGeom prst="rect">
            <a:avLst/>
          </a:prstGeom>
          <a:ln w="0">
            <a:noFill/>
          </a:ln>
        </p:spPr>
      </p:pic>
      <p:sp>
        <p:nvSpPr>
          <p:cNvPr id="122" name="Titolo 1"/>
          <p:cNvSpPr/>
          <p:nvPr/>
        </p:nvSpPr>
        <p:spPr>
          <a:xfrm>
            <a:off x="1143000" y="231840"/>
            <a:ext cx="685800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ffffff"/>
                </a:solidFill>
                <a:latin typeface="Century Gothic"/>
              </a:rPr>
              <a:t>MARZO 201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CD6DD9-5319-4EA3-BDBE-BF31C32CD6DA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6ED0D1-E415-4523-820F-B48910F70800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ttangolo 6"/>
          <p:cNvSpPr/>
          <p:nvPr/>
        </p:nvSpPr>
        <p:spPr>
          <a:xfrm>
            <a:off x="0" y="6281640"/>
            <a:ext cx="9144000" cy="2232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itolo 1"/>
          <p:cNvSpPr/>
          <p:nvPr/>
        </p:nvSpPr>
        <p:spPr>
          <a:xfrm>
            <a:off x="4572000" y="6222960"/>
            <a:ext cx="42656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0569B-B994-49A4-80E0-EFDE9F46E3E8}" type="slidenum">
              <a:rPr b="1" lang="it-IT" sz="900" spc="-1" strike="noStrike">
                <a:solidFill>
                  <a:srgbClr val="999999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Immagine 8" descr=""/>
          <p:cNvPicPr/>
          <p:nvPr/>
        </p:nvPicPr>
        <p:blipFill>
          <a:blip r:embed="rId2"/>
          <a:stretch/>
        </p:blipFill>
        <p:spPr>
          <a:xfrm>
            <a:off x="306360" y="6451560"/>
            <a:ext cx="2143080" cy="28728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ttangolo 6"/>
          <p:cNvSpPr/>
          <p:nvPr/>
        </p:nvSpPr>
        <p:spPr>
          <a:xfrm>
            <a:off x="0" y="6137280"/>
            <a:ext cx="9144000" cy="2232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Immagine 7" descr=""/>
          <p:cNvPicPr/>
          <p:nvPr/>
        </p:nvPicPr>
        <p:blipFill>
          <a:blip r:embed="rId2"/>
          <a:stretch/>
        </p:blipFill>
        <p:spPr>
          <a:xfrm>
            <a:off x="306360" y="6354720"/>
            <a:ext cx="2143080" cy="287280"/>
          </a:xfrm>
          <a:prstGeom prst="rect">
            <a:avLst/>
          </a:prstGeom>
          <a:ln w="0">
            <a:noFill/>
          </a:ln>
        </p:spPr>
      </p:pic>
      <p:sp>
        <p:nvSpPr>
          <p:cNvPr id="207" name="Titolo 1"/>
          <p:cNvSpPr/>
          <p:nvPr/>
        </p:nvSpPr>
        <p:spPr>
          <a:xfrm>
            <a:off x="4572000" y="6222960"/>
            <a:ext cx="42656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CEBF2-8936-4588-B3E4-98AD3CD57A8F}" type="slidenum">
              <a:rPr b="1" lang="it-IT" sz="900" spc="-1" strike="noStrike">
                <a:solidFill>
                  <a:srgbClr val="999999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ttangolo 11"/>
          <p:cNvSpPr/>
          <p:nvPr/>
        </p:nvSpPr>
        <p:spPr>
          <a:xfrm>
            <a:off x="0" y="6137280"/>
            <a:ext cx="914400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Immagine 10" descr=""/>
          <p:cNvPicPr/>
          <p:nvPr/>
        </p:nvPicPr>
        <p:blipFill>
          <a:blip r:embed="rId2"/>
          <a:stretch/>
        </p:blipFill>
        <p:spPr>
          <a:xfrm>
            <a:off x="3522600" y="6354720"/>
            <a:ext cx="2251080" cy="28728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ttangolo 6"/>
          <p:cNvSpPr/>
          <p:nvPr/>
        </p:nvSpPr>
        <p:spPr>
          <a:xfrm>
            <a:off x="0" y="6137280"/>
            <a:ext cx="9144000" cy="2232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8354880" y="6159600"/>
            <a:ext cx="4827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B5393-BE1F-407E-AD30-D406DCA373B7}" type="slidenum">
              <a:rPr b="1" lang="it-IT" sz="600" spc="-1" strike="noStrike">
                <a:solidFill>
                  <a:srgbClr val="999999"/>
                </a:solidFill>
                <a:latin typeface="Calibri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Immagine 8" descr=""/>
          <p:cNvPicPr/>
          <p:nvPr/>
        </p:nvPicPr>
        <p:blipFill>
          <a:blip r:embed="rId2"/>
          <a:stretch/>
        </p:blipFill>
        <p:spPr>
          <a:xfrm>
            <a:off x="306360" y="6354720"/>
            <a:ext cx="2143080" cy="28728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5"/>
          <p:cNvSpPr/>
          <p:nvPr/>
        </p:nvSpPr>
        <p:spPr>
          <a:xfrm>
            <a:off x="0" y="6159600"/>
            <a:ext cx="9144000" cy="69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ttangolo 10"/>
          <p:cNvSpPr/>
          <p:nvPr/>
        </p:nvSpPr>
        <p:spPr>
          <a:xfrm>
            <a:off x="0" y="6137280"/>
            <a:ext cx="9144000" cy="2232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Immagine 8" descr=""/>
          <p:cNvPicPr/>
          <p:nvPr/>
        </p:nvPicPr>
        <p:blipFill>
          <a:blip r:embed="rId2"/>
          <a:stretch/>
        </p:blipFill>
        <p:spPr>
          <a:xfrm>
            <a:off x="236520" y="6365880"/>
            <a:ext cx="2144880" cy="28584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ftr" idx="7"/>
          </p:nvPr>
        </p:nvSpPr>
        <p:spPr>
          <a:xfrm>
            <a:off x="2241720" y="6159600"/>
            <a:ext cx="466056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entury Gothic"/>
              </a:rPr>
              <a:t>Nome Docu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sldNum" idx="8"/>
          </p:nvPr>
        </p:nvSpPr>
        <p:spPr>
          <a:xfrm>
            <a:off x="8354520" y="6159600"/>
            <a:ext cx="48276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839292-ECD7-4598-B9AE-350C9BD67CCB}" type="slidenum">
              <a:rPr b="0" lang="it-IT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187280" y="1628640"/>
            <a:ext cx="6858000" cy="281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100" spc="-1" strike="noStrike">
                <a:solidFill>
                  <a:srgbClr val="44546a"/>
                </a:solidFill>
                <a:latin typeface="Century Gothic"/>
              </a:rPr>
              <a:t>LA TRATTAZIONE DEI RISCHI NON FINANZIARI</a:t>
            </a:r>
            <a:br>
              <a:rPr sz="2000"/>
            </a:br>
            <a:r>
              <a:rPr b="0" lang="it-IT" sz="3200" spc="-1" strike="noStrike">
                <a:solidFill>
                  <a:srgbClr val="44546a"/>
                </a:solidFill>
                <a:latin typeface="Century Gothic"/>
              </a:rPr>
              <a:t>ex D. Lgs. 254/2016</a:t>
            </a:r>
            <a:br>
              <a:rPr sz="3200"/>
            </a:br>
            <a:br>
              <a:rPr sz="4100"/>
            </a:b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1143000" y="4624560"/>
            <a:ext cx="6858000" cy="44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44546a"/>
                </a:solidFill>
                <a:latin typeface="Century Gothic"/>
              </a:rPr>
              <a:t>Lorenzo Kasperkovitz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44546a"/>
                </a:solidFill>
                <a:latin typeface="Century Gothic"/>
              </a:rPr>
              <a:t>Responsabile Servizio Relazioni Esterne, Eventi e Media Relations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itolo 3"/>
          <p:cNvSpPr/>
          <p:nvPr/>
        </p:nvSpPr>
        <p:spPr>
          <a:xfrm>
            <a:off x="306360" y="404640"/>
            <a:ext cx="853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it-IT" sz="2800" spc="-1" strike="noStrike">
                <a:solidFill>
                  <a:srgbClr val="005366"/>
                </a:solidFill>
                <a:latin typeface="Century Gothic"/>
              </a:rPr>
              <a:t>RISCHI NON FINANZIARI – SOCIALE PER I FORNIT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723960" y="2295360"/>
          <a:ext cx="7858080" cy="3102120"/>
        </p:xfrm>
        <a:graphic>
          <a:graphicData uri="http://schemas.openxmlformats.org/drawingml/2006/table">
            <a:tbl>
              <a:tblPr/>
              <a:tblGrid>
                <a:gridCol w="2252520"/>
                <a:gridCol w="2251080"/>
                <a:gridCol w="1955880"/>
                <a:gridCol w="1398600"/>
              </a:tblGrid>
              <a:tr h="968760">
                <a:tc rowSpan="4">
                  <a:txBody>
                    <a:bodyPr lIns="57240" rIns="57240" tIns="0" bIns="0" anchor="ctr">
                      <a:noAutofit/>
                    </a:bodyPr>
                    <a:p>
                      <a:pPr>
                        <a:lnSpc>
                          <a:spcPct val="106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Sociale per i fornito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8eaadb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8eaadb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6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Rischio di mancata verifica della qualità ed affidabilità economico-finanziaria dei fornitori con conseguente scelta errata/inappropri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6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6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- Regolamento di Cost Management &amp; Procuremen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>
                      <a:noFill/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</a:tr>
              <a:tr h="77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6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Rischio di mancata verifica dei fornitori secondo criteri socio-ambienta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8eaadb"/>
                      </a:solidFill>
                    </a:lnL>
                    <a:lnR w="5760">
                      <a:solidFill>
                        <a:srgbClr val="8eaadb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8eaadb"/>
                      </a:solidFill>
                    </a:lnB>
                    <a:solidFill>
                      <a:srgbClr val="d9e2f3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6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8eaadb"/>
                      </a:solidFill>
                    </a:lnL>
                    <a:lnR w="5760">
                      <a:solidFill>
                        <a:srgbClr val="8eaadb"/>
                      </a:solidFill>
                    </a:lnR>
                    <a:lnT>
                      <a:noFill/>
                    </a:lnT>
                    <a:lnB w="5760">
                      <a:solidFill>
                        <a:srgbClr val="8eaadb"/>
                      </a:solidFill>
                    </a:lnB>
                    <a:solidFill>
                      <a:srgbClr val="d9e2f3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6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- Regolamento di Cost Management &amp; Procuremen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8eaadb"/>
                      </a:solidFill>
                    </a:lnL>
                    <a:lnR w="5760">
                      <a:solidFill>
                        <a:srgbClr val="8eaadb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8eaadb"/>
                      </a:solidFill>
                    </a:lnB>
                    <a:solidFill>
                      <a:srgbClr val="d9e2f3"/>
                    </a:solidFill>
                  </a:tcPr>
                </a:tc>
              </a:tr>
              <a:tr h="58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6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Rischio di non ottemperare agli obblighi contrattuali e di controversie lega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8eaadb"/>
                      </a:solidFill>
                    </a:lnL>
                    <a:lnR w="5760">
                      <a:solidFill>
                        <a:srgbClr val="8eaadb"/>
                      </a:solidFill>
                    </a:lnR>
                    <a:lnT w="5760">
                      <a:solidFill>
                        <a:srgbClr val="8eaadb"/>
                      </a:solidFill>
                    </a:lnT>
                    <a:lnB w="5760">
                      <a:solidFill>
                        <a:srgbClr val="8eaadb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6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8eaadb"/>
                      </a:solidFill>
                    </a:lnL>
                    <a:lnR w="5760">
                      <a:solidFill>
                        <a:srgbClr val="8eaadb"/>
                      </a:solidFill>
                    </a:lnR>
                    <a:lnT w="5760">
                      <a:solidFill>
                        <a:srgbClr val="8eaadb"/>
                      </a:solidFill>
                    </a:lnT>
                    <a:lnB w="5760">
                      <a:solidFill>
                        <a:srgbClr val="8eaadb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6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8eaadb"/>
                      </a:solidFill>
                    </a:lnL>
                    <a:lnR w="5760">
                      <a:solidFill>
                        <a:srgbClr val="8eaadb"/>
                      </a:solidFill>
                    </a:lnR>
                    <a:lnT w="5760">
                      <a:solidFill>
                        <a:srgbClr val="8eaadb"/>
                      </a:solidFill>
                    </a:lnT>
                    <a:lnB w="5760">
                      <a:solidFill>
                        <a:srgbClr val="8eaadb"/>
                      </a:solidFill>
                    </a:lnB>
                    <a:noFill/>
                  </a:tcPr>
                </a:tc>
              </a:tr>
              <a:tr h="779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6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Rischio di non ottimizzazione del trade–off qualità e costi di approvvigionam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8eaadb"/>
                      </a:solidFill>
                    </a:lnL>
                    <a:lnR w="5760">
                      <a:solidFill>
                        <a:srgbClr val="8eaadb"/>
                      </a:solidFill>
                    </a:lnR>
                    <a:lnT w="5760">
                      <a:solidFill>
                        <a:srgbClr val="8eaadb"/>
                      </a:solidFill>
                    </a:lnT>
                    <a:lnB w="5760">
                      <a:solidFill>
                        <a:srgbClr val="8eaadb"/>
                      </a:solidFill>
                    </a:lnB>
                    <a:solidFill>
                      <a:srgbClr val="d9e2f3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6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8eaadb"/>
                      </a:solidFill>
                    </a:lnL>
                    <a:lnR w="5760">
                      <a:solidFill>
                        <a:srgbClr val="8eaadb"/>
                      </a:solidFill>
                    </a:lnR>
                    <a:lnT w="5760">
                      <a:solidFill>
                        <a:srgbClr val="8eaadb"/>
                      </a:solidFill>
                    </a:lnT>
                    <a:lnB w="5760">
                      <a:solidFill>
                        <a:srgbClr val="8eaadb"/>
                      </a:solidFill>
                    </a:lnB>
                    <a:solidFill>
                      <a:srgbClr val="d9e2f3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6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- Regolamento di Cost Management &amp; Procuremen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8eaadb"/>
                      </a:solidFill>
                    </a:lnL>
                    <a:lnR w="5760">
                      <a:solidFill>
                        <a:srgbClr val="8eaadb"/>
                      </a:solidFill>
                    </a:lnR>
                    <a:lnT w="5760">
                      <a:solidFill>
                        <a:srgbClr val="8eaadb"/>
                      </a:solidFill>
                    </a:lnT>
                    <a:lnB w="5760">
                      <a:solidFill>
                        <a:srgbClr val="8eaadb"/>
                      </a:solidFill>
                    </a:lnB>
                    <a:solidFill>
                      <a:srgbClr val="d9e2f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91" name=""/>
          <p:cNvGraphicFramePr/>
          <p:nvPr/>
        </p:nvGraphicFramePr>
        <p:xfrm>
          <a:off x="723960" y="1289160"/>
          <a:ext cx="7867440" cy="1006200"/>
        </p:xfrm>
        <a:graphic>
          <a:graphicData uri="http://schemas.openxmlformats.org/drawingml/2006/table">
            <a:tbl>
              <a:tblPr/>
              <a:tblGrid>
                <a:gridCol w="2238480"/>
                <a:gridCol w="2323800"/>
                <a:gridCol w="1933560"/>
                <a:gridCol w="1371600"/>
              </a:tblGrid>
              <a:tr h="1172160">
                <a:tc>
                  <a:txBody>
                    <a:bodyPr lIns="8640" rIns="8640" tIns="0" bIns="0" anchor="ctr">
                      <a:noAutofit/>
                    </a:bodyPr>
                    <a:p>
                      <a:pPr>
                        <a:lnSpc>
                          <a:spcPct val="106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br>
                        <a:rPr sz="1100"/>
                      </a:br>
                      <a:r>
                        <a:rPr b="1" lang="it-IT" sz="1100" spc="-1" strike="noStrike">
                          <a:solidFill>
                            <a:srgbClr val="ffffff"/>
                          </a:solidFill>
                          <a:latin typeface="Century Gothic"/>
                          <a:ea typeface="Calibri"/>
                        </a:rPr>
                        <a:t>Ambi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6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it-IT" sz="1100" spc="-1" strike="noStrike">
                          <a:solidFill>
                            <a:srgbClr val="ffffff"/>
                          </a:solidFill>
                          <a:latin typeface="Century Gothic"/>
                          <a:ea typeface="Calibri"/>
                        </a:rPr>
                        <a:t>D. Lgs. 254/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472c4"/>
                      </a:solidFill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8640" rIns="8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it-IT" sz="1100" spc="-1" strike="noStrike">
                          <a:solidFill>
                            <a:srgbClr val="ffffff"/>
                          </a:solidFill>
                          <a:latin typeface="Century Gothic"/>
                          <a:ea typeface="Calibri"/>
                        </a:rPr>
                        <a:t>Principali risch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8640" rIns="8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it-IT" sz="1100" spc="-1" strike="noStrike">
                          <a:solidFill>
                            <a:srgbClr val="ffffff"/>
                          </a:solidFill>
                          <a:latin typeface="Century Gothic"/>
                          <a:ea typeface="Calibri"/>
                        </a:rPr>
                        <a:t>Strutture, Regolamenti e Policy a copertura del risch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8640" rIns="8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it-IT" sz="1100" spc="-1" strike="noStrike">
                          <a:solidFill>
                            <a:srgbClr val="ffffff"/>
                          </a:solidFill>
                          <a:latin typeface="Century Gothic"/>
                          <a:ea typeface="Calibri"/>
                        </a:rPr>
                        <a:t>Regolamenti e Policy </a:t>
                      </a:r>
                      <a:r>
                        <a:rPr b="1" lang="it-IT" sz="11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in corso di predisposizione, aggiornamento e/o validazione finale e prossima emissi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itolo 3"/>
          <p:cNvSpPr/>
          <p:nvPr/>
        </p:nvSpPr>
        <p:spPr>
          <a:xfrm>
            <a:off x="306360" y="404640"/>
            <a:ext cx="853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it-IT" sz="2800" spc="-1" strike="noStrike">
                <a:solidFill>
                  <a:srgbClr val="005366"/>
                </a:solidFill>
                <a:latin typeface="Century Gothic"/>
              </a:rPr>
              <a:t>RISCHI NON FINANZIARI – SOCIALE PER LA COMUNIT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642960" y="2798640"/>
          <a:ext cx="7858080" cy="2673360"/>
        </p:xfrm>
        <a:graphic>
          <a:graphicData uri="http://schemas.openxmlformats.org/drawingml/2006/table">
            <a:tbl>
              <a:tblPr/>
              <a:tblGrid>
                <a:gridCol w="2252520"/>
                <a:gridCol w="2251080"/>
                <a:gridCol w="1955880"/>
                <a:gridCol w="1398600"/>
              </a:tblGrid>
              <a:tr h="1125360">
                <a:tc rowSpan="3">
                  <a:txBody>
                    <a:bodyPr lIns="57240" rIns="57240" tIns="0" bIns="0" anchor="ctr">
                      <a:noAutofit/>
                    </a:bodyPr>
                    <a:p>
                      <a:pPr>
                        <a:lnSpc>
                          <a:spcPct val="106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Sociale per la comunit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8eaadb"/>
                      </a:solidFill>
                    </a:lnL>
                    <a:lnR w="5760">
                      <a:solidFill>
                        <a:srgbClr val="8eaadb"/>
                      </a:solidFill>
                    </a:lnR>
                    <a:lnT w="5760">
                      <a:solidFill>
                        <a:srgbClr val="8eaadb"/>
                      </a:solidFill>
                    </a:lnT>
                    <a:lnB w="5760">
                      <a:solidFill>
                        <a:srgbClr val="8eaadb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6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Rischio di multe o sanzioni significative per non conformità a leggi o regolamenti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8eaadb"/>
                      </a:solidFill>
                    </a:lnL>
                    <a:lnR w="5760">
                      <a:solidFill>
                        <a:srgbClr val="8eaadb"/>
                      </a:solidFill>
                    </a:lnR>
                    <a:lnT w="5760">
                      <a:solidFill>
                        <a:srgbClr val="8eaadb"/>
                      </a:solidFill>
                    </a:lnT>
                    <a:lnB w="5760">
                      <a:solidFill>
                        <a:srgbClr val="8eaadb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6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 Funzione Compli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6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 Regolamento della Funzione Complianc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6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 Policy per la Gestione del rischio reputazion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8eaadb"/>
                      </a:solidFill>
                    </a:lnL>
                    <a:lnR w="5760">
                      <a:solidFill>
                        <a:srgbClr val="8eaadb"/>
                      </a:solidFill>
                    </a:lnR>
                    <a:lnT w="5760">
                      <a:solidFill>
                        <a:srgbClr val="8eaadb"/>
                      </a:solidFill>
                    </a:lnT>
                    <a:lnB w="5760">
                      <a:solidFill>
                        <a:srgbClr val="8eaadb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6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8eaadb"/>
                      </a:solidFill>
                    </a:lnL>
                    <a:lnR w="5760">
                      <a:solidFill>
                        <a:srgbClr val="8eaadb"/>
                      </a:solidFill>
                    </a:lnR>
                    <a:lnT w="5760">
                      <a:solidFill>
                        <a:srgbClr val="8eaadb"/>
                      </a:solidFill>
                    </a:lnT>
                    <a:lnB w="5760">
                      <a:solidFill>
                        <a:srgbClr val="8eaadb"/>
                      </a:solidFill>
                    </a:lnB>
                    <a:noFill/>
                  </a:tcPr>
                </a:tc>
              </a:tr>
              <a:tr h="774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6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Rischio reputazionale di diffusione nei media di notizie negative per il Grupp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8eaadb"/>
                      </a:solidFill>
                    </a:lnL>
                    <a:lnR w="5760">
                      <a:solidFill>
                        <a:srgbClr val="8eaadb"/>
                      </a:solidFill>
                    </a:lnR>
                    <a:lnT w="5760">
                      <a:solidFill>
                        <a:srgbClr val="8eaadb"/>
                      </a:solidFill>
                    </a:lnT>
                    <a:lnB w="5760">
                      <a:solidFill>
                        <a:srgbClr val="8eaadb"/>
                      </a:solidFill>
                    </a:lnB>
                    <a:solidFill>
                      <a:srgbClr val="d9e2f3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6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 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 Policy per la Gestione del rischio reputazion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6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8eaadb"/>
                      </a:solidFill>
                    </a:lnL>
                    <a:lnR w="5760">
                      <a:solidFill>
                        <a:srgbClr val="8eaadb"/>
                      </a:solidFill>
                    </a:lnR>
                    <a:lnT w="5760">
                      <a:solidFill>
                        <a:srgbClr val="8eaadb"/>
                      </a:solidFill>
                    </a:lnT>
                    <a:lnB w="5760">
                      <a:solidFill>
                        <a:srgbClr val="8eaadb"/>
                      </a:solidFill>
                    </a:lnB>
                    <a:solidFill>
                      <a:srgbClr val="d9e2f3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6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8eaadb"/>
                      </a:solidFill>
                    </a:lnL>
                    <a:lnR w="5760">
                      <a:solidFill>
                        <a:srgbClr val="8eaadb"/>
                      </a:solidFill>
                    </a:lnR>
                    <a:lnT w="5760">
                      <a:solidFill>
                        <a:srgbClr val="8eaadb"/>
                      </a:solidFill>
                    </a:lnT>
                    <a:lnB w="5760">
                      <a:solidFill>
                        <a:srgbClr val="8eaadb"/>
                      </a:solidFill>
                    </a:lnB>
                    <a:solidFill>
                      <a:srgbClr val="d9e2f3"/>
                    </a:solidFill>
                  </a:tcPr>
                </a:tc>
              </a:tr>
              <a:tr h="77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6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Rischio di comunicare in modo inadeguato, inappropriato, incompleto e/o poco traspar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8eaadb"/>
                      </a:solidFill>
                    </a:lnL>
                    <a:lnR w="5760">
                      <a:solidFill>
                        <a:srgbClr val="8eaadb"/>
                      </a:solidFill>
                    </a:lnR>
                    <a:lnT w="5760">
                      <a:solidFill>
                        <a:srgbClr val="8eaadb"/>
                      </a:solidFill>
                    </a:lnT>
                    <a:lnB w="5760">
                      <a:solidFill>
                        <a:srgbClr val="8eaadb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lvl="1" marL="181080" indent="-181080">
                        <a:lnSpc>
                          <a:spcPct val="106000"/>
                        </a:lnSpc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Procedure operative dei Servizi coinvol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8eaadb"/>
                      </a:solidFill>
                    </a:lnL>
                    <a:lnR w="5760">
                      <a:solidFill>
                        <a:srgbClr val="8eaadb"/>
                      </a:solidFill>
                    </a:lnR>
                    <a:lnT w="5760">
                      <a:solidFill>
                        <a:srgbClr val="8eaadb"/>
                      </a:solidFill>
                    </a:lnT>
                    <a:lnB w="5760">
                      <a:solidFill>
                        <a:srgbClr val="8eaadb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6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8eaadb"/>
                      </a:solidFill>
                    </a:lnL>
                    <a:lnR w="5760">
                      <a:solidFill>
                        <a:srgbClr val="8eaadb"/>
                      </a:solidFill>
                    </a:lnR>
                    <a:lnT w="5760">
                      <a:solidFill>
                        <a:srgbClr val="8eaadb"/>
                      </a:solidFill>
                    </a:lnT>
                    <a:lnB w="5760">
                      <a:solidFill>
                        <a:srgbClr val="8eaadb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94" name=""/>
          <p:cNvGraphicFramePr/>
          <p:nvPr/>
        </p:nvGraphicFramePr>
        <p:xfrm>
          <a:off x="633240" y="1793880"/>
          <a:ext cx="7867800" cy="1006560"/>
        </p:xfrm>
        <a:graphic>
          <a:graphicData uri="http://schemas.openxmlformats.org/drawingml/2006/table">
            <a:tbl>
              <a:tblPr/>
              <a:tblGrid>
                <a:gridCol w="2238480"/>
                <a:gridCol w="2324160"/>
                <a:gridCol w="1933560"/>
                <a:gridCol w="1371600"/>
              </a:tblGrid>
              <a:tr h="1172160">
                <a:tc>
                  <a:txBody>
                    <a:bodyPr lIns="8640" rIns="8640" tIns="0" bIns="0" anchor="ctr">
                      <a:noAutofit/>
                    </a:bodyPr>
                    <a:p>
                      <a:pPr>
                        <a:lnSpc>
                          <a:spcPct val="106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br>
                        <a:rPr sz="1100"/>
                      </a:br>
                      <a:r>
                        <a:rPr b="1" lang="it-IT" sz="1100" spc="-1" strike="noStrike">
                          <a:solidFill>
                            <a:srgbClr val="ffffff"/>
                          </a:solidFill>
                          <a:latin typeface="Century Gothic"/>
                          <a:ea typeface="Calibri"/>
                        </a:rPr>
                        <a:t>Ambi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6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it-IT" sz="1100" spc="-1" strike="noStrike">
                          <a:solidFill>
                            <a:srgbClr val="ffffff"/>
                          </a:solidFill>
                          <a:latin typeface="Century Gothic"/>
                          <a:ea typeface="Calibri"/>
                        </a:rPr>
                        <a:t>D. Lgs. 254/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472c4"/>
                      </a:solidFill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8640" rIns="8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it-IT" sz="1100" spc="-1" strike="noStrike">
                          <a:solidFill>
                            <a:srgbClr val="ffffff"/>
                          </a:solidFill>
                          <a:latin typeface="Century Gothic"/>
                          <a:ea typeface="Calibri"/>
                        </a:rPr>
                        <a:t>Principali risch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8640" rIns="8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it-IT" sz="1100" spc="-1" strike="noStrike">
                          <a:solidFill>
                            <a:srgbClr val="ffffff"/>
                          </a:solidFill>
                          <a:latin typeface="Century Gothic"/>
                          <a:ea typeface="Calibri"/>
                        </a:rPr>
                        <a:t>Strutture, Regolamenti e Policy a copertura del risch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8640" rIns="8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it-IT" sz="1100" spc="-1" strike="noStrike">
                          <a:solidFill>
                            <a:srgbClr val="ffffff"/>
                          </a:solidFill>
                          <a:latin typeface="Century Gothic"/>
                          <a:ea typeface="Calibri"/>
                        </a:rPr>
                        <a:t>Regolamenti e Policy </a:t>
                      </a:r>
                      <a:r>
                        <a:rPr b="1" lang="it-IT" sz="11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in corso di predisposizione, aggiornamento e/o validazione finale e prossima emissi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Placeholder 17"/>
          <p:cNvSpPr/>
          <p:nvPr/>
        </p:nvSpPr>
        <p:spPr>
          <a:xfrm>
            <a:off x="458640" y="1359000"/>
            <a:ext cx="8531280" cy="33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itolo 3"/>
          <p:cNvSpPr/>
          <p:nvPr/>
        </p:nvSpPr>
        <p:spPr>
          <a:xfrm>
            <a:off x="306360" y="404640"/>
            <a:ext cx="853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it-IT" sz="2800" spc="-1" strike="noStrike">
                <a:solidFill>
                  <a:srgbClr val="005366"/>
                </a:solidFill>
                <a:latin typeface="Century Gothic"/>
              </a:rPr>
              <a:t>LEGGE DI BILANCIO 2019: NOVITÀ IN TEMA DI INFORMAZIONI NON FINANZIAR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ttangolo 5"/>
          <p:cNvSpPr/>
          <p:nvPr/>
        </p:nvSpPr>
        <p:spPr>
          <a:xfrm>
            <a:off x="399960" y="1187280"/>
            <a:ext cx="843768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entury Gothic"/>
              </a:rPr>
              <a:t>Con la Legge di bilancio 2019 (legge 30 dicembre 2018, n. 145) è stata introdotta una novità in ordine al contenuto informativo delle dichiarazioni non finanziarie disciplinate dal D. Lgs. n. 254/201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entury Gothic"/>
              </a:rPr>
              <a:t>In particolare, l'art. 1, comma 1073, della suddetta legge ha previsto 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entury Gothic"/>
              </a:rPr>
              <a:t>« la Dichiarazione Non Finanziaria, tanto individuale quanto consolidata, nel descrivere i principali rischi generati o subiti connessi ai temi non finanziari, </a:t>
            </a:r>
            <a:r>
              <a:rPr b="0" lang="it-IT" sz="1600" spc="-1" strike="noStrike" u="sng">
                <a:solidFill>
                  <a:srgbClr val="000000"/>
                </a:solidFill>
                <a:uFillTx/>
                <a:latin typeface="Century Gothic"/>
              </a:rPr>
              <a:t>deve illustrare anche le loro modalità di gestione</a:t>
            </a:r>
            <a:r>
              <a:rPr b="0" lang="it-IT" sz="1600" spc="-1" strike="noStrike">
                <a:solidFill>
                  <a:srgbClr val="000000"/>
                </a:solidFill>
                <a:latin typeface="Century Gothic"/>
              </a:rPr>
              <a:t> 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entury Gothic"/>
              </a:rPr>
              <a:t>Il Gruppo ha identificato i rischi non finanziari riportati, per ambito del Decreto, nelle tabelle di seguito rappresentate, unitamente ai presidi a mitigazio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itolo 3"/>
          <p:cNvSpPr/>
          <p:nvPr/>
        </p:nvSpPr>
        <p:spPr>
          <a:xfrm>
            <a:off x="306360" y="263520"/>
            <a:ext cx="853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it-IT" sz="2800" spc="-1" strike="noStrike">
                <a:solidFill>
                  <a:srgbClr val="005366"/>
                </a:solidFill>
                <a:latin typeface="Century Gothic"/>
              </a:rPr>
              <a:t>RISCHI NON FINANZIARI - AMB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495360" y="912960"/>
          <a:ext cx="8248680" cy="5049720"/>
        </p:xfrm>
        <a:graphic>
          <a:graphicData uri="http://schemas.openxmlformats.org/drawingml/2006/table">
            <a:tbl>
              <a:tblPr/>
              <a:tblGrid>
                <a:gridCol w="2422440"/>
                <a:gridCol w="2422440"/>
                <a:gridCol w="2103480"/>
                <a:gridCol w="1300320"/>
              </a:tblGrid>
              <a:tr h="1643040">
                <a:tc>
                  <a:txBody>
                    <a:bodyPr lIns="28440" rIns="28440" tIns="0" bIns="0" anchor="ctr">
                      <a:noAutofit/>
                    </a:bodyPr>
                    <a:p>
                      <a:pPr>
                        <a:lnSpc>
                          <a:spcPct val="106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br>
                        <a:rPr sz="1200"/>
                      </a:b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Century Gothic"/>
                          <a:ea typeface="Calibri"/>
                        </a:rPr>
                        <a:t>Ambi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6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Century Gothic"/>
                          <a:ea typeface="Calibri"/>
                        </a:rPr>
                        <a:t>D. Lgs. 254/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4472c4"/>
                      </a:solidFill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Century Gothic"/>
                          <a:ea typeface="Calibri"/>
                        </a:rPr>
                        <a:t>Principali risch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Century Gothic"/>
                          <a:ea typeface="Calibri"/>
                        </a:rPr>
                        <a:t>Strutture, Regolamenti e Policy a copertura del risch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Century Gothic"/>
                          <a:ea typeface="Calibri"/>
                        </a:rPr>
                        <a:t>Regolamenti e Policy </a:t>
                      </a: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in corso di predisposizione, aggiornamento e/o validazione finale e prossima emissi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1208160">
                <a:tc rowSpan="3">
                  <a:txBody>
                    <a:bodyPr lIns="28440" rIns="28440" tIns="0" bIns="0" anchor="ctr">
                      <a:noAutofit/>
                    </a:bodyPr>
                    <a:p>
                      <a:pPr>
                        <a:lnSpc>
                          <a:spcPct val="106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Ambient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8eaadb"/>
                      </a:solidFill>
                    </a:lnL>
                    <a:lnR w="5760">
                      <a:solidFill>
                        <a:srgbClr val="8eaadb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8eaadb"/>
                      </a:solidFill>
                    </a:lnB>
                    <a:noFill/>
                  </a:tcPr>
                </a:tc>
                <a:tc>
                  <a:txBody>
                    <a:bodyPr lIns="28440" rIns="28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Rischio di non compliance alle normative in materia ambient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8eaadb"/>
                      </a:solidFill>
                    </a:lnL>
                    <a:lnR w="5760">
                      <a:solidFill>
                        <a:srgbClr val="8eaadb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8eaadb"/>
                      </a:solidFill>
                    </a:lnB>
                    <a:solidFill>
                      <a:srgbClr val="d9e2f3"/>
                    </a:solidFill>
                  </a:tcPr>
                </a:tc>
                <a:tc>
                  <a:txBody>
                    <a:bodyPr lIns="28440" rIns="28440" tIns="0" bIns="0" anchor="t">
                      <a:noAutofit/>
                    </a:bodyPr>
                    <a:p>
                      <a:pPr lvl="1" marL="743040" indent="-285840">
                        <a:lnSpc>
                          <a:spcPct val="13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10800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Funzione Compli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30000"/>
                        </a:lnSpc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10800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Politica Ambient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10800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8eaadb"/>
                      </a:solidFill>
                    </a:lnL>
                    <a:lnR w="5760">
                      <a:solidFill>
                        <a:srgbClr val="8eaadb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8eaadb"/>
                      </a:solidFill>
                    </a:lnB>
                    <a:solidFill>
                      <a:srgbClr val="d9e2f3"/>
                    </a:solidFill>
                  </a:tcPr>
                </a:tc>
                <a:tc>
                  <a:txBody>
                    <a:bodyPr lIns="28440" rIns="28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8eaadb"/>
                      </a:solidFill>
                    </a:lnL>
                    <a:lnR w="5760">
                      <a:solidFill>
                        <a:srgbClr val="8eaadb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8eaadb"/>
                      </a:solidFill>
                    </a:lnB>
                    <a:solidFill>
                      <a:srgbClr val="d9e2f3"/>
                    </a:solidFill>
                  </a:tcPr>
                </a:tc>
              </a:tr>
              <a:tr h="92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440" rIns="28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Rischio di assenza di prodotti correlati ad attività ecosostenibili (e.g. crediti </a:t>
                      </a:r>
                      <a:r>
                        <a:rPr b="0" i="1" lang="it-IT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green 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per imprese</a:t>
                      </a:r>
                      <a:r>
                        <a:rPr b="0" i="1" lang="it-IT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, 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prestiti per ristrutturazione ed efficientamento energetico, etc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8eaadb"/>
                      </a:solidFill>
                    </a:lnL>
                    <a:lnR w="5760">
                      <a:solidFill>
                        <a:srgbClr val="8eaadb"/>
                      </a:solidFill>
                    </a:lnR>
                    <a:lnT w="5760">
                      <a:solidFill>
                        <a:srgbClr val="8eaadb"/>
                      </a:solidFill>
                    </a:lnT>
                    <a:lnB w="5760">
                      <a:solidFill>
                        <a:srgbClr val="8eaadb"/>
                      </a:solidFill>
                    </a:lnB>
                    <a:noFill/>
                  </a:tcPr>
                </a:tc>
                <a:tc>
                  <a:txBody>
                    <a:bodyPr lIns="28440" rIns="28440" tIns="0" bIns="0" anchor="t">
                      <a:noAutofit/>
                    </a:bodyPr>
                    <a:p>
                      <a:pPr>
                        <a:lnSpc>
                          <a:spcPct val="106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 Regolamento in materia di nuovi prodotti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8eaadb"/>
                      </a:solidFill>
                    </a:lnL>
                    <a:lnR w="5760">
                      <a:solidFill>
                        <a:srgbClr val="8eaadb"/>
                      </a:solidFill>
                    </a:lnR>
                    <a:lnT w="5760">
                      <a:solidFill>
                        <a:srgbClr val="8eaadb"/>
                      </a:solidFill>
                    </a:lnT>
                    <a:lnB w="5760">
                      <a:solidFill>
                        <a:srgbClr val="8eaadb"/>
                      </a:solidFill>
                    </a:lnB>
                    <a:noFill/>
                  </a:tcPr>
                </a:tc>
                <a:tc>
                  <a:txBody>
                    <a:bodyPr lIns="28440" rIns="28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8eaadb"/>
                      </a:solidFill>
                    </a:lnL>
                    <a:lnR w="5760">
                      <a:solidFill>
                        <a:srgbClr val="8eaadb"/>
                      </a:solidFill>
                    </a:lnR>
                    <a:lnT w="5760">
                      <a:solidFill>
                        <a:srgbClr val="8eaadb"/>
                      </a:solidFill>
                    </a:lnT>
                    <a:lnB w="5760">
                      <a:solidFill>
                        <a:srgbClr val="8eaadb"/>
                      </a:solidFill>
                    </a:lnB>
                    <a:noFill/>
                  </a:tcPr>
                </a:tc>
              </a:tr>
              <a:tr h="109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440" rIns="28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Rischio reputazionale a seguito di finanziamenti per operazioni con elevato impatto dal punto di vista ambientale (trivellazione, imprese altamente inquinanti, etc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8eaadb"/>
                      </a:solidFill>
                    </a:lnL>
                    <a:lnR w="5760">
                      <a:solidFill>
                        <a:srgbClr val="8eaadb"/>
                      </a:solidFill>
                    </a:lnR>
                    <a:lnT w="5760">
                      <a:solidFill>
                        <a:srgbClr val="8eaadb"/>
                      </a:solidFill>
                    </a:lnT>
                    <a:lnB w="5760">
                      <a:solidFill>
                        <a:srgbClr val="8eaadb"/>
                      </a:solidFill>
                    </a:lnB>
                    <a:solidFill>
                      <a:srgbClr val="d9e2f3"/>
                    </a:solidFill>
                  </a:tcPr>
                </a:tc>
                <a:tc>
                  <a:txBody>
                    <a:bodyPr lIns="28440" rIns="28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 Policy per la Gestione del rischio reputazion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8eaadb"/>
                      </a:solidFill>
                    </a:lnL>
                    <a:lnR w="5760">
                      <a:solidFill>
                        <a:srgbClr val="8eaadb"/>
                      </a:solidFill>
                    </a:lnR>
                    <a:lnT w="5760">
                      <a:solidFill>
                        <a:srgbClr val="8eaadb"/>
                      </a:solidFill>
                    </a:lnT>
                    <a:lnB w="5760">
                      <a:solidFill>
                        <a:srgbClr val="8eaadb"/>
                      </a:solidFill>
                    </a:lnB>
                    <a:solidFill>
                      <a:srgbClr val="d9e2f3"/>
                    </a:solidFill>
                  </a:tcPr>
                </a:tc>
                <a:tc>
                  <a:txBody>
                    <a:bodyPr lIns="28440" rIns="28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8eaadb"/>
                      </a:solidFill>
                    </a:lnL>
                    <a:lnR w="5760">
                      <a:solidFill>
                        <a:srgbClr val="8eaadb"/>
                      </a:solidFill>
                    </a:lnR>
                    <a:lnT w="5760">
                      <a:solidFill>
                        <a:srgbClr val="8eaadb"/>
                      </a:solidFill>
                    </a:lnT>
                    <a:lnB w="5760">
                      <a:solidFill>
                        <a:srgbClr val="8eaadb"/>
                      </a:solidFill>
                    </a:lnB>
                    <a:solidFill>
                      <a:srgbClr val="d9e2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itolo 3"/>
          <p:cNvSpPr/>
          <p:nvPr/>
        </p:nvSpPr>
        <p:spPr>
          <a:xfrm>
            <a:off x="306360" y="317520"/>
            <a:ext cx="853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it-IT" sz="2800" spc="-1" strike="noStrike">
                <a:solidFill>
                  <a:srgbClr val="005366"/>
                </a:solidFill>
                <a:latin typeface="Century Gothic"/>
              </a:rPr>
              <a:t>RISCHI NON FINANZIARI – PERSONALE E DIRITTI UMA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495360" y="1163520"/>
          <a:ext cx="7981920" cy="4795920"/>
        </p:xfrm>
        <a:graphic>
          <a:graphicData uri="http://schemas.openxmlformats.org/drawingml/2006/table">
            <a:tbl>
              <a:tblPr/>
              <a:tblGrid>
                <a:gridCol w="2344680"/>
                <a:gridCol w="2344680"/>
                <a:gridCol w="2035080"/>
                <a:gridCol w="1257480"/>
              </a:tblGrid>
              <a:tr h="823320">
                <a:tc>
                  <a:txBody>
                    <a:bodyPr lIns="28440" rIns="28440" tIns="0" bIns="0" anchor="ctr">
                      <a:noAutofit/>
                    </a:bodyPr>
                    <a:p>
                      <a:pPr>
                        <a:lnSpc>
                          <a:spcPct val="106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br>
                        <a:rPr sz="900"/>
                      </a:br>
                      <a:r>
                        <a:rPr b="1" lang="it-IT" sz="900" spc="-1" strike="noStrike">
                          <a:solidFill>
                            <a:srgbClr val="ffffff"/>
                          </a:solidFill>
                          <a:latin typeface="Century Gothic"/>
                          <a:ea typeface="Calibri"/>
                        </a:rPr>
                        <a:t>Ambit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6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it-IT" sz="900" spc="-1" strike="noStrike">
                          <a:solidFill>
                            <a:srgbClr val="ffffff"/>
                          </a:solidFill>
                          <a:latin typeface="Century Gothic"/>
                          <a:ea typeface="Calibri"/>
                        </a:rPr>
                        <a:t>D. Lgs. 254/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4472c4"/>
                      </a:solidFill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it-IT" sz="900" spc="-1" strike="noStrike">
                          <a:solidFill>
                            <a:srgbClr val="ffffff"/>
                          </a:solidFill>
                          <a:latin typeface="Century Gothic"/>
                          <a:ea typeface="Calibri"/>
                        </a:rPr>
                        <a:t>Principali risch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it-IT" sz="900" spc="-1" strike="noStrike">
                          <a:solidFill>
                            <a:srgbClr val="ffffff"/>
                          </a:solidFill>
                          <a:latin typeface="Century Gothic"/>
                          <a:ea typeface="Calibri"/>
                        </a:rPr>
                        <a:t>Strutture, Regolamenti e Policy a copertura del rischi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it-IT" sz="900" spc="-1" strike="noStrike">
                          <a:solidFill>
                            <a:srgbClr val="ffffff"/>
                          </a:solidFill>
                          <a:latin typeface="Century Gothic"/>
                          <a:ea typeface="Calibri"/>
                        </a:rPr>
                        <a:t>Regolamenti e Policy </a:t>
                      </a:r>
                      <a:r>
                        <a:rPr b="1" lang="it-IT" sz="9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in corso di predisposizione, aggiornamento e/o validazione finale e prossima emissio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748440">
                <a:tc rowSpan="3">
                  <a:txBody>
                    <a:bodyPr lIns="28440" rIns="28440" tIns="0" bIns="0" anchor="ctr">
                      <a:noAutofit/>
                    </a:bodyPr>
                    <a:p>
                      <a:pPr>
                        <a:lnSpc>
                          <a:spcPct val="106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it-IT" sz="9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Attinenti il personale e il rispetto dei Diritti Uman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8eaadb"/>
                      </a:solidFill>
                    </a:lnL>
                    <a:lnR w="5760">
                      <a:solidFill>
                        <a:srgbClr val="8eaadb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8eaadb"/>
                      </a:solidFill>
                    </a:lnB>
                    <a:noFill/>
                  </a:tcPr>
                </a:tc>
                <a:tc>
                  <a:txBody>
                    <a:bodyPr lIns="28440" rIns="28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Rischi per il mancato rispetto dei diritti umani con riferimento ad esempio alla garanzia di pari opportunità, diversità e inclusio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8eaadb"/>
                      </a:solidFill>
                    </a:lnL>
                    <a:lnR w="5760">
                      <a:solidFill>
                        <a:srgbClr val="8eaadb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8eaadb"/>
                      </a:solidFill>
                    </a:lnB>
                    <a:noFill/>
                  </a:tcPr>
                </a:tc>
                <a:tc>
                  <a:txBody>
                    <a:bodyPr lIns="28440" rIns="28440" tIns="0" bIns="0" anchor="t">
                      <a:noAutofit/>
                    </a:bodyPr>
                    <a:p>
                      <a:pPr lvl="1" marL="743040" indent="-285840">
                        <a:lnSpc>
                          <a:spcPct val="13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10800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Politica sui Diritti Umani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30000"/>
                        </a:lnSpc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10800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Politica sulla Diversit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800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8eaadb"/>
                      </a:solidFill>
                    </a:lnL>
                    <a:lnR w="5760">
                      <a:solidFill>
                        <a:srgbClr val="8eaadb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8eaadb"/>
                      </a:solidFill>
                    </a:lnB>
                    <a:noFill/>
                  </a:tcPr>
                </a:tc>
                <a:tc>
                  <a:txBody>
                    <a:bodyPr lIns="28440" rIns="28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8eaadb"/>
                      </a:solidFill>
                    </a:lnL>
                    <a:lnR w="5760">
                      <a:solidFill>
                        <a:srgbClr val="8eaadb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8eaadb"/>
                      </a:solidFill>
                    </a:lnB>
                    <a:noFill/>
                  </a:tcPr>
                </a:tc>
              </a:tr>
              <a:tr h="232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440" rIns="28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Rischio di mancato rispetto della normativa in materia di tutela della privacy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8eaadb"/>
                      </a:solidFill>
                    </a:lnL>
                    <a:lnR w="5760">
                      <a:solidFill>
                        <a:srgbClr val="8eaadb"/>
                      </a:solidFill>
                    </a:lnR>
                    <a:lnT w="5760">
                      <a:solidFill>
                        <a:srgbClr val="8eaadb"/>
                      </a:solidFill>
                    </a:lnT>
                    <a:lnB w="5760">
                      <a:solidFill>
                        <a:srgbClr val="8eaadb"/>
                      </a:solidFill>
                    </a:lnB>
                    <a:solidFill>
                      <a:srgbClr val="d9e2f3"/>
                    </a:solidFill>
                  </a:tcPr>
                </a:tc>
                <a:tc>
                  <a:txBody>
                    <a:bodyPr lIns="28440" rIns="28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 Funzione Complian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6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- Data Protection Offic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 Regolamento della Funzione Complian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 Policy protezione dati personal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 Codice di comportamento e uso risorse allegato al Regolamento integrativo aziendale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 Standard di data governan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 Procedura per la gestione delle violazioni dei dati personal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 Policy per la Gestione del rischio reputaziona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8eaadb"/>
                      </a:solidFill>
                    </a:lnL>
                    <a:lnR w="5760">
                      <a:solidFill>
                        <a:srgbClr val="8eaadb"/>
                      </a:solidFill>
                    </a:lnR>
                    <a:lnT w="5760">
                      <a:solidFill>
                        <a:srgbClr val="8eaadb"/>
                      </a:solidFill>
                    </a:lnT>
                    <a:lnB w="5760">
                      <a:solidFill>
                        <a:srgbClr val="8eaadb"/>
                      </a:solidFill>
                    </a:lnB>
                    <a:solidFill>
                      <a:srgbClr val="d9e2f3"/>
                    </a:solidFill>
                  </a:tcPr>
                </a:tc>
                <a:tc>
                  <a:txBody>
                    <a:bodyPr lIns="28440" rIns="28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8eaadb"/>
                      </a:solidFill>
                    </a:lnL>
                    <a:lnR w="5760">
                      <a:solidFill>
                        <a:srgbClr val="8eaadb"/>
                      </a:solidFill>
                    </a:lnR>
                    <a:lnT w="5760">
                      <a:solidFill>
                        <a:srgbClr val="8eaadb"/>
                      </a:solidFill>
                    </a:lnT>
                    <a:lnB w="5760">
                      <a:solidFill>
                        <a:srgbClr val="8eaadb"/>
                      </a:solidFill>
                    </a:lnB>
                    <a:solidFill>
                      <a:srgbClr val="d9e2f3"/>
                    </a:solidFill>
                  </a:tcPr>
                </a:tc>
              </a:tr>
              <a:tr h="89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440" rIns="28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Rischi in ambito salute e sicurezza sul lavoro e di stress lavoro-correlat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8eaadb"/>
                      </a:solidFill>
                    </a:lnL>
                    <a:lnR w="5760">
                      <a:solidFill>
                        <a:srgbClr val="8eaadb"/>
                      </a:solidFill>
                    </a:lnR>
                    <a:lnT w="5760">
                      <a:solidFill>
                        <a:srgbClr val="8eaadb"/>
                      </a:solidFill>
                    </a:lnT>
                    <a:lnB w="5760">
                      <a:solidFill>
                        <a:srgbClr val="8eaadb"/>
                      </a:solidFill>
                    </a:lnB>
                    <a:noFill/>
                  </a:tcPr>
                </a:tc>
                <a:tc>
                  <a:txBody>
                    <a:bodyPr lIns="28440" rIns="28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 Politica di Gruppo per la gestione della salute e sicurezza sul lavor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 Regolamento di Capogruppo sul Sistema di Gestione per la Salute e la Sicurezza sul Lavor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8eaadb"/>
                      </a:solidFill>
                    </a:lnL>
                    <a:lnR w="5760">
                      <a:solidFill>
                        <a:srgbClr val="8eaadb"/>
                      </a:solidFill>
                    </a:lnR>
                    <a:lnT w="5760">
                      <a:solidFill>
                        <a:srgbClr val="8eaadb"/>
                      </a:solidFill>
                    </a:lnT>
                    <a:lnB w="5760">
                      <a:solidFill>
                        <a:srgbClr val="8eaadb"/>
                      </a:solidFill>
                    </a:lnB>
                    <a:noFill/>
                  </a:tcPr>
                </a:tc>
                <a:tc>
                  <a:txBody>
                    <a:bodyPr lIns="28440" rIns="28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 Procedure per la gestione della Salute e Sicurezza sul Lavor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 Manuale per la Salute e Sicurezza sul Lavor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8eaadb"/>
                      </a:solidFill>
                    </a:lnL>
                    <a:lnR w="5760">
                      <a:solidFill>
                        <a:srgbClr val="8eaadb"/>
                      </a:solidFill>
                    </a:lnR>
                    <a:lnT w="5760">
                      <a:solidFill>
                        <a:srgbClr val="8eaadb"/>
                      </a:solidFill>
                    </a:lnT>
                    <a:lnB w="5760">
                      <a:solidFill>
                        <a:srgbClr val="8eaad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9" name=""/>
          <p:cNvGraphicFramePr/>
          <p:nvPr/>
        </p:nvGraphicFramePr>
        <p:xfrm>
          <a:off x="365040" y="1333440"/>
          <a:ext cx="8472600" cy="4540320"/>
        </p:xfrm>
        <a:graphic>
          <a:graphicData uri="http://schemas.openxmlformats.org/drawingml/2006/table">
            <a:tbl>
              <a:tblPr/>
              <a:tblGrid>
                <a:gridCol w="2489400"/>
                <a:gridCol w="2487600"/>
                <a:gridCol w="2160360"/>
                <a:gridCol w="1335240"/>
              </a:tblGrid>
              <a:tr h="1180440">
                <a:tc>
                  <a:txBody>
                    <a:bodyPr lIns="19440" rIns="19440" tIns="0" bIns="0" anchor="ctr">
                      <a:noAutofit/>
                    </a:bodyPr>
                    <a:p>
                      <a:pPr>
                        <a:lnSpc>
                          <a:spcPct val="106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br>
                        <a:rPr sz="1100"/>
                      </a:br>
                      <a:r>
                        <a:rPr b="1" lang="it-IT" sz="1100" spc="-1" strike="noStrike">
                          <a:solidFill>
                            <a:srgbClr val="ffffff"/>
                          </a:solidFill>
                          <a:latin typeface="Century Gothic"/>
                          <a:ea typeface="Calibri"/>
                        </a:rPr>
                        <a:t>Ambi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6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it-IT" sz="1100" spc="-1" strike="noStrike">
                          <a:solidFill>
                            <a:srgbClr val="ffffff"/>
                          </a:solidFill>
                          <a:latin typeface="Century Gothic"/>
                          <a:ea typeface="Calibri"/>
                        </a:rPr>
                        <a:t>D. Lgs. 254/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440" marR="19440">
                    <a:lnL w="5760">
                      <a:solidFill>
                        <a:srgbClr val="4472c4"/>
                      </a:solidFill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19440" rIns="194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it-IT" sz="1100" spc="-1" strike="noStrike">
                          <a:solidFill>
                            <a:srgbClr val="ffffff"/>
                          </a:solidFill>
                          <a:latin typeface="Century Gothic"/>
                          <a:ea typeface="Calibri"/>
                        </a:rPr>
                        <a:t>Principali risch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19440" rIns="194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it-IT" sz="1100" spc="-1" strike="noStrike">
                          <a:solidFill>
                            <a:srgbClr val="ffffff"/>
                          </a:solidFill>
                          <a:latin typeface="Century Gothic"/>
                          <a:ea typeface="Calibri"/>
                        </a:rPr>
                        <a:t>Strutture, Regolamenti e Policy a copertura del risch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19440" rIns="194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it-IT" sz="1100" spc="-1" strike="noStrike">
                          <a:solidFill>
                            <a:srgbClr val="ffffff"/>
                          </a:solidFill>
                          <a:latin typeface="Century Gothic"/>
                          <a:ea typeface="Calibri"/>
                        </a:rPr>
                        <a:t>Regolamenti e Policy </a:t>
                      </a:r>
                      <a:r>
                        <a:rPr b="1" lang="it-IT" sz="11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in corso di predisposizione, aggiornamento e/o validazione finale e prossima emissi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2828520">
                <a:tc rowSpan="2">
                  <a:txBody>
                    <a:bodyPr lIns="19440" rIns="19440" tIns="0" bIns="0" anchor="ctr">
                      <a:noAutofit/>
                    </a:bodyPr>
                    <a:p>
                      <a:pPr>
                        <a:lnSpc>
                          <a:spcPct val="106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Attinenti il personale e il rispetto dei Diritti Uma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440" marR="19440">
                    <a:lnL w="5760">
                      <a:solidFill>
                        <a:srgbClr val="8eaadb"/>
                      </a:solidFill>
                    </a:lnL>
                    <a:lnR w="5760">
                      <a:solidFill>
                        <a:srgbClr val="8eaadb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8eaadb"/>
                      </a:solidFill>
                    </a:lnB>
                    <a:noFill/>
                  </a:tcPr>
                </a:tc>
                <a:tc>
                  <a:txBody>
                    <a:bodyPr lIns="19440" rIns="19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Rischio di non soddisfare le aspettative dei Collaboratori in termini di formazione, crescita professionale, sviluppo delle competenze e welfare azienda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8eaadb"/>
                      </a:solidFill>
                    </a:lnL>
                    <a:lnR w="5760">
                      <a:solidFill>
                        <a:srgbClr val="8eaadb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8eaadb"/>
                      </a:solidFill>
                    </a:lnB>
                    <a:solidFill>
                      <a:srgbClr val="d9e2f3"/>
                    </a:solidFill>
                  </a:tcPr>
                </a:tc>
                <a:tc>
                  <a:txBody>
                    <a:bodyPr lIns="19440" rIns="19440" tIns="0" bIns="0" anchor="t">
                      <a:noAutofit/>
                    </a:bodyPr>
                    <a:p>
                      <a:pPr lvl="1" marL="743040" indent="-285840">
                        <a:lnSpc>
                          <a:spcPct val="13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10800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Policy per la Gestione del rischio reputaziona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3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10800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Servizio Formazione e Sviluppo Risorse Uma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30000"/>
                        </a:lnSpc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10800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Azioni finalizzate alla motivazione e coinvolgimento (ad es. piani formativi e di sviluppo delle capacità individuali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8eaadb"/>
                      </a:solidFill>
                    </a:lnL>
                    <a:lnR w="5760">
                      <a:solidFill>
                        <a:srgbClr val="8eaadb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8eaadb"/>
                      </a:solidFill>
                    </a:lnB>
                    <a:solidFill>
                      <a:srgbClr val="d9e2f3"/>
                    </a:solidFill>
                  </a:tcPr>
                </a:tc>
                <a:tc>
                  <a:txBody>
                    <a:bodyPr lIns="19440" rIns="19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8eaadb"/>
                      </a:solidFill>
                    </a:lnL>
                    <a:lnR w="5760">
                      <a:solidFill>
                        <a:srgbClr val="8eaadb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8eaadb"/>
                      </a:solidFill>
                    </a:lnB>
                    <a:solidFill>
                      <a:srgbClr val="d9e2f3"/>
                    </a:solidFill>
                  </a:tcPr>
                </a:tc>
              </a:tr>
              <a:tr h="53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440" rIns="19440" tIns="0" bIns="0" anchor="t">
                      <a:noAutofit/>
                    </a:bodyPr>
                    <a:p>
                      <a:pPr>
                        <a:lnSpc>
                          <a:spcPct val="106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Rischi connessi alla non corretta gestione delle politiche remunera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8eaadb"/>
                      </a:solidFill>
                    </a:lnL>
                    <a:lnR w="5760">
                      <a:solidFill>
                        <a:srgbClr val="8eaadb"/>
                      </a:solidFill>
                    </a:lnR>
                    <a:lnT w="5760">
                      <a:solidFill>
                        <a:srgbClr val="8eaadb"/>
                      </a:solidFill>
                    </a:lnT>
                    <a:lnB w="5760">
                      <a:solidFill>
                        <a:srgbClr val="8eaadb"/>
                      </a:solidFill>
                    </a:lnB>
                    <a:noFill/>
                  </a:tcPr>
                </a:tc>
                <a:tc>
                  <a:txBody>
                    <a:bodyPr lIns="19440" rIns="19440" tIns="0" bIns="0" anchor="t">
                      <a:noAutofit/>
                    </a:bodyPr>
                    <a:p>
                      <a:pPr>
                        <a:lnSpc>
                          <a:spcPct val="106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Politiche di Remunerazione di Grup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8eaadb"/>
                      </a:solidFill>
                    </a:lnL>
                    <a:lnR w="5760">
                      <a:solidFill>
                        <a:srgbClr val="8eaadb"/>
                      </a:solidFill>
                    </a:lnR>
                    <a:lnT w="5760">
                      <a:solidFill>
                        <a:srgbClr val="8eaadb"/>
                      </a:solidFill>
                    </a:lnT>
                    <a:lnB w="5760">
                      <a:solidFill>
                        <a:srgbClr val="8eaadb"/>
                      </a:solidFill>
                    </a:lnB>
                    <a:noFill/>
                  </a:tcPr>
                </a:tc>
                <a:tc>
                  <a:txBody>
                    <a:bodyPr lIns="19440" rIns="19440" tIns="0" bIns="0" anchor="t">
                      <a:noAutofit/>
                    </a:bodyPr>
                    <a:p>
                      <a:pPr>
                        <a:lnSpc>
                          <a:spcPct val="106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8eaadb"/>
                      </a:solidFill>
                    </a:lnL>
                    <a:lnR w="5760">
                      <a:solidFill>
                        <a:srgbClr val="8eaadb"/>
                      </a:solidFill>
                    </a:lnR>
                    <a:lnT w="5760">
                      <a:solidFill>
                        <a:srgbClr val="8eaadb"/>
                      </a:solidFill>
                    </a:lnT>
                    <a:lnB w="5760">
                      <a:solidFill>
                        <a:srgbClr val="8eaadb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0" name="Titolo 3"/>
          <p:cNvSpPr/>
          <p:nvPr/>
        </p:nvSpPr>
        <p:spPr>
          <a:xfrm>
            <a:off x="306360" y="317520"/>
            <a:ext cx="853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it-IT" sz="2800" spc="-1" strike="noStrike">
                <a:solidFill>
                  <a:srgbClr val="005366"/>
                </a:solidFill>
                <a:latin typeface="Century Gothic"/>
              </a:rPr>
              <a:t>RISCHI NON FINANZIARI – PERSONALE E DIRITTI UMA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itolo 3"/>
          <p:cNvSpPr/>
          <p:nvPr/>
        </p:nvSpPr>
        <p:spPr>
          <a:xfrm>
            <a:off x="306360" y="160200"/>
            <a:ext cx="853128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it-IT" sz="2800" spc="-1" strike="noStrike">
                <a:solidFill>
                  <a:srgbClr val="005366"/>
                </a:solidFill>
                <a:latin typeface="Century Gothic"/>
              </a:rPr>
              <a:t>RISCHI NON FINANZIARI - ANTICORRU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695160" y="1058760"/>
          <a:ext cx="7410600" cy="4999320"/>
        </p:xfrm>
        <a:graphic>
          <a:graphicData uri="http://schemas.openxmlformats.org/drawingml/2006/table">
            <a:tbl>
              <a:tblPr/>
              <a:tblGrid>
                <a:gridCol w="2176560"/>
                <a:gridCol w="2176560"/>
                <a:gridCol w="1888920"/>
                <a:gridCol w="1168560"/>
              </a:tblGrid>
              <a:tr h="731880">
                <a:tc>
                  <a:txBody>
                    <a:bodyPr lIns="13320" rIns="13320" tIns="0" bIns="0" anchor="ctr">
                      <a:noAutofit/>
                    </a:bodyPr>
                    <a:p>
                      <a:pPr>
                        <a:lnSpc>
                          <a:spcPct val="106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br>
                        <a:rPr sz="800"/>
                      </a:br>
                      <a:r>
                        <a:rPr b="1" lang="it-IT" sz="800" spc="-1" strike="noStrike">
                          <a:solidFill>
                            <a:srgbClr val="ffffff"/>
                          </a:solidFill>
                          <a:latin typeface="Century Gothic"/>
                          <a:ea typeface="Calibri"/>
                        </a:rPr>
                        <a:t>Ambit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6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it-IT" sz="800" spc="-1" strike="noStrike">
                          <a:solidFill>
                            <a:srgbClr val="ffffff"/>
                          </a:solidFill>
                          <a:latin typeface="Century Gothic"/>
                          <a:ea typeface="Calibri"/>
                        </a:rPr>
                        <a:t>D. Lgs. 254/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320" marR="13320">
                    <a:lnL w="5760">
                      <a:solidFill>
                        <a:srgbClr val="4472c4"/>
                      </a:solidFill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13320" rIns="13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it-IT" sz="800" spc="-1" strike="noStrike">
                          <a:solidFill>
                            <a:srgbClr val="ffffff"/>
                          </a:solidFill>
                          <a:latin typeface="Century Gothic"/>
                          <a:ea typeface="Calibri"/>
                        </a:rPr>
                        <a:t>Principali risch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320" marR="13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13320" rIns="13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it-IT" sz="800" spc="-1" strike="noStrike">
                          <a:solidFill>
                            <a:srgbClr val="ffffff"/>
                          </a:solidFill>
                          <a:latin typeface="Century Gothic"/>
                          <a:ea typeface="Calibri"/>
                        </a:rPr>
                        <a:t>Strutture, Regolamenti e Policy a copertura del rischi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320" marR="13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13320" rIns="13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it-IT" sz="800" spc="-1" strike="noStrike">
                          <a:solidFill>
                            <a:srgbClr val="ffffff"/>
                          </a:solidFill>
                          <a:latin typeface="Century Gothic"/>
                          <a:ea typeface="Calibri"/>
                        </a:rPr>
                        <a:t>Regolamenti e Policy </a:t>
                      </a:r>
                      <a:r>
                        <a:rPr b="1" lang="it-IT" sz="8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in corso di predisposizione, aggiornamento e/o validazione finale e prossima emissio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320" marR="13320">
                    <a:lnL>
                      <a:noFill/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639720">
                <a:tc rowSpan="6">
                  <a:txBody>
                    <a:bodyPr lIns="13320" rIns="13320" tIns="0" bIns="0" anchor="ctr">
                      <a:noAutofit/>
                    </a:bodyPr>
                    <a:p>
                      <a:pPr>
                        <a:lnSpc>
                          <a:spcPct val="106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it-IT" sz="8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Lotta alla corruzio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320" marR="13320">
                    <a:lnL w="5760">
                      <a:solidFill>
                        <a:srgbClr val="8eaadb"/>
                      </a:solidFill>
                    </a:lnL>
                    <a:lnR w="5760">
                      <a:solidFill>
                        <a:srgbClr val="8eaadb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8eaadb"/>
                      </a:solidFill>
                    </a:lnB>
                    <a:noFill/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Rischio di corruzione fra privat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8eaadb"/>
                      </a:solidFill>
                    </a:lnL>
                    <a:lnR w="5760">
                      <a:solidFill>
                        <a:srgbClr val="8eaadb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8eaadb"/>
                      </a:solidFill>
                    </a:lnB>
                    <a:solidFill>
                      <a:srgbClr val="d9e2f3"/>
                    </a:solidFill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 Modello ex D. Lgs. 231/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 Politica Anticorruzio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 Policy per la Gestione del rischio reputaziona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8eaadb"/>
                      </a:solidFill>
                    </a:lnL>
                    <a:lnR w="5760">
                      <a:solidFill>
                        <a:srgbClr val="8eaadb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8eaadb"/>
                      </a:solidFill>
                    </a:lnB>
                    <a:solidFill>
                      <a:srgbClr val="d9e2f3"/>
                    </a:solidFill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8eaadb"/>
                      </a:solidFill>
                    </a:lnL>
                    <a:lnR w="5760">
                      <a:solidFill>
                        <a:srgbClr val="8eaadb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8eaadb"/>
                      </a:solidFill>
                    </a:lnB>
                    <a:solidFill>
                      <a:srgbClr val="d9e2f3"/>
                    </a:solidFill>
                  </a:tcPr>
                </a:tc>
              </a:tr>
              <a:tr h="63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Rischio reputazionale anche a fronte di operazioni poco trasparenti e/o non conformi alla normativa di riferiment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8eaadb"/>
                      </a:solidFill>
                    </a:lnL>
                    <a:lnR w="5760">
                      <a:solidFill>
                        <a:srgbClr val="8eaadb"/>
                      </a:solidFill>
                    </a:lnR>
                    <a:lnT w="5760">
                      <a:solidFill>
                        <a:srgbClr val="8eaadb"/>
                      </a:solidFill>
                    </a:lnT>
                    <a:lnB w="5760">
                      <a:solidFill>
                        <a:srgbClr val="8eaadb"/>
                      </a:solidFill>
                    </a:lnB>
                    <a:noFill/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 Modello ex D. Lgs. 231/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 Politica Anticorruzio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 Policy per la Gestione del rischio reputaziona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8eaadb"/>
                      </a:solidFill>
                    </a:lnL>
                    <a:lnR w="5760">
                      <a:solidFill>
                        <a:srgbClr val="8eaadb"/>
                      </a:solidFill>
                    </a:lnR>
                    <a:lnT w="5760">
                      <a:solidFill>
                        <a:srgbClr val="8eaadb"/>
                      </a:solidFill>
                    </a:lnT>
                    <a:lnB w="5760">
                      <a:solidFill>
                        <a:srgbClr val="8eaadb"/>
                      </a:solidFill>
                    </a:lnB>
                    <a:noFill/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8eaadb"/>
                      </a:solidFill>
                    </a:lnL>
                    <a:lnR w="5760">
                      <a:solidFill>
                        <a:srgbClr val="8eaadb"/>
                      </a:solidFill>
                    </a:lnR>
                    <a:lnT w="5760">
                      <a:solidFill>
                        <a:srgbClr val="8eaadb"/>
                      </a:solidFill>
                    </a:lnT>
                    <a:lnB w="5760">
                      <a:solidFill>
                        <a:srgbClr val="8eaadb"/>
                      </a:solidFill>
                    </a:lnB>
                    <a:noFill/>
                  </a:tcPr>
                </a:tc>
              </a:tr>
              <a:tr h="36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Rischio di attribuzione di ruoli rilevanti a persone non competenti in cambio di denaro, scambi di favori/amiciz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8eaadb"/>
                      </a:solidFill>
                    </a:lnL>
                    <a:lnR w="5760">
                      <a:solidFill>
                        <a:srgbClr val="8eaadb"/>
                      </a:solidFill>
                    </a:lnR>
                    <a:lnT w="5760">
                      <a:solidFill>
                        <a:srgbClr val="8eaadb"/>
                      </a:solidFill>
                    </a:lnT>
                    <a:lnB w="5760">
                      <a:solidFill>
                        <a:srgbClr val="8eaadb"/>
                      </a:solidFill>
                    </a:lnB>
                    <a:solidFill>
                      <a:srgbClr val="d9e2f3"/>
                    </a:solidFill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 Modello ex D. Lgs. 231/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 Politica Anticorruzio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8eaadb"/>
                      </a:solidFill>
                    </a:lnL>
                    <a:lnR w="5760">
                      <a:solidFill>
                        <a:srgbClr val="8eaadb"/>
                      </a:solidFill>
                    </a:lnR>
                    <a:lnT w="5760">
                      <a:solidFill>
                        <a:srgbClr val="8eaadb"/>
                      </a:solidFill>
                    </a:lnT>
                    <a:lnB w="5760">
                      <a:solidFill>
                        <a:srgbClr val="8eaadb"/>
                      </a:solidFill>
                    </a:lnB>
                    <a:solidFill>
                      <a:srgbClr val="d9e2f3"/>
                    </a:solidFill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8eaadb"/>
                      </a:solidFill>
                    </a:lnL>
                    <a:lnR w="5760">
                      <a:solidFill>
                        <a:srgbClr val="8eaadb"/>
                      </a:solidFill>
                    </a:lnR>
                    <a:lnT w="5760">
                      <a:solidFill>
                        <a:srgbClr val="8eaadb"/>
                      </a:solidFill>
                    </a:lnT>
                    <a:lnB w="5760">
                      <a:solidFill>
                        <a:srgbClr val="8eaadb"/>
                      </a:solidFill>
                    </a:lnB>
                    <a:solidFill>
                      <a:srgbClr val="d9e2f3"/>
                    </a:solidFill>
                  </a:tcPr>
                </a:tc>
              </a:tr>
              <a:tr h="487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Rischio di sanzioni per reati contro la Pubblica Amministrazione, per mancanza di trasparenza e per rilascio di dichiarazioni mendaci all’autorità giudiziar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8eaadb"/>
                      </a:solidFill>
                    </a:lnL>
                    <a:lnR w="5760">
                      <a:solidFill>
                        <a:srgbClr val="8eaadb"/>
                      </a:solidFill>
                    </a:lnR>
                    <a:lnT w="5760">
                      <a:solidFill>
                        <a:srgbClr val="8eaadb"/>
                      </a:solidFill>
                    </a:lnT>
                    <a:lnB w="5760">
                      <a:solidFill>
                        <a:srgbClr val="8eaadb"/>
                      </a:solidFill>
                    </a:lnB>
                    <a:noFill/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 Modello ex D. Lgs. 231/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 Politica Anticorruzio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8eaadb"/>
                      </a:solidFill>
                    </a:lnL>
                    <a:lnR w="5760">
                      <a:solidFill>
                        <a:srgbClr val="8eaadb"/>
                      </a:solidFill>
                    </a:lnR>
                    <a:lnT w="5760">
                      <a:solidFill>
                        <a:srgbClr val="8eaadb"/>
                      </a:solidFill>
                    </a:lnT>
                    <a:lnB w="5760">
                      <a:solidFill>
                        <a:srgbClr val="8eaadb"/>
                      </a:solidFill>
                    </a:lnB>
                    <a:noFill/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8eaadb"/>
                      </a:solidFill>
                    </a:lnL>
                    <a:lnR w="5760">
                      <a:solidFill>
                        <a:srgbClr val="8eaadb"/>
                      </a:solidFill>
                    </a:lnR>
                    <a:lnT w="5760">
                      <a:solidFill>
                        <a:srgbClr val="8eaadb"/>
                      </a:solidFill>
                    </a:lnT>
                    <a:lnB w="5760">
                      <a:solidFill>
                        <a:srgbClr val="8eaadb"/>
                      </a:solidFill>
                    </a:lnB>
                    <a:noFill/>
                  </a:tcPr>
                </a:tc>
              </a:tr>
              <a:tr h="1401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Rischio di mancata segnalazione di operazioni sospette e rischio di riciclaggio e finanziamento del terrorism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8eaadb"/>
                      </a:solidFill>
                    </a:lnL>
                    <a:lnR w="5760">
                      <a:solidFill>
                        <a:srgbClr val="8eaadb"/>
                      </a:solidFill>
                    </a:lnR>
                    <a:lnT w="5760">
                      <a:solidFill>
                        <a:srgbClr val="8eaadb"/>
                      </a:solidFill>
                    </a:lnT>
                    <a:lnB w="5760">
                      <a:solidFill>
                        <a:srgbClr val="8eaadb"/>
                      </a:solidFill>
                    </a:lnB>
                    <a:solidFill>
                      <a:srgbClr val="d9e2f3"/>
                    </a:solidFill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 Modello ex D. Lgs. 231/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 Politica Anticorruzio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 Policy per il governo dei rischi di riciclaggio e di finanziamento del terrorismo e relativi Allegat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 Regolamento della Funzione Antiriciclaggi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 Policy per la Gestione del rischio reputaziona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8eaadb"/>
                      </a:solidFill>
                    </a:lnL>
                    <a:lnR w="5760">
                      <a:solidFill>
                        <a:srgbClr val="8eaadb"/>
                      </a:solidFill>
                    </a:lnR>
                    <a:lnT w="5760">
                      <a:solidFill>
                        <a:srgbClr val="8eaadb"/>
                      </a:solidFill>
                    </a:lnT>
                    <a:lnB w="5760">
                      <a:solidFill>
                        <a:srgbClr val="8eaadb"/>
                      </a:solidFill>
                    </a:lnB>
                    <a:solidFill>
                      <a:srgbClr val="d9e2f3"/>
                    </a:solidFill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8eaadb"/>
                      </a:solidFill>
                    </a:lnL>
                    <a:lnR w="5760">
                      <a:solidFill>
                        <a:srgbClr val="8eaadb"/>
                      </a:solidFill>
                    </a:lnR>
                    <a:lnT w="5760">
                      <a:solidFill>
                        <a:srgbClr val="8eaadb"/>
                      </a:solidFill>
                    </a:lnT>
                    <a:lnB w="5760">
                      <a:solidFill>
                        <a:srgbClr val="8eaadb"/>
                      </a:solidFill>
                    </a:lnB>
                    <a:solidFill>
                      <a:srgbClr val="d9e2f3"/>
                    </a:solidFill>
                  </a:tcPr>
                </a:tc>
              </a:tr>
              <a:tr h="73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Rischio di inadeguatezza dei programmi di formazione e sensibilizzazione del personale in merito ai principi di condotta previsti all’interno della documentazione interna (ad esempio, Codice etico, Politica Anticorruzione, etc.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8eaadb"/>
                      </a:solidFill>
                    </a:lnL>
                    <a:lnR w="5760">
                      <a:solidFill>
                        <a:srgbClr val="8eaadb"/>
                      </a:solidFill>
                    </a:lnR>
                    <a:lnT w="5760">
                      <a:solidFill>
                        <a:srgbClr val="8eaadb"/>
                      </a:solidFill>
                    </a:lnT>
                    <a:lnB w="5760">
                      <a:solidFill>
                        <a:srgbClr val="8eaadb"/>
                      </a:solidFill>
                    </a:lnB>
                    <a:noFill/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 </a:t>
                      </a: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 Policy per la Gestione del rischio reputaziona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8eaadb"/>
                      </a:solidFill>
                    </a:lnL>
                    <a:lnR w="5760">
                      <a:solidFill>
                        <a:srgbClr val="8eaadb"/>
                      </a:solidFill>
                    </a:lnR>
                    <a:lnT w="5760">
                      <a:solidFill>
                        <a:srgbClr val="8eaadb"/>
                      </a:solidFill>
                    </a:lnT>
                    <a:lnB w="5760">
                      <a:solidFill>
                        <a:srgbClr val="8eaadb"/>
                      </a:solidFill>
                    </a:lnB>
                    <a:noFill/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8eaadb"/>
                      </a:solidFill>
                    </a:lnL>
                    <a:lnR w="5760">
                      <a:solidFill>
                        <a:srgbClr val="8eaadb"/>
                      </a:solidFill>
                    </a:lnR>
                    <a:lnT w="5760">
                      <a:solidFill>
                        <a:srgbClr val="8eaadb"/>
                      </a:solidFill>
                    </a:lnT>
                    <a:lnB w="5760">
                      <a:solidFill>
                        <a:srgbClr val="8eaad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itolo 3"/>
          <p:cNvSpPr/>
          <p:nvPr/>
        </p:nvSpPr>
        <p:spPr>
          <a:xfrm>
            <a:off x="306360" y="73080"/>
            <a:ext cx="85312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it-IT" sz="2800" spc="-1" strike="noStrike">
                <a:solidFill>
                  <a:srgbClr val="005366"/>
                </a:solidFill>
                <a:latin typeface="Century Gothic"/>
              </a:rPr>
              <a:t>RISCHI NON FINANZIARI – SOCIALE PER I CLIE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809640" y="885960"/>
          <a:ext cx="8028000" cy="5254560"/>
        </p:xfrm>
        <a:graphic>
          <a:graphicData uri="http://schemas.openxmlformats.org/drawingml/2006/table">
            <a:tbl>
              <a:tblPr/>
              <a:tblGrid>
                <a:gridCol w="2357280"/>
                <a:gridCol w="2359080"/>
                <a:gridCol w="2046240"/>
                <a:gridCol w="1265400"/>
              </a:tblGrid>
              <a:tr h="609480">
                <a:tc>
                  <a:txBody>
                    <a:bodyPr lIns="8640" rIns="8640" tIns="0" bIns="0" anchor="ctr">
                      <a:noAutofit/>
                    </a:bodyPr>
                    <a:p>
                      <a:pPr>
                        <a:lnSpc>
                          <a:spcPct val="106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br>
                        <a:rPr sz="800"/>
                      </a:br>
                      <a:r>
                        <a:rPr b="1" lang="it-IT" sz="800" spc="-1" strike="noStrike">
                          <a:solidFill>
                            <a:srgbClr val="ffffff"/>
                          </a:solidFill>
                          <a:latin typeface="Century Gothic"/>
                          <a:ea typeface="Calibri"/>
                        </a:rPr>
                        <a:t>Ambit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6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it-IT" sz="800" spc="-1" strike="noStrike">
                          <a:solidFill>
                            <a:srgbClr val="ffffff"/>
                          </a:solidFill>
                          <a:latin typeface="Century Gothic"/>
                          <a:ea typeface="Calibri"/>
                        </a:rPr>
                        <a:t>D. Lgs. 254/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472c4"/>
                      </a:solidFill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8640" rIns="8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it-IT" sz="800" spc="-1" strike="noStrike">
                          <a:solidFill>
                            <a:srgbClr val="ffffff"/>
                          </a:solidFill>
                          <a:latin typeface="Century Gothic"/>
                          <a:ea typeface="Calibri"/>
                        </a:rPr>
                        <a:t>Principali risch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8640" rIns="8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it-IT" sz="800" spc="-1" strike="noStrike">
                          <a:solidFill>
                            <a:srgbClr val="ffffff"/>
                          </a:solidFill>
                          <a:latin typeface="Century Gothic"/>
                          <a:ea typeface="Calibri"/>
                        </a:rPr>
                        <a:t>Strutture, Regolamenti e Policy a copertura del rischi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8640" rIns="8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it-IT" sz="800" spc="-1" strike="noStrike">
                          <a:solidFill>
                            <a:srgbClr val="ffffff"/>
                          </a:solidFill>
                          <a:latin typeface="Century Gothic"/>
                          <a:ea typeface="Calibri"/>
                        </a:rPr>
                        <a:t>Regolamenti e Policy </a:t>
                      </a:r>
                      <a:r>
                        <a:rPr b="1" lang="it-IT" sz="8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in corso di predisposizione, aggiornamento e/o validazione finale e prossima emissio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1166760">
                <a:tc rowSpan="2">
                  <a:txBody>
                    <a:bodyPr lIns="8640" rIns="8640" tIns="0" bIns="0" anchor="ctr">
                      <a:noAutofit/>
                    </a:bodyPr>
                    <a:p>
                      <a:pPr>
                        <a:lnSpc>
                          <a:spcPct val="106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Sociale per i clien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8eaadb"/>
                      </a:solidFill>
                    </a:lnL>
                    <a:lnR w="5760">
                      <a:solidFill>
                        <a:srgbClr val="8eaadb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8eaadb"/>
                      </a:solidFill>
                    </a:lnB>
                    <a:noFill/>
                  </a:tcPr>
                </a:tc>
                <a:tc>
                  <a:txBody>
                    <a:bodyPr lIns="8640" rIns="8640" tIns="0" bIns="0" anchor="t">
                      <a:noAutofit/>
                    </a:bodyPr>
                    <a:p>
                      <a:pPr>
                        <a:lnSpc>
                          <a:spcPct val="106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Rischio di non compliance alla normativa in materia di salute e sicurezza dei locali e rischio di non compliance edilizia delle strutture per l’accesso ai disabil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8eaadb"/>
                      </a:solidFill>
                    </a:lnL>
                    <a:lnR w="5760">
                      <a:solidFill>
                        <a:srgbClr val="8eaadb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8eaadb"/>
                      </a:solidFill>
                    </a:lnB>
                    <a:solidFill>
                      <a:srgbClr val="d9e2f3"/>
                    </a:solidFill>
                  </a:tcPr>
                </a:tc>
                <a:tc>
                  <a:txBody>
                    <a:bodyPr lIns="8640" rIns="8640" tIns="0" bIns="0" anchor="t">
                      <a:noAutofit/>
                    </a:bodyPr>
                    <a:p>
                      <a:pPr>
                        <a:lnSpc>
                          <a:spcPct val="106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- Funzione Complia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8eaadb"/>
                      </a:solidFill>
                    </a:lnL>
                    <a:lnR w="5760">
                      <a:solidFill>
                        <a:srgbClr val="8eaadb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8eaadb"/>
                      </a:solidFill>
                    </a:lnB>
                    <a:solidFill>
                      <a:srgbClr val="d9e2f3"/>
                    </a:solidFill>
                  </a:tcPr>
                </a:tc>
                <a:tc>
                  <a:txBody>
                    <a:bodyPr lIns="8640" rIns="8640" tIns="0" bIns="0" anchor="t">
                      <a:noAutofit/>
                    </a:bodyPr>
                    <a:p>
                      <a:pPr>
                        <a:lnSpc>
                          <a:spcPct val="106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8eaadb"/>
                      </a:solidFill>
                    </a:lnL>
                    <a:lnR w="5760">
                      <a:solidFill>
                        <a:srgbClr val="8eaadb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8eaadb"/>
                      </a:solidFill>
                    </a:lnB>
                    <a:solidFill>
                      <a:srgbClr val="d9e2f3"/>
                    </a:solidFill>
                  </a:tcPr>
                </a:tc>
              </a:tr>
              <a:tr h="3478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0" bIns="0" anchor="t">
                      <a:noAutofit/>
                    </a:bodyPr>
                    <a:p>
                      <a:pPr>
                        <a:lnSpc>
                          <a:spcPct val="106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Rischio di vendita di prodotti e/o servizi non idonei al profilo di rischio del cliente e/o non in linea con le richieste e necessità dello stess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8eaadb"/>
                      </a:solidFill>
                    </a:lnL>
                    <a:lnR w="5760">
                      <a:solidFill>
                        <a:srgbClr val="8eaadb"/>
                      </a:solidFill>
                    </a:lnR>
                    <a:lnT w="5760">
                      <a:solidFill>
                        <a:srgbClr val="8eaadb"/>
                      </a:solidFill>
                    </a:lnT>
                    <a:lnB w="5760">
                      <a:solidFill>
                        <a:srgbClr val="8eaadb"/>
                      </a:solidFill>
                    </a:lnB>
                    <a:solidFill>
                      <a:srgbClr val="d9e2f3"/>
                    </a:solidFill>
                  </a:tcPr>
                </a:tc>
                <a:tc>
                  <a:txBody>
                    <a:bodyPr lIns="8640" rIns="8640" tIns="0" bIns="0" anchor="t">
                      <a:noAutofit/>
                    </a:bodyPr>
                    <a:p>
                      <a:pPr>
                        <a:lnSpc>
                          <a:spcPct val="106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 Funzione complia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6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 Regolamento in materia di nuovi prodott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6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 Policy per la Gestione del rischio reputaziona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6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 Policy per la valutazione dell’adeguatezza e dell’appropriatezz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6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 Policy di product governance degli strumenti finanziari e dei prodotti di investimento assicurativ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6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 Policy di product governance dei prodotti assicurativ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6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 Policy di classificazione della clientela (Mifid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8eaadb"/>
                      </a:solidFill>
                    </a:lnL>
                    <a:lnR w="5760">
                      <a:solidFill>
                        <a:srgbClr val="8eaadb"/>
                      </a:solidFill>
                    </a:lnR>
                    <a:lnT w="5760">
                      <a:solidFill>
                        <a:srgbClr val="8eaadb"/>
                      </a:solidFill>
                    </a:lnT>
                    <a:lnB w="5760">
                      <a:solidFill>
                        <a:srgbClr val="8eaadb"/>
                      </a:solidFill>
                    </a:lnB>
                    <a:solidFill>
                      <a:srgbClr val="d9e2f3"/>
                    </a:solidFill>
                  </a:tcPr>
                </a:tc>
                <a:tc>
                  <a:txBody>
                    <a:bodyPr lIns="8640" rIns="8640" tIns="0" bIns="0" anchor="t">
                      <a:noAutofit/>
                    </a:bodyPr>
                    <a:p>
                      <a:pPr>
                        <a:lnSpc>
                          <a:spcPct val="106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8eaadb"/>
                      </a:solidFill>
                    </a:lnL>
                    <a:lnR w="5760">
                      <a:solidFill>
                        <a:srgbClr val="8eaadb"/>
                      </a:solidFill>
                    </a:lnR>
                    <a:lnT w="5760">
                      <a:solidFill>
                        <a:srgbClr val="8eaadb"/>
                      </a:solidFill>
                    </a:lnT>
                    <a:lnB w="5760">
                      <a:solidFill>
                        <a:srgbClr val="8eaadb"/>
                      </a:solidFill>
                    </a:lnB>
                    <a:solidFill>
                      <a:srgbClr val="d9e2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itolo 3"/>
          <p:cNvSpPr/>
          <p:nvPr/>
        </p:nvSpPr>
        <p:spPr>
          <a:xfrm>
            <a:off x="0" y="160200"/>
            <a:ext cx="853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it-IT" sz="2800" spc="-1" strike="noStrike">
                <a:solidFill>
                  <a:srgbClr val="005366"/>
                </a:solidFill>
                <a:latin typeface="Century Gothic"/>
              </a:rPr>
              <a:t>RISCHI NON FINANZIARI – SOCIALE PER I CLIE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542880" y="990720"/>
          <a:ext cx="8294760" cy="5099040"/>
        </p:xfrm>
        <a:graphic>
          <a:graphicData uri="http://schemas.openxmlformats.org/drawingml/2006/table">
            <a:tbl>
              <a:tblPr/>
              <a:tblGrid>
                <a:gridCol w="1876320"/>
                <a:gridCol w="2400480"/>
                <a:gridCol w="2711520"/>
                <a:gridCol w="1306440"/>
              </a:tblGrid>
              <a:tr h="914400">
                <a:tc>
                  <a:txBody>
                    <a:bodyPr lIns="8640" rIns="8640" tIns="0" bIns="0" anchor="ctr">
                      <a:noAutofit/>
                    </a:bodyPr>
                    <a:p>
                      <a:pPr>
                        <a:lnSpc>
                          <a:spcPct val="106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br>
                        <a:rPr sz="1000"/>
                      </a:br>
                      <a:r>
                        <a:rPr b="1" lang="it-IT" sz="1000" spc="-1" strike="noStrike">
                          <a:solidFill>
                            <a:srgbClr val="ffffff"/>
                          </a:solidFill>
                          <a:latin typeface="Century Gothic"/>
                          <a:ea typeface="Calibri"/>
                        </a:rPr>
                        <a:t>Ambit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6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it-IT" sz="1000" spc="-1" strike="noStrike">
                          <a:solidFill>
                            <a:srgbClr val="ffffff"/>
                          </a:solidFill>
                          <a:latin typeface="Century Gothic"/>
                          <a:ea typeface="Calibri"/>
                        </a:rPr>
                        <a:t>D. Lgs. 254/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472c4"/>
                      </a:solidFill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8640" rIns="8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it-IT" sz="1000" spc="-1" strike="noStrike">
                          <a:solidFill>
                            <a:srgbClr val="ffffff"/>
                          </a:solidFill>
                          <a:latin typeface="Century Gothic"/>
                          <a:ea typeface="Calibri"/>
                        </a:rPr>
                        <a:t>Principali risch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8640" rIns="8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it-IT" sz="1000" spc="-1" strike="noStrike">
                          <a:solidFill>
                            <a:srgbClr val="ffffff"/>
                          </a:solidFill>
                          <a:latin typeface="Century Gothic"/>
                          <a:ea typeface="Calibri"/>
                        </a:rPr>
                        <a:t>Strutture, Regolamenti e Policy a copertura del risch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8640" rIns="8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it-IT" sz="1000" spc="-1" strike="noStrike">
                          <a:solidFill>
                            <a:srgbClr val="ffffff"/>
                          </a:solidFill>
                          <a:latin typeface="Century Gothic"/>
                          <a:ea typeface="Calibri"/>
                        </a:rPr>
                        <a:t>Regolamenti e Policy </a:t>
                      </a:r>
                      <a:r>
                        <a:rPr b="1" lang="it-IT" sz="10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in corso di predisposizione, aggiornamento e/o validazione finale e prossima emissi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4184640">
                <a:tc>
                  <a:txBody>
                    <a:bodyPr lIns="8640" rIns="8640" tIns="0" bIns="0" anchor="ctr">
                      <a:noAutofit/>
                    </a:bodyPr>
                    <a:p>
                      <a:pPr>
                        <a:lnSpc>
                          <a:spcPct val="106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Sociale per i clien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8eaadb"/>
                      </a:solidFill>
                    </a:lnL>
                    <a:lnR w="5760">
                      <a:solidFill>
                        <a:srgbClr val="8eaadb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8eaadb"/>
                      </a:solidFill>
                    </a:lnB>
                    <a:noFill/>
                  </a:tcPr>
                </a:tc>
                <a:tc>
                  <a:txBody>
                    <a:bodyPr lIns="8640" rIns="8640" tIns="0" bIns="0" anchor="t">
                      <a:noAutofit/>
                    </a:bodyPr>
                    <a:p>
                      <a:pPr>
                        <a:lnSpc>
                          <a:spcPct val="106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Rischio di violazione della privacy e perdita di dati e informazioni sensibili dei clien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8eaadb"/>
                      </a:solidFill>
                    </a:lnL>
                    <a:lnR w="5760">
                      <a:solidFill>
                        <a:srgbClr val="8eaadb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8eaadb"/>
                      </a:solidFill>
                    </a:lnB>
                    <a:solidFill>
                      <a:srgbClr val="d9e2f3"/>
                    </a:solidFill>
                  </a:tcPr>
                </a:tc>
                <a:tc>
                  <a:txBody>
                    <a:bodyPr lIns="8640" rIns="8640" tIns="0" bIns="0" anchor="t">
                      <a:noAutofit/>
                    </a:bodyPr>
                    <a:p>
                      <a:pPr>
                        <a:lnSpc>
                          <a:spcPct val="106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- Data Protection Offic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6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- Manuale del Gruppo in materia di sicurezza per gli uten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6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- Procedura di gestione del data breach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6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- Policy protezione dati personali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6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- Policy di data Governance- standard di Data Governance e Linee Guida per la Data Qualit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6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- Procedura gestione diritti interessati della Capogrupp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6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- Procedura gestione nomine della Capogrupp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6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- Procedura di </a:t>
                      </a:r>
                      <a:r>
                        <a:rPr b="0" i="1" lang="it-IT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data reten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6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- Procedura di </a:t>
                      </a:r>
                      <a:r>
                        <a:rPr b="0" i="1" lang="it-IT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privacy by desig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6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 Policy per la Gestione del rischio reputazion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8eaadb"/>
                      </a:solidFill>
                    </a:lnL>
                    <a:lnR w="5760">
                      <a:solidFill>
                        <a:srgbClr val="8eaadb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8eaadb"/>
                      </a:solidFill>
                    </a:lnB>
                    <a:solidFill>
                      <a:srgbClr val="d9e2f3"/>
                    </a:solidFill>
                  </a:tcPr>
                </a:tc>
                <a:tc>
                  <a:txBody>
                    <a:bodyPr lIns="8640" rIns="8640" tIns="0" bIns="0" anchor="t">
                      <a:noAutofit/>
                    </a:bodyPr>
                    <a:p>
                      <a:pPr>
                        <a:lnSpc>
                          <a:spcPct val="106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- Metodologia per la gestione del data brea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6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8eaadb"/>
                      </a:solidFill>
                    </a:lnL>
                    <a:lnR w="5760">
                      <a:solidFill>
                        <a:srgbClr val="8eaadb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8eaadb"/>
                      </a:solidFill>
                    </a:lnB>
                    <a:solidFill>
                      <a:srgbClr val="d9e2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itolo 3"/>
          <p:cNvSpPr/>
          <p:nvPr/>
        </p:nvSpPr>
        <p:spPr>
          <a:xfrm>
            <a:off x="306360" y="404640"/>
            <a:ext cx="853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it-IT" sz="2800" spc="-1" strike="noStrike">
                <a:solidFill>
                  <a:srgbClr val="005366"/>
                </a:solidFill>
                <a:latin typeface="Century Gothic"/>
              </a:rPr>
              <a:t>RISCHI NON FINANZIARI – SOCIALE PER I CLIE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685800" y="1170000"/>
          <a:ext cx="7981920" cy="4179960"/>
        </p:xfrm>
        <a:graphic>
          <a:graphicData uri="http://schemas.openxmlformats.org/drawingml/2006/table">
            <a:tbl>
              <a:tblPr/>
              <a:tblGrid>
                <a:gridCol w="2344680"/>
                <a:gridCol w="2344680"/>
                <a:gridCol w="2035440"/>
                <a:gridCol w="1257120"/>
              </a:tblGrid>
              <a:tr h="730440">
                <a:tc>
                  <a:txBody>
                    <a:bodyPr lIns="8640" rIns="8640" tIns="0" bIns="0" anchor="ctr">
                      <a:noAutofit/>
                    </a:bodyPr>
                    <a:p>
                      <a:pPr>
                        <a:lnSpc>
                          <a:spcPct val="106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br>
                        <a:rPr sz="800"/>
                      </a:br>
                      <a:r>
                        <a:rPr b="1" lang="it-IT" sz="800" spc="-1" strike="noStrike">
                          <a:solidFill>
                            <a:srgbClr val="ffffff"/>
                          </a:solidFill>
                          <a:latin typeface="Century Gothic"/>
                          <a:ea typeface="Calibri"/>
                        </a:rPr>
                        <a:t>Ambit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6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it-IT" sz="800" spc="-1" strike="noStrike">
                          <a:solidFill>
                            <a:srgbClr val="ffffff"/>
                          </a:solidFill>
                          <a:latin typeface="Century Gothic"/>
                          <a:ea typeface="Calibri"/>
                        </a:rPr>
                        <a:t>D. Lgs. 254/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4472c4"/>
                      </a:solidFill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8640" rIns="8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it-IT" sz="800" spc="-1" strike="noStrike">
                          <a:solidFill>
                            <a:srgbClr val="ffffff"/>
                          </a:solidFill>
                          <a:latin typeface="Century Gothic"/>
                          <a:ea typeface="Calibri"/>
                        </a:rPr>
                        <a:t>Principali risch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8640" rIns="8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it-IT" sz="800" spc="-1" strike="noStrike">
                          <a:solidFill>
                            <a:srgbClr val="ffffff"/>
                          </a:solidFill>
                          <a:latin typeface="Century Gothic"/>
                          <a:ea typeface="Calibri"/>
                        </a:rPr>
                        <a:t>Strutture, Regolamenti e Policy a copertura del rischi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8640" rIns="8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it-IT" sz="800" spc="-1" strike="noStrike">
                          <a:solidFill>
                            <a:srgbClr val="ffffff"/>
                          </a:solidFill>
                          <a:latin typeface="Century Gothic"/>
                          <a:ea typeface="Calibri"/>
                        </a:rPr>
                        <a:t>Regolamenti e Policy </a:t>
                      </a:r>
                      <a:r>
                        <a:rPr b="1" lang="it-IT" sz="8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in corso di predisposizione, aggiornamento e/o validazione finale e prossima emissio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1303200">
                <a:tc rowSpan="3">
                  <a:txBody>
                    <a:bodyPr lIns="8640" rIns="8640" tIns="0" bIns="0" anchor="ctr">
                      <a:noAutofit/>
                    </a:bodyPr>
                    <a:p>
                      <a:pPr>
                        <a:lnSpc>
                          <a:spcPct val="106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Sociale per i clien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8eaadb"/>
                      </a:solidFill>
                    </a:lnL>
                    <a:lnR w="5760">
                      <a:solidFill>
                        <a:srgbClr val="8eaadb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8eaadb"/>
                      </a:solidFill>
                    </a:lnB>
                    <a:noFill/>
                  </a:tcPr>
                </a:tc>
                <a:tc>
                  <a:txBody>
                    <a:bodyPr lIns="8640" rIns="8640" tIns="0" bIns="0" anchor="t">
                      <a:noAutofit/>
                    </a:bodyPr>
                    <a:p>
                      <a:pPr>
                        <a:lnSpc>
                          <a:spcPct val="106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Rischio di intrattenere rapporti con clienti appartenenti a categorie merceologiche a rischio e finanziamento di attività in settori controversi o che presentano criticità socio-ambientali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8eaadb"/>
                      </a:solidFill>
                    </a:lnL>
                    <a:lnR w="5760">
                      <a:solidFill>
                        <a:srgbClr val="8eaadb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8eaadb"/>
                      </a:solidFill>
                    </a:lnB>
                    <a:noFill/>
                  </a:tcPr>
                </a:tc>
                <a:tc>
                  <a:txBody>
                    <a:bodyPr lIns="8640" rIns="8640" tIns="0" bIns="0" anchor="t">
                      <a:noAutofit/>
                    </a:bodyPr>
                    <a:p>
                      <a:pPr>
                        <a:lnSpc>
                          <a:spcPct val="106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 Regolamento in materia di nuovi prodott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6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 Procedure opera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6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8eaadb"/>
                      </a:solidFill>
                    </a:lnL>
                    <a:lnR w="5760">
                      <a:solidFill>
                        <a:srgbClr val="8eaadb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8eaadb"/>
                      </a:solidFill>
                    </a:lnB>
                    <a:noFill/>
                  </a:tcPr>
                </a:tc>
                <a:tc>
                  <a:txBody>
                    <a:bodyPr lIns="8640" rIns="8640" tIns="0" bIns="0" anchor="t">
                      <a:noAutofit/>
                    </a:bodyPr>
                    <a:p>
                      <a:pPr>
                        <a:lnSpc>
                          <a:spcPct val="106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8eaadb"/>
                      </a:solidFill>
                    </a:lnL>
                    <a:lnR w="5760">
                      <a:solidFill>
                        <a:srgbClr val="8eaadb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8eaadb"/>
                      </a:solidFill>
                    </a:lnB>
                    <a:noFill/>
                  </a:tcPr>
                </a:tc>
              </a:tr>
              <a:tr h="141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0" bIns="0" anchor="t">
                      <a:noAutofit/>
                    </a:bodyPr>
                    <a:p>
                      <a:pPr>
                        <a:lnSpc>
                          <a:spcPct val="106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Rischio di mancata gestione dei reclami, di mancata indagine (attraverso sondaggi, interviste o altri strumenti) del livello di soddisfazione dei clienti e di mancata risposta alle richieste formulate dagli stessi nell’ambito dell’indagi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8eaadb"/>
                      </a:solidFill>
                    </a:lnL>
                    <a:lnR w="5760">
                      <a:solidFill>
                        <a:srgbClr val="8eaadb"/>
                      </a:solidFill>
                    </a:lnR>
                    <a:lnT w="5760">
                      <a:solidFill>
                        <a:srgbClr val="8eaadb"/>
                      </a:solidFill>
                    </a:lnT>
                    <a:lnB w="5760">
                      <a:solidFill>
                        <a:srgbClr val="8eaadb"/>
                      </a:solidFill>
                    </a:lnB>
                    <a:solidFill>
                      <a:srgbClr val="d9e2f3"/>
                    </a:solidFill>
                  </a:tcPr>
                </a:tc>
                <a:tc>
                  <a:txBody>
                    <a:bodyPr lIns="8640" rIns="8640" tIns="0" bIns="0" anchor="t">
                      <a:noAutofit/>
                    </a:bodyPr>
                    <a:p>
                      <a:pPr>
                        <a:lnSpc>
                          <a:spcPct val="106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- Policy reclami della Capogrup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6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 Policy per la Gestione del rischio reputaziona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6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8eaadb"/>
                      </a:solidFill>
                    </a:lnL>
                    <a:lnR w="5760">
                      <a:solidFill>
                        <a:srgbClr val="8eaadb"/>
                      </a:solidFill>
                    </a:lnR>
                    <a:lnT w="5760">
                      <a:solidFill>
                        <a:srgbClr val="8eaadb"/>
                      </a:solidFill>
                    </a:lnT>
                    <a:lnB w="5760">
                      <a:solidFill>
                        <a:srgbClr val="8eaadb"/>
                      </a:solidFill>
                    </a:lnB>
                    <a:solidFill>
                      <a:srgbClr val="d9e2f3"/>
                    </a:solidFill>
                  </a:tcPr>
                </a:tc>
                <a:tc>
                  <a:txBody>
                    <a:bodyPr lIns="8640" rIns="8640" tIns="0" bIns="0" anchor="t">
                      <a:noAutofit/>
                    </a:bodyPr>
                    <a:p>
                      <a:pPr>
                        <a:lnSpc>
                          <a:spcPct val="106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8eaadb"/>
                      </a:solidFill>
                    </a:lnL>
                    <a:lnR w="5760">
                      <a:solidFill>
                        <a:srgbClr val="8eaadb"/>
                      </a:solidFill>
                    </a:lnR>
                    <a:lnT w="5760">
                      <a:solidFill>
                        <a:srgbClr val="8eaadb"/>
                      </a:solidFill>
                    </a:lnT>
                    <a:lnB w="5760">
                      <a:solidFill>
                        <a:srgbClr val="8eaadb"/>
                      </a:solidFill>
                    </a:lnB>
                    <a:solidFill>
                      <a:srgbClr val="d9e2f3"/>
                    </a:solidFill>
                  </a:tcPr>
                </a:tc>
              </a:tr>
              <a:tr h="60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0" bIns="0" anchor="t">
                      <a:noAutofit/>
                    </a:bodyPr>
                    <a:p>
                      <a:pPr>
                        <a:lnSpc>
                          <a:spcPct val="106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Rischio di sviluppo di cause legali con il cliente su prodotti e/o servizi offer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8eaadb"/>
                      </a:solidFill>
                    </a:lnL>
                    <a:lnR w="5760">
                      <a:solidFill>
                        <a:srgbClr val="8eaadb"/>
                      </a:solidFill>
                    </a:lnR>
                    <a:lnT w="5760">
                      <a:solidFill>
                        <a:srgbClr val="8eaadb"/>
                      </a:solidFill>
                    </a:lnT>
                    <a:lnB w="5760">
                      <a:solidFill>
                        <a:srgbClr val="8eaadb"/>
                      </a:solidFill>
                    </a:lnB>
                    <a:noFill/>
                  </a:tcPr>
                </a:tc>
                <a:tc>
                  <a:txBody>
                    <a:bodyPr lIns="8640" rIns="8640" tIns="0" bIns="0" anchor="t">
                      <a:noAutofit/>
                    </a:bodyPr>
                    <a:p>
                      <a:pPr>
                        <a:lnSpc>
                          <a:spcPct val="106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 Policy per la Gestione del rischio reputaziona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6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8eaadb"/>
                      </a:solidFill>
                    </a:lnL>
                    <a:lnR w="5760">
                      <a:solidFill>
                        <a:srgbClr val="8eaadb"/>
                      </a:solidFill>
                    </a:lnR>
                    <a:lnT w="5760">
                      <a:solidFill>
                        <a:srgbClr val="8eaadb"/>
                      </a:solidFill>
                    </a:lnT>
                    <a:lnB w="5760">
                      <a:solidFill>
                        <a:srgbClr val="8eaadb"/>
                      </a:solidFill>
                    </a:lnB>
                    <a:noFill/>
                  </a:tcPr>
                </a:tc>
                <a:tc>
                  <a:txBody>
                    <a:bodyPr lIns="8640" rIns="8640" tIns="0" bIns="0" anchor="t">
                      <a:noAutofit/>
                    </a:bodyPr>
                    <a:p>
                      <a:pPr>
                        <a:lnSpc>
                          <a:spcPct val="106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8eaadb"/>
                      </a:solidFill>
                    </a:lnL>
                    <a:lnR w="5760">
                      <a:solidFill>
                        <a:srgbClr val="8eaadb"/>
                      </a:solidFill>
                    </a:lnR>
                    <a:lnT w="5760">
                      <a:solidFill>
                        <a:srgbClr val="8eaadb"/>
                      </a:solidFill>
                    </a:lnT>
                    <a:lnB w="5760">
                      <a:solidFill>
                        <a:srgbClr val="8eaad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6T09:19:20Z</dcterms:created>
  <dc:creator>Michela</dc:creator>
  <dc:description/>
  <dc:language>en-US</dc:language>
  <cp:lastModifiedBy>Lorenzo Kasperkovitz</cp:lastModifiedBy>
  <cp:lastPrinted>2019-02-04T15:27:36Z</cp:lastPrinted>
  <dcterms:modified xsi:type="dcterms:W3CDTF">2020-10-10T11:45:01Z</dcterms:modified>
  <cp:revision>303</cp:revision>
  <dc:subject/>
  <dc:title>PowerPoint Presentation</dc:title>
</cp:coreProperties>
</file>