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C8F-020D-4B57-9937-4B1EFCA6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8F0-0F00-483A-B216-23E11112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9F8-06DE-4498-B2DA-2CD32E91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C637-624A-445C-A4FA-31ACDE6A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EC7-CB46-4303-B33E-38A02825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F6E-4441-467F-9313-99D98C92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226C-A528-4A97-9E73-E7970465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A2F4-F06D-4071-B29B-EDA8EC83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699-4A07-4393-AA6A-916E6EE8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77EC-5320-4C03-8A05-D61F1AE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B9E-D495-4FAF-AAC0-55B3DE1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227-505F-4E7B-BA02-2CF07038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F49F-0B00-413D-A27C-3B088316C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139760"/>
            <a:ext cx="7772400" cy="130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Tectonic Evolution of the Arctic Region Since the Ordovici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9600" y="2908440"/>
            <a:ext cx="67215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A. Lawve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L.M. Gahaga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nd D.A. Campb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2000, University of Texas Institute for Geophy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July 9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immeridg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1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retac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Alb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3600" y="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aleo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Ypre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uater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4200" y="1173240"/>
            <a:ext cx="77612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 wish to thank th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LATES’ sponsor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or their support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oco, Elf, Exxon,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sk Hydro, and Statoil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31800" y="1411200"/>
            <a:ext cx="7840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or more information, contact: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isa M. Gahagan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Institute for Geophysic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4412 Spicewood Springs Rd., Bldg. 600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ustin, TX  78759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lates@ig.utexas.edu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924200" y="2371680"/>
            <a:ext cx="529560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23560" y="1587240"/>
            <a:ext cx="6659640" cy="39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following animation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s an abbreviated version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howing reconstruction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50 million years.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The original animation shows 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reconstructions from 450 to 0 Ma,</a:t>
            </a:r>
            <a:br>
              <a:rPr sz="3600"/>
            </a:b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every 1 million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Ordovic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Cara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4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von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ate Pragh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urnais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arbonifer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asimov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25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m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at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00" descr=""/>
          <p:cNvPicPr/>
          <p:nvPr/>
        </p:nvPicPr>
        <p:blipFill>
          <a:blip r:embed="rId1"/>
          <a:stretch/>
        </p:blipFill>
        <p:spPr>
          <a:xfrm>
            <a:off x="1058760" y="-949320"/>
            <a:ext cx="6929640" cy="8051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6477120"/>
            <a:ext cx="114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35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ffad35"/>
                </a:solidFill>
                <a:latin typeface="Arial"/>
              </a:rPr>
              <a:t>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37680" y="6400800"/>
            <a:ext cx="22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7640" y="6477120"/>
            <a:ext cx="94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99"/>
                </a:solidFill>
                <a:latin typeface="Times New Roman"/>
              </a:rPr>
              <a:t>2000 UT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uras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arly Sinemu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23:30:48Z</dcterms:created>
  <dc:creator>bandone</dc:creator>
  <dc:description/>
  <dc:language>en-US</dc:language>
  <cp:lastModifiedBy>template</cp:lastModifiedBy>
  <dcterms:modified xsi:type="dcterms:W3CDTF">2000-08-25T18:27:09Z</dcterms:modified>
  <cp:revision>11</cp:revision>
  <dc:subject/>
  <dc:title>No Slide Title</dc:title>
</cp:coreProperties>
</file>