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8.png" ContentType="image/png"/>
  <Override PartName="/ppt/media/image14.jpeg" ContentType="image/jpeg"/>
  <Override PartName="/ppt/media/image12.jpeg" ContentType="image/jpeg"/>
  <Override PartName="/ppt/media/image11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2.png" ContentType="image/png"/>
  <Override PartName="/ppt/media/image3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6245225" cy="467995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812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it-IT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6594D63-58B5-4853-B3AE-CEB4CC7192A8}" type="slidenum">
              <a:rPr b="0" lang="it-IT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8536474-7A41-4AE3-9904-56C8874BA144}" type="slidenum">
              <a:rPr b="0" lang="it-IT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724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791EA5F6-C225-4BF9-BFE2-02D38BBBFF41}" type="slidenum">
              <a:rPr b="0" lang="it-IT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724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F0B8D8C4-4289-42BE-9498-9F066EB229AF}" type="slidenum">
              <a:rPr b="0" lang="it-IT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72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7BAA0-6141-4EF3-8C14-150F3B324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15800"/>
            <a:ext cx="5308560" cy="78120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ctr">
            <a:noAutofit/>
          </a:bodyPr>
          <a:p>
            <a:pPr indent="0" algn="ctr">
              <a:buNone/>
              <a:tabLst>
                <a:tab algn="l" pos="0"/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68360" y="1352160"/>
            <a:ext cx="5308560" cy="13395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360" y="2819520"/>
            <a:ext cx="5308560" cy="13395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4CAF7-9D20-4289-9CF4-C54C536D2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15800"/>
            <a:ext cx="5308560" cy="78120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ctr">
            <a:noAutofit/>
          </a:bodyPr>
          <a:p>
            <a:pPr indent="0" algn="ctr">
              <a:buNone/>
              <a:tabLst>
                <a:tab algn="l" pos="0"/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68360" y="1352160"/>
            <a:ext cx="2590560" cy="13395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188880" y="1352160"/>
            <a:ext cx="2590560" cy="13395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8360" y="2819520"/>
            <a:ext cx="2590560" cy="13395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188880" y="2819520"/>
            <a:ext cx="2590560" cy="13395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260D2-0E50-4128-8E02-2F801A27E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15800"/>
            <a:ext cx="5308560" cy="78120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ctr">
            <a:noAutofit/>
          </a:bodyPr>
          <a:p>
            <a:pPr indent="0" algn="ctr">
              <a:buNone/>
              <a:tabLst>
                <a:tab algn="l" pos="0"/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68360" y="1352160"/>
            <a:ext cx="1709280" cy="13395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263320" y="1352160"/>
            <a:ext cx="1709280" cy="13395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058640" y="1352160"/>
            <a:ext cx="1709280" cy="13395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8360" y="2819520"/>
            <a:ext cx="1709280" cy="13395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263320" y="2819520"/>
            <a:ext cx="1709280" cy="13395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058640" y="2819520"/>
            <a:ext cx="1709280" cy="13395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B027B-3F21-4918-A4CE-D2B69C606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15800"/>
            <a:ext cx="5308560" cy="78120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ctr">
            <a:noAutofit/>
          </a:bodyPr>
          <a:p>
            <a:pPr indent="0" algn="ctr">
              <a:buNone/>
              <a:tabLst>
                <a:tab algn="l" pos="0"/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68360" y="1352160"/>
            <a:ext cx="5308560" cy="28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8FF57-2769-4674-B63A-1573DE90C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15800"/>
            <a:ext cx="5308560" cy="78120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ctr">
            <a:noAutofit/>
          </a:bodyPr>
          <a:p>
            <a:pPr indent="0" algn="ctr">
              <a:buNone/>
              <a:tabLst>
                <a:tab algn="l" pos="0"/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68360" y="1352160"/>
            <a:ext cx="5308560" cy="28083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2667E-4222-4A2E-A15D-8A485FC81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15800"/>
            <a:ext cx="5308560" cy="78120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ctr">
            <a:noAutofit/>
          </a:bodyPr>
          <a:p>
            <a:pPr indent="0" algn="ctr">
              <a:buNone/>
              <a:tabLst>
                <a:tab algn="l" pos="0"/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68360" y="1352160"/>
            <a:ext cx="2590560" cy="28083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188880" y="1352160"/>
            <a:ext cx="2590560" cy="28083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953EB-FB0E-47A8-B9D1-6EA355A06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15800"/>
            <a:ext cx="5308560" cy="78120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ctr">
            <a:noAutofit/>
          </a:bodyPr>
          <a:p>
            <a:pPr indent="0" algn="ctr">
              <a:buNone/>
              <a:tabLst>
                <a:tab algn="l" pos="0"/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0E070-936B-4F0F-B30F-45B2ED16F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15800"/>
            <a:ext cx="5308560" cy="36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84A28-EAF6-40D9-BFA6-793B409EF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15800"/>
            <a:ext cx="5308560" cy="78120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ctr">
            <a:noAutofit/>
          </a:bodyPr>
          <a:p>
            <a:pPr indent="0" algn="ctr">
              <a:buNone/>
              <a:tabLst>
                <a:tab algn="l" pos="0"/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68360" y="1352160"/>
            <a:ext cx="2590560" cy="13395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188880" y="1352160"/>
            <a:ext cx="2590560" cy="28083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8360" y="2819520"/>
            <a:ext cx="2590560" cy="13395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8C9F7-D3D6-4ECD-96D4-744FEA8CB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15800"/>
            <a:ext cx="5308560" cy="78120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ctr">
            <a:noAutofit/>
          </a:bodyPr>
          <a:p>
            <a:pPr indent="0" algn="ctr">
              <a:buNone/>
              <a:tabLst>
                <a:tab algn="l" pos="0"/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68360" y="1352160"/>
            <a:ext cx="2590560" cy="28083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188880" y="1352160"/>
            <a:ext cx="2590560" cy="13395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188880" y="2819520"/>
            <a:ext cx="2590560" cy="13395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4D1AF-BF82-4FB8-A4D4-A5C3C6481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15800"/>
            <a:ext cx="5308560" cy="78120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ctr">
            <a:noAutofit/>
          </a:bodyPr>
          <a:p>
            <a:pPr indent="0" algn="ctr">
              <a:buNone/>
              <a:tabLst>
                <a:tab algn="l" pos="0"/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68360" y="1352160"/>
            <a:ext cx="2590560" cy="13395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188880" y="1352160"/>
            <a:ext cx="2590560" cy="13395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360" y="2819520"/>
            <a:ext cx="5308560" cy="13395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1FB6E-815D-40CF-9099-172693380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15800"/>
            <a:ext cx="5308560" cy="78120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ctr">
            <a:noAutofit/>
          </a:bodyPr>
          <a:p>
            <a:pPr indent="0" algn="ctr">
              <a:buNone/>
              <a:tabLst>
                <a:tab algn="l" pos="0"/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8360" y="1352160"/>
            <a:ext cx="5308560" cy="28083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rmAutofit fontScale="99000"/>
          </a:bodyPr>
          <a:p>
            <a:pPr marL="230760" indent="-23076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502560" indent="-19296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773280" indent="-15552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081080" indent="-15372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4" marL="1390680" indent="-15408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5" marL="1390680" indent="-15408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6" marL="1390680" indent="-15408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360" y="4265640"/>
            <a:ext cx="1301760" cy="31104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133720" y="4265640"/>
            <a:ext cx="1977840" cy="31104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475160" y="4265640"/>
            <a:ext cx="1301760" cy="31104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1A25E-CCDC-4DAE-9F90-02148C9C3370}" type="slidenum"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82160" y="77760"/>
            <a:ext cx="5776920" cy="3016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lIns="62280" rIns="62280" tIns="31320" bIns="31320" anchor="ctr">
            <a:noAutofit/>
          </a:bodyPr>
          <a:p>
            <a:pPr indent="0" algn="ctr">
              <a:buNone/>
              <a:tabLst>
                <a:tab algn="l" pos="0"/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Times New Roman"/>
              </a:rPr>
              <a:t>Competizione tra sostituzione ed eliminazion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198360" y="569880"/>
            <a:ext cx="6046920" cy="11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2280" rIns="62280" tIns="31320" bIns="3132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</a:rPr>
              <a:t>ALOGENURI PRIMARI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: S</a:t>
            </a:r>
            <a:r>
              <a:rPr b="1" lang="it-IT" sz="1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2 e E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it-IT" sz="1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2 generalmente prevale nettamente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in caso di 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nucleofili  ingombranti e basici si ha E2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4" descr=""/>
          <p:cNvPicPr/>
          <p:nvPr/>
        </p:nvPicPr>
        <p:blipFill>
          <a:blip r:embed="rId1"/>
          <a:stretch/>
        </p:blipFill>
        <p:spPr>
          <a:xfrm>
            <a:off x="243000" y="1962000"/>
            <a:ext cx="5786280" cy="271944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5"/>
          <p:cNvSpPr/>
          <p:nvPr/>
        </p:nvSpPr>
        <p:spPr>
          <a:xfrm>
            <a:off x="5864400" y="2846520"/>
            <a:ext cx="152280" cy="35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2280" rIns="62280" tIns="31320" bIns="31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415800"/>
            <a:ext cx="5308560" cy="78120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r>
              <a:rPr b="0" lang="it-IT" sz="800" spc="-1" strike="noStrike">
                <a:solidFill>
                  <a:srgbClr val="ffffff"/>
                </a:solidFill>
                <a:latin typeface="Arial"/>
              </a:rPr>
              <a:t>2-Bromo-2-metilpropano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3"/>
          <p:cNvSpPr/>
          <p:nvPr/>
        </p:nvSpPr>
        <p:spPr>
          <a:xfrm>
            <a:off x="0" y="4452840"/>
            <a:ext cx="2835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Arial"/>
              </a:rPr>
              <a:t>Dal volume: McMurry “Chimica organica”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4"/>
          <p:cNvSpPr/>
          <p:nvPr/>
        </p:nvSpPr>
        <p:spPr>
          <a:xfrm>
            <a:off x="4492800" y="4452840"/>
            <a:ext cx="1752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900" spc="-1" strike="noStrike">
                <a:solidFill>
                  <a:srgbClr val="000000"/>
                </a:solidFill>
                <a:latin typeface="Arial"/>
              </a:rPr>
              <a:t>Piccin Nuova Libraria S.p.A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icture 5" descr="cap-11_0035a"/>
          <p:cNvPicPr/>
          <p:nvPr/>
        </p:nvPicPr>
        <p:blipFill>
          <a:blip r:embed="rId1"/>
          <a:stretch/>
        </p:blipFill>
        <p:spPr>
          <a:xfrm>
            <a:off x="819000" y="1260360"/>
            <a:ext cx="4664160" cy="243864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2"/>
          <p:cNvSpPr/>
          <p:nvPr/>
        </p:nvSpPr>
        <p:spPr>
          <a:xfrm>
            <a:off x="277920" y="90360"/>
            <a:ext cx="5868720" cy="738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2280" rIns="62280" tIns="31320" bIns="31320" anchor="ctr">
            <a:noAutofit/>
          </a:bodyPr>
          <a:p>
            <a:pPr algn="ctr">
              <a:tabLst>
                <a:tab algn="l" pos="0"/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Times New Roman"/>
              </a:rPr>
              <a:t>Competizione tra sostituzione ed eliminazione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Times New Roman"/>
              </a:rPr>
              <a:t>esemp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-93600" y="1263600"/>
            <a:ext cx="6240240" cy="10778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3" descr=""/>
          <p:cNvPicPr/>
          <p:nvPr/>
        </p:nvPicPr>
        <p:blipFill>
          <a:blip r:embed="rId2"/>
          <a:stretch/>
        </p:blipFill>
        <p:spPr>
          <a:xfrm>
            <a:off x="533520" y="2755800"/>
            <a:ext cx="4632120" cy="124164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2"/>
          <p:cNvSpPr/>
          <p:nvPr/>
        </p:nvSpPr>
        <p:spPr>
          <a:xfrm>
            <a:off x="277920" y="90360"/>
            <a:ext cx="5868720" cy="738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2280" rIns="62280" tIns="31320" bIns="31320" anchor="ctr">
            <a:noAutofit/>
          </a:bodyPr>
          <a:p>
            <a:pPr algn="ctr">
              <a:tabLst>
                <a:tab algn="l" pos="0"/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Times New Roman"/>
              </a:rPr>
              <a:t>Inversione di configurazione in reazioni Sn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Times New Roman"/>
              </a:rPr>
              <a:t>esemp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"/>
          <p:cNvPicPr/>
          <p:nvPr/>
        </p:nvPicPr>
        <p:blipFill>
          <a:blip r:embed="rId1"/>
          <a:stretch/>
        </p:blipFill>
        <p:spPr>
          <a:xfrm>
            <a:off x="492120" y="1405080"/>
            <a:ext cx="4829040" cy="163800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2"/>
          <p:cNvSpPr/>
          <p:nvPr/>
        </p:nvSpPr>
        <p:spPr>
          <a:xfrm>
            <a:off x="277920" y="90360"/>
            <a:ext cx="5868720" cy="738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2280" rIns="62280" tIns="31320" bIns="31320" anchor="ctr">
            <a:noAutofit/>
          </a:bodyPr>
          <a:p>
            <a:pPr algn="ctr">
              <a:tabLst>
                <a:tab algn="l" pos="0"/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Times New Roman"/>
              </a:rPr>
              <a:t>Reazioni Sn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Times New Roman"/>
              </a:rPr>
              <a:t>esemp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2"/>
          <a:stretch/>
        </p:blipFill>
        <p:spPr>
          <a:xfrm>
            <a:off x="325440" y="1986120"/>
            <a:ext cx="5162400" cy="1866600"/>
          </a:xfrm>
          <a:prstGeom prst="rect">
            <a:avLst/>
          </a:prstGeom>
          <a:ln w="0">
            <a:noFill/>
          </a:ln>
        </p:spPr>
      </p:pic>
      <p:sp>
        <p:nvSpPr>
          <p:cNvPr id="97" name="Rettangolo 6"/>
          <p:cNvSpPr/>
          <p:nvPr/>
        </p:nvSpPr>
        <p:spPr>
          <a:xfrm>
            <a:off x="614520" y="2841480"/>
            <a:ext cx="4884480" cy="101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3" descr=""/>
          <p:cNvPicPr/>
          <p:nvPr/>
        </p:nvPicPr>
        <p:blipFill>
          <a:blip r:embed="rId1"/>
          <a:stretch/>
        </p:blipFill>
        <p:spPr>
          <a:xfrm>
            <a:off x="468360" y="1116000"/>
            <a:ext cx="5315040" cy="177156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2"/>
          <p:cNvSpPr/>
          <p:nvPr/>
        </p:nvSpPr>
        <p:spPr>
          <a:xfrm>
            <a:off x="277920" y="90360"/>
            <a:ext cx="5868720" cy="738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2280" rIns="62280" tIns="31320" bIns="31320" anchor="ctr">
            <a:noAutofit/>
          </a:bodyPr>
          <a:p>
            <a:pPr algn="ctr">
              <a:tabLst>
                <a:tab algn="l" pos="0"/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Times New Roman"/>
              </a:rPr>
              <a:t>Racemizzazione  in reazioni Sn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Times New Roman"/>
              </a:rPr>
              <a:t>esemp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ttangolo 5"/>
          <p:cNvSpPr/>
          <p:nvPr/>
        </p:nvSpPr>
        <p:spPr>
          <a:xfrm>
            <a:off x="385920" y="2197080"/>
            <a:ext cx="5397480" cy="8636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2"/>
          <a:stretch/>
        </p:blipFill>
        <p:spPr>
          <a:xfrm>
            <a:off x="812880" y="2570040"/>
            <a:ext cx="5067360" cy="9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82160" y="77400"/>
            <a:ext cx="5776920" cy="3589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lIns="62280" rIns="62280" tIns="31320" bIns="31320" anchor="ctr">
            <a:noAutofit/>
          </a:bodyPr>
          <a:p>
            <a:pPr indent="0" algn="ctr">
              <a:buNone/>
              <a:tabLst>
                <a:tab algn="l" pos="0"/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Times New Roman"/>
              </a:rPr>
              <a:t>Competizione tra sostituzione ed eliminazion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93680" y="444600"/>
            <a:ext cx="5307120" cy="103968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rmAutofit/>
          </a:bodyPr>
          <a:p>
            <a:pPr marL="233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Times New Roman"/>
              </a:rPr>
              <a:t>ALOGENURI SECONDARI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: S</a:t>
            </a:r>
            <a:r>
              <a:rPr b="1" lang="it-IT" sz="1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1, S</a:t>
            </a:r>
            <a:r>
              <a:rPr b="1" lang="it-IT" sz="1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2 , E1 e E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La distribuzione dei prodotti dipende dal nucleofilo e dalle condizioni di reazion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4" descr=""/>
          <p:cNvPicPr/>
          <p:nvPr/>
        </p:nvPicPr>
        <p:blipFill>
          <a:blip r:embed="rId1"/>
          <a:stretch/>
        </p:blipFill>
        <p:spPr>
          <a:xfrm>
            <a:off x="668160" y="1417680"/>
            <a:ext cx="4956480" cy="32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77560" y="90360"/>
            <a:ext cx="5746680" cy="387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lIns="62280" rIns="62280" tIns="31320" bIns="31320" anchor="ctr">
            <a:noAutofit/>
          </a:bodyPr>
          <a:p>
            <a:pPr indent="0" algn="ctr">
              <a:buNone/>
              <a:tabLst>
                <a:tab algn="l" pos="0"/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Times New Roman"/>
              </a:rPr>
              <a:t>Competizione tra sostituzione ed eliminazion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128520" y="828720"/>
            <a:ext cx="56224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2280" rIns="62280" tIns="31320" bIns="3132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it-IT" sz="2400" spc="-1" strike="noStrike">
                <a:solidFill>
                  <a:srgbClr val="ff0000"/>
                </a:solidFill>
                <a:latin typeface="Times New Roman"/>
              </a:rPr>
              <a:t>ALOGENURI TERZIARI:  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SN1,  E1, E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5" descr=""/>
          <p:cNvPicPr/>
          <p:nvPr/>
        </p:nvPicPr>
        <p:blipFill>
          <a:blip r:embed="rId1"/>
          <a:stretch/>
        </p:blipFill>
        <p:spPr>
          <a:xfrm>
            <a:off x="2108160" y="1803240"/>
            <a:ext cx="3967200" cy="1489320"/>
          </a:xfrm>
          <a:prstGeom prst="rect">
            <a:avLst/>
          </a:prstGeom>
          <a:ln w="0">
            <a:noFill/>
          </a:ln>
        </p:spPr>
      </p:pic>
      <p:sp>
        <p:nvSpPr>
          <p:cNvPr id="58" name="Text Box 6"/>
          <p:cNvSpPr/>
          <p:nvPr/>
        </p:nvSpPr>
        <p:spPr>
          <a:xfrm>
            <a:off x="403560" y="2030400"/>
            <a:ext cx="1556280" cy="7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2280" rIns="62280" tIns="31320" bIns="3132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In presenza di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nucleofili deboli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e solventi polar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8"/>
          <p:cNvSpPr/>
          <p:nvPr/>
        </p:nvSpPr>
        <p:spPr>
          <a:xfrm>
            <a:off x="366480" y="3357720"/>
            <a:ext cx="1455840" cy="15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2280" rIns="62280" tIns="31320" bIns="3132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In presenza di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nucleofili forti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e solventi me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polar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9" descr=""/>
          <p:cNvPicPr/>
          <p:nvPr/>
        </p:nvPicPr>
        <p:blipFill>
          <a:blip r:embed="rId2"/>
          <a:stretch/>
        </p:blipFill>
        <p:spPr>
          <a:xfrm>
            <a:off x="2111400" y="3357720"/>
            <a:ext cx="4133880" cy="120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415800"/>
            <a:ext cx="5308560" cy="78120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ctr">
            <a:noAutofit/>
          </a:bodyPr>
          <a:p>
            <a:pPr indent="0" algn="ctr">
              <a:buNone/>
              <a:tabLst>
                <a:tab algn="l" pos="0"/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3" descr=""/>
          <p:cNvPicPr/>
          <p:nvPr/>
        </p:nvPicPr>
        <p:blipFill>
          <a:blip r:embed="rId1"/>
          <a:stretch/>
        </p:blipFill>
        <p:spPr>
          <a:xfrm>
            <a:off x="1106640" y="1620720"/>
            <a:ext cx="4390920" cy="8762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4" descr=""/>
          <p:cNvPicPr/>
          <p:nvPr/>
        </p:nvPicPr>
        <p:blipFill>
          <a:blip r:embed="rId2"/>
          <a:stretch/>
        </p:blipFill>
        <p:spPr>
          <a:xfrm>
            <a:off x="1859040" y="3063960"/>
            <a:ext cx="2886120" cy="93348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2"/>
          <p:cNvSpPr/>
          <p:nvPr/>
        </p:nvSpPr>
        <p:spPr>
          <a:xfrm>
            <a:off x="98280" y="415800"/>
            <a:ext cx="6031080" cy="9892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2280" rIns="62280" tIns="31320" bIns="31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it-IT" sz="2200" spc="-1" strike="noStrike">
                <a:solidFill>
                  <a:srgbClr val="000000"/>
                </a:solidFill>
                <a:latin typeface="Times New Roman"/>
              </a:rPr>
              <a:t>-Eliminazioni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Times New Roman"/>
              </a:rPr>
              <a:t>Si forma prevalentemente l’alchene più sostituito perché è più stabil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415800"/>
            <a:ext cx="5308560" cy="78120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r>
              <a:rPr b="0" lang="it-IT" sz="800" spc="-1" strike="noStrike">
                <a:solidFill>
                  <a:srgbClr val="ffffff"/>
                </a:solidFill>
                <a:latin typeface="Arial"/>
              </a:rPr>
              <a:t>1-cloro-1-metilcicloesano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5" descr="cap-11_0026a"/>
          <p:cNvPicPr/>
          <p:nvPr/>
        </p:nvPicPr>
        <p:blipFill>
          <a:blip r:embed="rId1"/>
          <a:stretch/>
        </p:blipFill>
        <p:spPr>
          <a:xfrm>
            <a:off x="1177920" y="1116000"/>
            <a:ext cx="3906720" cy="199404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2"/>
          <p:cNvSpPr/>
          <p:nvPr/>
        </p:nvSpPr>
        <p:spPr>
          <a:xfrm>
            <a:off x="243000" y="181080"/>
            <a:ext cx="5868720" cy="738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2280" rIns="62280" tIns="31320" bIns="31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it-IT" sz="2200" spc="-1" strike="noStrike">
                <a:solidFill>
                  <a:srgbClr val="000000"/>
                </a:solidFill>
                <a:latin typeface="Times New Roman"/>
              </a:rPr>
              <a:t>-eliminazione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Times New Roman"/>
              </a:rPr>
              <a:t>esemp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Box 9"/>
          <p:cNvSpPr/>
          <p:nvPr/>
        </p:nvSpPr>
        <p:spPr>
          <a:xfrm>
            <a:off x="243000" y="1189080"/>
            <a:ext cx="6002280" cy="703800"/>
          </a:xfrm>
          <a:prstGeom prst="rect">
            <a:avLst/>
          </a:prstGeom>
          <a:solidFill>
            <a:srgbClr val="47ff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Base forte, alogenuro alchilico terziatio  ingombrato,  solvente polare prot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Down Arrow 10"/>
          <p:cNvSpPr/>
          <p:nvPr/>
        </p:nvSpPr>
        <p:spPr>
          <a:xfrm>
            <a:off x="2617920" y="3306600"/>
            <a:ext cx="433080" cy="576360"/>
          </a:xfrm>
          <a:prstGeom prst="downArrow">
            <a:avLst>
              <a:gd name="adj1" fmla="val 50000"/>
              <a:gd name="adj2" fmla="val 50042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Box 11"/>
          <p:cNvSpPr/>
          <p:nvPr/>
        </p:nvSpPr>
        <p:spPr>
          <a:xfrm>
            <a:off x="1330560" y="3997440"/>
            <a:ext cx="2751840" cy="459720"/>
          </a:xfrm>
          <a:prstGeom prst="rect">
            <a:avLst/>
          </a:prstGeom>
          <a:solidFill>
            <a:srgbClr val="47ff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Prevale eliminaz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Freccia in giù 1"/>
          <p:cNvSpPr/>
          <p:nvPr/>
        </p:nvSpPr>
        <p:spPr>
          <a:xfrm rot="18797400">
            <a:off x="3745800" y="2934000"/>
            <a:ext cx="482760" cy="992160"/>
          </a:xfrm>
          <a:prstGeom prst="downArrow">
            <a:avLst>
              <a:gd name="adj1" fmla="val 50000"/>
              <a:gd name="adj2" fmla="val 49981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CasellaDiTesto 2"/>
          <p:cNvSpPr/>
          <p:nvPr/>
        </p:nvSpPr>
        <p:spPr>
          <a:xfrm>
            <a:off x="4417920" y="3444840"/>
            <a:ext cx="1827360" cy="94644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Si forma maggiormente l’alchene più sostituito più stab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415800"/>
            <a:ext cx="5308560" cy="78120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ctr">
            <a:noAutofit/>
          </a:bodyPr>
          <a:p>
            <a:pPr indent="0" algn="ctr">
              <a:buNone/>
              <a:tabLst>
                <a:tab algn="l" pos="0"/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579600" y="1533600"/>
            <a:ext cx="5064120" cy="131112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2"/>
          <p:cNvSpPr/>
          <p:nvPr/>
        </p:nvSpPr>
        <p:spPr>
          <a:xfrm>
            <a:off x="106200" y="208080"/>
            <a:ext cx="6032520" cy="9889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2280" rIns="62280" tIns="31320" bIns="31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it-IT" sz="2200" spc="-1" strike="noStrike">
                <a:solidFill>
                  <a:srgbClr val="000000"/>
                </a:solidFill>
                <a:latin typeface="Times New Roman"/>
              </a:rPr>
              <a:t>-Eliminazioni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Times New Roman"/>
              </a:rPr>
              <a:t>Si forma prevalentemente l’alchene più sostituito perché è più stabil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4" descr=""/>
          <p:cNvPicPr/>
          <p:nvPr/>
        </p:nvPicPr>
        <p:blipFill>
          <a:blip r:embed="rId1"/>
          <a:stretch/>
        </p:blipFill>
        <p:spPr>
          <a:xfrm>
            <a:off x="674640" y="4680"/>
            <a:ext cx="4981680" cy="343872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2"/>
          <p:cNvSpPr/>
          <p:nvPr/>
        </p:nvSpPr>
        <p:spPr>
          <a:xfrm>
            <a:off x="157320" y="108000"/>
            <a:ext cx="6014880" cy="8650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2280" rIns="62280" tIns="31320" bIns="31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it-IT" sz="2200" spc="-1" strike="noStrike">
                <a:solidFill>
                  <a:srgbClr val="000000"/>
                </a:solidFill>
                <a:latin typeface="Times New Roman"/>
              </a:rPr>
              <a:t>-Eliminazioni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Times New Roman"/>
              </a:rPr>
              <a:t>Esemp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3" descr=""/>
          <p:cNvPicPr/>
          <p:nvPr/>
        </p:nvPicPr>
        <p:blipFill>
          <a:blip r:embed="rId2"/>
          <a:stretch/>
        </p:blipFill>
        <p:spPr>
          <a:xfrm>
            <a:off x="1106640" y="3743280"/>
            <a:ext cx="3876480" cy="9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360" y="415800"/>
            <a:ext cx="5308560" cy="78120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ctr">
            <a:noAutofit/>
          </a:bodyPr>
          <a:p>
            <a:pPr indent="0" algn="ctr">
              <a:buNone/>
              <a:tabLst>
                <a:tab algn="l" pos="0"/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468360" y="1352160"/>
            <a:ext cx="5308560" cy="28083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4" descr="p173"/>
          <p:cNvPicPr/>
          <p:nvPr/>
        </p:nvPicPr>
        <p:blipFill>
          <a:blip r:embed="rId2"/>
          <a:stretch/>
        </p:blipFill>
        <p:spPr>
          <a:xfrm>
            <a:off x="263520" y="1352520"/>
            <a:ext cx="5718240" cy="227016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2"/>
          <p:cNvSpPr/>
          <p:nvPr/>
        </p:nvSpPr>
        <p:spPr>
          <a:xfrm>
            <a:off x="263520" y="3235320"/>
            <a:ext cx="5746680" cy="387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2280" rIns="62280" tIns="31320" bIns="31320" anchor="ctr">
            <a:normAutofit fontScale="97000"/>
          </a:bodyPr>
          <a:p>
            <a:pPr algn="ctr">
              <a:tabLst>
                <a:tab algn="l" pos="0"/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Times New Roman"/>
              </a:rPr>
              <a:t>Competizione tra sostituzione ed eliminazion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415800"/>
            <a:ext cx="5308560" cy="78120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r>
              <a:rPr b="0" lang="it-IT" sz="800" spc="-1" strike="noStrike">
                <a:solidFill>
                  <a:srgbClr val="ffffff"/>
                </a:solidFill>
                <a:latin typeface="Arial"/>
              </a:rPr>
              <a:t>2-Bromopropano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5" descr="cap-11_0035"/>
          <p:cNvPicPr/>
          <p:nvPr/>
        </p:nvPicPr>
        <p:blipFill>
          <a:blip r:embed="rId1"/>
          <a:stretch/>
        </p:blipFill>
        <p:spPr>
          <a:xfrm>
            <a:off x="961920" y="1332000"/>
            <a:ext cx="4218120" cy="209700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2"/>
          <p:cNvSpPr/>
          <p:nvPr/>
        </p:nvSpPr>
        <p:spPr>
          <a:xfrm>
            <a:off x="277920" y="90360"/>
            <a:ext cx="5868720" cy="738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2280" rIns="62280" tIns="31320" bIns="31320" anchor="ctr">
            <a:noAutofit/>
          </a:bodyPr>
          <a:p>
            <a:pPr algn="ctr">
              <a:tabLst>
                <a:tab algn="l" pos="0"/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Times New Roman"/>
              </a:rPr>
              <a:t>Competizione tra sostituzione ed eliminazione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Times New Roman"/>
              </a:rPr>
              <a:t>esemp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3T06:31:31Z</dcterms:created>
  <dc:creator>lucia gardossi</dc:creator>
  <dc:description/>
  <dc:language>en-US</dc:language>
  <cp:lastModifiedBy>Utente Windows</cp:lastModifiedBy>
  <dcterms:modified xsi:type="dcterms:W3CDTF">2020-12-17T10:37:16Z</dcterms:modified>
  <cp:revision>123</cp:revision>
  <dc:subject/>
  <dc:title>Sostituzione eliminazione</dc:title>
</cp:coreProperties>
</file>