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245225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450-013A-4E0E-AEE6-8265B664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9FA-A9D8-4E61-9847-3B31F1E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AB2-61D7-4F97-9125-F862EC9D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6332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5864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6332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5864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1D2-39F1-444B-835D-6620DE62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D97-E816-4E3A-8EBE-8CB371CC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66E-40C4-4FAF-A3A6-63F32D5B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564-6DC1-4CDD-8857-F966DA7F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877-2BB6-419A-802D-6C936B2D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15800"/>
            <a:ext cx="530856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481-27BC-4B9C-A2A1-53593A2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0C3-E069-4904-A0EE-4F8DC98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81F-E86C-4751-8CD3-AACCC73E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527-515C-481A-80D0-94EB7F8C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 fontScale="99000"/>
          </a:bodyPr>
          <a:p>
            <a:pPr marL="230760" indent="-2307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9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155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1080" indent="-1537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4265640"/>
            <a:ext cx="197784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751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4BF-82B0-401D-AA93-794E59D7639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1"/>
          <p:cNvSpPr/>
          <p:nvPr/>
        </p:nvSpPr>
        <p:spPr>
          <a:xfrm>
            <a:off x="1548720" y="10447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stituzione eli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"/>
          <p:cNvPicPr/>
          <p:nvPr/>
        </p:nvPicPr>
        <p:blipFill>
          <a:blip r:embed="rId1"/>
          <a:stretch/>
        </p:blipFill>
        <p:spPr>
          <a:xfrm>
            <a:off x="0" y="666720"/>
            <a:ext cx="6245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uppo 2"/>
          <p:cNvGrpSpPr/>
          <p:nvPr/>
        </p:nvGrpSpPr>
        <p:grpSpPr>
          <a:xfrm>
            <a:off x="0" y="612720"/>
            <a:ext cx="6245280" cy="3210120"/>
            <a:chOff x="0" y="612720"/>
            <a:chExt cx="6245280" cy="3210120"/>
          </a:xfrm>
        </p:grpSpPr>
        <p:pic>
          <p:nvPicPr>
            <p:cNvPr id="44" name="Immagine 1" descr=""/>
            <p:cNvPicPr/>
            <p:nvPr/>
          </p:nvPicPr>
          <p:blipFill>
            <a:blip r:embed="rId1"/>
            <a:srcRect l="0" t="0" r="0" b="19890"/>
            <a:stretch/>
          </p:blipFill>
          <p:spPr>
            <a:xfrm>
              <a:off x="0" y="612720"/>
              <a:ext cx="62452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ttangolo arrotondato 1"/>
            <p:cNvSpPr/>
            <p:nvPr/>
          </p:nvSpPr>
          <p:spPr>
            <a:xfrm>
              <a:off x="1969920" y="846000"/>
              <a:ext cx="180000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ttangolo arrotondato 3"/>
            <p:cNvSpPr/>
            <p:nvPr/>
          </p:nvSpPr>
          <p:spPr>
            <a:xfrm>
              <a:off x="1969920" y="175716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ttangolo arrotondato 4"/>
            <p:cNvSpPr/>
            <p:nvPr/>
          </p:nvSpPr>
          <p:spPr>
            <a:xfrm>
              <a:off x="1969920" y="2525760"/>
              <a:ext cx="136836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ttangolo arrotondato 5"/>
            <p:cNvSpPr/>
            <p:nvPr/>
          </p:nvSpPr>
          <p:spPr>
            <a:xfrm>
              <a:off x="3892680" y="2646360"/>
              <a:ext cx="203832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ttangolo arrotondato 6"/>
            <p:cNvSpPr/>
            <p:nvPr/>
          </p:nvSpPr>
          <p:spPr>
            <a:xfrm>
              <a:off x="1898640" y="2068560"/>
              <a:ext cx="180000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ttangolo arrotondato 7"/>
            <p:cNvSpPr/>
            <p:nvPr/>
          </p:nvSpPr>
          <p:spPr>
            <a:xfrm>
              <a:off x="3267000" y="317520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uppo 12"/>
          <p:cNvGrpSpPr/>
          <p:nvPr/>
        </p:nvGrpSpPr>
        <p:grpSpPr>
          <a:xfrm>
            <a:off x="-9360" y="684360"/>
            <a:ext cx="6244920" cy="3209760"/>
            <a:chOff x="-9360" y="684360"/>
            <a:chExt cx="6244920" cy="3209760"/>
          </a:xfrm>
        </p:grpSpPr>
        <p:grpSp>
          <p:nvGrpSpPr>
            <p:cNvPr id="52" name="Gruppo 1"/>
            <p:cNvGrpSpPr/>
            <p:nvPr/>
          </p:nvGrpSpPr>
          <p:grpSpPr>
            <a:xfrm>
              <a:off x="-9360" y="684360"/>
              <a:ext cx="6244920" cy="3209760"/>
              <a:chOff x="-9360" y="684360"/>
              <a:chExt cx="6244920" cy="3209760"/>
            </a:xfrm>
          </p:grpSpPr>
          <p:pic>
            <p:nvPicPr>
              <p:cNvPr id="53" name="Immagine 1" descr=""/>
              <p:cNvPicPr/>
              <p:nvPr/>
            </p:nvPicPr>
            <p:blipFill>
              <a:blip r:embed="rId1"/>
              <a:srcRect l="0" t="0" r="0" b="19890"/>
              <a:stretch/>
            </p:blipFill>
            <p:spPr>
              <a:xfrm>
                <a:off x="-9360" y="684360"/>
                <a:ext cx="6244920" cy="26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ttangolo arrotondato 8"/>
              <p:cNvSpPr/>
              <p:nvPr/>
            </p:nvSpPr>
            <p:spPr>
              <a:xfrm>
                <a:off x="3257640" y="3246480"/>
                <a:ext cx="18000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CasellaDiTesto 9"/>
            <p:cNvSpPr/>
            <p:nvPr/>
          </p:nvSpPr>
          <p:spPr>
            <a:xfrm>
              <a:off x="1054800" y="1304640"/>
              <a:ext cx="24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CasellaDiTesto 10"/>
            <p:cNvSpPr/>
            <p:nvPr/>
          </p:nvSpPr>
          <p:spPr>
            <a:xfrm>
              <a:off x="1284840" y="1908720"/>
              <a:ext cx="250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CasellaDiTesto 11"/>
            <p:cNvSpPr/>
            <p:nvPr/>
          </p:nvSpPr>
          <p:spPr>
            <a:xfrm>
              <a:off x="1054800" y="2526840"/>
              <a:ext cx="24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gnaposto contenuto 3" descr=""/>
          <p:cNvPicPr/>
          <p:nvPr/>
        </p:nvPicPr>
        <p:blipFill>
          <a:blip r:embed="rId1"/>
          <a:stretch/>
        </p:blipFill>
        <p:spPr>
          <a:xfrm>
            <a:off x="182520" y="1332000"/>
            <a:ext cx="55944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7:05:25Z</dcterms:created>
  <dc:creator>lucia gardossi</dc:creator>
  <dc:description/>
  <dc:language>en-US</dc:language>
  <cp:lastModifiedBy>dscfnbgardossi</cp:lastModifiedBy>
  <dcterms:modified xsi:type="dcterms:W3CDTF">2021-11-21T21:10:20Z</dcterms:modified>
  <cp:revision>135</cp:revision>
  <dc:subject/>
  <dc:title>Composto carbonilico</dc:title>
</cp:coreProperties>
</file>