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8.png" ContentType="image/png"/>
  <Override PartName="/ppt/media/image1.wmf" ContentType="image/x-wmf"/>
  <Override PartName="/ppt/media/image26.png" ContentType="image/png"/>
  <Override PartName="/ppt/media/image25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0.png" ContentType="image/png"/>
  <Override PartName="/ppt/media/image18.wmf" ContentType="image/x-wmf"/>
  <Override PartName="/ppt/media/image36.jpeg" ContentType="image/jpeg"/>
  <Override PartName="/ppt/media/image19.wmf" ContentType="image/x-wmf"/>
  <Override PartName="/ppt/media/image17.png" ContentType="image/png"/>
  <Override PartName="/ppt/media/image32.jpeg" ContentType="image/jpeg"/>
  <Override PartName="/ppt/media/image16.jpeg" ContentType="image/jpeg"/>
  <Override PartName="/ppt/media/image5.wmf" ContentType="image/x-wmf"/>
  <Override PartName="/ppt/media/image24.jpeg" ContentType="image/jpeg"/>
  <Override PartName="/ppt/media/image30.png" ContentType="image/png"/>
  <Override PartName="/ppt/media/image37.jpeg" ContentType="image/jpeg"/>
  <Override PartName="/ppt/media/image8.wmf" ContentType="image/x-wmf"/>
  <Override PartName="/ppt/media/image13.png" ContentType="image/png"/>
  <Override PartName="/ppt/media/image31.png" ContentType="image/png"/>
  <Override PartName="/ppt/media/image34.jpeg" ContentType="image/jpeg"/>
  <Override PartName="/ppt/media/image38.png" ContentType="image/png"/>
  <Override PartName="/ppt/media/image41.jpeg" ContentType="image/jpeg"/>
  <Override PartName="/ppt/media/image42.jpeg" ContentType="image/jpeg"/>
  <Override PartName="/ppt/media/image14.png" ContentType="image/png"/>
  <Override PartName="/ppt/media/image43.jpeg" ContentType="image/jpeg"/>
  <Override PartName="/ppt/media/image44.wmf" ContentType="image/x-wmf"/>
  <Override PartName="/ppt/media/image33.png" ContentType="image/png"/>
  <Override PartName="/ppt/media/image45.png" ContentType="image/png"/>
  <Override PartName="/ppt/media/image40.jpeg" ContentType="image/jpeg"/>
  <Override PartName="/ppt/media/image46.png" ContentType="image/png"/>
  <Override PartName="/ppt/media/image6.wmf" ContentType="image/x-wmf"/>
  <Override PartName="/ppt/media/image48.png" ContentType="image/png"/>
  <Override PartName="/ppt/media/image11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B4A5-6074-4F22-A706-7853C438E5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1470-E51F-4BEA-A87D-38FE89D3010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81520" y="6480"/>
            <a:ext cx="2976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881520" y="8705880"/>
            <a:ext cx="2976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i="1" lang="de-DE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648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5FC1-3C4D-4011-8B3D-FFF9204CF79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11B4-66BF-4C1B-ABB5-BC752842AD3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3BA0-B8F6-4EBF-8702-1202C63420C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3F34-25A3-4951-921F-EFB69BFFD24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E4A5-36BE-4037-8425-289F9783312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CB39-C54A-495D-AF34-7F19DFA2AE0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FC4C-60E8-451B-854D-FAE2CB04E5A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7E89-A598-4039-9762-2DCDAE7C752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C108-B53A-4D0B-AE32-9A2BF7288C9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0A5D-C767-4670-8267-5AC10357248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F785-E890-4179-B2F7-916E721AEF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93EA-251B-40E5-89E4-65309A45F3B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 C2000 DSP product portfolio offers many derivatives from low end, low pin count, lost cost ROM versions all the way up to the new F2812 and F2810 32-bit flash devi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5BEA-D98B-438B-AD0B-7EC72FC79B3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772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871236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02680" y="4016880"/>
            <a:ext cx="871236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400" y="140976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2680" y="401688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7400" y="401688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280512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8560" y="1409760"/>
            <a:ext cx="280512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080" y="1409760"/>
            <a:ext cx="280512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02680" y="4016880"/>
            <a:ext cx="280512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8560" y="4016880"/>
            <a:ext cx="280512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4080" y="4016880"/>
            <a:ext cx="280512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02680" y="140976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425160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400" y="1409760"/>
            <a:ext cx="425160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71236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1409760"/>
            <a:ext cx="425160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2680" y="401688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425160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140976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7400" y="401688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409760"/>
            <a:ext cx="425160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2680" y="4016880"/>
            <a:ext cx="8712360" cy="238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2680" y="140976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42960" indent="-1713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00160" indent="-1713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00160" indent="-1713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00160" indent="-171360"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3" name="Line 10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31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25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26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27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29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Freeform 30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Line 33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35"/>
          <p:cNvSpPr/>
          <p:nvPr/>
        </p:nvSpPr>
        <p:spPr>
          <a:xfrm>
            <a:off x="8241120" y="658332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- </a:t>
            </a:r>
            <a:fld id="{D378DC4A-E84E-465D-B343-33F1BA1E64E6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sps05.itg.ti.com/sites/aec-lexus/Communications/Presentations/Temporary%20Internet%20Files/OLKC8/ASP%20Product.ppt" TargetMode="External"/><Relationship Id="rId2" Type="http://schemas.openxmlformats.org/officeDocument/2006/relationships/hyperlink" Target="https://sps05.itg.ti.com/sites/aec-lexus/Communications/Presentations/Temporary%20Internet%20Files/OLKC8/MCU_Product.ppt" TargetMode="External"/><Relationship Id="rId3" Type="http://schemas.openxmlformats.org/officeDocument/2006/relationships/slide" Target="slide5.xml"/><Relationship Id="rId4" Type="http://schemas.openxmlformats.org/officeDocument/2006/relationships/hyperlink" Target="https://sps05.itg.ti.com/sites/aec-lexus/Communications/Presentations/Temporary%20Internet%20Files/OLKC8/MCU_Product.ppt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s://sps05.itg.ti.com/sites/aec-lexus/Communications/Presentations/Temporary%20Internet%20Files/OLKC8/MCU_Product.ppt" TargetMode="External"/><Relationship Id="rId7" Type="http://schemas.openxmlformats.org/officeDocument/2006/relationships/image" Target="../media/image10.png"/><Relationship Id="rId8" Type="http://schemas.openxmlformats.org/officeDocument/2006/relationships/slide" Target="slide5.xml"/><Relationship Id="rId9" Type="http://schemas.openxmlformats.org/officeDocument/2006/relationships/hyperlink" Target="https://sps05.itg.ti.com/sites/aec-lexus/Communications/Presentations/Temporary%20Internet%20Files/OLKC8/MCU_Product.ppt" TargetMode="External"/><Relationship Id="rId10" Type="http://schemas.openxmlformats.org/officeDocument/2006/relationships/slide" Target="slide14.xml"/><Relationship Id="rId11" Type="http://schemas.openxmlformats.org/officeDocument/2006/relationships/hyperlink" Target="https://sps05.itg.ti.com/sites/aec-lexus/Communications/Presentations/Temporary%20Internet%20Files/OLKC8/MCU_Product.ppt" TargetMode="External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hyperlink" Target="https://sps05.itg.ti.com/sites/aec-lexus/Communications/Presentations/Temporary%20Internet%20Files/OLKC8/MCU_Product.ppt" TargetMode="Externa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hyperlink" Target="https://sps05.itg.ti.com/sites/aec-lexus/Communications/Presentations/Temporary%20Internet%20Files/OLKC8/ASP%20Product.ppt" TargetMode="External"/><Relationship Id="rId18" Type="http://schemas.openxmlformats.org/officeDocument/2006/relationships/hyperlink" Target="https://sps05.itg.ti.com/sites/aec-lexus/Communications/Presentations/Temporary%20Internet%20Files/OLKC8/ASP%20Product.ppt" TargetMode="External"/><Relationship Id="rId19" Type="http://schemas.openxmlformats.org/officeDocument/2006/relationships/image" Target="../media/image13.png"/><Relationship Id="rId20" Type="http://schemas.openxmlformats.org/officeDocument/2006/relationships/hyperlink" Target="https://sps05.itg.ti.com/sites/aec-lexus/Communications/Presentations/Temporary%20Internet%20Files/OLKC8/ASP%20Product.ppt" TargetMode="External"/><Relationship Id="rId21" Type="http://schemas.openxmlformats.org/officeDocument/2006/relationships/hyperlink" Target="https://sps05.itg.ti.com/sites/aec-lexus/Communications/Presentations/Temporary%20Internet%20Files/OLKC8/ASP%20Product.ppt" TargetMode="External"/><Relationship Id="rId22" Type="http://schemas.openxmlformats.org/officeDocument/2006/relationships/hyperlink" Target="https://sps05.itg.ti.com/sites/aec-lexus/Communications/Presentations/Temporary%20Internet%20Files/OLKC8/ASP%20Product.ppt" TargetMode="External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jpeg"/><Relationship Id="rId26" Type="http://schemas.openxmlformats.org/officeDocument/2006/relationships/image" Target="../media/image17.png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png"/><Relationship Id="rId15" Type="http://schemas.openxmlformats.org/officeDocument/2006/relationships/image" Target="../media/image34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jpeg"/><Relationship Id="rId22" Type="http://schemas.openxmlformats.org/officeDocument/2006/relationships/image" Target="../media/image41.jpeg"/><Relationship Id="rId23" Type="http://schemas.openxmlformats.org/officeDocument/2006/relationships/image" Target="../media/image42.jpeg"/><Relationship Id="rId24" Type="http://schemas.openxmlformats.org/officeDocument/2006/relationships/image" Target="../media/image43.jpeg"/><Relationship Id="rId2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Oval 3"/>
          <p:cNvSpPr/>
          <p:nvPr/>
        </p:nvSpPr>
        <p:spPr>
          <a:xfrm>
            <a:off x="685800" y="1447920"/>
            <a:ext cx="7773840" cy="4302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914400" y="350532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523880" y="3049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Arial"/>
                <a:ea typeface="Arial"/>
              </a:rPr>
              <a:t>Module 1: Int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19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0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21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icrocomputer - peripherals</a:t>
            </a:r>
            <a:r>
              <a:rPr b="1" lang="en-GB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712000" cy="539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eripherals include: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igital Input / Output Lin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nalogue to Digital Converter (ADC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igital to Analogue Converter (DAC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imer / Counter unit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ulse Width Modulation (PWM) Digital Output Lin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igital Capture Input Lin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Network Interface Units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erial Communication Interface (SCI)  - UAR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erial Peripheral Interface (SPI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ter Integrated Circuit ( I</a:t>
            </a:r>
            <a:r>
              <a:rPr b="1" lang="en-GB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) – Bus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ontroller Area Network (CAN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Local Interconnect Network (LIN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Universal Serial Bus (USB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Local / Wide Area Networks (LAN, WAN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Graphical Output Devic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nd more …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afd00"/>
                </a:solidFill>
                <a:latin typeface="Arial"/>
              </a:rPr>
              <a:t>3. System on Chip</a:t>
            </a:r>
            <a:r>
              <a:rPr b="1" lang="en-GB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Microcontroller (µC, MCU)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Nothing more than a Microcomputer as a single silicon chip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All computing power and input/output channels that are required to design a real time control system are “on chip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Guarantee cost efficient and powerful solutions for embedded control applicati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Backbone for almost every type of modern produc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Over 200 independent families of µC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Both µP – Architectures (“Von Neumann” and “Harvard”) are used inside Microcontroller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afd00"/>
                </a:solidFill>
                <a:latin typeface="Arial"/>
              </a:rPr>
              <a:t>3. </a:t>
            </a:r>
            <a:r>
              <a:rPr b="1" lang="en-GB" sz="3000" spc="-1" strike="noStrike">
                <a:solidFill>
                  <a:srgbClr val="fafd00"/>
                </a:solidFill>
                <a:latin typeface="Arial"/>
              </a:rPr>
              <a:t>Example: Microcontroller</a:t>
            </a:r>
            <a:r>
              <a:rPr b="1" lang="en-GB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fafd00"/>
                </a:solidFill>
                <a:latin typeface="Arial"/>
              </a:rPr>
              <a:t>MSP430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188040" cy="44798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1258920" y="553392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as Instruments MSP43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on-Neumann architecture — all program, data memory and peripherals share a common bus structu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4. Digital Signal Processor</a:t>
            </a:r>
            <a:r>
              <a:rPr b="1" lang="en-GB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2680" y="140976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 Digital Signal Processor (DSP) i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Similar to a micro processor (µP), e.g. core of a computing syste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dditional Hardware Units to speed up computing of sophisticated mathematical operation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dditional Hardware Multiply Unit(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dditional Pointer Arithmetic Unit(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dditional Bus Systems for parallel acc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Additional Hardware Shifter for scaling and/or multiply/divide by 2</a:t>
            </a:r>
            <a:r>
              <a:rPr b="1" lang="en-GB" sz="2400" spc="-1" strike="noStrike" baseline="30000">
                <a:solidFill>
                  <a:srgbClr val="ffffff"/>
                </a:solidFill>
                <a:latin typeface="Verdana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at are typical DSP algorithms?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324000" y="1697040"/>
            <a:ext cx="8534160" cy="4727520"/>
            <a:chOff x="324000" y="1697040"/>
            <a:chExt cx="8534160" cy="4727520"/>
          </a:xfrm>
        </p:grpSpPr>
        <p:sp>
          <p:nvSpPr>
            <p:cNvPr id="195" name="Rectangle 4"/>
            <p:cNvSpPr/>
            <p:nvPr/>
          </p:nvSpPr>
          <p:spPr>
            <a:xfrm>
              <a:off x="324000" y="1776240"/>
              <a:ext cx="8534160" cy="4648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6" name="Object 5"/>
            <p:cNvGraphicFramePr/>
            <p:nvPr/>
          </p:nvGraphicFramePr>
          <p:xfrm>
            <a:off x="409680" y="1697040"/>
            <a:ext cx="8385120" cy="4727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9680" y="1697040"/>
                      <a:ext cx="8385120" cy="472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6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 equation, called “Sum of Products” (SOP) is the key element in most DSP algorithms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1295280" y="3505320"/>
            <a:ext cx="4724640" cy="312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oing a SOP with a µP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 : use a Desktop - PC and code the equation into any common C-compiler system, e.g. Microsoft Visual Studio 2008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C-Code Solution would probably look lik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#include &lt;stdio.h&gt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int data[4]={1,2,3,4}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int coeff[4]={8,6,4,2}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int main(void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{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int i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int result =0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for (i=0;i&lt;4;i++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result += data[i]*coeff[i]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printf("%i",result)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return 0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Unicode MS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7"/>
              <p:cNvSpPr txBox="1"/>
              <p:nvPr/>
            </p:nvSpPr>
            <p:spPr>
              <a:xfrm>
                <a:off x="3352680" y="1066680"/>
                <a:ext cx="2819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6 Basic Operations of a SOP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will a Pentium be forced to do?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Set a Pointer1 to point to data[0]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Set a second Pointer2 to point to coeff[0]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Read data[i] into cor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Read coeff[i] into cor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Multiply data[i]*coeff[i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Add the latest product to the previous on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Modify Pointer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Modify Pointer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Increment i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ffffff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If i&lt;4 , then go back to step 3 and continue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576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teps 3 to 8 are called “6 Basic Operations of a DSP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 DSP is able to execute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all 6 steps in one single machine cycle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3352680" y="1066680"/>
                <a:ext cx="2819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OP machine code of a µP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6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Address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M-Code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Assembly - Instruction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10: 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for (i=0;i&lt;4;i++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60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C7 45 FC 00 00 00 00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dword ptr [i],0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67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EB 09   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jmp       main+22h (411972h)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69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B 45 FC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 eax,dword ptr [i]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6C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3 C0 01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add       eax,1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6F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9 45 FC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 dword ptr [i],eax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72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3 7D FC 04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cmp      dword ptr [i],4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76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7D 1F   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jge        main+47h (411997h)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11: 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Arial Unicode MS"/>
              </a:rPr>
              <a:t>result += data[i]*coeff[i]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78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B 45 FC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eax,dword ptr [i]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7B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B 4D FC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ecx,dword ptr [i]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7E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B 14 85 40 5B 42 00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edx,dword ptr[eax*4+425B40h]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85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F AF 14 8D 50 5B 42 00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imul  edx,dword ptr[ecx*4+425B50h]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8D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B 45 F8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eax,dword ptr [result]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90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3 C2   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add      eax,edx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92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89 45 F8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v     dword ptr [result],eax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00411995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EB D2        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jmp      main+19h (411969h)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Note: The C-Compiler was used in basic setup mode using optimization level zero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80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 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295280" y="3505320"/>
            <a:ext cx="4724640" cy="312408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oing a SOP with a DSP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-552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w: use a DSP-Development System and code the equation into a DSP C-compiler system, e.g. Texas Instruments Code Composer Studi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-Code Solution is identical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int data[4]={1,2,3,4}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int coeff[4]={8,6,4,2}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int main(void)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{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int i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int result =0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for (i=0;i&lt;4;i++)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result += data[i]*coeff[i]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printf("%i",result)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return 0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7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Unicode MS"/>
              </a:rPr>
              <a:t>}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3352680" y="1066680"/>
                <a:ext cx="28195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SP-Translation into machine code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3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Address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M-Code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Assembly Instruc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0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F69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PM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1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8D04 0000R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OVL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XAR1,#dat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3              76C0 0000R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OVL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XAR7,#coef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5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5633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ZAP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6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601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RP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#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7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564B 8781      ||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DMAC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CC:P,*XAR1++,*XAR7++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9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0AC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DDL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CC,P&lt;&lt;P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A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8D04 0000R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OVL XAR1,#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0x800B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1E81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OVL *XAR1,AC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85320" y="5032440"/>
            <a:ext cx="65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xample:  Texas Instruments TMS320F283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pace :  12 Code Memory ; 9 Data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xecution Cycles : 10 @ 150MHz = 66 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1. what is a microprocessor?</a:t>
            </a:r>
            <a:r>
              <a:rPr b="1" lang="en-GB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microprocessor (µP, mp)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entral Device of a multi chip Micro Computer System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wo basic architectures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on Neumann”- Architectur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rvard” – Architectur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on Neumann” - Architecture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ared memory space between code and dat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hared memory busses between code and dat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xample:  Intel‘s x86  Pentium Processor famil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rvard” – Architecture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wo independent memory spaces for code and dat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wo memory bus systems for code and dat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 µP needs additional external devic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 operat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properly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afd00"/>
                </a:solidFill>
                <a:latin typeface="Arial"/>
              </a:rPr>
              <a:t>5. Digital Signal Controller (DSC)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7123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Digital Signal Controller (DSC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recall: a Microcontroller(MCU) is a single chip Microcomputer with a Microprocessor(µP) as core unit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Now: a Digital Signal Controller(DSC) is a single chip Microcomputer with a Digital Signal Processor(DSP) as core unit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By combining the computing power of a DSP with memory and peripherals in one single device we derive the most effective solution for embedded real time control solutions that require lots of math operation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DSC –Example: Texas Instruments C2000 DSC - family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SP Market Share in 2006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218" name="Object 23"/>
          <p:cNvGraphicFramePr/>
          <p:nvPr/>
        </p:nvGraphicFramePr>
        <p:xfrm>
          <a:off x="1042920" y="1052640"/>
          <a:ext cx="690408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052640"/>
                    <a:ext cx="690408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25"/>
          <p:cNvSpPr/>
          <p:nvPr/>
        </p:nvSpPr>
        <p:spPr>
          <a:xfrm>
            <a:off x="4335480" y="373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7"/>
          <p:cNvSpPr/>
          <p:nvPr/>
        </p:nvSpPr>
        <p:spPr>
          <a:xfrm>
            <a:off x="45514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49"/>
          <p:cNvSpPr/>
          <p:nvPr/>
        </p:nvSpPr>
        <p:spPr>
          <a:xfrm>
            <a:off x="1541520" y="5516640"/>
            <a:ext cx="37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Revenue: 7635 Million US-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84"/>
          <p:cNvSpPr/>
          <p:nvPr/>
        </p:nvSpPr>
        <p:spPr>
          <a:xfrm>
            <a:off x="1226880" y="6093000"/>
            <a:ext cx="28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rce: 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www.forwardconcept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SP Market Areas in 2006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335480" y="373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5514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7" name="Object 10"/>
          <p:cNvGraphicFramePr/>
          <p:nvPr/>
        </p:nvGraphicFramePr>
        <p:xfrm>
          <a:off x="1116000" y="1197000"/>
          <a:ext cx="6791400" cy="49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679140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3"/>
          <p:cNvSpPr/>
          <p:nvPr/>
        </p:nvSpPr>
        <p:spPr>
          <a:xfrm>
            <a:off x="1371240" y="6093000"/>
            <a:ext cx="28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rce: www.forwardconcept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811120" y="45291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Verdana"/>
              </a:rPr>
              <a:t>Texas Instruments Portfolio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AutoShape 110"/>
          <p:cNvSpPr/>
          <p:nvPr/>
        </p:nvSpPr>
        <p:spPr>
          <a:xfrm>
            <a:off x="5000760" y="2781360"/>
            <a:ext cx="547560" cy="547560"/>
          </a:xfrm>
          <a:prstGeom prst="rightArrow">
            <a:avLst>
              <a:gd name="adj1" fmla="val 49944"/>
              <a:gd name="adj2" fmla="val 42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4"/>
          <p:cNvSpPr/>
          <p:nvPr/>
        </p:nvSpPr>
        <p:spPr>
          <a:xfrm>
            <a:off x="468360" y="1401840"/>
            <a:ext cx="8153280" cy="46656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f6666"/>
              </a:gs>
            </a:gsLst>
            <a:lin ang="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72">
            <a:hlinkClick r:id="rId1"/>
          </p:cNvPr>
          <p:cNvSpPr/>
          <p:nvPr/>
        </p:nvSpPr>
        <p:spPr>
          <a:xfrm>
            <a:off x="6907320" y="1430280"/>
            <a:ext cx="1253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S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30">
            <a:hlinkClick r:id="rId2"/>
          </p:cNvPr>
          <p:cNvSpPr/>
          <p:nvPr/>
        </p:nvSpPr>
        <p:spPr>
          <a:xfrm>
            <a:off x="554040" y="1430280"/>
            <a:ext cx="2624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icrocontroll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57280" y="2292480"/>
            <a:ext cx="1216080" cy="4014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1f1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1">
            <a:hlinkClick r:id="rId3" action="ppaction://hlinksldjump"/>
          </p:cNvPr>
          <p:cNvSpPr/>
          <p:nvPr/>
        </p:nvSpPr>
        <p:spPr>
          <a:xfrm>
            <a:off x="571680" y="2878200"/>
            <a:ext cx="121896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ltra-Low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ow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p to 25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lash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1KB to 256KB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Analog I/O, ADC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CD, USB, R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easurement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ensing, Genera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urpos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$0.49 to $9.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39"/>
          <p:cNvSpPr/>
          <p:nvPr/>
        </p:nvSpPr>
        <p:spPr>
          <a:xfrm>
            <a:off x="627120" y="32338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82" descr="smokedetector cop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73160" y="5514840"/>
            <a:ext cx="615960" cy="55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1" descr="image00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1800" y="5452920"/>
            <a:ext cx="352440" cy="703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0">
            <a:hlinkClick r:id="rId8" action="ppaction://hlinksldjump"/>
          </p:cNvPr>
          <p:cNvSpPr/>
          <p:nvPr/>
        </p:nvSpPr>
        <p:spPr>
          <a:xfrm>
            <a:off x="557280" y="1944720"/>
            <a:ext cx="1216080" cy="4078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631800" y="1947960"/>
            <a:ext cx="1069920" cy="43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16-bi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MCU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1">
            <a:hlinkClick r:id="rId9"/>
          </p:cNvPr>
          <p:cNvSpPr/>
          <p:nvPr/>
        </p:nvSpPr>
        <p:spPr>
          <a:xfrm>
            <a:off x="576360" y="2428920"/>
            <a:ext cx="1143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MSP43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39"/>
          <p:cNvSpPr/>
          <p:nvPr/>
        </p:nvSpPr>
        <p:spPr>
          <a:xfrm>
            <a:off x="627120" y="361476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39"/>
          <p:cNvSpPr/>
          <p:nvPr/>
        </p:nvSpPr>
        <p:spPr>
          <a:xfrm>
            <a:off x="627120" y="40402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9"/>
          <p:cNvSpPr/>
          <p:nvPr/>
        </p:nvSpPr>
        <p:spPr>
          <a:xfrm>
            <a:off x="627120" y="447372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39"/>
          <p:cNvSpPr/>
          <p:nvPr/>
        </p:nvSpPr>
        <p:spPr>
          <a:xfrm>
            <a:off x="627120" y="524844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39"/>
          <p:cNvSpPr/>
          <p:nvPr/>
        </p:nvSpPr>
        <p:spPr>
          <a:xfrm>
            <a:off x="627120" y="28116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1908000" y="2292480"/>
            <a:ext cx="1216080" cy="4014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1f1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33">
            <a:hlinkClick r:id="rId10" action="ppaction://hlinksldjump"/>
          </p:cNvPr>
          <p:cNvSpPr/>
          <p:nvPr/>
        </p:nvSpPr>
        <p:spPr>
          <a:xfrm>
            <a:off x="1969920" y="2878200"/>
            <a:ext cx="114300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ixed &amp;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loating Poi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p to 150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lash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32KB to 512KB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WM, ADC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AN, SPI, I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otor Control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Digital Power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igh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$1.50 to $20.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89" descr="C2000 app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467080" y="5384880"/>
            <a:ext cx="485640" cy="842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1" descr="washingmachine_100dpi"/>
          <p:cNvPicPr/>
          <p:nvPr/>
        </p:nvPicPr>
        <p:blipFill>
          <a:blip r:embed="rId13"/>
          <a:stretch/>
        </p:blipFill>
        <p:spPr>
          <a:xfrm>
            <a:off x="1933560" y="5451480"/>
            <a:ext cx="4572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2"/>
          <p:cNvSpPr/>
          <p:nvPr/>
        </p:nvSpPr>
        <p:spPr>
          <a:xfrm>
            <a:off x="1908000" y="1944720"/>
            <a:ext cx="1216080" cy="4078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1746360" y="1947960"/>
            <a:ext cx="152712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32-bi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Real-ti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3">
            <a:hlinkClick r:id="rId14"/>
          </p:cNvPr>
          <p:cNvSpPr/>
          <p:nvPr/>
        </p:nvSpPr>
        <p:spPr>
          <a:xfrm>
            <a:off x="1954080" y="2428920"/>
            <a:ext cx="1143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C2000™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39"/>
          <p:cNvSpPr/>
          <p:nvPr/>
        </p:nvSpPr>
        <p:spPr>
          <a:xfrm>
            <a:off x="1976400" y="32338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1976400" y="361476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39"/>
          <p:cNvSpPr/>
          <p:nvPr/>
        </p:nvSpPr>
        <p:spPr>
          <a:xfrm>
            <a:off x="1976400" y="40402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39"/>
          <p:cNvSpPr/>
          <p:nvPr/>
        </p:nvSpPr>
        <p:spPr>
          <a:xfrm>
            <a:off x="1976400" y="447372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39"/>
          <p:cNvSpPr/>
          <p:nvPr/>
        </p:nvSpPr>
        <p:spPr>
          <a:xfrm>
            <a:off x="1976400" y="524844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39"/>
          <p:cNvSpPr/>
          <p:nvPr/>
        </p:nvSpPr>
        <p:spPr>
          <a:xfrm>
            <a:off x="1976400" y="28116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3255840" y="2292480"/>
            <a:ext cx="1216080" cy="4014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1f1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2">
            <a:hlinkClick r:id="rId15" action="ppaction://hlinksldjump"/>
          </p:cNvPr>
          <p:cNvSpPr/>
          <p:nvPr/>
        </p:nvSpPr>
        <p:spPr>
          <a:xfrm>
            <a:off x="3206880" y="2878200"/>
            <a:ext cx="131436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ndustry St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ow Pow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p to 100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lash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8KB to 256KB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SB, ENET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ADC, PWM, H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Host Control, general purpose, motor contr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$2.00 to $8.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2"/>
          <p:cNvSpPr/>
          <p:nvPr/>
        </p:nvSpPr>
        <p:spPr>
          <a:xfrm>
            <a:off x="3143160" y="2428920"/>
            <a:ext cx="131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Stellaris      Cortex™ M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39"/>
          <p:cNvSpPr/>
          <p:nvPr/>
        </p:nvSpPr>
        <p:spPr>
          <a:xfrm>
            <a:off x="3322800" y="32338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39"/>
          <p:cNvSpPr/>
          <p:nvPr/>
        </p:nvSpPr>
        <p:spPr>
          <a:xfrm>
            <a:off x="3322800" y="361476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3322800" y="40402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39"/>
          <p:cNvSpPr/>
          <p:nvPr/>
        </p:nvSpPr>
        <p:spPr>
          <a:xfrm>
            <a:off x="3322800" y="447372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39"/>
          <p:cNvSpPr/>
          <p:nvPr/>
        </p:nvSpPr>
        <p:spPr>
          <a:xfrm>
            <a:off x="3322800" y="524844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39"/>
          <p:cNvSpPr/>
          <p:nvPr/>
        </p:nvSpPr>
        <p:spPr>
          <a:xfrm>
            <a:off x="3322800" y="28116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40">
            <a:hlinkClick r:id="rId16" action="ppaction://hlinksldjump"/>
          </p:cNvPr>
          <p:cNvSpPr/>
          <p:nvPr/>
        </p:nvSpPr>
        <p:spPr>
          <a:xfrm>
            <a:off x="3255840" y="1944720"/>
            <a:ext cx="1216080" cy="4078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1"/>
          <p:cNvSpPr/>
          <p:nvPr/>
        </p:nvSpPr>
        <p:spPr>
          <a:xfrm>
            <a:off x="3322800" y="1947960"/>
            <a:ext cx="106992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32-bit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RM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4611600" y="2292480"/>
            <a:ext cx="1216080" cy="4014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7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64">
            <a:hlinkClick r:id="rId17"/>
          </p:cNvPr>
          <p:cNvSpPr/>
          <p:nvPr/>
        </p:nvSpPr>
        <p:spPr>
          <a:xfrm>
            <a:off x="4605480" y="2878200"/>
            <a:ext cx="1218960" cy="25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ndustry-Std Core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High-Perf GPP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Accelerators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M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SB, LC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MC, EMA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inux/WinC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ser Ap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$8.00 to $35.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71" descr="ARM 9">
            <a:hlinkClick r:id="rId18"/>
          </p:cNvPr>
          <p:cNvPicPr/>
          <p:nvPr/>
        </p:nvPicPr>
        <p:blipFill>
          <a:blip r:embed="rId19"/>
          <a:srcRect l="0" t="0" r="-17999" b="0"/>
          <a:stretch/>
        </p:blipFill>
        <p:spPr>
          <a:xfrm>
            <a:off x="4894200" y="5446800"/>
            <a:ext cx="689040" cy="8398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5"/>
          <p:cNvSpPr/>
          <p:nvPr/>
        </p:nvSpPr>
        <p:spPr>
          <a:xfrm>
            <a:off x="4611600" y="1944720"/>
            <a:ext cx="1216080" cy="4078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66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46"/>
          <p:cNvSpPr/>
          <p:nvPr/>
        </p:nvSpPr>
        <p:spPr>
          <a:xfrm>
            <a:off x="4680000" y="2035080"/>
            <a:ext cx="1069920" cy="2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RM+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64">
            <a:hlinkClick r:id="rId20"/>
          </p:cNvPr>
          <p:cNvSpPr/>
          <p:nvPr/>
        </p:nvSpPr>
        <p:spPr>
          <a:xfrm>
            <a:off x="4605480" y="2428920"/>
            <a:ext cx="1218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ARM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Cortex A-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Line 39"/>
          <p:cNvSpPr/>
          <p:nvPr/>
        </p:nvSpPr>
        <p:spPr>
          <a:xfrm>
            <a:off x="4675320" y="32338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9"/>
          <p:cNvSpPr/>
          <p:nvPr/>
        </p:nvSpPr>
        <p:spPr>
          <a:xfrm>
            <a:off x="4675320" y="361476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39"/>
          <p:cNvSpPr/>
          <p:nvPr/>
        </p:nvSpPr>
        <p:spPr>
          <a:xfrm>
            <a:off x="4675320" y="40402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Line 39"/>
          <p:cNvSpPr/>
          <p:nvPr/>
        </p:nvSpPr>
        <p:spPr>
          <a:xfrm>
            <a:off x="4675320" y="447372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39"/>
          <p:cNvSpPr/>
          <p:nvPr/>
        </p:nvSpPr>
        <p:spPr>
          <a:xfrm>
            <a:off x="4675320" y="524844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39"/>
          <p:cNvSpPr/>
          <p:nvPr/>
        </p:nvSpPr>
        <p:spPr>
          <a:xfrm>
            <a:off x="4675320" y="28116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54"/>
          <p:cNvSpPr/>
          <p:nvPr/>
        </p:nvSpPr>
        <p:spPr>
          <a:xfrm>
            <a:off x="5969160" y="2292480"/>
            <a:ext cx="1215720" cy="4014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7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82">
            <a:hlinkClick r:id="rId21"/>
          </p:cNvPr>
          <p:cNvSpPr/>
          <p:nvPr/>
        </p:nvSpPr>
        <p:spPr>
          <a:xfrm>
            <a:off x="5937120" y="2878200"/>
            <a:ext cx="129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ndustry-Std Core 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DSP for Signal Pro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4800 MMACs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1.07 DMIPS/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MU, 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VPSS, USB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MAC, MM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inux/Win 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Video, Imaging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ultimed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$12.00 to $65.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Picture 15" descr="Clipboard03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6138720" y="5511960"/>
            <a:ext cx="924120" cy="568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7"/>
          <p:cNvSpPr/>
          <p:nvPr/>
        </p:nvSpPr>
        <p:spPr>
          <a:xfrm>
            <a:off x="5969160" y="1944720"/>
            <a:ext cx="1215720" cy="4078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66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58"/>
          <p:cNvSpPr/>
          <p:nvPr/>
        </p:nvSpPr>
        <p:spPr>
          <a:xfrm>
            <a:off x="5919840" y="2035080"/>
            <a:ext cx="1289160" cy="2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RM + DS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82"/>
          <p:cNvSpPr/>
          <p:nvPr/>
        </p:nvSpPr>
        <p:spPr>
          <a:xfrm>
            <a:off x="5929200" y="2428920"/>
            <a:ext cx="1297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C64x+ pl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ARM9/Cortex A-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39"/>
          <p:cNvSpPr/>
          <p:nvPr/>
        </p:nvSpPr>
        <p:spPr>
          <a:xfrm>
            <a:off x="6029280" y="32338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6029280" y="361476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39"/>
          <p:cNvSpPr/>
          <p:nvPr/>
        </p:nvSpPr>
        <p:spPr>
          <a:xfrm>
            <a:off x="6029280" y="40402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6029280" y="447372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39"/>
          <p:cNvSpPr/>
          <p:nvPr/>
        </p:nvSpPr>
        <p:spPr>
          <a:xfrm>
            <a:off x="6029280" y="524844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39"/>
          <p:cNvSpPr/>
          <p:nvPr/>
        </p:nvSpPr>
        <p:spPr>
          <a:xfrm>
            <a:off x="6029280" y="28116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66"/>
          <p:cNvSpPr/>
          <p:nvPr/>
        </p:nvSpPr>
        <p:spPr>
          <a:xfrm>
            <a:off x="7334280" y="2292480"/>
            <a:ext cx="1216080" cy="4014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7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9"/>
          <p:cNvSpPr/>
          <p:nvPr/>
        </p:nvSpPr>
        <p:spPr>
          <a:xfrm>
            <a:off x="7380360" y="2878200"/>
            <a:ext cx="11142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eadership DSP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erform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24,000 MMA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Up to 3MB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L2 Cach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1G EMAC, SRIO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DDR2, PCI-6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omm, WiMAX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ndustrial/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edical Ima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$4.00 to $99.00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56" descr="C64x rack sm no logo"/>
          <p:cNvPicPr/>
          <p:nvPr/>
        </p:nvPicPr>
        <p:blipFill>
          <a:blip r:embed="rId24"/>
          <a:stretch/>
        </p:blipFill>
        <p:spPr>
          <a:xfrm>
            <a:off x="7667640" y="5437080"/>
            <a:ext cx="587520" cy="7495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9"/>
          <p:cNvSpPr/>
          <p:nvPr/>
        </p:nvSpPr>
        <p:spPr>
          <a:xfrm>
            <a:off x="7334280" y="1944720"/>
            <a:ext cx="1216080" cy="4078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66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0"/>
          <p:cNvSpPr/>
          <p:nvPr/>
        </p:nvSpPr>
        <p:spPr>
          <a:xfrm>
            <a:off x="7412040" y="2035080"/>
            <a:ext cx="1069920" cy="2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DS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7388280" y="2428920"/>
            <a:ext cx="1114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C647x, C64x+,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C55x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39"/>
          <p:cNvSpPr/>
          <p:nvPr/>
        </p:nvSpPr>
        <p:spPr>
          <a:xfrm>
            <a:off x="7392960" y="32338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39"/>
          <p:cNvSpPr/>
          <p:nvPr/>
        </p:nvSpPr>
        <p:spPr>
          <a:xfrm>
            <a:off x="7392960" y="361476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39"/>
          <p:cNvSpPr/>
          <p:nvPr/>
        </p:nvSpPr>
        <p:spPr>
          <a:xfrm>
            <a:off x="7392960" y="404028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39"/>
          <p:cNvSpPr/>
          <p:nvPr/>
        </p:nvSpPr>
        <p:spPr>
          <a:xfrm>
            <a:off x="7392960" y="447372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39"/>
          <p:cNvSpPr/>
          <p:nvPr/>
        </p:nvSpPr>
        <p:spPr>
          <a:xfrm>
            <a:off x="7392960" y="524844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39"/>
          <p:cNvSpPr/>
          <p:nvPr/>
        </p:nvSpPr>
        <p:spPr>
          <a:xfrm>
            <a:off x="7392960" y="28116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0"/>
          <p:cNvSpPr/>
          <p:nvPr/>
        </p:nvSpPr>
        <p:spPr>
          <a:xfrm>
            <a:off x="3957480" y="1430280"/>
            <a:ext cx="2624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rm-Ba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90" descr=""/>
          <p:cNvPicPr/>
          <p:nvPr/>
        </p:nvPicPr>
        <p:blipFill>
          <a:blip r:embed="rId25"/>
          <a:stretch/>
        </p:blipFill>
        <p:spPr>
          <a:xfrm>
            <a:off x="3316320" y="5556240"/>
            <a:ext cx="592200" cy="588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1" descr=""/>
          <p:cNvPicPr/>
          <p:nvPr/>
        </p:nvPicPr>
        <p:blipFill>
          <a:blip r:embed="rId26"/>
          <a:stretch/>
        </p:blipFill>
        <p:spPr>
          <a:xfrm>
            <a:off x="3944880" y="5505480"/>
            <a:ext cx="469800" cy="6922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95"/>
          <p:cNvSpPr/>
          <p:nvPr/>
        </p:nvSpPr>
        <p:spPr>
          <a:xfrm>
            <a:off x="542880" y="1949400"/>
            <a:ext cx="22575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Verdana"/>
              </a:rPr>
              <a:t>Texas Instruments TMS320 DSP/DSC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4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5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dicated families and sub-families to support different market nee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150120" y="1828800"/>
            <a:ext cx="8765280" cy="4755960"/>
            <a:chOff x="150120" y="1828800"/>
            <a:chExt cx="8765280" cy="4755960"/>
          </a:xfrm>
        </p:grpSpPr>
        <p:grpSp>
          <p:nvGrpSpPr>
            <p:cNvPr id="316" name="Group 5"/>
            <p:cNvGrpSpPr/>
            <p:nvPr/>
          </p:nvGrpSpPr>
          <p:grpSpPr>
            <a:xfrm>
              <a:off x="150120" y="1828800"/>
              <a:ext cx="7927200" cy="4254840"/>
              <a:chOff x="150120" y="1828800"/>
              <a:chExt cx="7927200" cy="4254840"/>
            </a:xfrm>
          </p:grpSpPr>
          <p:grpSp>
            <p:nvGrpSpPr>
              <p:cNvPr id="317" name="Group 6"/>
              <p:cNvGrpSpPr/>
              <p:nvPr/>
            </p:nvGrpSpPr>
            <p:grpSpPr>
              <a:xfrm>
                <a:off x="150120" y="1828800"/>
                <a:ext cx="2763720" cy="3308400"/>
                <a:chOff x="150120" y="1828800"/>
                <a:chExt cx="2763720" cy="3308400"/>
              </a:xfrm>
            </p:grpSpPr>
            <p:grpSp>
              <p:nvGrpSpPr>
                <p:cNvPr id="318" name="Group 7"/>
                <p:cNvGrpSpPr/>
                <p:nvPr/>
              </p:nvGrpSpPr>
              <p:grpSpPr>
                <a:xfrm>
                  <a:off x="150120" y="1828800"/>
                  <a:ext cx="2763720" cy="3308400"/>
                  <a:chOff x="150120" y="1828800"/>
                  <a:chExt cx="2763720" cy="3308400"/>
                </a:xfrm>
              </p:grpSpPr>
              <p:sp>
                <p:nvSpPr>
                  <p:cNvPr id="319" name="Oval 8"/>
                  <p:cNvSpPr/>
                  <p:nvPr/>
                </p:nvSpPr>
                <p:spPr>
                  <a:xfrm>
                    <a:off x="701640" y="1828800"/>
                    <a:ext cx="1600200" cy="990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Rectangle 9"/>
                  <p:cNvSpPr/>
                  <p:nvPr/>
                </p:nvSpPr>
                <p:spPr>
                  <a:xfrm>
                    <a:off x="150120" y="2971800"/>
                    <a:ext cx="2763720" cy="2165400"/>
                  </a:xfrm>
                  <a:prstGeom prst="rect">
                    <a:avLst/>
                  </a:prstGeom>
                  <a:solidFill>
                    <a:srgbClr val="00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 anchorCtr="1">
                    <a:spAutoFit/>
                  </a:bodyPr>
                  <a:p>
                    <a:pPr marL="233280" indent="-233280">
                      <a:lnSpc>
                        <a:spcPct val="100000"/>
                      </a:lnSpc>
                      <a:tabLst>
                        <a:tab algn="l" pos="0"/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 u="sng">
                        <a:solidFill>
                          <a:srgbClr val="ffff00"/>
                        </a:solidFill>
                        <a:uFillTx/>
                        <a:latin typeface="Arial"/>
                      </a:rPr>
                      <a:t>Lowest Cost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33280" indent="-233280">
                      <a:lnSpc>
                        <a:spcPct val="100000"/>
                      </a:lnSpc>
                      <a:tabLst>
                        <a:tab algn="l" pos="0"/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33280" indent="-233280">
                      <a:lnSpc>
                        <a:spcPct val="100000"/>
                      </a:lnSpc>
                      <a:tabLst>
                        <a:tab algn="l" pos="0"/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00"/>
                        </a:solidFill>
                        <a:latin typeface="Arial"/>
                      </a:rPr>
                      <a:t>Control System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33280" indent="-233280">
                      <a:lnSpc>
                        <a:spcPct val="100000"/>
                      </a:lnSpc>
                      <a:buClr>
                        <a:srgbClr val="ffff00"/>
                      </a:buClr>
                      <a:buSzPct val="75000"/>
                      <a:buFont typeface="Wingdings" charset="2"/>
                      <a:buChar char=""/>
                      <a:tabLst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 Narrow"/>
                      </a:rPr>
                      <a:t>Motor Control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33280" indent="-233280">
                      <a:lnSpc>
                        <a:spcPct val="100000"/>
                      </a:lnSpc>
                      <a:buClr>
                        <a:srgbClr val="ffff00"/>
                      </a:buClr>
                      <a:buSzPct val="75000"/>
                      <a:buFont typeface="Wingdings" charset="2"/>
                      <a:buChar char=""/>
                      <a:tabLst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 Narrow"/>
                      </a:rPr>
                      <a:t>Storage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33280" indent="-233280">
                      <a:lnSpc>
                        <a:spcPct val="100000"/>
                      </a:lnSpc>
                      <a:buClr>
                        <a:srgbClr val="ffff00"/>
                      </a:buClr>
                      <a:buSzPct val="75000"/>
                      <a:buFont typeface="Wingdings" charset="2"/>
                      <a:buChar char=""/>
                      <a:tabLst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 Narrow"/>
                      </a:rPr>
                      <a:t>Digital Control System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33280" indent="-233280">
                      <a:lnSpc>
                        <a:spcPct val="100000"/>
                      </a:lnSpc>
                      <a:buClr>
                        <a:srgbClr val="ffff00"/>
                      </a:buClr>
                      <a:buSzPct val="75000"/>
                      <a:buFont typeface="Wingdings" charset="2"/>
                      <a:buChar char=""/>
                      <a:tabLst>
                        <a:tab algn="ctr" pos="7952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 Narrow"/>
                      </a:rPr>
                      <a:t>Power Supply Control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Text Box 10"/>
                <p:cNvSpPr/>
                <p:nvPr/>
              </p:nvSpPr>
              <p:spPr>
                <a:xfrm>
                  <a:off x="685800" y="2162520"/>
                  <a:ext cx="160020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2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11"/>
              <p:cNvGrpSpPr/>
              <p:nvPr/>
            </p:nvGrpSpPr>
            <p:grpSpPr>
              <a:xfrm>
                <a:off x="2753280" y="1860480"/>
                <a:ext cx="2945160" cy="4223160"/>
                <a:chOff x="2753280" y="1860480"/>
                <a:chExt cx="2945160" cy="4223160"/>
              </a:xfrm>
            </p:grpSpPr>
            <p:sp>
              <p:nvSpPr>
                <p:cNvPr id="323" name="Oval 12"/>
                <p:cNvSpPr/>
                <p:nvPr/>
              </p:nvSpPr>
              <p:spPr>
                <a:xfrm>
                  <a:off x="3428640" y="1860480"/>
                  <a:ext cx="1599840" cy="990720"/>
                </a:xfrm>
                <a:prstGeom prst="ellipse">
                  <a:avLst/>
                </a:prstGeom>
                <a:solidFill>
                  <a:srgbClr val="00c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13"/>
                <p:cNvSpPr/>
                <p:nvPr/>
              </p:nvSpPr>
              <p:spPr>
                <a:xfrm>
                  <a:off x="3428640" y="2162160"/>
                  <a:ext cx="1599840" cy="38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5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Rectangle 14"/>
                <p:cNvSpPr/>
                <p:nvPr/>
              </p:nvSpPr>
              <p:spPr>
                <a:xfrm>
                  <a:off x="2753280" y="3003480"/>
                  <a:ext cx="2945160" cy="308016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37160" rIns="137160" tIns="46080" bIns="46080" anchor="t" anchorCtr="1">
                  <a:spAutoFit/>
                </a:bodyPr>
                <a:p>
                  <a:pPr marL="233280" indent="-233280">
                    <a:lnSpc>
                      <a:spcPct val="100000"/>
                    </a:lnSpc>
                    <a:tabLst>
                      <a:tab algn="l" pos="0"/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Arial"/>
                    </a:rPr>
                    <a:t>  </a:t>
                  </a:r>
                  <a:r>
                    <a:rPr b="1" lang="en-US" sz="2800" spc="-1" strike="noStrike" u="sng">
                      <a:solidFill>
                        <a:srgbClr val="ffff00"/>
                      </a:solidFill>
                      <a:uFillTx/>
                      <a:latin typeface="Arial"/>
                    </a:rPr>
                    <a:t>Efficiency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tabLst>
                      <a:tab algn="l" pos="0"/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tabLst>
                      <a:tab algn="l" pos="0"/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   </a:t>
                  </a: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Best MIPS p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tabLst>
                      <a:tab algn="l" pos="0"/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Watt / Dollar / Siz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buClr>
                      <a:srgbClr val="ffff00"/>
                    </a:buClr>
                    <a:buSzPct val="75000"/>
                    <a:buFont typeface="Wingdings" charset="2"/>
                    <a:buChar char=""/>
                    <a:tabLst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Narrow"/>
                    </a:rPr>
                    <a:t>Wireless phon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buClr>
                      <a:srgbClr val="ffff00"/>
                    </a:buClr>
                    <a:buSzPct val="75000"/>
                    <a:buFont typeface="Wingdings" charset="2"/>
                    <a:buChar char=""/>
                    <a:tabLst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Narrow"/>
                    </a:rPr>
                    <a:t>Internet audio player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buClr>
                      <a:srgbClr val="ffff00"/>
                    </a:buClr>
                    <a:buSzPct val="75000"/>
                    <a:buFont typeface="Wingdings" charset="2"/>
                    <a:buChar char=""/>
                    <a:tabLst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Narrow"/>
                    </a:rPr>
                    <a:t>Digital still cameras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buClr>
                      <a:srgbClr val="ffff00"/>
                    </a:buClr>
                    <a:buSzPct val="75000"/>
                    <a:buFont typeface="Wingdings" charset="2"/>
                    <a:buChar char=""/>
                    <a:tabLst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Narrow"/>
                    </a:rPr>
                    <a:t>Modem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buClr>
                      <a:srgbClr val="ffff00"/>
                    </a:buClr>
                    <a:buSzPct val="75000"/>
                    <a:buFont typeface="Wingdings" charset="2"/>
                    <a:buChar char=""/>
                    <a:tabLst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Narrow"/>
                    </a:rPr>
                    <a:t>Telephony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marL="233280" indent="-233280">
                    <a:lnSpc>
                      <a:spcPct val="100000"/>
                    </a:lnSpc>
                    <a:buClr>
                      <a:srgbClr val="ffff00"/>
                    </a:buClr>
                    <a:buSzPct val="75000"/>
                    <a:buFont typeface="Wingdings" charset="2"/>
                    <a:buChar char=""/>
                    <a:tabLst>
                      <a:tab algn="ctr" pos="1030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Narrow"/>
                    </a:rPr>
                    <a:t>VoI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Oval 15"/>
              <p:cNvSpPr/>
              <p:nvPr/>
            </p:nvSpPr>
            <p:spPr>
              <a:xfrm>
                <a:off x="6477120" y="1828800"/>
                <a:ext cx="1600200" cy="990720"/>
              </a:xfrm>
              <a:prstGeom prst="ellipse">
                <a:avLst/>
              </a:prstGeom>
              <a:solidFill>
                <a:srgbClr val="4571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477120" y="2130480"/>
                <a:ext cx="160020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6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17"/>
            <p:cNvGrpSpPr/>
            <p:nvPr/>
          </p:nvGrpSpPr>
          <p:grpSpPr>
            <a:xfrm>
              <a:off x="5715000" y="3047760"/>
              <a:ext cx="3200400" cy="3537000"/>
              <a:chOff x="5715000" y="3047760"/>
              <a:chExt cx="3200400" cy="3537000"/>
            </a:xfrm>
          </p:grpSpPr>
          <p:sp>
            <p:nvSpPr>
              <p:cNvPr id="329" name="Rectangle 18"/>
              <p:cNvSpPr/>
              <p:nvPr/>
            </p:nvSpPr>
            <p:spPr>
              <a:xfrm>
                <a:off x="5715000" y="3962160"/>
                <a:ext cx="3200400" cy="2622600"/>
              </a:xfrm>
              <a:prstGeom prst="rect">
                <a:avLst/>
              </a:prstGeom>
              <a:solidFill>
                <a:srgbClr val="457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91440" bIns="91440" anchor="t" anchorCtr="1">
                <a:spAutoFit/>
              </a:bodyPr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Multi Channel and Multi Function App'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Communication Infrastructur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Wireless Base-station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DS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Imagin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Multi-media Server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233280" indent="-233280">
                  <a:lnSpc>
                    <a:spcPct val="100000"/>
                  </a:lnSpc>
                  <a:buClr>
                    <a:srgbClr val="ffff00"/>
                  </a:buClr>
                  <a:buSzPct val="75000"/>
                  <a:buFont typeface="Wingdings" charset="2"/>
                  <a:buChar char="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Vide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Rectangle 19"/>
              <p:cNvSpPr/>
              <p:nvPr/>
            </p:nvSpPr>
            <p:spPr>
              <a:xfrm>
                <a:off x="5715000" y="3047760"/>
                <a:ext cx="3200400" cy="9936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91440" bIns="91440" anchor="t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3730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ffff00"/>
                    </a:solidFill>
                    <a:uFillTx/>
                    <a:latin typeface="Arial"/>
                  </a:rPr>
                  <a:t>Performance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Arial"/>
                  </a:rPr>
                  <a:t> &amp;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ctr" pos="13730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ffff00"/>
                    </a:solidFill>
                    <a:uFillTx/>
                    <a:latin typeface="Arial"/>
                  </a:rPr>
                  <a:t>Ease-of-Use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Verdana"/>
              </a:rPr>
              <a:t>TMS320C2000™ DSC Family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32" name="Picture 39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464600" cy="5469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1" descr=""/>
          <p:cNvPicPr/>
          <p:nvPr/>
        </p:nvPicPr>
        <p:blipFill>
          <a:blip r:embed="rId2"/>
          <a:stretch/>
        </p:blipFill>
        <p:spPr>
          <a:xfrm>
            <a:off x="1116000" y="6308640"/>
            <a:ext cx="4280040" cy="2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156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C2000 32-bit Real-Time Controller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357120" y="4429080"/>
            <a:ext cx="3027600" cy="1434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MS PGothic"/>
              </a:rPr>
              <a:t>Fixed Po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cc0000"/>
                </a:solidFill>
                <a:latin typeface="Arial"/>
                <a:ea typeface="MS PGothic"/>
              </a:rPr>
              <a:t>(100-176 Pins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60 – 150 MHz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32 – 512kB Flash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3Ph PWM/QE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12-bit, 2 SH ADC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(Up to 12.5 MSPS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CAN, McBS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UART, SP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932040" y="136512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941400" y="206064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Oval 7"/>
          <p:cNvSpPr/>
          <p:nvPr/>
        </p:nvSpPr>
        <p:spPr>
          <a:xfrm>
            <a:off x="484200" y="1706400"/>
            <a:ext cx="457200" cy="2764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8"/>
          <p:cNvSpPr/>
          <p:nvPr/>
        </p:nvSpPr>
        <p:spPr>
          <a:xfrm flipH="1">
            <a:off x="270000" y="817560"/>
            <a:ext cx="7920" cy="5311800"/>
          </a:xfrm>
          <a:prstGeom prst="line">
            <a:avLst/>
          </a:prstGeom>
          <a:ln w="127080">
            <a:solidFill>
              <a:srgbClr val="ffff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9"/>
          <p:cNvSpPr/>
          <p:nvPr/>
        </p:nvSpPr>
        <p:spPr>
          <a:xfrm>
            <a:off x="493560" y="2050920"/>
            <a:ext cx="457200" cy="276480"/>
          </a:xfrm>
          <a:prstGeom prst="ellipse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Oval 10"/>
          <p:cNvSpPr/>
          <p:nvPr/>
        </p:nvSpPr>
        <p:spPr>
          <a:xfrm>
            <a:off x="487440" y="1359000"/>
            <a:ext cx="457200" cy="27612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928800" y="171468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Samp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Oval 12"/>
          <p:cNvSpPr/>
          <p:nvPr/>
        </p:nvSpPr>
        <p:spPr>
          <a:xfrm>
            <a:off x="493560" y="2381400"/>
            <a:ext cx="457200" cy="2761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936720" y="239724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u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1143000" y="3143160"/>
            <a:ext cx="1114560" cy="3510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F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1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Oval 17"/>
          <p:cNvSpPr/>
          <p:nvPr/>
        </p:nvSpPr>
        <p:spPr>
          <a:xfrm>
            <a:off x="4857840" y="4071960"/>
            <a:ext cx="1130040" cy="35100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F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03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Oval 18"/>
          <p:cNvSpPr/>
          <p:nvPr/>
        </p:nvSpPr>
        <p:spPr>
          <a:xfrm>
            <a:off x="4829040" y="1457280"/>
            <a:ext cx="1130400" cy="3510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C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34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Oval 19"/>
          <p:cNvSpPr/>
          <p:nvPr/>
        </p:nvSpPr>
        <p:spPr>
          <a:xfrm>
            <a:off x="3573360" y="1835280"/>
            <a:ext cx="1130400" cy="3510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F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33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3781440" y="5116680"/>
            <a:ext cx="131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40-60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16-64kB Fla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Analog Com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21"/>
          <p:cNvSpPr/>
          <p:nvPr/>
        </p:nvSpPr>
        <p:spPr>
          <a:xfrm>
            <a:off x="4929120" y="5072040"/>
            <a:ext cx="1177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60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Control Law Accele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32-128kB Fla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CAN, L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24"/>
          <p:cNvSpPr/>
          <p:nvPr/>
        </p:nvSpPr>
        <p:spPr>
          <a:xfrm>
            <a:off x="3546360" y="2205000"/>
            <a:ext cx="131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100-150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128-512kB Flas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52-68kB SR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5"/>
          <p:cNvSpPr/>
          <p:nvPr/>
        </p:nvSpPr>
        <p:spPr>
          <a:xfrm>
            <a:off x="4873680" y="1865160"/>
            <a:ext cx="1398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200-300MHz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196-516kB SR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External AD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Low Active Pow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7"/>
          <p:cNvSpPr/>
          <p:nvPr/>
        </p:nvSpPr>
        <p:spPr>
          <a:xfrm flipH="1">
            <a:off x="233280" y="6070680"/>
            <a:ext cx="8871120" cy="3240"/>
          </a:xfrm>
          <a:prstGeom prst="line">
            <a:avLst/>
          </a:prstGeom>
          <a:ln w="127080">
            <a:solidFill>
              <a:srgbClr val="ffffff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34"/>
          <p:cNvSpPr/>
          <p:nvPr/>
        </p:nvSpPr>
        <p:spPr>
          <a:xfrm rot="10800000">
            <a:off x="357120" y="3071880"/>
            <a:ext cx="36288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35"/>
          <p:cNvSpPr/>
          <p:nvPr/>
        </p:nvSpPr>
        <p:spPr>
          <a:xfrm rot="16200000">
            <a:off x="7636320" y="5722560"/>
            <a:ext cx="36288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285840" y="628668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0+ Code Compatible De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Oval 38"/>
          <p:cNvSpPr/>
          <p:nvPr/>
        </p:nvSpPr>
        <p:spPr>
          <a:xfrm>
            <a:off x="1785960" y="2786040"/>
            <a:ext cx="1114560" cy="3510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F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23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Oval 40"/>
          <p:cNvSpPr/>
          <p:nvPr/>
        </p:nvSpPr>
        <p:spPr>
          <a:xfrm>
            <a:off x="1714680" y="3571920"/>
            <a:ext cx="1114200" cy="3510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F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0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Oval 41"/>
          <p:cNvSpPr/>
          <p:nvPr/>
        </p:nvSpPr>
        <p:spPr>
          <a:xfrm>
            <a:off x="6400800" y="4647600"/>
            <a:ext cx="1379520" cy="38880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ext 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2"/>
          <p:cNvSpPr/>
          <p:nvPr/>
        </p:nvSpPr>
        <p:spPr>
          <a:xfrm>
            <a:off x="6504120" y="5022720"/>
            <a:ext cx="11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Low Pow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Small Pack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43"/>
          <p:cNvSpPr/>
          <p:nvPr/>
        </p:nvSpPr>
        <p:spPr>
          <a:xfrm>
            <a:off x="6307200" y="1170000"/>
            <a:ext cx="1379520" cy="38880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ext 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44"/>
          <p:cNvSpPr/>
          <p:nvPr/>
        </p:nvSpPr>
        <p:spPr>
          <a:xfrm>
            <a:off x="6410160" y="1584360"/>
            <a:ext cx="168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igher Perform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Connectiv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Safety Enhanc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Oval 40"/>
          <p:cNvSpPr/>
          <p:nvPr/>
        </p:nvSpPr>
        <p:spPr>
          <a:xfrm>
            <a:off x="3643200" y="4500720"/>
            <a:ext cx="1114560" cy="35100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d9"/>
                </a:solidFill>
                <a:latin typeface="Arial"/>
                <a:ea typeface="MS PGothic"/>
              </a:rPr>
              <a:t>F28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MS PGothic"/>
              </a:rPr>
              <a:t>02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Oval 41"/>
          <p:cNvSpPr/>
          <p:nvPr/>
        </p:nvSpPr>
        <p:spPr>
          <a:xfrm>
            <a:off x="7620120" y="3733200"/>
            <a:ext cx="1379520" cy="3888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Next 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42"/>
          <p:cNvSpPr/>
          <p:nvPr/>
        </p:nvSpPr>
        <p:spPr>
          <a:xfrm>
            <a:off x="7772400" y="4114800"/>
            <a:ext cx="11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Perform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Mem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Connectiv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  <a:ea typeface="Arial"/>
              </a:rPr>
              <a:t>Versatile C2000 Application Areas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Freeform 83"/>
          <p:cNvSpPr/>
          <p:nvPr/>
        </p:nvSpPr>
        <p:spPr>
          <a:xfrm rot="10800000">
            <a:off x="4638240" y="990360"/>
            <a:ext cx="4505400" cy="2124000"/>
          </a:xfrm>
          <a:custGeom>
            <a:avLst/>
            <a:gdLst>
              <a:gd name="textAreaLeft" fmla="*/ 0 w 4505400"/>
              <a:gd name="textAreaRight" fmla="*/ 4505760 w 4505400"/>
              <a:gd name="textAreaTop" fmla="*/ 0 h 2124000"/>
              <a:gd name="textAreaBottom" fmla="*/ 2124360 h 2124000"/>
            </a:gdLst>
            <a:ahLst/>
            <a:rect l="textAreaLeft" t="textAreaTop" r="textAreaRight" b="textAreaBottom"/>
            <a:pathLst>
              <a:path w="2838" h="1338">
                <a:moveTo>
                  <a:pt x="2838" y="78"/>
                </a:moveTo>
                <a:lnTo>
                  <a:pt x="2838" y="1338"/>
                </a:lnTo>
                <a:lnTo>
                  <a:pt x="0" y="1338"/>
                </a:lnTo>
                <a:lnTo>
                  <a:pt x="0" y="618"/>
                </a:lnTo>
                <a:lnTo>
                  <a:pt x="2502" y="0"/>
                </a:lnTo>
                <a:lnTo>
                  <a:pt x="2838" y="78"/>
                </a:lnTo>
                <a:close/>
              </a:path>
            </a:pathLst>
          </a:custGeom>
          <a:gradFill rotWithShape="0">
            <a:gsLst>
              <a:gs pos="0">
                <a:srgbClr val="0000ff">
                  <a:alpha val="22352"/>
                </a:srgbClr>
              </a:gs>
              <a:gs pos="100000">
                <a:srgbClr val="ddddd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82"/>
          <p:cNvSpPr/>
          <p:nvPr/>
        </p:nvSpPr>
        <p:spPr>
          <a:xfrm rot="10800000">
            <a:off x="0" y="990360"/>
            <a:ext cx="4495680" cy="2163600"/>
          </a:xfrm>
          <a:custGeom>
            <a:avLst/>
            <a:gdLst>
              <a:gd name="textAreaLeft" fmla="*/ 0 w 4495680"/>
              <a:gd name="textAreaRight" fmla="*/ 4495680 w 4495680"/>
              <a:gd name="textAreaTop" fmla="*/ 0 h 2163600"/>
              <a:gd name="textAreaBottom" fmla="*/ 2163960 h 2163600"/>
            </a:gdLst>
            <a:ahLst/>
            <a:rect l="textAreaLeft" t="textAreaTop" r="textAreaRight" b="textAreaBottom"/>
            <a:pathLst>
              <a:path w="2904" h="1326">
                <a:moveTo>
                  <a:pt x="360" y="0"/>
                </a:moveTo>
                <a:lnTo>
                  <a:pt x="2904" y="606"/>
                </a:lnTo>
                <a:lnTo>
                  <a:pt x="2904" y="1326"/>
                </a:lnTo>
                <a:lnTo>
                  <a:pt x="0" y="1326"/>
                </a:lnTo>
                <a:lnTo>
                  <a:pt x="0" y="48"/>
                </a:lnTo>
                <a:lnTo>
                  <a:pt x="36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ff">
                  <a:alpha val="2235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85"/>
          <p:cNvSpPr/>
          <p:nvPr/>
        </p:nvSpPr>
        <p:spPr>
          <a:xfrm>
            <a:off x="0" y="2268360"/>
            <a:ext cx="3781440" cy="2608560"/>
          </a:xfrm>
          <a:custGeom>
            <a:avLst/>
            <a:gdLst>
              <a:gd name="textAreaLeft" fmla="*/ 0 w 3781440"/>
              <a:gd name="textAreaRight" fmla="*/ 3781800 w 3781440"/>
              <a:gd name="textAreaTop" fmla="*/ 0 h 2608560"/>
              <a:gd name="textAreaBottom" fmla="*/ 2608920 h 2608560"/>
            </a:gdLst>
            <a:ahLst/>
            <a:rect l="textAreaLeft" t="textAreaTop" r="textAreaRight" b="textAreaBottom"/>
            <a:pathLst>
              <a:path w="2388" h="1680">
                <a:moveTo>
                  <a:pt x="2388" y="1086"/>
                </a:moveTo>
                <a:lnTo>
                  <a:pt x="0" y="1680"/>
                </a:lnTo>
                <a:lnTo>
                  <a:pt x="0" y="0"/>
                </a:lnTo>
                <a:lnTo>
                  <a:pt x="2340" y="612"/>
                </a:lnTo>
                <a:lnTo>
                  <a:pt x="2388" y="1086"/>
                </a:lnTo>
                <a:close/>
              </a:path>
            </a:pathLst>
          </a:custGeom>
          <a:gradFill rotWithShape="0">
            <a:gsLst>
              <a:gs pos="0">
                <a:srgbClr val="0000ff">
                  <a:alpha val="22352"/>
                </a:srgbClr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83"/>
          <p:cNvSpPr/>
          <p:nvPr/>
        </p:nvSpPr>
        <p:spPr>
          <a:xfrm>
            <a:off x="-9360" y="4011480"/>
            <a:ext cx="4505040" cy="2124360"/>
          </a:xfrm>
          <a:custGeom>
            <a:avLst/>
            <a:gdLst>
              <a:gd name="textAreaLeft" fmla="*/ 0 w 4505040"/>
              <a:gd name="textAreaRight" fmla="*/ 4505400 w 4505040"/>
              <a:gd name="textAreaTop" fmla="*/ 0 h 2124360"/>
              <a:gd name="textAreaBottom" fmla="*/ 2124720 h 2124360"/>
            </a:gdLst>
            <a:ahLst/>
            <a:rect l="textAreaLeft" t="textAreaTop" r="textAreaRight" b="textAreaBottom"/>
            <a:pathLst>
              <a:path w="2838" h="1338">
                <a:moveTo>
                  <a:pt x="2838" y="78"/>
                </a:moveTo>
                <a:lnTo>
                  <a:pt x="2838" y="1338"/>
                </a:lnTo>
                <a:lnTo>
                  <a:pt x="0" y="1338"/>
                </a:lnTo>
                <a:lnTo>
                  <a:pt x="0" y="618"/>
                </a:lnTo>
                <a:lnTo>
                  <a:pt x="2502" y="0"/>
                </a:lnTo>
                <a:lnTo>
                  <a:pt x="2838" y="78"/>
                </a:lnTo>
                <a:close/>
              </a:path>
            </a:pathLst>
          </a:custGeom>
          <a:gradFill rotWithShape="0">
            <a:gsLst>
              <a:gs pos="0">
                <a:srgbClr val="0000ff">
                  <a:alpha val="22352"/>
                </a:srgbClr>
              </a:gs>
              <a:gs pos="100000">
                <a:srgbClr val="ddddd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Freeform 82"/>
          <p:cNvSpPr/>
          <p:nvPr/>
        </p:nvSpPr>
        <p:spPr>
          <a:xfrm>
            <a:off x="4648320" y="3962520"/>
            <a:ext cx="4495680" cy="2163600"/>
          </a:xfrm>
          <a:custGeom>
            <a:avLst/>
            <a:gdLst>
              <a:gd name="textAreaLeft" fmla="*/ 0 w 4495680"/>
              <a:gd name="textAreaRight" fmla="*/ 4495680 w 4495680"/>
              <a:gd name="textAreaTop" fmla="*/ 0 h 2163600"/>
              <a:gd name="textAreaBottom" fmla="*/ 2163960 h 2163600"/>
            </a:gdLst>
            <a:ahLst/>
            <a:rect l="textAreaLeft" t="textAreaTop" r="textAreaRight" b="textAreaBottom"/>
            <a:pathLst>
              <a:path w="2904" h="1326">
                <a:moveTo>
                  <a:pt x="360" y="0"/>
                </a:moveTo>
                <a:lnTo>
                  <a:pt x="2904" y="606"/>
                </a:lnTo>
                <a:lnTo>
                  <a:pt x="2904" y="1326"/>
                </a:lnTo>
                <a:lnTo>
                  <a:pt x="0" y="1326"/>
                </a:lnTo>
                <a:lnTo>
                  <a:pt x="0" y="48"/>
                </a:lnTo>
                <a:lnTo>
                  <a:pt x="36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ff">
                  <a:alpha val="2235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Freeform 80"/>
          <p:cNvSpPr/>
          <p:nvPr/>
        </p:nvSpPr>
        <p:spPr>
          <a:xfrm>
            <a:off x="5210280" y="2263680"/>
            <a:ext cx="3933720" cy="2594160"/>
          </a:xfrm>
          <a:custGeom>
            <a:avLst/>
            <a:gdLst>
              <a:gd name="textAreaLeft" fmla="*/ 0 w 3933720"/>
              <a:gd name="textAreaRight" fmla="*/ 3934080 w 3933720"/>
              <a:gd name="textAreaTop" fmla="*/ 0 h 2594160"/>
              <a:gd name="textAreaBottom" fmla="*/ 2594520 h 2594160"/>
            </a:gdLst>
            <a:ahLst/>
            <a:rect l="textAreaLeft" t="textAreaTop" r="textAreaRight" b="textAreaBottom"/>
            <a:pathLst>
              <a:path w="2490" h="1536">
                <a:moveTo>
                  <a:pt x="174" y="498"/>
                </a:moveTo>
                <a:lnTo>
                  <a:pt x="2490" y="0"/>
                </a:lnTo>
                <a:lnTo>
                  <a:pt x="2490" y="1536"/>
                </a:lnTo>
                <a:lnTo>
                  <a:pt x="0" y="936"/>
                </a:lnTo>
                <a:lnTo>
                  <a:pt x="174" y="49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0000ff">
                  <a:alpha val="2235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78" descr="transparent blue lt circle v3 smr"/>
          <p:cNvPicPr/>
          <p:nvPr/>
        </p:nvPicPr>
        <p:blipFill>
          <a:blip r:embed="rId1"/>
          <a:stretch/>
        </p:blipFill>
        <p:spPr>
          <a:xfrm>
            <a:off x="3562200" y="2427120"/>
            <a:ext cx="2006640" cy="200664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10"/>
          <p:cNvSpPr/>
          <p:nvPr/>
        </p:nvSpPr>
        <p:spPr>
          <a:xfrm>
            <a:off x="787320" y="2241720"/>
            <a:ext cx="1371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Solar Power Invert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Picture 19" descr="shutterstock_3221984 r150"/>
          <p:cNvPicPr/>
          <p:nvPr/>
        </p:nvPicPr>
        <p:blipFill>
          <a:blip r:embed="rId2"/>
          <a:srcRect l="30578" t="29022" r="0" b="13028"/>
          <a:stretch/>
        </p:blipFill>
        <p:spPr>
          <a:xfrm>
            <a:off x="2492280" y="1650960"/>
            <a:ext cx="822600" cy="893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3" descr="iS_6548644solar panels"/>
          <p:cNvPicPr/>
          <p:nvPr/>
        </p:nvPicPr>
        <p:blipFill>
          <a:blip r:embed="rId3"/>
          <a:srcRect l="4364" t="0" r="7736" b="0"/>
          <a:stretch/>
        </p:blipFill>
        <p:spPr>
          <a:xfrm>
            <a:off x="966960" y="1492200"/>
            <a:ext cx="957240" cy="7732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3"/>
          <p:cNvSpPr/>
          <p:nvPr/>
        </p:nvSpPr>
        <p:spPr>
          <a:xfrm>
            <a:off x="2222640" y="1444680"/>
            <a:ext cx="13716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Wind Power Invert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Group 35"/>
          <p:cNvGrpSpPr/>
          <p:nvPr/>
        </p:nvGrpSpPr>
        <p:grpSpPr>
          <a:xfrm>
            <a:off x="4111560" y="3089160"/>
            <a:ext cx="1106280" cy="858600"/>
            <a:chOff x="4111560" y="3089160"/>
            <a:chExt cx="1106280" cy="858600"/>
          </a:xfrm>
        </p:grpSpPr>
        <p:grpSp>
          <p:nvGrpSpPr>
            <p:cNvPr id="379" name="Group 36"/>
            <p:cNvGrpSpPr/>
            <p:nvPr/>
          </p:nvGrpSpPr>
          <p:grpSpPr>
            <a:xfrm>
              <a:off x="4132080" y="3089160"/>
              <a:ext cx="1085760" cy="858600"/>
              <a:chOff x="4132080" y="3089160"/>
              <a:chExt cx="1085760" cy="858600"/>
            </a:xfrm>
          </p:grpSpPr>
          <p:grpSp>
            <p:nvGrpSpPr>
              <p:cNvPr id="380" name="Group 59"/>
              <p:cNvGrpSpPr/>
              <p:nvPr/>
            </p:nvGrpSpPr>
            <p:grpSpPr>
              <a:xfrm>
                <a:off x="4132080" y="3089160"/>
                <a:ext cx="1085760" cy="858600"/>
                <a:chOff x="4132080" y="3089160"/>
                <a:chExt cx="1085760" cy="858600"/>
              </a:xfrm>
            </p:grpSpPr>
            <p:pic>
              <p:nvPicPr>
                <p:cNvPr id="381" name="Picture 60" descr="OMAP new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132080" y="3089160"/>
                  <a:ext cx="858960" cy="85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2" name="Text Box 61"/>
                <p:cNvSpPr/>
                <p:nvPr/>
              </p:nvSpPr>
              <p:spPr>
                <a:xfrm>
                  <a:off x="4330440" y="3439800"/>
                  <a:ext cx="8874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Rectangle 40"/>
              <p:cNvSpPr/>
              <p:nvPr/>
            </p:nvSpPr>
            <p:spPr>
              <a:xfrm>
                <a:off x="4213080" y="3168360"/>
                <a:ext cx="679320" cy="2602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4" name="Text Box 41"/>
            <p:cNvSpPr/>
            <p:nvPr/>
          </p:nvSpPr>
          <p:spPr>
            <a:xfrm>
              <a:off x="4111560" y="3138120"/>
              <a:ext cx="8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C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5" name="Picture 23" descr="C8bat"/>
          <p:cNvPicPr/>
          <p:nvPr/>
        </p:nvPicPr>
        <p:blipFill>
          <a:blip r:embed="rId5"/>
          <a:stretch/>
        </p:blipFill>
        <p:spPr>
          <a:xfrm>
            <a:off x="127080" y="3448080"/>
            <a:ext cx="720720" cy="770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EMS Wireless - Base Station Antennas and Wireless Backhaul Solutions"/>
          <p:cNvPicPr/>
          <p:nvPr/>
        </p:nvPicPr>
        <p:blipFill>
          <a:blip r:embed="rId6"/>
          <a:stretch/>
        </p:blipFill>
        <p:spPr>
          <a:xfrm>
            <a:off x="706320" y="3171960"/>
            <a:ext cx="833400" cy="895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0" descr="APC servers copy"/>
          <p:cNvPicPr/>
          <p:nvPr/>
        </p:nvPicPr>
        <p:blipFill>
          <a:blip r:embed="rId7"/>
          <a:stretch/>
        </p:blipFill>
        <p:spPr>
          <a:xfrm>
            <a:off x="1703520" y="3044880"/>
            <a:ext cx="855360" cy="768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8" descr="DLP thin 2"/>
          <p:cNvPicPr/>
          <p:nvPr/>
        </p:nvPicPr>
        <p:blipFill>
          <a:blip r:embed="rId8"/>
          <a:stretch/>
        </p:blipFill>
        <p:spPr>
          <a:xfrm>
            <a:off x="7991640" y="3017880"/>
            <a:ext cx="928440" cy="9064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25"/>
          <p:cNvSpPr/>
          <p:nvPr/>
        </p:nvSpPr>
        <p:spPr>
          <a:xfrm>
            <a:off x="165240" y="4205160"/>
            <a:ext cx="1282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Telecom / Serve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AC/DC Rectifi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1494000" y="371484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Uninterruptable Power Suppli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1" name="Picture 18" descr="Delphi EPS Column Mount"/>
          <p:cNvPicPr/>
          <p:nvPr/>
        </p:nvPicPr>
        <p:blipFill>
          <a:blip r:embed="rId9"/>
          <a:stretch/>
        </p:blipFill>
        <p:spPr>
          <a:xfrm>
            <a:off x="1881360" y="4740120"/>
            <a:ext cx="1009440" cy="7779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2" descr=""/>
          <p:cNvPicPr/>
          <p:nvPr/>
        </p:nvPicPr>
        <p:blipFill>
          <a:blip r:embed="rId10"/>
          <a:stretch/>
        </p:blipFill>
        <p:spPr>
          <a:xfrm>
            <a:off x="3247920" y="4797360"/>
            <a:ext cx="1104840" cy="933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93" name="Text Box 29"/>
          <p:cNvSpPr/>
          <p:nvPr/>
        </p:nvSpPr>
        <p:spPr>
          <a:xfrm>
            <a:off x="1778040" y="5398920"/>
            <a:ext cx="1282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Electric Power Steer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3152880" y="4419720"/>
            <a:ext cx="1400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Radar / Collision Avoid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63" descr="washingmachine_100dpi"/>
          <p:cNvPicPr/>
          <p:nvPr/>
        </p:nvPicPr>
        <p:blipFill>
          <a:blip r:embed="rId11"/>
          <a:stretch/>
        </p:blipFill>
        <p:spPr>
          <a:xfrm>
            <a:off x="4871880" y="1487520"/>
            <a:ext cx="731880" cy="93816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32"/>
          <p:cNvSpPr/>
          <p:nvPr/>
        </p:nvSpPr>
        <p:spPr>
          <a:xfrm>
            <a:off x="7877160" y="388944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LED TV Backligh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Picture 64" descr=""/>
          <p:cNvPicPr/>
          <p:nvPr/>
        </p:nvPicPr>
        <p:blipFill>
          <a:blip r:embed="rId12"/>
          <a:srcRect l="0" t="0" r="42499" b="32131"/>
          <a:stretch/>
        </p:blipFill>
        <p:spPr>
          <a:xfrm>
            <a:off x="5842080" y="3263760"/>
            <a:ext cx="850680" cy="72396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398" name="Text Box 34"/>
          <p:cNvSpPr/>
          <p:nvPr/>
        </p:nvSpPr>
        <p:spPr>
          <a:xfrm>
            <a:off x="5565600" y="3052800"/>
            <a:ext cx="146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LED Street Ligh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35"/>
          <p:cNvSpPr/>
          <p:nvPr/>
        </p:nvSpPr>
        <p:spPr>
          <a:xfrm>
            <a:off x="4648320" y="234792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White Goo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21" descr="Small Drives"/>
          <p:cNvPicPr/>
          <p:nvPr/>
        </p:nvPicPr>
        <p:blipFill>
          <a:blip r:embed="rId13"/>
          <a:stretch/>
        </p:blipFill>
        <p:spPr>
          <a:xfrm>
            <a:off x="5857920" y="1554120"/>
            <a:ext cx="914400" cy="7970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37"/>
          <p:cNvSpPr/>
          <p:nvPr/>
        </p:nvSpPr>
        <p:spPr>
          <a:xfrm>
            <a:off x="5721480" y="2354400"/>
            <a:ext cx="1293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Industrial Drives &amp; Motion Contr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38"/>
          <p:cNvSpPr/>
          <p:nvPr/>
        </p:nvSpPr>
        <p:spPr>
          <a:xfrm>
            <a:off x="7711920" y="998640"/>
            <a:ext cx="11908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E-bik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39" descr="Tool_power"/>
          <p:cNvPicPr/>
          <p:nvPr/>
        </p:nvPicPr>
        <p:blipFill>
          <a:blip r:embed="rId14"/>
          <a:stretch/>
        </p:blipFill>
        <p:spPr>
          <a:xfrm>
            <a:off x="6967440" y="1677960"/>
            <a:ext cx="884160" cy="87300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0"/>
          <p:cNvSpPr/>
          <p:nvPr/>
        </p:nvSpPr>
        <p:spPr>
          <a:xfrm>
            <a:off x="6869160" y="146196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Power To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41"/>
          <p:cNvSpPr/>
          <p:nvPr/>
        </p:nvSpPr>
        <p:spPr>
          <a:xfrm>
            <a:off x="266760" y="4952880"/>
            <a:ext cx="1282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Hybrid Electric Vehic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Picture 42" descr="e-bike-2_64"/>
          <p:cNvPicPr/>
          <p:nvPr/>
        </p:nvPicPr>
        <p:blipFill>
          <a:blip r:embed="rId15"/>
          <a:stretch/>
        </p:blipFill>
        <p:spPr>
          <a:xfrm>
            <a:off x="7889760" y="1274760"/>
            <a:ext cx="960480" cy="671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3" descr="through4-car-hid-lights"/>
          <p:cNvPicPr/>
          <p:nvPr/>
        </p:nvPicPr>
        <p:blipFill>
          <a:blip r:embed="rId16"/>
          <a:stretch/>
        </p:blipFill>
        <p:spPr>
          <a:xfrm>
            <a:off x="6854760" y="3494160"/>
            <a:ext cx="1005120" cy="6588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44"/>
          <p:cNvSpPr/>
          <p:nvPr/>
        </p:nvSpPr>
        <p:spPr>
          <a:xfrm>
            <a:off x="6815160" y="409572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Auto HI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Picture 20" descr="HybridVehicleDealerHybridCarHybridAu-full"/>
          <p:cNvPicPr/>
          <p:nvPr/>
        </p:nvPicPr>
        <p:blipFill>
          <a:blip r:embed="rId17"/>
          <a:stretch/>
        </p:blipFill>
        <p:spPr>
          <a:xfrm>
            <a:off x="461880" y="5160960"/>
            <a:ext cx="863640" cy="6080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410" name="Picture 46" descr="ss_18138736 power lines sm"/>
          <p:cNvPicPr/>
          <p:nvPr/>
        </p:nvPicPr>
        <p:blipFill>
          <a:blip r:embed="rId18"/>
          <a:stretch/>
        </p:blipFill>
        <p:spPr>
          <a:xfrm>
            <a:off x="5172120" y="4175280"/>
            <a:ext cx="641160" cy="749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7" descr="electric meter sm"/>
          <p:cNvPicPr/>
          <p:nvPr/>
        </p:nvPicPr>
        <p:blipFill>
          <a:blip r:embed="rId19"/>
          <a:stretch/>
        </p:blipFill>
        <p:spPr>
          <a:xfrm>
            <a:off x="4699080" y="4275000"/>
            <a:ext cx="639720" cy="66672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48"/>
          <p:cNvSpPr/>
          <p:nvPr/>
        </p:nvSpPr>
        <p:spPr>
          <a:xfrm>
            <a:off x="4778280" y="4878360"/>
            <a:ext cx="1190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Power Line Commun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49" descr="eor-230"/>
          <p:cNvPicPr/>
          <p:nvPr/>
        </p:nvPicPr>
        <p:blipFill>
          <a:blip r:embed="rId20"/>
          <a:stretch/>
        </p:blipFill>
        <p:spPr>
          <a:xfrm>
            <a:off x="5954760" y="4933800"/>
            <a:ext cx="877680" cy="646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50"/>
          <p:cNvSpPr/>
          <p:nvPr/>
        </p:nvSpPr>
        <p:spPr>
          <a:xfrm>
            <a:off x="5794200" y="4711680"/>
            <a:ext cx="1190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Laser Ran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5" name="Picture 51" descr="Symol%20RFID%20MC9060G_RFID"/>
          <p:cNvPicPr/>
          <p:nvPr/>
        </p:nvPicPr>
        <p:blipFill>
          <a:blip r:embed="rId21"/>
          <a:stretch/>
        </p:blipFill>
        <p:spPr>
          <a:xfrm>
            <a:off x="4994280" y="530064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2"/>
          <p:cNvSpPr/>
          <p:nvPr/>
        </p:nvSpPr>
        <p:spPr>
          <a:xfrm>
            <a:off x="4660920" y="584028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Times New Roman"/>
              </a:rPr>
              <a:t>RFID Read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Picture 53" descr="invacare%20perfecto%202%20oxygen%20concentrator"/>
          <p:cNvPicPr/>
          <p:nvPr/>
        </p:nvPicPr>
        <p:blipFill>
          <a:blip r:embed="rId22"/>
          <a:stretch/>
        </p:blipFill>
        <p:spPr>
          <a:xfrm>
            <a:off x="7093080" y="4944960"/>
            <a:ext cx="741240" cy="5670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54"/>
          <p:cNvSpPr/>
          <p:nvPr/>
        </p:nvSpPr>
        <p:spPr>
          <a:xfrm>
            <a:off x="6899400" y="458460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Medical Oxygen Concent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Picture 55" descr="SD-500"/>
          <p:cNvPicPr/>
          <p:nvPr/>
        </p:nvPicPr>
        <p:blipFill>
          <a:blip r:embed="rId23"/>
          <a:srcRect l="0" t="11896" r="0" b="14236"/>
          <a:stretch/>
        </p:blipFill>
        <p:spPr>
          <a:xfrm>
            <a:off x="2649600" y="3429000"/>
            <a:ext cx="884160" cy="5335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56"/>
          <p:cNvSpPr/>
          <p:nvPr/>
        </p:nvSpPr>
        <p:spPr>
          <a:xfrm>
            <a:off x="2496960" y="3073320"/>
            <a:ext cx="1190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DC/DC Convert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1" name="Picture 57" descr="67553435_o"/>
          <p:cNvPicPr/>
          <p:nvPr/>
        </p:nvPicPr>
        <p:blipFill>
          <a:blip r:embed="rId24"/>
          <a:stretch/>
        </p:blipFill>
        <p:spPr>
          <a:xfrm>
            <a:off x="8021520" y="5110200"/>
            <a:ext cx="812880" cy="4762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58"/>
          <p:cNvSpPr/>
          <p:nvPr/>
        </p:nvSpPr>
        <p:spPr>
          <a:xfrm>
            <a:off x="7864560" y="4765680"/>
            <a:ext cx="119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Optical Network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AutoShape 59"/>
          <p:cNvSpPr/>
          <p:nvPr/>
        </p:nvSpPr>
        <p:spPr>
          <a:xfrm>
            <a:off x="76320" y="1062000"/>
            <a:ext cx="2709720" cy="366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newable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AutoShape 60"/>
          <p:cNvSpPr/>
          <p:nvPr/>
        </p:nvSpPr>
        <p:spPr>
          <a:xfrm>
            <a:off x="50760" y="2741760"/>
            <a:ext cx="1949400" cy="401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AutoShape 61"/>
          <p:cNvSpPr/>
          <p:nvPr/>
        </p:nvSpPr>
        <p:spPr>
          <a:xfrm>
            <a:off x="4635360" y="1046160"/>
            <a:ext cx="3041640" cy="388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Motor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AutoShape 62"/>
          <p:cNvSpPr/>
          <p:nvPr/>
        </p:nvSpPr>
        <p:spPr>
          <a:xfrm>
            <a:off x="7616880" y="2571840"/>
            <a:ext cx="1527120" cy="388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AutoShape 63"/>
          <p:cNvSpPr/>
          <p:nvPr/>
        </p:nvSpPr>
        <p:spPr>
          <a:xfrm>
            <a:off x="1000080" y="6072120"/>
            <a:ext cx="1749600" cy="389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mo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AutoShape 64"/>
          <p:cNvSpPr/>
          <p:nvPr/>
        </p:nvSpPr>
        <p:spPr>
          <a:xfrm>
            <a:off x="5143680" y="6143760"/>
            <a:ext cx="3786120" cy="357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cision Sensing &amp;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TMS320C28x DSC Block Diagram</a:t>
            </a:r>
            <a:endParaRPr b="1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30" name="Picture 124" descr=""/>
          <p:cNvPicPr/>
          <p:nvPr/>
        </p:nvPicPr>
        <p:blipFill>
          <a:blip r:embed="rId1"/>
          <a:stretch/>
        </p:blipFill>
        <p:spPr>
          <a:xfrm>
            <a:off x="2484360" y="6165720"/>
            <a:ext cx="4280040" cy="231840"/>
          </a:xfrm>
          <a:prstGeom prst="rect">
            <a:avLst/>
          </a:prstGeom>
          <a:ln w="0">
            <a:noFill/>
          </a:ln>
        </p:spPr>
      </p:pic>
      <p:grpSp>
        <p:nvGrpSpPr>
          <p:cNvPr id="431" name="Group 129"/>
          <p:cNvGrpSpPr/>
          <p:nvPr/>
        </p:nvGrpSpPr>
        <p:grpSpPr>
          <a:xfrm>
            <a:off x="971640" y="1125360"/>
            <a:ext cx="6984360" cy="5182920"/>
            <a:chOff x="971640" y="1125360"/>
            <a:chExt cx="6984360" cy="5182920"/>
          </a:xfrm>
        </p:grpSpPr>
        <p:pic>
          <p:nvPicPr>
            <p:cNvPr id="432" name="Picture 130" descr=""/>
            <p:cNvPicPr/>
            <p:nvPr/>
          </p:nvPicPr>
          <p:blipFill>
            <a:blip r:embed="rId2"/>
            <a:stretch/>
          </p:blipFill>
          <p:spPr>
            <a:xfrm>
              <a:off x="978840" y="1125360"/>
              <a:ext cx="6977160" cy="51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Rectangle 131"/>
            <p:cNvSpPr/>
            <p:nvPr/>
          </p:nvSpPr>
          <p:spPr>
            <a:xfrm>
              <a:off x="3893400" y="1284120"/>
              <a:ext cx="18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MS320F283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Picture 132" descr="TI bug r72"/>
            <p:cNvPicPr/>
            <p:nvPr/>
          </p:nvPicPr>
          <p:blipFill>
            <a:blip r:embed="rId3"/>
            <a:stretch/>
          </p:blipFill>
          <p:spPr>
            <a:xfrm>
              <a:off x="7126560" y="1388160"/>
              <a:ext cx="478440" cy="3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133"/>
            <p:cNvSpPr/>
            <p:nvPr/>
          </p:nvSpPr>
          <p:spPr>
            <a:xfrm>
              <a:off x="1471320" y="3711960"/>
              <a:ext cx="3488400" cy="21646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cffcc"/>
                </a:gs>
                <a:gs pos="100000">
                  <a:srgbClr val="00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6" name="Group 134"/>
            <p:cNvGrpSpPr/>
            <p:nvPr/>
          </p:nvGrpSpPr>
          <p:grpSpPr>
            <a:xfrm>
              <a:off x="1677600" y="5197320"/>
              <a:ext cx="1462320" cy="505800"/>
              <a:chOff x="1677600" y="5197320"/>
              <a:chExt cx="1462320" cy="505800"/>
            </a:xfrm>
          </p:grpSpPr>
          <p:sp>
            <p:nvSpPr>
              <p:cNvPr id="437" name="Rectangle 135"/>
              <p:cNvSpPr/>
              <p:nvPr/>
            </p:nvSpPr>
            <p:spPr>
              <a:xfrm>
                <a:off x="1677600" y="5197320"/>
                <a:ext cx="1462320" cy="50580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50000">
                    <a:srgbClr val="ccffcc"/>
                  </a:gs>
                  <a:gs pos="100000">
                    <a:srgbClr val="00cc66"/>
                  </a:gs>
                </a:gsLst>
                <a:lin ang="5400000"/>
              </a:gradFill>
              <a:ln cap="sq"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Text Box 136"/>
              <p:cNvSpPr/>
              <p:nvPr/>
            </p:nvSpPr>
            <p:spPr>
              <a:xfrm>
                <a:off x="1827720" y="5229000"/>
                <a:ext cx="123696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al-Tim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JT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Group 137"/>
            <p:cNvGrpSpPr/>
            <p:nvPr/>
          </p:nvGrpSpPr>
          <p:grpSpPr>
            <a:xfrm>
              <a:off x="1677600" y="4619880"/>
              <a:ext cx="1481400" cy="505800"/>
              <a:chOff x="1677600" y="4619880"/>
              <a:chExt cx="1481400" cy="505800"/>
            </a:xfrm>
          </p:grpSpPr>
          <p:sp>
            <p:nvSpPr>
              <p:cNvPr id="440" name="Rectangle 138"/>
              <p:cNvSpPr/>
              <p:nvPr/>
            </p:nvSpPr>
            <p:spPr>
              <a:xfrm>
                <a:off x="1677600" y="4619880"/>
                <a:ext cx="1462680" cy="505800"/>
              </a:xfrm>
              <a:prstGeom prst="rect">
                <a:avLst/>
              </a:prstGeom>
              <a:gradFill rotWithShape="0">
                <a:gsLst>
                  <a:gs pos="0">
                    <a:srgbClr val="00cc66"/>
                  </a:gs>
                  <a:gs pos="50000">
                    <a:srgbClr val="ccffcc"/>
                  </a:gs>
                  <a:gs pos="100000">
                    <a:srgbClr val="00cc66"/>
                  </a:gs>
                </a:gsLst>
                <a:lin ang="5400000"/>
              </a:gradFill>
              <a:ln cap="sq"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Text Box 139"/>
              <p:cNvSpPr/>
              <p:nvPr/>
            </p:nvSpPr>
            <p:spPr>
              <a:xfrm>
                <a:off x="1677600" y="4669560"/>
                <a:ext cx="1481400" cy="4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1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2-bit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imers (3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2" name="Rectangle 140"/>
            <p:cNvSpPr/>
            <p:nvPr/>
          </p:nvSpPr>
          <p:spPr>
            <a:xfrm>
              <a:off x="2419920" y="3755160"/>
              <a:ext cx="1459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28x</a:t>
              </a:r>
              <a:r>
                <a:rPr b="1" lang="en-US" sz="900" spc="-1" strike="noStrike" baseline="50000">
                  <a:solidFill>
                    <a:srgbClr val="000000"/>
                  </a:solidFill>
                  <a:latin typeface="Arial"/>
                </a:rPr>
                <a:t>TM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32-bit DS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Rectangle 141"/>
            <p:cNvSpPr/>
            <p:nvPr/>
          </p:nvSpPr>
          <p:spPr>
            <a:xfrm>
              <a:off x="1677600" y="4042800"/>
              <a:ext cx="1462680" cy="50580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cffcc"/>
                </a:gs>
                <a:gs pos="100000">
                  <a:srgbClr val="00cc66"/>
                </a:gs>
              </a:gsLst>
              <a:lin ang="5400000"/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Text Box 142"/>
            <p:cNvSpPr/>
            <p:nvPr/>
          </p:nvSpPr>
          <p:spPr>
            <a:xfrm>
              <a:off x="1639800" y="4092120"/>
              <a:ext cx="14817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2x32-bit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ultipli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Rectangle 143"/>
            <p:cNvSpPr/>
            <p:nvPr/>
          </p:nvSpPr>
          <p:spPr>
            <a:xfrm>
              <a:off x="3252960" y="4042800"/>
              <a:ext cx="1537920" cy="73764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cffcc"/>
                </a:gs>
                <a:gs pos="100000">
                  <a:srgbClr val="00cc66"/>
                </a:gs>
              </a:gsLst>
              <a:lin ang="5400000"/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Text Box 144"/>
            <p:cNvSpPr/>
            <p:nvPr/>
          </p:nvSpPr>
          <p:spPr>
            <a:xfrm>
              <a:off x="3477960" y="4092120"/>
              <a:ext cx="11019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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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om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U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Text Box 145"/>
            <p:cNvSpPr/>
            <p:nvPr/>
          </p:nvSpPr>
          <p:spPr>
            <a:xfrm>
              <a:off x="1696320" y="3248640"/>
              <a:ext cx="3038400" cy="218160"/>
            </a:xfrm>
            <a:prstGeom prst="rect">
              <a:avLst/>
            </a:prstGeom>
            <a:gradFill rotWithShape="0">
              <a:gsLst>
                <a:gs pos="0">
                  <a:srgbClr val="ffde58"/>
                </a:gs>
                <a:gs pos="100000">
                  <a:srgbClr val="ffcc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rupt Manag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8" name="Group 146"/>
            <p:cNvGrpSpPr/>
            <p:nvPr/>
          </p:nvGrpSpPr>
          <p:grpSpPr>
            <a:xfrm>
              <a:off x="2971800" y="3453840"/>
              <a:ext cx="449280" cy="288720"/>
              <a:chOff x="2971800" y="3453840"/>
              <a:chExt cx="449280" cy="288720"/>
            </a:xfrm>
          </p:grpSpPr>
          <p:sp>
            <p:nvSpPr>
              <p:cNvPr id="449" name="AutoShape 147"/>
              <p:cNvSpPr/>
              <p:nvPr/>
            </p:nvSpPr>
            <p:spPr>
              <a:xfrm>
                <a:off x="2971800" y="3505680"/>
                <a:ext cx="449280" cy="236880"/>
              </a:xfrm>
              <a:prstGeom prst="downArrow">
                <a:avLst>
                  <a:gd name="adj1" fmla="val 50000"/>
                  <a:gd name="adj2" fmla="val 33861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AutoShape 148"/>
              <p:cNvSpPr/>
              <p:nvPr/>
            </p:nvSpPr>
            <p:spPr>
              <a:xfrm>
                <a:off x="2971800" y="3453840"/>
                <a:ext cx="449280" cy="240840"/>
              </a:xfrm>
              <a:prstGeom prst="upArrow">
                <a:avLst>
                  <a:gd name="adj1" fmla="val 50000"/>
                  <a:gd name="adj2" fmla="val 3359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1" name="Rectangle 149"/>
            <p:cNvSpPr/>
            <p:nvPr/>
          </p:nvSpPr>
          <p:spPr>
            <a:xfrm>
              <a:off x="1583280" y="3724920"/>
              <a:ext cx="3303720" cy="212184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Rectangle 150"/>
            <p:cNvSpPr/>
            <p:nvPr/>
          </p:nvSpPr>
          <p:spPr>
            <a:xfrm>
              <a:off x="1651680" y="2423520"/>
              <a:ext cx="3939120" cy="2113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d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mory Bus    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3" name="Group 151"/>
            <p:cNvGrpSpPr/>
            <p:nvPr/>
          </p:nvGrpSpPr>
          <p:grpSpPr>
            <a:xfrm>
              <a:off x="2495880" y="2642040"/>
              <a:ext cx="412200" cy="568080"/>
              <a:chOff x="2495880" y="2642040"/>
              <a:chExt cx="412200" cy="568080"/>
            </a:xfrm>
          </p:grpSpPr>
          <p:sp>
            <p:nvSpPr>
              <p:cNvPr id="454" name="AutoShape 152"/>
              <p:cNvSpPr/>
              <p:nvPr/>
            </p:nvSpPr>
            <p:spPr>
              <a:xfrm>
                <a:off x="2495880" y="2744280"/>
                <a:ext cx="412200" cy="465840"/>
              </a:xfrm>
              <a:prstGeom prst="downArrow">
                <a:avLst>
                  <a:gd name="adj1" fmla="val 50000"/>
                  <a:gd name="adj2" fmla="val 3798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AutoShape 153"/>
              <p:cNvSpPr/>
              <p:nvPr/>
            </p:nvSpPr>
            <p:spPr>
              <a:xfrm>
                <a:off x="2495880" y="2642040"/>
                <a:ext cx="412200" cy="470520"/>
              </a:xfrm>
              <a:prstGeom prst="upArrow">
                <a:avLst>
                  <a:gd name="adj1" fmla="val 50000"/>
                  <a:gd name="adj2" fmla="val 38351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6" name="AutoShape 154"/>
            <p:cNvSpPr/>
            <p:nvPr/>
          </p:nvSpPr>
          <p:spPr>
            <a:xfrm rot="198600">
              <a:off x="4064400" y="2095920"/>
              <a:ext cx="428760" cy="295560"/>
            </a:xfrm>
            <a:prstGeom prst="downArrow">
              <a:avLst>
                <a:gd name="adj1" fmla="val 50000"/>
                <a:gd name="adj2" fmla="val 3360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155"/>
            <p:cNvSpPr/>
            <p:nvPr/>
          </p:nvSpPr>
          <p:spPr>
            <a:xfrm>
              <a:off x="971640" y="1314000"/>
              <a:ext cx="2583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de secur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Text Box 156"/>
            <p:cNvSpPr/>
            <p:nvPr/>
          </p:nvSpPr>
          <p:spPr>
            <a:xfrm>
              <a:off x="5754600" y="1831320"/>
              <a:ext cx="1688040" cy="241452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157"/>
            <p:cNvSpPr/>
            <p:nvPr/>
          </p:nvSpPr>
          <p:spPr>
            <a:xfrm>
              <a:off x="5642280" y="3361320"/>
              <a:ext cx="606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Text Box 158"/>
            <p:cNvSpPr/>
            <p:nvPr/>
          </p:nvSpPr>
          <p:spPr>
            <a:xfrm>
              <a:off x="5852880" y="3214080"/>
              <a:ext cx="1446480" cy="2743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85ad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-bit AD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Text Box 159"/>
            <p:cNvSpPr/>
            <p:nvPr/>
          </p:nvSpPr>
          <p:spPr>
            <a:xfrm>
              <a:off x="5754600" y="4325400"/>
              <a:ext cx="1688040" cy="168192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160"/>
            <p:cNvSpPr/>
            <p:nvPr/>
          </p:nvSpPr>
          <p:spPr>
            <a:xfrm>
              <a:off x="5663160" y="4596840"/>
              <a:ext cx="60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161"/>
            <p:cNvSpPr/>
            <p:nvPr/>
          </p:nvSpPr>
          <p:spPr>
            <a:xfrm>
              <a:off x="5663160" y="5834160"/>
              <a:ext cx="60696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162"/>
            <p:cNvSpPr/>
            <p:nvPr/>
          </p:nvSpPr>
          <p:spPr>
            <a:xfrm>
              <a:off x="5663160" y="4921200"/>
              <a:ext cx="60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163"/>
            <p:cNvSpPr/>
            <p:nvPr/>
          </p:nvSpPr>
          <p:spPr>
            <a:xfrm>
              <a:off x="5663160" y="5240160"/>
              <a:ext cx="606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Text Box 164"/>
            <p:cNvSpPr/>
            <p:nvPr/>
          </p:nvSpPr>
          <p:spPr>
            <a:xfrm>
              <a:off x="5888520" y="4447800"/>
              <a:ext cx="1446120" cy="276120"/>
            </a:xfrm>
            <a:prstGeom prst="rect">
              <a:avLst/>
            </a:prstGeom>
            <a:gradFill rotWithShape="0">
              <a:gsLst>
                <a:gs pos="0">
                  <a:srgbClr val="c3b1e7"/>
                </a:gs>
                <a:gs pos="100000">
                  <a:srgbClr val="cfc1e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Text Box 165"/>
            <p:cNvSpPr/>
            <p:nvPr/>
          </p:nvSpPr>
          <p:spPr>
            <a:xfrm>
              <a:off x="5888520" y="5719680"/>
              <a:ext cx="1446120" cy="248040"/>
            </a:xfrm>
            <a:prstGeom prst="rect">
              <a:avLst/>
            </a:prstGeom>
            <a:gradFill rotWithShape="0">
              <a:gsLst>
                <a:gs pos="0">
                  <a:srgbClr val="c3b1e7"/>
                </a:gs>
                <a:gs pos="100000">
                  <a:srgbClr val="cfc1e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 CA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Text Box 166"/>
            <p:cNvSpPr/>
            <p:nvPr/>
          </p:nvSpPr>
          <p:spPr>
            <a:xfrm>
              <a:off x="5895360" y="4772160"/>
              <a:ext cx="1446480" cy="275760"/>
            </a:xfrm>
            <a:prstGeom prst="rect">
              <a:avLst/>
            </a:prstGeom>
            <a:gradFill rotWithShape="0">
              <a:gsLst>
                <a:gs pos="0">
                  <a:srgbClr val="c3b1e7"/>
                </a:gs>
                <a:gs pos="100000">
                  <a:srgbClr val="cfc1e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 SC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Text Box 167"/>
            <p:cNvSpPr/>
            <p:nvPr/>
          </p:nvSpPr>
          <p:spPr>
            <a:xfrm>
              <a:off x="5888520" y="5092920"/>
              <a:ext cx="1446120" cy="274320"/>
            </a:xfrm>
            <a:prstGeom prst="rect">
              <a:avLst/>
            </a:prstGeom>
            <a:gradFill rotWithShape="0">
              <a:gsLst>
                <a:gs pos="0">
                  <a:srgbClr val="c3b1e7"/>
                </a:gs>
                <a:gs pos="100000">
                  <a:srgbClr val="cfc1e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 McBS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0" name="Group 168"/>
            <p:cNvGrpSpPr/>
            <p:nvPr/>
          </p:nvGrpSpPr>
          <p:grpSpPr>
            <a:xfrm>
              <a:off x="1440360" y="1632960"/>
              <a:ext cx="1237680" cy="514080"/>
              <a:chOff x="1440360" y="1632960"/>
              <a:chExt cx="1237680" cy="514080"/>
            </a:xfrm>
          </p:grpSpPr>
          <p:sp>
            <p:nvSpPr>
              <p:cNvPr id="471" name="Text Box 169"/>
              <p:cNvSpPr/>
              <p:nvPr/>
            </p:nvSpPr>
            <p:spPr>
              <a:xfrm>
                <a:off x="1464480" y="1667520"/>
                <a:ext cx="1157040" cy="479520"/>
              </a:xfrm>
              <a:prstGeom prst="rect">
                <a:avLst/>
              </a:prstGeom>
              <a:gradFill rotWithShape="0">
                <a:gsLst>
                  <a:gs pos="0">
                    <a:srgbClr val="ffbc79"/>
                  </a:gs>
                  <a:gs pos="100000">
                    <a:srgbClr val="ff9933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ctr" anchorCtr="1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12 KB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Fl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Rectangle 170"/>
              <p:cNvSpPr/>
              <p:nvPr/>
            </p:nvSpPr>
            <p:spPr>
              <a:xfrm>
                <a:off x="1440360" y="1632960"/>
                <a:ext cx="1237680" cy="48744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171"/>
            <p:cNvGrpSpPr/>
            <p:nvPr/>
          </p:nvGrpSpPr>
          <p:grpSpPr>
            <a:xfrm>
              <a:off x="2765520" y="1636560"/>
              <a:ext cx="920880" cy="492120"/>
              <a:chOff x="2765520" y="1636560"/>
              <a:chExt cx="920880" cy="492120"/>
            </a:xfrm>
          </p:grpSpPr>
          <p:sp>
            <p:nvSpPr>
              <p:cNvPr id="474" name="Text Box 172"/>
              <p:cNvSpPr/>
              <p:nvPr/>
            </p:nvSpPr>
            <p:spPr>
              <a:xfrm>
                <a:off x="2777040" y="1651680"/>
                <a:ext cx="862560" cy="477000"/>
              </a:xfrm>
              <a:prstGeom prst="rect">
                <a:avLst/>
              </a:prstGeom>
              <a:gradFill rotWithShape="0">
                <a:gsLst>
                  <a:gs pos="0">
                    <a:srgbClr val="ffbc79"/>
                  </a:gs>
                  <a:gs pos="100000">
                    <a:srgbClr val="ff9933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ctr" anchorCtr="1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8 KB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A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Rectangle 173"/>
              <p:cNvSpPr/>
              <p:nvPr/>
            </p:nvSpPr>
            <p:spPr>
              <a:xfrm>
                <a:off x="2765520" y="1636560"/>
                <a:ext cx="920880" cy="48528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174"/>
            <p:cNvGrpSpPr/>
            <p:nvPr/>
          </p:nvGrpSpPr>
          <p:grpSpPr>
            <a:xfrm>
              <a:off x="4892400" y="4462920"/>
              <a:ext cx="449280" cy="262440"/>
              <a:chOff x="4892400" y="4462920"/>
              <a:chExt cx="449280" cy="262440"/>
            </a:xfrm>
          </p:grpSpPr>
          <p:sp>
            <p:nvSpPr>
              <p:cNvPr id="477" name="AutoShape 175"/>
              <p:cNvSpPr/>
              <p:nvPr/>
            </p:nvSpPr>
            <p:spPr>
              <a:xfrm rot="5400000">
                <a:off x="4928760" y="4426200"/>
                <a:ext cx="262440" cy="335520"/>
              </a:xfrm>
              <a:prstGeom prst="downArrow">
                <a:avLst>
                  <a:gd name="adj1" fmla="val 50000"/>
                  <a:gd name="adj2" fmla="val 4296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AutoShape 176"/>
              <p:cNvSpPr/>
              <p:nvPr/>
            </p:nvSpPr>
            <p:spPr>
              <a:xfrm rot="5400000">
                <a:off x="5041080" y="4424760"/>
                <a:ext cx="262440" cy="338400"/>
              </a:xfrm>
              <a:prstGeom prst="upArrow">
                <a:avLst>
                  <a:gd name="adj1" fmla="val 50000"/>
                  <a:gd name="adj2" fmla="val 43321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9" name="Line 177"/>
            <p:cNvSpPr/>
            <p:nvPr/>
          </p:nvSpPr>
          <p:spPr>
            <a:xfrm>
              <a:off x="5656320" y="2688120"/>
              <a:ext cx="606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178"/>
            <p:cNvSpPr/>
            <p:nvPr/>
          </p:nvSpPr>
          <p:spPr>
            <a:xfrm>
              <a:off x="5656320" y="3017160"/>
              <a:ext cx="606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Text Box 179"/>
            <p:cNvSpPr/>
            <p:nvPr/>
          </p:nvSpPr>
          <p:spPr>
            <a:xfrm>
              <a:off x="5852880" y="2493000"/>
              <a:ext cx="1446480" cy="2743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85ad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 CA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180"/>
            <p:cNvSpPr/>
            <p:nvPr/>
          </p:nvSpPr>
          <p:spPr>
            <a:xfrm>
              <a:off x="5656320" y="2169000"/>
              <a:ext cx="606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Text Box 181"/>
            <p:cNvSpPr/>
            <p:nvPr/>
          </p:nvSpPr>
          <p:spPr>
            <a:xfrm>
              <a:off x="5860440" y="1906200"/>
              <a:ext cx="1446480" cy="5270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85ad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 PW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6 HRPWM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182"/>
            <p:cNvSpPr/>
            <p:nvPr/>
          </p:nvSpPr>
          <p:spPr>
            <a:xfrm>
              <a:off x="3030120" y="2836800"/>
              <a:ext cx="1728000" cy="3142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ccffcc"/>
                </a:gs>
                <a:gs pos="100000">
                  <a:srgbClr val="00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Rectangle 183"/>
            <p:cNvSpPr/>
            <p:nvPr/>
          </p:nvSpPr>
          <p:spPr>
            <a:xfrm>
              <a:off x="3264840" y="4849920"/>
              <a:ext cx="1526400" cy="848160"/>
            </a:xfrm>
            <a:prstGeom prst="rect">
              <a:avLst/>
            </a:prstGeom>
            <a:gradFill rotWithShape="0">
              <a:gsLst>
                <a:gs pos="0">
                  <a:srgbClr val="0f6f34"/>
                </a:gs>
                <a:gs pos="50000">
                  <a:srgbClr val="1ab621"/>
                </a:gs>
                <a:gs pos="100000">
                  <a:srgbClr val="0f6f34"/>
                </a:gs>
              </a:gsLst>
              <a:lin ang="5400000"/>
            </a:gradFill>
            <a:ln cap="sq"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Text Box 184"/>
            <p:cNvSpPr/>
            <p:nvPr/>
          </p:nvSpPr>
          <p:spPr>
            <a:xfrm>
              <a:off x="3422160" y="4904280"/>
              <a:ext cx="120456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32-b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Floating-Point Un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185"/>
            <p:cNvSpPr/>
            <p:nvPr/>
          </p:nvSpPr>
          <p:spPr>
            <a:xfrm>
              <a:off x="5626080" y="3687120"/>
              <a:ext cx="606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186"/>
            <p:cNvSpPr/>
            <p:nvPr/>
          </p:nvSpPr>
          <p:spPr>
            <a:xfrm>
              <a:off x="5852880" y="3533400"/>
              <a:ext cx="1446480" cy="2743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85ad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8 GP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187"/>
            <p:cNvSpPr/>
            <p:nvPr/>
          </p:nvSpPr>
          <p:spPr>
            <a:xfrm>
              <a:off x="5656320" y="5560920"/>
              <a:ext cx="606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Text Box 188"/>
            <p:cNvSpPr/>
            <p:nvPr/>
          </p:nvSpPr>
          <p:spPr>
            <a:xfrm>
              <a:off x="5895360" y="5414040"/>
              <a:ext cx="1446480" cy="274320"/>
            </a:xfrm>
            <a:prstGeom prst="rect">
              <a:avLst/>
            </a:prstGeom>
            <a:gradFill rotWithShape="0">
              <a:gsLst>
                <a:gs pos="0">
                  <a:srgbClr val="c3b1e7"/>
                </a:gs>
                <a:gs pos="100000">
                  <a:srgbClr val="cfc1e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²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Text Box 189"/>
            <p:cNvSpPr/>
            <p:nvPr/>
          </p:nvSpPr>
          <p:spPr>
            <a:xfrm>
              <a:off x="3818160" y="1748880"/>
              <a:ext cx="1132200" cy="358920"/>
            </a:xfrm>
            <a:prstGeom prst="rect">
              <a:avLst/>
            </a:prstGeom>
            <a:gradFill rotWithShape="0">
              <a:gsLst>
                <a:gs pos="0">
                  <a:srgbClr val="ffbc79"/>
                </a:gs>
                <a:gs pos="100000">
                  <a:srgbClr val="ff9933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ot RO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2" name="Group 190"/>
            <p:cNvGrpSpPr/>
            <p:nvPr/>
          </p:nvGrpSpPr>
          <p:grpSpPr>
            <a:xfrm>
              <a:off x="2842560" y="2145600"/>
              <a:ext cx="465840" cy="289440"/>
              <a:chOff x="2842560" y="2145600"/>
              <a:chExt cx="465840" cy="289440"/>
            </a:xfrm>
          </p:grpSpPr>
          <p:sp>
            <p:nvSpPr>
              <p:cNvPr id="493" name="AutoShape 191"/>
              <p:cNvSpPr/>
              <p:nvPr/>
            </p:nvSpPr>
            <p:spPr>
              <a:xfrm>
                <a:off x="2842560" y="2145600"/>
                <a:ext cx="452520" cy="223560"/>
              </a:xfrm>
              <a:prstGeom prst="upArrow">
                <a:avLst>
                  <a:gd name="adj1" fmla="val 50000"/>
                  <a:gd name="adj2" fmla="val 3359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AutoShape 192"/>
              <p:cNvSpPr/>
              <p:nvPr/>
            </p:nvSpPr>
            <p:spPr>
              <a:xfrm>
                <a:off x="2856600" y="2211480"/>
                <a:ext cx="451800" cy="223560"/>
              </a:xfrm>
              <a:prstGeom prst="downArrow">
                <a:avLst>
                  <a:gd name="adj1" fmla="val 50000"/>
                  <a:gd name="adj2" fmla="val 33606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193"/>
            <p:cNvGrpSpPr/>
            <p:nvPr/>
          </p:nvGrpSpPr>
          <p:grpSpPr>
            <a:xfrm>
              <a:off x="1970640" y="2145600"/>
              <a:ext cx="465840" cy="289440"/>
              <a:chOff x="1970640" y="2145600"/>
              <a:chExt cx="465840" cy="289440"/>
            </a:xfrm>
          </p:grpSpPr>
          <p:sp>
            <p:nvSpPr>
              <p:cNvPr id="496" name="AutoShape 194"/>
              <p:cNvSpPr/>
              <p:nvPr/>
            </p:nvSpPr>
            <p:spPr>
              <a:xfrm>
                <a:off x="1970640" y="2145600"/>
                <a:ext cx="452520" cy="223560"/>
              </a:xfrm>
              <a:prstGeom prst="upArrow">
                <a:avLst>
                  <a:gd name="adj1" fmla="val 50000"/>
                  <a:gd name="adj2" fmla="val 3359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AutoShape 195"/>
              <p:cNvSpPr/>
              <p:nvPr/>
            </p:nvSpPr>
            <p:spPr>
              <a:xfrm>
                <a:off x="1984680" y="2211480"/>
                <a:ext cx="451800" cy="223560"/>
              </a:xfrm>
              <a:prstGeom prst="downArrow">
                <a:avLst>
                  <a:gd name="adj1" fmla="val 50000"/>
                  <a:gd name="adj2" fmla="val 33606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196"/>
            <p:cNvGrpSpPr/>
            <p:nvPr/>
          </p:nvGrpSpPr>
          <p:grpSpPr>
            <a:xfrm>
              <a:off x="4109040" y="2621880"/>
              <a:ext cx="465480" cy="229320"/>
              <a:chOff x="4109040" y="2621880"/>
              <a:chExt cx="465480" cy="229320"/>
            </a:xfrm>
          </p:grpSpPr>
          <p:sp>
            <p:nvSpPr>
              <p:cNvPr id="499" name="AutoShape 197"/>
              <p:cNvSpPr/>
              <p:nvPr/>
            </p:nvSpPr>
            <p:spPr>
              <a:xfrm>
                <a:off x="4109040" y="2621880"/>
                <a:ext cx="452160" cy="179640"/>
              </a:xfrm>
              <a:prstGeom prst="upArrow">
                <a:avLst>
                  <a:gd name="adj1" fmla="val 50000"/>
                  <a:gd name="adj2" fmla="val 3359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AutoShape 198"/>
              <p:cNvSpPr/>
              <p:nvPr/>
            </p:nvSpPr>
            <p:spPr>
              <a:xfrm>
                <a:off x="4123080" y="2674080"/>
                <a:ext cx="451440" cy="177120"/>
              </a:xfrm>
              <a:prstGeom prst="downArrow">
                <a:avLst>
                  <a:gd name="adj1" fmla="val 50000"/>
                  <a:gd name="adj2" fmla="val 33606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199"/>
            <p:cNvGrpSpPr/>
            <p:nvPr/>
          </p:nvGrpSpPr>
          <p:grpSpPr>
            <a:xfrm>
              <a:off x="4770720" y="2802600"/>
              <a:ext cx="562320" cy="262440"/>
              <a:chOff x="4770720" y="2802600"/>
              <a:chExt cx="562320" cy="262440"/>
            </a:xfrm>
          </p:grpSpPr>
          <p:sp>
            <p:nvSpPr>
              <p:cNvPr id="502" name="AutoShape 200"/>
              <p:cNvSpPr/>
              <p:nvPr/>
            </p:nvSpPr>
            <p:spPr>
              <a:xfrm rot="5400000">
                <a:off x="4870080" y="2702880"/>
                <a:ext cx="262440" cy="461520"/>
              </a:xfrm>
              <a:prstGeom prst="downArrow">
                <a:avLst>
                  <a:gd name="adj1" fmla="val 50000"/>
                  <a:gd name="adj2" fmla="val 5909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AutoShape 201"/>
              <p:cNvSpPr/>
              <p:nvPr/>
            </p:nvSpPr>
            <p:spPr>
              <a:xfrm rot="5400000">
                <a:off x="4969080" y="2701080"/>
                <a:ext cx="262440" cy="465480"/>
              </a:xfrm>
              <a:prstGeom prst="upArrow">
                <a:avLst>
                  <a:gd name="adj1" fmla="val 50000"/>
                  <a:gd name="adj2" fmla="val 5959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4" name="Line 202"/>
            <p:cNvSpPr/>
            <p:nvPr/>
          </p:nvSpPr>
          <p:spPr>
            <a:xfrm>
              <a:off x="5571720" y="4024800"/>
              <a:ext cx="606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Text Box 203"/>
            <p:cNvSpPr/>
            <p:nvPr/>
          </p:nvSpPr>
          <p:spPr>
            <a:xfrm>
              <a:off x="5852880" y="3847680"/>
              <a:ext cx="1446480" cy="3636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85ad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/32-b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I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Text Box 204"/>
            <p:cNvSpPr/>
            <p:nvPr/>
          </p:nvSpPr>
          <p:spPr>
            <a:xfrm>
              <a:off x="5855760" y="2856960"/>
              <a:ext cx="1446480" cy="2743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85ad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 QE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7" name="Group 205"/>
            <p:cNvGrpSpPr/>
            <p:nvPr/>
          </p:nvGrpSpPr>
          <p:grpSpPr>
            <a:xfrm>
              <a:off x="4785120" y="3199320"/>
              <a:ext cx="561600" cy="262440"/>
              <a:chOff x="4785120" y="3199320"/>
              <a:chExt cx="561600" cy="262440"/>
            </a:xfrm>
          </p:grpSpPr>
          <p:sp>
            <p:nvSpPr>
              <p:cNvPr id="508" name="AutoShape 206"/>
              <p:cNvSpPr/>
              <p:nvPr/>
            </p:nvSpPr>
            <p:spPr>
              <a:xfrm rot="5400000">
                <a:off x="4884480" y="3099960"/>
                <a:ext cx="262440" cy="461160"/>
              </a:xfrm>
              <a:prstGeom prst="downArrow">
                <a:avLst>
                  <a:gd name="adj1" fmla="val 50000"/>
                  <a:gd name="adj2" fmla="val 59053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AutoShape 207"/>
              <p:cNvSpPr/>
              <p:nvPr/>
            </p:nvSpPr>
            <p:spPr>
              <a:xfrm rot="5400000">
                <a:off x="4983120" y="3098160"/>
                <a:ext cx="262440" cy="464760"/>
              </a:xfrm>
              <a:prstGeom prst="upArrow">
                <a:avLst>
                  <a:gd name="adj1" fmla="val 50000"/>
                  <a:gd name="adj2" fmla="val 59498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0" name="Rectangle 208"/>
            <p:cNvSpPr/>
            <p:nvPr/>
          </p:nvSpPr>
          <p:spPr>
            <a:xfrm rot="5400000">
              <a:off x="3382560" y="3724560"/>
              <a:ext cx="4202280" cy="283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d5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Peripheral B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f"/>
            </a:gs>
            <a:gs pos="50000">
              <a:srgbClr val="0000ff"/>
            </a:gs>
            <a:gs pos="100000">
              <a:srgbClr val="0000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512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icroprocessor block diagram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0" name="Group 34"/>
          <p:cNvGrpSpPr/>
          <p:nvPr/>
        </p:nvGrpSpPr>
        <p:grpSpPr>
          <a:xfrm>
            <a:off x="179280" y="1268280"/>
            <a:ext cx="8668800" cy="5024520"/>
            <a:chOff x="179280" y="1268280"/>
            <a:chExt cx="8668800" cy="5024520"/>
          </a:xfrm>
        </p:grpSpPr>
        <p:sp>
          <p:nvSpPr>
            <p:cNvPr id="71" name="Rectangle 8"/>
            <p:cNvSpPr/>
            <p:nvPr/>
          </p:nvSpPr>
          <p:spPr>
            <a:xfrm>
              <a:off x="3071880" y="2276640"/>
              <a:ext cx="2795400" cy="27954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a2ff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3564000" y="1268280"/>
              <a:ext cx="180000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cod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3571920" y="5572080"/>
              <a:ext cx="180036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3635280" y="3357720"/>
              <a:ext cx="180036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entral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rocessing Un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P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3635280" y="2421000"/>
              <a:ext cx="180036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Control U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971640" y="3429000"/>
              <a:ext cx="180000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odule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6227640" y="3357720"/>
              <a:ext cx="180036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output –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odule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16"/>
            <p:cNvSpPr/>
            <p:nvPr/>
          </p:nvSpPr>
          <p:spPr>
            <a:xfrm rot="16200000">
              <a:off x="7947720" y="3457800"/>
              <a:ext cx="134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Text Box 17"/>
            <p:cNvSpPr/>
            <p:nvPr/>
          </p:nvSpPr>
          <p:spPr>
            <a:xfrm rot="16200000">
              <a:off x="-261000" y="3603600"/>
              <a:ext cx="134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AutoShape 18"/>
            <p:cNvSpPr/>
            <p:nvPr/>
          </p:nvSpPr>
          <p:spPr>
            <a:xfrm>
              <a:off x="684360" y="3500280"/>
              <a:ext cx="287280" cy="144720"/>
            </a:xfrm>
            <a:prstGeom prst="rightArrow">
              <a:avLst>
                <a:gd name="adj1" fmla="val 50000"/>
                <a:gd name="adj2" fmla="val 49627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84360" y="3718080"/>
              <a:ext cx="287280" cy="144360"/>
            </a:xfrm>
            <a:prstGeom prst="rightArrow">
              <a:avLst>
                <a:gd name="adj1" fmla="val 50000"/>
                <a:gd name="adj2" fmla="val 49751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684360" y="3933720"/>
              <a:ext cx="287280" cy="144720"/>
            </a:xfrm>
            <a:prstGeom prst="rightArrow">
              <a:avLst>
                <a:gd name="adj1" fmla="val 50000"/>
                <a:gd name="adj2" fmla="val 49627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>
              <a:off x="8028000" y="3427560"/>
              <a:ext cx="287280" cy="144360"/>
            </a:xfrm>
            <a:prstGeom prst="rightArrow">
              <a:avLst>
                <a:gd name="adj1" fmla="val 50000"/>
                <a:gd name="adj2" fmla="val 49751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>
              <a:off x="8028000" y="3645000"/>
              <a:ext cx="287280" cy="144360"/>
            </a:xfrm>
            <a:prstGeom prst="rightArrow">
              <a:avLst>
                <a:gd name="adj1" fmla="val 50000"/>
                <a:gd name="adj2" fmla="val 49751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>
              <a:off x="8028000" y="3860640"/>
              <a:ext cx="287280" cy="144720"/>
            </a:xfrm>
            <a:prstGeom prst="rightArrow">
              <a:avLst>
                <a:gd name="adj1" fmla="val 50000"/>
                <a:gd name="adj2" fmla="val 49627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5400000">
              <a:off x="4283280" y="213264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5400000">
              <a:off x="3322440" y="4754520"/>
              <a:ext cx="1497240" cy="141120"/>
            </a:xfrm>
            <a:prstGeom prst="rightArrow">
              <a:avLst>
                <a:gd name="adj1" fmla="val 50000"/>
                <a:gd name="adj2" fmla="val 87481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AutoShape 26"/>
            <p:cNvSpPr/>
            <p:nvPr/>
          </p:nvSpPr>
          <p:spPr>
            <a:xfrm rot="5400000">
              <a:off x="3888360" y="3177360"/>
              <a:ext cx="214200" cy="142920"/>
            </a:xfrm>
            <a:prstGeom prst="rightArrow">
              <a:avLst>
                <a:gd name="adj1" fmla="val 50000"/>
                <a:gd name="adj2" fmla="val 37469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AutoShape 27"/>
            <p:cNvSpPr/>
            <p:nvPr/>
          </p:nvSpPr>
          <p:spPr>
            <a:xfrm rot="16200000">
              <a:off x="4752360" y="3177000"/>
              <a:ext cx="214200" cy="142920"/>
            </a:xfrm>
            <a:prstGeom prst="rightArrow">
              <a:avLst>
                <a:gd name="adj1" fmla="val 50000"/>
                <a:gd name="adj2" fmla="val 37469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utoShape 28"/>
            <p:cNvSpPr/>
            <p:nvPr/>
          </p:nvSpPr>
          <p:spPr>
            <a:xfrm rot="16200000">
              <a:off x="4109040" y="4753800"/>
              <a:ext cx="1495440" cy="144360"/>
            </a:xfrm>
            <a:prstGeom prst="rightArrow">
              <a:avLst>
                <a:gd name="adj1" fmla="val 50000"/>
                <a:gd name="adj2" fmla="val 88388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utoShape 29"/>
            <p:cNvSpPr/>
            <p:nvPr/>
          </p:nvSpPr>
          <p:spPr>
            <a:xfrm>
              <a:off x="2771640" y="3716280"/>
              <a:ext cx="863640" cy="144360"/>
            </a:xfrm>
            <a:prstGeom prst="rightArrow">
              <a:avLst>
                <a:gd name="adj1" fmla="val 50000"/>
                <a:gd name="adj2" fmla="val 149564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AutoShape 30"/>
            <p:cNvSpPr/>
            <p:nvPr/>
          </p:nvSpPr>
          <p:spPr>
            <a:xfrm>
              <a:off x="5435640" y="3645000"/>
              <a:ext cx="792000" cy="144360"/>
            </a:xfrm>
            <a:prstGeom prst="rightArrow">
              <a:avLst>
                <a:gd name="adj1" fmla="val 50000"/>
                <a:gd name="adj2" fmla="val 137157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Text Box 31"/>
            <p:cNvSpPr/>
            <p:nvPr/>
          </p:nvSpPr>
          <p:spPr>
            <a:xfrm>
              <a:off x="3431880" y="4286160"/>
              <a:ext cx="22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croprocess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icroprocessor execution flow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5" name="Group 82"/>
          <p:cNvGrpSpPr/>
          <p:nvPr/>
        </p:nvGrpSpPr>
        <p:grpSpPr>
          <a:xfrm>
            <a:off x="250560" y="1052640"/>
            <a:ext cx="8426880" cy="5545080"/>
            <a:chOff x="250560" y="1052640"/>
            <a:chExt cx="8426880" cy="5545080"/>
          </a:xfrm>
        </p:grpSpPr>
        <p:sp>
          <p:nvSpPr>
            <p:cNvPr id="96" name="Rectangle 30"/>
            <p:cNvSpPr/>
            <p:nvPr/>
          </p:nvSpPr>
          <p:spPr>
            <a:xfrm>
              <a:off x="971640" y="1052640"/>
              <a:ext cx="720072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rogram counter (PC) in control unit addresse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first (next) instruction in code 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AutoShape 44"/>
            <p:cNvSpPr/>
            <p:nvPr/>
          </p:nvSpPr>
          <p:spPr>
            <a:xfrm rot="5400000">
              <a:off x="4429080" y="1700280"/>
              <a:ext cx="287280" cy="433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53"/>
            <p:cNvSpPr/>
            <p:nvPr/>
          </p:nvSpPr>
          <p:spPr>
            <a:xfrm>
              <a:off x="971640" y="2060640"/>
              <a:ext cx="720072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struction read (“fetch”) from code 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to microprocessors instruction register (IR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Rectangle 54"/>
            <p:cNvSpPr/>
            <p:nvPr/>
          </p:nvSpPr>
          <p:spPr>
            <a:xfrm>
              <a:off x="971640" y="3068640"/>
              <a:ext cx="720072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decode instruction and do 1 of the following actions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Group 60"/>
            <p:cNvGrpSpPr/>
            <p:nvPr/>
          </p:nvGrpSpPr>
          <p:grpSpPr>
            <a:xfrm>
              <a:off x="428760" y="4429080"/>
              <a:ext cx="8248680" cy="728640"/>
              <a:chOff x="428760" y="4429080"/>
              <a:chExt cx="8248680" cy="728640"/>
            </a:xfrm>
          </p:grpSpPr>
          <p:sp>
            <p:nvSpPr>
              <p:cNvPr id="101" name="Rectangle 55"/>
              <p:cNvSpPr/>
              <p:nvPr/>
            </p:nvSpPr>
            <p:spPr>
              <a:xfrm>
                <a:off x="428760" y="4429080"/>
                <a:ext cx="1439640" cy="7207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read input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&amp; comput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56"/>
              <p:cNvSpPr/>
              <p:nvPr/>
            </p:nvSpPr>
            <p:spPr>
              <a:xfrm>
                <a:off x="2071800" y="4437000"/>
                <a:ext cx="1928880" cy="7207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read data memory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&amp; comput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57"/>
              <p:cNvSpPr/>
              <p:nvPr/>
            </p:nvSpPr>
            <p:spPr>
              <a:xfrm>
                <a:off x="4140360" y="4437000"/>
                <a:ext cx="1296720" cy="7207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internal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oper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58"/>
              <p:cNvSpPr/>
              <p:nvPr/>
            </p:nvSpPr>
            <p:spPr>
              <a:xfrm>
                <a:off x="5724720" y="4437000"/>
                <a:ext cx="1224000" cy="7207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updat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outpu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59"/>
              <p:cNvSpPr/>
              <p:nvPr/>
            </p:nvSpPr>
            <p:spPr>
              <a:xfrm>
                <a:off x="7237440" y="4437000"/>
                <a:ext cx="1440000" cy="72072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write da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457200" indent="-457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memor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61"/>
            <p:cNvSpPr/>
            <p:nvPr/>
          </p:nvSpPr>
          <p:spPr>
            <a:xfrm>
              <a:off x="971640" y="5518080"/>
              <a:ext cx="7200720" cy="7207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crement or modify program counter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AutoShape 67"/>
            <p:cNvSpPr/>
            <p:nvPr/>
          </p:nvSpPr>
          <p:spPr>
            <a:xfrm rot="5400000">
              <a:off x="4429080" y="2708280"/>
              <a:ext cx="287280" cy="433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68"/>
            <p:cNvSpPr/>
            <p:nvPr/>
          </p:nvSpPr>
          <p:spPr>
            <a:xfrm flipH="1">
              <a:off x="2999880" y="3789360"/>
              <a:ext cx="1427400" cy="63972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69"/>
            <p:cNvSpPr/>
            <p:nvPr/>
          </p:nvSpPr>
          <p:spPr>
            <a:xfrm flipH="1">
              <a:off x="1402920" y="3789360"/>
              <a:ext cx="3024360" cy="64764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70"/>
            <p:cNvSpPr/>
            <p:nvPr/>
          </p:nvSpPr>
          <p:spPr>
            <a:xfrm>
              <a:off x="4427640" y="3789360"/>
              <a:ext cx="360360" cy="64764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71"/>
            <p:cNvSpPr/>
            <p:nvPr/>
          </p:nvSpPr>
          <p:spPr>
            <a:xfrm>
              <a:off x="4427640" y="3789360"/>
              <a:ext cx="1944720" cy="64764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Line 72"/>
            <p:cNvSpPr/>
            <p:nvPr/>
          </p:nvSpPr>
          <p:spPr>
            <a:xfrm>
              <a:off x="4427640" y="3789360"/>
              <a:ext cx="3529080" cy="64764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73"/>
            <p:cNvSpPr/>
            <p:nvPr/>
          </p:nvSpPr>
          <p:spPr>
            <a:xfrm>
              <a:off x="250920" y="1413000"/>
              <a:ext cx="722160" cy="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Line 74"/>
            <p:cNvSpPr/>
            <p:nvPr/>
          </p:nvSpPr>
          <p:spPr>
            <a:xfrm>
              <a:off x="4572000" y="6237360"/>
              <a:ext cx="0" cy="360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75"/>
            <p:cNvSpPr/>
            <p:nvPr/>
          </p:nvSpPr>
          <p:spPr>
            <a:xfrm flipH="1">
              <a:off x="250560" y="6597720"/>
              <a:ext cx="43210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76"/>
            <p:cNvSpPr/>
            <p:nvPr/>
          </p:nvSpPr>
          <p:spPr>
            <a:xfrm flipV="1">
              <a:off x="250920" y="1413000"/>
              <a:ext cx="0" cy="51847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77"/>
            <p:cNvSpPr/>
            <p:nvPr/>
          </p:nvSpPr>
          <p:spPr>
            <a:xfrm>
              <a:off x="1476360" y="5157720"/>
              <a:ext cx="647640" cy="36036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78"/>
            <p:cNvSpPr/>
            <p:nvPr/>
          </p:nvSpPr>
          <p:spPr>
            <a:xfrm>
              <a:off x="3000240" y="5143680"/>
              <a:ext cx="428760" cy="42840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79"/>
            <p:cNvSpPr/>
            <p:nvPr/>
          </p:nvSpPr>
          <p:spPr>
            <a:xfrm flipH="1">
              <a:off x="4572000" y="5157720"/>
              <a:ext cx="216000" cy="36036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80"/>
            <p:cNvSpPr/>
            <p:nvPr/>
          </p:nvSpPr>
          <p:spPr>
            <a:xfrm flipH="1">
              <a:off x="5940360" y="5157720"/>
              <a:ext cx="432000" cy="36036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81"/>
            <p:cNvSpPr/>
            <p:nvPr/>
          </p:nvSpPr>
          <p:spPr>
            <a:xfrm flipH="1">
              <a:off x="7164000" y="5157720"/>
              <a:ext cx="792360" cy="360360"/>
            </a:xfrm>
            <a:prstGeom prst="line">
              <a:avLst/>
            </a:prstGeom>
            <a:ln w="3492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PU of a microprocessor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971640" y="1197000"/>
            <a:ext cx="727236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PU  =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entral Processing Un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ew internal memory cells (“Register”) for operand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alculation unit: “Arithmetic Logic Unit” (ALU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nstruction register (IR) and instruction decod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ress un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ddress uni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ad data and instruction from memor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rite data into mem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Instruction decod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nalyses current instruction and controls subsequent actions of other modules</a:t>
            </a:r>
            <a:r>
              <a:rPr b="1" lang="en-GB" sz="1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Register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tore data for instantaneous instruction and compu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ote: today's microprocessors have a much finer granularity and sometimes parallel units. However, the basics are still the very sam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LU (Arithmetic Logic Unit) of a microprocessor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50920" y="981000"/>
            <a:ext cx="871200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lculates arithmetical and / or logical func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 lea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rithmetical :      Addition (AD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ogical: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Negation (NE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junction (AN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ica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rithmetical: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Subtraction (SU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ultiplication (MUL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ogical: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Comparison (CMP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sjunction (O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ntivalence (EXO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scellaneous:   Right- and Left Shift (ASR,AS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otation (ROL, RO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gister-Bit-Manipulation (set, clear, toggle, test)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ALU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s able to process two binary values with equal length (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-Bit ALU  with N = 4,8,16,32 or 6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ost ALU’s process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Fixed Point Nu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few ALU’s, used especially in Digital Signal Processors and desktop processors, are capable to operate on 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Floating Point Number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or on both forma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7120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xample: a simple ALU structure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27" name="Picture 6" descr="Bild1a"/>
          <p:cNvPicPr/>
          <p:nvPr/>
        </p:nvPicPr>
        <p:blipFill>
          <a:blip r:embed="rId1"/>
          <a:stretch/>
        </p:blipFill>
        <p:spPr>
          <a:xfrm>
            <a:off x="250920" y="1268280"/>
            <a:ext cx="574992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6072120" y="3071880"/>
            <a:ext cx="292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, B, Y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l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: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tional 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: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y –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ative –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ero -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586920" y="5470560"/>
            <a:ext cx="236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U’s are also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standalone IC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N 74 LS 18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hteck 5"/>
          <p:cNvSpPr/>
          <p:nvPr/>
        </p:nvSpPr>
        <p:spPr>
          <a:xfrm>
            <a:off x="285840" y="6215040"/>
            <a:ext cx="50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 : most ALU will generate a size of 2*n for register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se of a multiply operation Y = A *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History (1984): Microprocessor Intel 80x86</a:t>
            </a:r>
            <a:r>
              <a:rPr b="1" lang="de-DE" sz="2400" spc="-1" strike="noStrike" u="sng">
                <a:solidFill>
                  <a:srgbClr val="fafd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044720" y="1268280"/>
            <a:ext cx="2879640" cy="1944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5219640" y="1268280"/>
            <a:ext cx="2879640" cy="1944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490000" y="1989000"/>
            <a:ext cx="2391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- Bus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Address &amp; Data Bus –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Instruction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893560" y="136512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Bus - Uni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278360" y="1989000"/>
            <a:ext cx="201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- Memory 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- logical / phys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add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320840" y="137628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Address – 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1044720" y="4653000"/>
            <a:ext cx="2879640" cy="1944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5219640" y="4653000"/>
            <a:ext cx="2879640" cy="1944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1297800" y="4761000"/>
            <a:ext cx="21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Execution - 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5413320" y="476100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Unicode MS"/>
              </a:rPr>
              <a:t>Instruction – 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539360" y="5516640"/>
            <a:ext cx="113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- CP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AL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Regist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739840" y="5516640"/>
            <a:ext cx="211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- Decode Instr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Operation Queu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8101080" y="2637000"/>
            <a:ext cx="863640" cy="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8101080" y="2205000"/>
            <a:ext cx="863640" cy="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>
            <a:off x="8101080" y="1700280"/>
            <a:ext cx="86364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8294040" y="23493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Unicode MS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8117640" y="177336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Unicode MS"/>
              </a:rPr>
              <a:t>control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Unicode MS"/>
              </a:rPr>
              <a:t>st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8097840" y="141300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Unicode MS"/>
              </a:rPr>
              <a:t>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>
            <a:off x="3924360" y="1844640"/>
            <a:ext cx="129528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28"/>
          <p:cNvSpPr/>
          <p:nvPr/>
        </p:nvSpPr>
        <p:spPr>
          <a:xfrm flipV="1">
            <a:off x="2411280" y="3213000"/>
            <a:ext cx="0" cy="14400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29"/>
          <p:cNvSpPr/>
          <p:nvPr/>
        </p:nvSpPr>
        <p:spPr>
          <a:xfrm flipH="1">
            <a:off x="3924360" y="5589720"/>
            <a:ext cx="129528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30"/>
          <p:cNvSpPr/>
          <p:nvPr/>
        </p:nvSpPr>
        <p:spPr>
          <a:xfrm>
            <a:off x="6659640" y="3213000"/>
            <a:ext cx="0" cy="14400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31"/>
          <p:cNvSpPr/>
          <p:nvPr/>
        </p:nvSpPr>
        <p:spPr>
          <a:xfrm>
            <a:off x="3492360" y="3860640"/>
            <a:ext cx="0" cy="7923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32"/>
          <p:cNvSpPr/>
          <p:nvPr/>
        </p:nvSpPr>
        <p:spPr>
          <a:xfrm>
            <a:off x="4572000" y="2492280"/>
            <a:ext cx="64764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3492360" y="3860640"/>
            <a:ext cx="10796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34"/>
          <p:cNvSpPr/>
          <p:nvPr/>
        </p:nvSpPr>
        <p:spPr>
          <a:xfrm>
            <a:off x="4572000" y="2492280"/>
            <a:ext cx="0" cy="1368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71236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2. our Desktop – PC is a?</a:t>
            </a:r>
            <a:endParaRPr b="1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712360" cy="499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crocompu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Micro Computer =  microprocessor (µP) +  memory + peripheral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Example:  your Desktop -PC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132000" y="4149720"/>
            <a:ext cx="2448000" cy="86364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71640" y="2708280"/>
            <a:ext cx="2305080" cy="7920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de -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292720" y="2708280"/>
            <a:ext cx="2305080" cy="7920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-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971640" y="4149720"/>
            <a:ext cx="1439640" cy="7192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6516720" y="4149720"/>
            <a:ext cx="2016000" cy="7192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r/Cou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6516720" y="5589720"/>
            <a:ext cx="2016000" cy="71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ogue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484360" y="5589720"/>
            <a:ext cx="1297080" cy="71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gital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4356000" y="5589720"/>
            <a:ext cx="1656000" cy="71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ogue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611280" y="5589720"/>
            <a:ext cx="1296720" cy="71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gital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1908000" y="350028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1908000" y="3860640"/>
            <a:ext cx="4751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659640" y="350028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4284720" y="3860640"/>
            <a:ext cx="0" cy="289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1187280" y="5229360"/>
            <a:ext cx="7129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1187280" y="522936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3132000" y="522936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7451640" y="4869000"/>
            <a:ext cx="0" cy="72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1"/>
          <p:cNvSpPr/>
          <p:nvPr/>
        </p:nvSpPr>
        <p:spPr>
          <a:xfrm>
            <a:off x="5292720" y="5229360"/>
            <a:ext cx="0" cy="3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22"/>
          <p:cNvSpPr/>
          <p:nvPr/>
        </p:nvSpPr>
        <p:spPr>
          <a:xfrm>
            <a:off x="4284720" y="5013360"/>
            <a:ext cx="0" cy="216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2411280" y="450864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3782160" y="350028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5560200" y="4869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eripheral B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8317080" y="5229360"/>
            <a:ext cx="576000" cy="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250920" y="5229360"/>
            <a:ext cx="936360" cy="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09:28:44Z</dcterms:created>
  <dc:creator>Frank Bormann</dc:creator>
  <dc:description/>
  <dc:language>en-US</dc:language>
  <cp:lastModifiedBy>Windows-Benutzer</cp:lastModifiedBy>
  <dcterms:modified xsi:type="dcterms:W3CDTF">2010-04-23T08:08:01Z</dcterms:modified>
  <cp:revision>74</cp:revision>
  <dc:subject/>
  <dc:title>Chapter1 28335 CD</dc:title>
</cp:coreProperties>
</file>