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B965-D1EC-458B-9C77-81E591972B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6540-7FDD-465F-B30B-9E5DC07220C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1B74-E24D-4C30-8453-9D9F18A9ACD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7250-F535-4DC6-B1E2-2C538DD3E21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1C2C5160-EFA3-4042-A521-8E2C4B48B553}"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19320"/>
                <a:gridCol w="21211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608280" y="150984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549440" y="2641680"/>
            <a:ext cx="6459480" cy="2005560"/>
            <a:chOff x="1549440" y="2641680"/>
            <a:chExt cx="6459480" cy="2005560"/>
          </a:xfrm>
        </p:grpSpPr>
        <p:sp>
          <p:nvSpPr>
            <p:cNvPr id="93" name="Rectangle 21"/>
            <p:cNvSpPr/>
            <p:nvPr/>
          </p:nvSpPr>
          <p:spPr>
            <a:xfrm>
              <a:off x="1549440" y="2641680"/>
              <a:ext cx="645948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f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f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f)</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f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f)</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f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4106880" y="39020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953160" y="26798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Windows-Benutzer</cp:lastModifiedBy>
  <dcterms:modified xsi:type="dcterms:W3CDTF">2010-05-12T08:19:47Z</dcterms:modified>
  <cp:revision>171</cp:revision>
  <dc:subject>F2833x</dc:subject>
  <dc:title>Numerical Systems</dc:title>
</cp:coreProperties>
</file>