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98DB-C348-4349-99B9-1BFF1C272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377-0875-47AF-BDD0-A035AE7EBE7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3F11-93CB-4E87-8B30-C08A0C42616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A223-1882-4A04-B4C8-7328874C609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0 - </a:t>
            </a:r>
            <a:fld id="{2C01C2FE-AF8E-47EE-B54C-AE3E5A39B243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99280" y="214200"/>
            <a:ext cx="78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  <a:ea typeface="Arial"/>
              </a:rPr>
              <a:t>Module 10: Serial Peripheral Interface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FIFO Transmit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FFTX @ 0x00704A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243" name="Text Box 4"/>
            <p:cNvSpPr/>
            <p:nvPr/>
          </p:nvSpPr>
          <p:spPr>
            <a:xfrm>
              <a:off x="75006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PIFF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66621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57924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49539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411588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32778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24393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16"/>
            <p:cNvSpPr/>
            <p:nvPr/>
          </p:nvSpPr>
          <p:spPr>
            <a:xfrm>
              <a:off x="160128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790880" y="1035000"/>
            <a:ext cx="4461480" cy="1680480"/>
            <a:chOff x="4790880" y="1035000"/>
            <a:chExt cx="4461480" cy="1680480"/>
          </a:xfrm>
        </p:grpSpPr>
        <p:sp>
          <p:nvSpPr>
            <p:cNvPr id="276" name="Text Box 37"/>
            <p:cNvSpPr/>
            <p:nvPr/>
          </p:nvSpPr>
          <p:spPr>
            <a:xfrm>
              <a:off x="5428800" y="1035000"/>
              <a:ext cx="3108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38"/>
            <p:cNvSpPr/>
            <p:nvPr/>
          </p:nvSpPr>
          <p:spPr>
            <a:xfrm>
              <a:off x="4790880" y="1327320"/>
              <a:ext cx="44614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39"/>
            <p:cNvSpPr/>
            <p:nvPr/>
          </p:nvSpPr>
          <p:spPr>
            <a:xfrm>
              <a:off x="5679720" y="222084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40"/>
            <p:cNvSpPr/>
            <p:nvPr/>
          </p:nvSpPr>
          <p:spPr>
            <a:xfrm>
              <a:off x="6746400" y="22161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41"/>
            <p:cNvSpPr/>
            <p:nvPr/>
          </p:nvSpPr>
          <p:spPr>
            <a:xfrm>
              <a:off x="7813080" y="22114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42"/>
          <p:cNvGrpSpPr/>
          <p:nvPr/>
        </p:nvGrpSpPr>
        <p:grpSpPr>
          <a:xfrm>
            <a:off x="5680800" y="5280120"/>
            <a:ext cx="3003840" cy="878040"/>
            <a:chOff x="5680800" y="5280120"/>
            <a:chExt cx="3003840" cy="878040"/>
          </a:xfrm>
        </p:grpSpPr>
        <p:sp>
          <p:nvSpPr>
            <p:cNvPr id="282" name="Text Box 43"/>
            <p:cNvSpPr/>
            <p:nvPr/>
          </p:nvSpPr>
          <p:spPr>
            <a:xfrm>
              <a:off x="5680800" y="5280120"/>
              <a:ext cx="2960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44"/>
            <p:cNvSpPr/>
            <p:nvPr/>
          </p:nvSpPr>
          <p:spPr>
            <a:xfrm>
              <a:off x="5760720" y="5597280"/>
              <a:ext cx="292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T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T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45"/>
          <p:cNvGrpSpPr/>
          <p:nvPr/>
        </p:nvGrpSpPr>
        <p:grpSpPr>
          <a:xfrm>
            <a:off x="812160" y="1338120"/>
            <a:ext cx="1779480" cy="1107000"/>
            <a:chOff x="812160" y="1338120"/>
            <a:chExt cx="1779480" cy="1107000"/>
          </a:xfrm>
        </p:grpSpPr>
        <p:sp>
          <p:nvSpPr>
            <p:cNvPr id="285" name="Text Box 46"/>
            <p:cNvSpPr/>
            <p:nvPr/>
          </p:nvSpPr>
          <p:spPr>
            <a:xfrm>
              <a:off x="812160" y="1338120"/>
              <a:ext cx="17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SPI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hanc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Text Box 47"/>
            <p:cNvSpPr/>
            <p:nvPr/>
          </p:nvSpPr>
          <p:spPr>
            <a:xfrm>
              <a:off x="1017360" y="1841400"/>
              <a:ext cx="12261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48"/>
          <p:cNvGrpSpPr/>
          <p:nvPr/>
        </p:nvGrpSpPr>
        <p:grpSpPr>
          <a:xfrm>
            <a:off x="2828160" y="1415880"/>
            <a:ext cx="2354040" cy="864360"/>
            <a:chOff x="2828160" y="1415880"/>
            <a:chExt cx="2354040" cy="864360"/>
          </a:xfrm>
        </p:grpSpPr>
        <p:sp>
          <p:nvSpPr>
            <p:cNvPr id="288" name="Text Box 49"/>
            <p:cNvSpPr/>
            <p:nvPr/>
          </p:nvSpPr>
          <p:spPr>
            <a:xfrm>
              <a:off x="3047040" y="1415880"/>
              <a:ext cx="1864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50"/>
            <p:cNvSpPr/>
            <p:nvPr/>
          </p:nvSpPr>
          <p:spPr>
            <a:xfrm>
              <a:off x="28281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AutoShape 51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2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53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293" name="Text Box 54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55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56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296" name="Text Box 57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Text Box 58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Group 59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299" name="Text Box 60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61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Line 62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3"/>
          <p:cNvSpPr/>
          <p:nvPr/>
        </p:nvSpPr>
        <p:spPr>
          <a:xfrm flipV="1">
            <a:off x="3429000" y="228564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64"/>
          <p:cNvSpPr/>
          <p:nvPr/>
        </p:nvSpPr>
        <p:spPr>
          <a:xfrm flipH="1" flipV="1">
            <a:off x="1790280" y="2438280"/>
            <a:ext cx="83844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65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67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68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FIFO Receiv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FFRX @ 0x00704B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310" name="Text Box 4"/>
            <p:cNvSpPr/>
            <p:nvPr/>
          </p:nvSpPr>
          <p:spPr>
            <a:xfrm>
              <a:off x="75006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 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Text Box 10"/>
            <p:cNvSpPr/>
            <p:nvPr/>
          </p:nvSpPr>
          <p:spPr>
            <a:xfrm>
              <a:off x="66621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57924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12"/>
            <p:cNvSpPr/>
            <p:nvPr/>
          </p:nvSpPr>
          <p:spPr>
            <a:xfrm>
              <a:off x="49539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13"/>
            <p:cNvSpPr/>
            <p:nvPr/>
          </p:nvSpPr>
          <p:spPr>
            <a:xfrm>
              <a:off x="41158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14"/>
            <p:cNvSpPr/>
            <p:nvPr/>
          </p:nvSpPr>
          <p:spPr>
            <a:xfrm>
              <a:off x="32778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 Box 15"/>
            <p:cNvSpPr/>
            <p:nvPr/>
          </p:nvSpPr>
          <p:spPr>
            <a:xfrm>
              <a:off x="24393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16"/>
            <p:cNvSpPr/>
            <p:nvPr/>
          </p:nvSpPr>
          <p:spPr>
            <a:xfrm>
              <a:off x="16012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Group 36"/>
          <p:cNvGrpSpPr/>
          <p:nvPr/>
        </p:nvGrpSpPr>
        <p:grpSpPr>
          <a:xfrm>
            <a:off x="5202360" y="990720"/>
            <a:ext cx="4472280" cy="1680480"/>
            <a:chOff x="5202360" y="990720"/>
            <a:chExt cx="4472280" cy="1680480"/>
          </a:xfrm>
        </p:grpSpPr>
        <p:sp>
          <p:nvSpPr>
            <p:cNvPr id="343" name="Text Box 37"/>
            <p:cNvSpPr/>
            <p:nvPr/>
          </p:nvSpPr>
          <p:spPr>
            <a:xfrm>
              <a:off x="5839200" y="990720"/>
              <a:ext cx="3123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Text Box 38"/>
            <p:cNvSpPr/>
            <p:nvPr/>
          </p:nvSpPr>
          <p:spPr>
            <a:xfrm>
              <a:off x="5202360" y="1283040"/>
              <a:ext cx="44722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Text Box 39"/>
            <p:cNvSpPr/>
            <p:nvPr/>
          </p:nvSpPr>
          <p:spPr>
            <a:xfrm>
              <a:off x="6090840" y="21765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7157520" y="21718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41"/>
            <p:cNvSpPr/>
            <p:nvPr/>
          </p:nvSpPr>
          <p:spPr>
            <a:xfrm>
              <a:off x="8224200" y="216720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42"/>
          <p:cNvGrpSpPr/>
          <p:nvPr/>
        </p:nvGrpSpPr>
        <p:grpSpPr>
          <a:xfrm>
            <a:off x="5680440" y="5280120"/>
            <a:ext cx="3016800" cy="878040"/>
            <a:chOff x="5680440" y="5280120"/>
            <a:chExt cx="3016800" cy="878040"/>
          </a:xfrm>
        </p:grpSpPr>
        <p:sp>
          <p:nvSpPr>
            <p:cNvPr id="349" name="Text Box 43"/>
            <p:cNvSpPr/>
            <p:nvPr/>
          </p:nvSpPr>
          <p:spPr>
            <a:xfrm>
              <a:off x="5680440" y="5280120"/>
              <a:ext cx="2975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44"/>
            <p:cNvSpPr/>
            <p:nvPr/>
          </p:nvSpPr>
          <p:spPr>
            <a:xfrm>
              <a:off x="5761080" y="5597280"/>
              <a:ext cx="2936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R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R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Group 45"/>
          <p:cNvGrpSpPr/>
          <p:nvPr/>
        </p:nvGrpSpPr>
        <p:grpSpPr>
          <a:xfrm>
            <a:off x="3513960" y="1415880"/>
            <a:ext cx="2354040" cy="864360"/>
            <a:chOff x="3513960" y="1415880"/>
            <a:chExt cx="2354040" cy="864360"/>
          </a:xfrm>
        </p:grpSpPr>
        <p:sp>
          <p:nvSpPr>
            <p:cNvPr id="352" name="Text Box 46"/>
            <p:cNvSpPr/>
            <p:nvPr/>
          </p:nvSpPr>
          <p:spPr>
            <a:xfrm>
              <a:off x="3732480" y="1415880"/>
              <a:ext cx="187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47"/>
            <p:cNvSpPr/>
            <p:nvPr/>
          </p:nvSpPr>
          <p:spPr>
            <a:xfrm>
              <a:off x="35139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AutoShape 48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Group 50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357" name="Text Box 51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52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53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360" name="Text Box 54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55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56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363" name="Text Box 57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58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Line 59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 flipV="1">
            <a:off x="3429000" y="2361960"/>
            <a:ext cx="9144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372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67"/>
            <p:cNvSpPr/>
            <p:nvPr/>
          </p:nvSpPr>
          <p:spPr>
            <a:xfrm>
              <a:off x="262440" y="1905120"/>
              <a:ext cx="16909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Group 68"/>
          <p:cNvGrpSpPr/>
          <p:nvPr/>
        </p:nvGrpSpPr>
        <p:grpSpPr>
          <a:xfrm>
            <a:off x="2098800" y="1143000"/>
            <a:ext cx="1406160" cy="1294560"/>
            <a:chOff x="2098800" y="1143000"/>
            <a:chExt cx="1406160" cy="1294560"/>
          </a:xfrm>
        </p:grpSpPr>
        <p:sp>
          <p:nvSpPr>
            <p:cNvPr id="375" name="Text Box 69"/>
            <p:cNvSpPr/>
            <p:nvPr/>
          </p:nvSpPr>
          <p:spPr>
            <a:xfrm>
              <a:off x="2098800" y="114300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70"/>
            <p:cNvSpPr/>
            <p:nvPr/>
          </p:nvSpPr>
          <p:spPr>
            <a:xfrm>
              <a:off x="213084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s synchronous serial communic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wo wire transmit or receive (half duplex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re transmit and receive (full duplex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ftware configurable as master or sla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28x provides clock signal in master mo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a length programmable from 1-16 bi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5 different programmable baud rat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38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Data Flow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143000" y="3627360"/>
            <a:ext cx="2666880" cy="1676520"/>
            <a:chOff x="1143000" y="3627360"/>
            <a:chExt cx="2666880" cy="1676520"/>
          </a:xfrm>
        </p:grpSpPr>
        <p:sp>
          <p:nvSpPr>
            <p:cNvPr id="72" name="Rectangle 4"/>
            <p:cNvSpPr/>
            <p:nvPr/>
          </p:nvSpPr>
          <p:spPr>
            <a:xfrm>
              <a:off x="1143000" y="3627360"/>
              <a:ext cx="2666880" cy="1676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1380960" y="4236840"/>
              <a:ext cx="2314440" cy="3376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 Shif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6"/>
          <p:cNvGrpSpPr/>
          <p:nvPr/>
        </p:nvGrpSpPr>
        <p:grpSpPr>
          <a:xfrm>
            <a:off x="5181480" y="3627360"/>
            <a:ext cx="2667240" cy="1676520"/>
            <a:chOff x="5181480" y="3627360"/>
            <a:chExt cx="2667240" cy="1676520"/>
          </a:xfrm>
        </p:grpSpPr>
        <p:sp>
          <p:nvSpPr>
            <p:cNvPr id="75" name="Rectangle 7"/>
            <p:cNvSpPr/>
            <p:nvPr/>
          </p:nvSpPr>
          <p:spPr>
            <a:xfrm>
              <a:off x="5181480" y="3627360"/>
              <a:ext cx="2667240" cy="1676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5419800" y="4236840"/>
              <a:ext cx="2314440" cy="3376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 Shif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9"/>
          <p:cNvSpPr/>
          <p:nvPr/>
        </p:nvSpPr>
        <p:spPr>
          <a:xfrm flipH="1">
            <a:off x="3714480" y="4414680"/>
            <a:ext cx="1695240" cy="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642960" y="2928960"/>
            <a:ext cx="8172360" cy="1493640"/>
          </a:xfrm>
          <a:custGeom>
            <a:avLst/>
            <a:gdLst>
              <a:gd name="textAreaLeft" fmla="*/ 0 w 8172360"/>
              <a:gd name="textAreaRight" fmla="*/ 8172720 w 8172360"/>
              <a:gd name="textAreaTop" fmla="*/ 0 h 1493640"/>
              <a:gd name="textAreaBottom" fmla="*/ 1494000 h 1493640"/>
            </a:gdLst>
            <a:ahLst/>
            <a:rect l="textAreaLeft" t="textAreaTop" r="textAreaRight" b="textAreaBottom"/>
            <a:pathLst>
              <a:path w="4968" h="941">
                <a:moveTo>
                  <a:pt x="455" y="941"/>
                </a:moveTo>
                <a:lnTo>
                  <a:pt x="0" y="937"/>
                </a:lnTo>
                <a:lnTo>
                  <a:pt x="0" y="0"/>
                </a:lnTo>
                <a:lnTo>
                  <a:pt x="4968" y="0"/>
                </a:lnTo>
                <a:lnTo>
                  <a:pt x="4968" y="937"/>
                </a:lnTo>
                <a:lnTo>
                  <a:pt x="4356" y="937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045440" y="3246480"/>
            <a:ext cx="2881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 Device #1 - Ma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180760" y="3246480"/>
            <a:ext cx="2724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 Device #2 - 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205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ultaneous transmits and recei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I Master provides the clock sign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 flipH="1">
            <a:off x="1447560" y="408456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213280" y="3747960"/>
            <a:ext cx="71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5486040" y="407844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251760" y="3741840"/>
            <a:ext cx="71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809880" y="499896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118760" y="4997520"/>
            <a:ext cx="831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3520" y="1066680"/>
            <a:ext cx="610236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2971800" y="2717640"/>
            <a:ext cx="2133720" cy="393840"/>
            <a:chOff x="2971800" y="2717640"/>
            <a:chExt cx="2133720" cy="393840"/>
          </a:xfrm>
        </p:grpSpPr>
        <p:sp>
          <p:nvSpPr>
            <p:cNvPr id="91" name="Rectangle 5"/>
            <p:cNvSpPr/>
            <p:nvPr/>
          </p:nvSpPr>
          <p:spPr>
            <a:xfrm>
              <a:off x="2971800" y="2717640"/>
              <a:ext cx="213372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3051360" y="2717640"/>
              <a:ext cx="198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RXBUF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2971800" y="3467160"/>
            <a:ext cx="2133720" cy="393840"/>
            <a:chOff x="2971800" y="3467160"/>
            <a:chExt cx="2133720" cy="393840"/>
          </a:xfrm>
        </p:grpSpPr>
        <p:sp>
          <p:nvSpPr>
            <p:cNvPr id="94" name="Rectangle 8"/>
            <p:cNvSpPr/>
            <p:nvPr/>
          </p:nvSpPr>
          <p:spPr>
            <a:xfrm>
              <a:off x="2971800" y="3479760"/>
              <a:ext cx="2133720" cy="367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229200" y="3467160"/>
              <a:ext cx="164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DAT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Rectangle 10"/>
          <p:cNvSpPr/>
          <p:nvPr/>
        </p:nvSpPr>
        <p:spPr>
          <a:xfrm>
            <a:off x="7398000" y="605808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402680" y="345744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SO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402680" y="114300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S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5105160" y="3668760"/>
            <a:ext cx="22510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1752480" y="1320840"/>
            <a:ext cx="5540400" cy="2362320"/>
          </a:xfrm>
          <a:custGeom>
            <a:avLst/>
            <a:gdLst>
              <a:gd name="textAreaLeft" fmla="*/ 0 w 5540400"/>
              <a:gd name="textAreaRight" fmla="*/ 5540760 w 554040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3490" h="1184">
                <a:moveTo>
                  <a:pt x="770" y="1184"/>
                </a:moveTo>
                <a:lnTo>
                  <a:pt x="0" y="1181"/>
                </a:lnTo>
                <a:lnTo>
                  <a:pt x="0" y="3"/>
                </a:lnTo>
                <a:lnTo>
                  <a:pt x="349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92000" y="6070320"/>
            <a:ext cx="1198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SP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438280" y="5969160"/>
            <a:ext cx="83844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465640" y="6132600"/>
            <a:ext cx="7340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3768840" y="5969160"/>
            <a:ext cx="96840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744360" y="6107400"/>
            <a:ext cx="1044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5230800" y="5969160"/>
            <a:ext cx="89064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297760" y="6107400"/>
            <a:ext cx="8038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3276720" y="6235560"/>
            <a:ext cx="4824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4749840" y="6235560"/>
            <a:ext cx="4698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6121440" y="6235560"/>
            <a:ext cx="11937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1955880" y="6235560"/>
            <a:ext cx="4824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44160" y="681480"/>
            <a:ext cx="470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28x - SPI Master Mode Sh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2971800" y="4267080"/>
            <a:ext cx="2133720" cy="393840"/>
            <a:chOff x="2971800" y="4267080"/>
            <a:chExt cx="2133720" cy="393840"/>
          </a:xfrm>
        </p:grpSpPr>
        <p:sp>
          <p:nvSpPr>
            <p:cNvPr id="114" name="Rectangle 28"/>
            <p:cNvSpPr/>
            <p:nvPr/>
          </p:nvSpPr>
          <p:spPr>
            <a:xfrm>
              <a:off x="2971800" y="4276800"/>
              <a:ext cx="2133720" cy="3715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3048840" y="4267080"/>
              <a:ext cx="197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TXBUF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Text Box 30"/>
          <p:cNvSpPr/>
          <p:nvPr/>
        </p:nvSpPr>
        <p:spPr>
          <a:xfrm>
            <a:off x="5271840" y="3402360"/>
            <a:ext cx="517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2387880" y="3412080"/>
            <a:ext cx="566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 flipV="1">
            <a:off x="4038480" y="3098520"/>
            <a:ext cx="0" cy="393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4038480" y="3882960"/>
            <a:ext cx="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34"/>
          <p:cNvGrpSpPr/>
          <p:nvPr/>
        </p:nvGrpSpPr>
        <p:grpSpPr>
          <a:xfrm>
            <a:off x="2971800" y="4645080"/>
            <a:ext cx="2138400" cy="1158480"/>
            <a:chOff x="2971800" y="4645080"/>
            <a:chExt cx="2138400" cy="1158480"/>
          </a:xfrm>
        </p:grpSpPr>
        <p:sp>
          <p:nvSpPr>
            <p:cNvPr id="121" name="Rectangle 35"/>
            <p:cNvSpPr/>
            <p:nvPr/>
          </p:nvSpPr>
          <p:spPr>
            <a:xfrm>
              <a:off x="2971800" y="4645080"/>
              <a:ext cx="2133360" cy="11462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36"/>
            <p:cNvSpPr/>
            <p:nvPr/>
          </p:nvSpPr>
          <p:spPr>
            <a:xfrm>
              <a:off x="3275640" y="4660920"/>
              <a:ext cx="15904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976480" y="49960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2977920" y="514836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>
              <a:off x="2979720" y="530064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2974680" y="54532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41"/>
          <p:cNvGrpSpPr/>
          <p:nvPr/>
        </p:nvGrpSpPr>
        <p:grpSpPr>
          <a:xfrm>
            <a:off x="2971800" y="1574640"/>
            <a:ext cx="2138400" cy="1158480"/>
            <a:chOff x="2971800" y="1574640"/>
            <a:chExt cx="2138400" cy="1158480"/>
          </a:xfrm>
        </p:grpSpPr>
        <p:sp>
          <p:nvSpPr>
            <p:cNvPr id="128" name="Rectangle 42"/>
            <p:cNvSpPr/>
            <p:nvPr/>
          </p:nvSpPr>
          <p:spPr>
            <a:xfrm>
              <a:off x="2971800" y="1574640"/>
              <a:ext cx="2133720" cy="1145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43"/>
            <p:cNvSpPr/>
            <p:nvPr/>
          </p:nvSpPr>
          <p:spPr>
            <a:xfrm>
              <a:off x="3275640" y="1590480"/>
              <a:ext cx="16056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44"/>
            <p:cNvSpPr/>
            <p:nvPr/>
          </p:nvSpPr>
          <p:spPr>
            <a:xfrm>
              <a:off x="2976480" y="19252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45"/>
            <p:cNvSpPr/>
            <p:nvPr/>
          </p:nvSpPr>
          <p:spPr>
            <a:xfrm>
              <a:off x="2978280" y="2077560"/>
              <a:ext cx="213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46"/>
            <p:cNvSpPr/>
            <p:nvPr/>
          </p:nvSpPr>
          <p:spPr>
            <a:xfrm>
              <a:off x="2979720" y="223020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47"/>
            <p:cNvSpPr/>
            <p:nvPr/>
          </p:nvSpPr>
          <p:spPr>
            <a:xfrm>
              <a:off x="2975040" y="23824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Data Character Justific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7480" y="14479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data length of 1 to 16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mitted data of less than 16 bits must be left justifi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173160">
              <a:lnSpc>
                <a:spcPct val="70000"/>
              </a:lnSpc>
              <a:spcBef>
                <a:spcPts val="1324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SB transmitted firs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35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eived data of less than 16 bits are right justifi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35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 software must mask-off unused MSB’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099040" y="2371680"/>
            <a:ext cx="3206880" cy="454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01001XXXXXX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029200" y="4495680"/>
            <a:ext cx="3200400" cy="454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XX11001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189840" y="3560760"/>
            <a:ext cx="1106280" cy="307800"/>
          </a:xfrm>
          <a:prstGeom prst="rightArrow">
            <a:avLst>
              <a:gd name="adj1" fmla="val 50000"/>
              <a:gd name="adj2" fmla="val 1797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259960" y="2000520"/>
            <a:ext cx="257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DAT – Device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501880" y="4143600"/>
            <a:ext cx="251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DAT - Device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4741920" y="2590920"/>
            <a:ext cx="4097160" cy="2158920"/>
          </a:xfrm>
          <a:custGeom>
            <a:avLst/>
            <a:gdLst>
              <a:gd name="textAreaLeft" fmla="*/ 0 w 4097160"/>
              <a:gd name="textAreaRight" fmla="*/ 4097520 w 409716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581" h="1360">
                <a:moveTo>
                  <a:pt x="223" y="0"/>
                </a:moveTo>
                <a:lnTo>
                  <a:pt x="0" y="4"/>
                </a:lnTo>
                <a:lnTo>
                  <a:pt x="0" y="711"/>
                </a:lnTo>
                <a:lnTo>
                  <a:pt x="2581" y="711"/>
                </a:lnTo>
                <a:lnTo>
                  <a:pt x="2581" y="1360"/>
                </a:lnTo>
                <a:lnTo>
                  <a:pt x="2298" y="136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43" name="Gruppieren 11"/>
          <p:cNvGrpSpPr/>
          <p:nvPr/>
        </p:nvGrpSpPr>
        <p:grpSpPr>
          <a:xfrm>
            <a:off x="285840" y="714240"/>
            <a:ext cx="8636040" cy="5338800"/>
            <a:chOff x="285840" y="714240"/>
            <a:chExt cx="8636040" cy="5338800"/>
          </a:xfrm>
        </p:grpSpPr>
        <p:sp>
          <p:nvSpPr>
            <p:cNvPr id="144" name="Rectangle 2"/>
            <p:cNvSpPr/>
            <p:nvPr/>
          </p:nvSpPr>
          <p:spPr>
            <a:xfrm>
              <a:off x="285840" y="714240"/>
              <a:ext cx="8534520" cy="6094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85840" y="1323720"/>
              <a:ext cx="8534520" cy="47246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311040" y="714240"/>
              <a:ext cx="8610840" cy="51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ist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0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CC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configuration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1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CTL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operation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ST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tatus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4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BR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baud rate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6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RXEMU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receive emulation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7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RXBU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receive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8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TXBU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transmit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9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DAT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data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A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TX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transmi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B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RX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receive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CT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PRI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priority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1758960" y="726840"/>
              <a:ext cx="0" cy="53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 flipH="1">
              <a:off x="3841920" y="726840"/>
              <a:ext cx="2880" cy="53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285840" y="292392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285840" y="33051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285840" y="44607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285840" y="56037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52280" y="1604880"/>
            <a:ext cx="1905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574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8954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733920" y="1604880"/>
            <a:ext cx="25146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24852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0866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Configuration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CCR @ 0x007040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815472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79246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3674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65610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36988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0184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4497480" y="130032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-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196880" y="166896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778360" y="2604600"/>
            <a:ext cx="298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CHAR.3-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8"/>
          <p:cNvSpPr/>
          <p:nvPr/>
        </p:nvSpPr>
        <p:spPr>
          <a:xfrm rot="5400000">
            <a:off x="6973560" y="572760"/>
            <a:ext cx="225720" cy="3353040"/>
          </a:xfrm>
          <a:custGeom>
            <a:avLst/>
            <a:gdLst>
              <a:gd name="textAreaLeft" fmla="*/ 0 w 225720"/>
              <a:gd name="textAreaRight" fmla="*/ 81360 w 2257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5489280" y="2937600"/>
            <a:ext cx="35074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racter length = number +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000b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length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11b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length = 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2692440" y="5312880"/>
            <a:ext cx="26146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SW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SPI flags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normal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97760" y="4106520"/>
            <a:ext cx="355824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CLOCK PO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rising edge data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falling edge data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22"/>
          <p:cNvSpPr/>
          <p:nvPr/>
        </p:nvSpPr>
        <p:spPr>
          <a:xfrm>
            <a:off x="2476440" y="2062080"/>
            <a:ext cx="190440" cy="3429000"/>
          </a:xfrm>
          <a:custGeom>
            <a:avLst/>
            <a:gdLst>
              <a:gd name="textAreaLeft" fmla="*/ 0 w 190440"/>
              <a:gd name="textAreaRight" fmla="*/ 190800 w 19044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44" h="2304">
                <a:moveTo>
                  <a:pt x="0" y="0"/>
                </a:moveTo>
                <a:lnTo>
                  <a:pt x="0" y="2304"/>
                </a:lnTo>
                <a:lnTo>
                  <a:pt x="144" y="230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23"/>
          <p:cNvSpPr/>
          <p:nvPr/>
        </p:nvSpPr>
        <p:spPr>
          <a:xfrm>
            <a:off x="3276720" y="2062080"/>
            <a:ext cx="228600" cy="2210040"/>
          </a:xfrm>
          <a:custGeom>
            <a:avLst/>
            <a:gdLst>
              <a:gd name="textAreaLeft" fmla="*/ 0 w 228600"/>
              <a:gd name="textAreaRight" fmla="*/ 228960 w 22860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144" h="1344">
                <a:moveTo>
                  <a:pt x="0" y="0"/>
                </a:move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91560" y="166752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871560" y="130032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5410080" y="16095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5722920" y="12952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3321000"/>
            <a:ext cx="312408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09880" y="33210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832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8640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324480" y="33210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Operation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CTL @ 0x00704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39296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16292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60528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79888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836720" y="301608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03992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487836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1682280" y="340272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853280" y="4851000"/>
            <a:ext cx="302292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CLOCK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no CLK de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CLK delayed 1/2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04280" y="1333080"/>
            <a:ext cx="30520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OVERRUN INT EN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8000" y="1333080"/>
            <a:ext cx="21726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MASTER/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ma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5214960" y="4853520"/>
            <a:ext cx="40784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TA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transmission disabl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SIMO at high impe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transmission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6449040" y="1561680"/>
            <a:ext cx="21862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INT EN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7543800" y="2558880"/>
            <a:ext cx="0" cy="40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4952880" y="2435400"/>
            <a:ext cx="990720" cy="504720"/>
          </a:xfrm>
          <a:custGeom>
            <a:avLst/>
            <a:gdLst>
              <a:gd name="textAreaLeft" fmla="*/ 0 w 990720"/>
              <a:gd name="textAreaRight" fmla="*/ 991080 w 9907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624" h="318">
                <a:moveTo>
                  <a:pt x="624" y="318"/>
                </a:moveTo>
                <a:lnTo>
                  <a:pt x="624" y="161"/>
                </a:lnTo>
                <a:lnTo>
                  <a:pt x="0" y="161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6781680" y="3778200"/>
            <a:ext cx="685800" cy="99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80" h="816">
                <a:moveTo>
                  <a:pt x="0" y="0"/>
                </a:moveTo>
                <a:lnTo>
                  <a:pt x="0" y="336"/>
                </a:lnTo>
                <a:lnTo>
                  <a:pt x="480" y="336"/>
                </a:lnTo>
                <a:lnTo>
                  <a:pt x="480" y="81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3887640" y="3778200"/>
            <a:ext cx="1214640" cy="10018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765" h="631">
                <a:moveTo>
                  <a:pt x="764" y="0"/>
                </a:moveTo>
                <a:lnTo>
                  <a:pt x="765" y="343"/>
                </a:lnTo>
                <a:lnTo>
                  <a:pt x="0" y="343"/>
                </a:lnTo>
                <a:lnTo>
                  <a:pt x="0" y="63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1828800" y="2406600"/>
            <a:ext cx="2362320" cy="53352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488" h="576">
                <a:moveTo>
                  <a:pt x="1488" y="576"/>
                </a:moveTo>
                <a:lnTo>
                  <a:pt x="1488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838080" y="2209680"/>
            <a:ext cx="335304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191120" y="2209680"/>
            <a:ext cx="3962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62120" y="3400560"/>
            <a:ext cx="7619760" cy="24382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Baud Rat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BRR @ 0x007044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287800" y="190512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989680" y="190512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085480" y="227376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82000" y="2297880"/>
            <a:ext cx="167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I BIT 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839160" y="4475880"/>
            <a:ext cx="240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ICLK signal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3754800" y="3716280"/>
            <a:ext cx="1686600" cy="740160"/>
            <a:chOff x="3754800" y="3716280"/>
            <a:chExt cx="1686600" cy="740160"/>
          </a:xfrm>
        </p:grpSpPr>
        <p:sp>
          <p:nvSpPr>
            <p:cNvPr id="213" name="Text Box 12"/>
            <p:cNvSpPr/>
            <p:nvPr/>
          </p:nvSpPr>
          <p:spPr>
            <a:xfrm>
              <a:off x="3754800" y="3716280"/>
              <a:ext cx="16866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SPC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SPIBRR + 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3778200" y="4086360"/>
              <a:ext cx="1662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Group 14"/>
          <p:cNvGrpSpPr/>
          <p:nvPr/>
        </p:nvGrpSpPr>
        <p:grpSpPr>
          <a:xfrm>
            <a:off x="3913200" y="4949640"/>
            <a:ext cx="1569960" cy="740160"/>
            <a:chOff x="3913200" y="4949640"/>
            <a:chExt cx="1569960" cy="740160"/>
          </a:xfrm>
        </p:grpSpPr>
        <p:sp>
          <p:nvSpPr>
            <p:cNvPr id="216" name="Text Box 15"/>
            <p:cNvSpPr/>
            <p:nvPr/>
          </p:nvSpPr>
          <p:spPr>
            <a:xfrm>
              <a:off x="4117680" y="4949640"/>
              <a:ext cx="11988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SPC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3913200" y="5319720"/>
              <a:ext cx="1569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Text Box 17"/>
          <p:cNvSpPr/>
          <p:nvPr/>
        </p:nvSpPr>
        <p:spPr>
          <a:xfrm>
            <a:off x="5437440" y="3857040"/>
            <a:ext cx="2698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BRR = 3 to 1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5442480" y="5121000"/>
            <a:ext cx="278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BRR = 0, 1, 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9"/>
          <p:cNvSpPr/>
          <p:nvPr/>
        </p:nvSpPr>
        <p:spPr>
          <a:xfrm rot="10800000">
            <a:off x="3276360" y="370512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2"/>
                </a:lnTo>
                <a:cubicBezTo>
                  <a:pt x="10800" y="9912"/>
                  <a:pt x="16200" y="10812"/>
                  <a:pt x="21600" y="10812"/>
                </a:cubicBezTo>
                <a:cubicBezTo>
                  <a:pt x="16200" y="10812"/>
                  <a:pt x="10800" y="11712"/>
                  <a:pt x="10800" y="126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1204560" y="1294560"/>
            <a:ext cx="7509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to set this only when in master mod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143000" y="1371600"/>
            <a:ext cx="18288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Status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STS @ 0x00704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971800" y="13716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809880" y="13716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28428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1624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510240" y="106668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524480" y="3363840"/>
            <a:ext cx="43070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69920" indent="-16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SPI INT FLA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when transfer comple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rupt requested if SPI INT 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t set (SPICTL.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by reading SPIBRX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056960" y="4987800"/>
            <a:ext cx="72680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69920" indent="-16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RECEIVER OVERRU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/clear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if next reception completes before SPIRXBUF 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rupt requested if OVERRUN INT ENA bit set (SPICTL.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by writing a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4648320" y="1371600"/>
            <a:ext cx="350496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330600" y="144684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551960" y="144684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760760" y="106668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15"/>
          <p:cNvSpPr/>
          <p:nvPr/>
        </p:nvSpPr>
        <p:spPr>
          <a:xfrm>
            <a:off x="4267080" y="1828800"/>
            <a:ext cx="228600" cy="1700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700280"/>
              <a:gd name="textAreaBottom" fmla="*/ 1700640 h 170028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0" y="576"/>
                </a:lnTo>
                <a:lnTo>
                  <a:pt x="1152" y="57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429000" y="182880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4648320" y="13716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55280" y="2107080"/>
            <a:ext cx="373752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TX BUF FU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when char writ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SPITXB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when char in SPID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98636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5057640" y="18288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0" y="576"/>
                </a:lnTo>
                <a:lnTo>
                  <a:pt x="1152" y="57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7</cp:keywords>
  <dc:language>en-US</dc:language>
  <cp:lastModifiedBy>Windows-Benutzer</cp:lastModifiedBy>
  <dcterms:modified xsi:type="dcterms:W3CDTF">2009-09-18T06:06:17Z</dcterms:modified>
  <cp:revision>57</cp:revision>
  <dc:subject/>
  <dc:title>Part 1 Module 6 Analogue Digital Converter</dc:title>
</cp:coreProperties>
</file>