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8.png" ContentType="image/png"/>
  <Override PartName="/ppt/media/image2.wmf" ContentType="image/x-wmf"/>
  <Override PartName="/ppt/media/image3.wmf" ContentType="image/x-wmf"/>
  <Override PartName="/ppt/media/image27.png" ContentType="image/png"/>
  <Override PartName="/ppt/media/image13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7.png" ContentType="image/png"/>
  <Override PartName="/ppt/media/image40.wmf" ContentType="image/x-wmf"/>
  <Override PartName="/ppt/media/image37.png" ContentType="image/png"/>
  <Override PartName="/ppt/media/image29.wmf" ContentType="image/x-wmf"/>
  <Override PartName="/ppt/media/image31.png" ContentType="image/png"/>
  <Override PartName="/ppt/media/image6.png" ContentType="image/png"/>
  <Override PartName="/ppt/media/image36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4B47F-ED0E-4B04-80ED-6920B11ED48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2639D-E5DC-42DF-A4AA-978F1FDCE7CB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177000"/>
            <a:ext cx="77724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17700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17700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06668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06668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17700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17700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17700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067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17700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17700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177000"/>
            <a:ext cx="77724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2a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oter box"/>
          <p:cNvSpPr/>
          <p:nvPr/>
        </p:nvSpPr>
        <p:spPr>
          <a:xfrm>
            <a:off x="6248520" y="6477120"/>
            <a:ext cx="2743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9b03"/>
                </a:solidFill>
                <a:latin typeface="Arial"/>
              </a:rPr>
              <a:t>13 - </a:t>
            </a:r>
            <a:fld id="{988E886E-D26A-4B2D-8420-465CDD2A52D5}" type="slidenum">
              <a:rPr b="0" lang="en-US" sz="1200" spc="-1" strike="noStrike">
                <a:solidFill>
                  <a:srgbClr val="fe9b0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724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9000"/>
          </a:bodyPr>
          <a:p>
            <a:pPr marL="546840" indent="-54684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61920" indent="-30168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57560" indent="-28296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3560" indent="-28260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168640" indent="-30132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168640" indent="-301320">
              <a:lnSpc>
                <a:spcPct val="80000"/>
              </a:lnSpc>
              <a:spcBef>
                <a:spcPts val="1599"/>
              </a:spcBef>
              <a:buClr>
                <a:srgbClr val="ffffff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168640" indent="-301320">
              <a:lnSpc>
                <a:spcPct val="80000"/>
              </a:lnSpc>
              <a:spcBef>
                <a:spcPts val="1599"/>
              </a:spcBef>
              <a:buClr>
                <a:srgbClr val="ffffff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Oval 3"/>
          <p:cNvSpPr/>
          <p:nvPr/>
        </p:nvSpPr>
        <p:spPr>
          <a:xfrm>
            <a:off x="720720" y="1120680"/>
            <a:ext cx="7773840" cy="4302360"/>
          </a:xfrm>
          <a:prstGeom prst="ellipse">
            <a:avLst/>
          </a:prstGeom>
          <a:solidFill>
            <a:srgbClr val="6699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a2c1f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914400" y="3124080"/>
            <a:ext cx="73375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exas Instruments Incorpor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uropean Customer Training Centr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niversity of Applied Sciences Zwicka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Line 11"/>
          <p:cNvSpPr/>
          <p:nvPr/>
        </p:nvSpPr>
        <p:spPr>
          <a:xfrm>
            <a:off x="227160" y="6411960"/>
            <a:ext cx="7468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0" y="6291360"/>
            <a:ext cx="7550280" cy="5666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" name="Picture 13" descr=""/>
          <p:cNvPicPr/>
          <p:nvPr/>
        </p:nvPicPr>
        <p:blipFill>
          <a:blip r:embed="rId1"/>
          <a:stretch/>
        </p:blipFill>
        <p:spPr>
          <a:xfrm>
            <a:off x="514440" y="6510240"/>
            <a:ext cx="6448320" cy="2556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>
            <a:off x="7531200" y="6291360"/>
            <a:ext cx="1612800" cy="566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" name="Picture 15" descr=""/>
          <p:cNvPicPr/>
          <p:nvPr/>
        </p:nvPicPr>
        <p:blipFill>
          <a:blip r:embed="rId2"/>
          <a:stretch/>
        </p:blipFill>
        <p:spPr>
          <a:xfrm>
            <a:off x="7924680" y="6427800"/>
            <a:ext cx="870120" cy="430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" descr=""/>
          <p:cNvPicPr/>
          <p:nvPr/>
        </p:nvPicPr>
        <p:blipFill>
          <a:blip r:embed="rId3"/>
          <a:stretch/>
        </p:blipFill>
        <p:spPr>
          <a:xfrm>
            <a:off x="227160" y="612720"/>
            <a:ext cx="765000" cy="755640"/>
          </a:xfrm>
          <a:prstGeom prst="rect">
            <a:avLst/>
          </a:prstGeom>
          <a:ln w="0">
            <a:noFill/>
          </a:ln>
        </p:spPr>
      </p:pic>
      <p:sp>
        <p:nvSpPr>
          <p:cNvPr id="60" name="Line 17"/>
          <p:cNvSpPr/>
          <p:nvPr/>
        </p:nvSpPr>
        <p:spPr>
          <a:xfrm>
            <a:off x="914400" y="857160"/>
            <a:ext cx="7453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Rectangle 18"/>
          <p:cNvSpPr/>
          <p:nvPr/>
        </p:nvSpPr>
        <p:spPr>
          <a:xfrm>
            <a:off x="8418600" y="801720"/>
            <a:ext cx="753840" cy="755640"/>
          </a:xfrm>
          <a:prstGeom prst="rect">
            <a:avLst/>
          </a:prstGeom>
          <a:solidFill>
            <a:srgbClr val="042a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Freeform 19"/>
          <p:cNvSpPr/>
          <p:nvPr/>
        </p:nvSpPr>
        <p:spPr>
          <a:xfrm>
            <a:off x="8418600" y="485640"/>
            <a:ext cx="687240" cy="347760"/>
          </a:xfrm>
          <a:custGeom>
            <a:avLst/>
            <a:gdLst>
              <a:gd name="textAreaLeft" fmla="*/ 0 w 687240"/>
              <a:gd name="textAreaRight" fmla="*/ 687600 w 687240"/>
              <a:gd name="textAreaTop" fmla="*/ 0 h 347760"/>
              <a:gd name="textAreaBottom" fmla="*/ 348120 h 347760"/>
            </a:gdLst>
            <a:ahLst/>
            <a:rect l="textAreaLeft" t="textAreaTop" r="textAreaRight" b="textAreaBottom"/>
            <a:pathLst>
              <a:path w="1298" h="659">
                <a:moveTo>
                  <a:pt x="1290" y="659"/>
                </a:moveTo>
                <a:lnTo>
                  <a:pt x="1298" y="651"/>
                </a:lnTo>
                <a:lnTo>
                  <a:pt x="654" y="0"/>
                </a:lnTo>
                <a:lnTo>
                  <a:pt x="0" y="659"/>
                </a:lnTo>
                <a:lnTo>
                  <a:pt x="15" y="659"/>
                </a:lnTo>
                <a:lnTo>
                  <a:pt x="652" y="17"/>
                </a:lnTo>
                <a:lnTo>
                  <a:pt x="1290" y="659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Freeform 20"/>
          <p:cNvSpPr/>
          <p:nvPr/>
        </p:nvSpPr>
        <p:spPr>
          <a:xfrm>
            <a:off x="8418600" y="833400"/>
            <a:ext cx="347400" cy="345960"/>
          </a:xfrm>
          <a:custGeom>
            <a:avLst/>
            <a:gdLst>
              <a:gd name="textAreaLeft" fmla="*/ 0 w 347400"/>
              <a:gd name="textAreaRight" fmla="*/ 347760 w 347400"/>
              <a:gd name="textAreaTop" fmla="*/ 0 h 345960"/>
              <a:gd name="textAreaBottom" fmla="*/ 346320 h 345960"/>
            </a:gdLst>
            <a:ahLst/>
            <a:rect l="textAreaLeft" t="textAreaTop" r="textAreaRight" b="textAreaBottom"/>
            <a:pathLst>
              <a:path w="656" h="653">
                <a:moveTo>
                  <a:pt x="0" y="0"/>
                </a:moveTo>
                <a:lnTo>
                  <a:pt x="648" y="653"/>
                </a:lnTo>
                <a:lnTo>
                  <a:pt x="656" y="645"/>
                </a:lnTo>
                <a:lnTo>
                  <a:pt x="1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Freeform 21"/>
          <p:cNvSpPr/>
          <p:nvPr/>
        </p:nvSpPr>
        <p:spPr>
          <a:xfrm>
            <a:off x="8751960" y="819000"/>
            <a:ext cx="358560" cy="360360"/>
          </a:xfrm>
          <a:custGeom>
            <a:avLst/>
            <a:gdLst>
              <a:gd name="textAreaLeft" fmla="*/ 0 w 358560"/>
              <a:gd name="textAreaRight" fmla="*/ 358560 w 3585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679" h="681">
                <a:moveTo>
                  <a:pt x="0" y="651"/>
                </a:moveTo>
                <a:lnTo>
                  <a:pt x="31" y="681"/>
                </a:lnTo>
                <a:lnTo>
                  <a:pt x="679" y="31"/>
                </a:lnTo>
                <a:lnTo>
                  <a:pt x="649" y="0"/>
                </a:lnTo>
                <a:lnTo>
                  <a:pt x="0" y="65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Freeform 22"/>
          <p:cNvSpPr/>
          <p:nvPr/>
        </p:nvSpPr>
        <p:spPr>
          <a:xfrm>
            <a:off x="8599320" y="633240"/>
            <a:ext cx="314640" cy="385920"/>
          </a:xfrm>
          <a:custGeom>
            <a:avLst/>
            <a:gdLst>
              <a:gd name="textAreaLeft" fmla="*/ 0 w 314640"/>
              <a:gd name="textAreaRight" fmla="*/ 315000 w 314640"/>
              <a:gd name="textAreaTop" fmla="*/ 0 h 385920"/>
              <a:gd name="textAreaBottom" fmla="*/ 386280 h 385920"/>
            </a:gdLst>
            <a:ahLst/>
            <a:rect l="textAreaLeft" t="textAreaTop" r="textAreaRight" b="textAreaBottom"/>
            <a:pathLst>
              <a:path w="592" h="730">
                <a:moveTo>
                  <a:pt x="592" y="13"/>
                </a:moveTo>
                <a:lnTo>
                  <a:pt x="576" y="0"/>
                </a:lnTo>
                <a:lnTo>
                  <a:pt x="0" y="717"/>
                </a:lnTo>
                <a:lnTo>
                  <a:pt x="16" y="730"/>
                </a:lnTo>
                <a:lnTo>
                  <a:pt x="592" y="1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Freeform 23"/>
          <p:cNvSpPr/>
          <p:nvPr/>
        </p:nvSpPr>
        <p:spPr>
          <a:xfrm>
            <a:off x="8618400" y="631800"/>
            <a:ext cx="285840" cy="7920"/>
          </a:xfrm>
          <a:custGeom>
            <a:avLst/>
            <a:gdLst>
              <a:gd name="textAreaLeft" fmla="*/ 0 w 285840"/>
              <a:gd name="textAreaRight" fmla="*/ 286200 w 2858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42" h="13">
                <a:moveTo>
                  <a:pt x="0" y="2"/>
                </a:moveTo>
                <a:lnTo>
                  <a:pt x="0" y="13"/>
                </a:lnTo>
                <a:lnTo>
                  <a:pt x="542" y="9"/>
                </a:lnTo>
                <a:lnTo>
                  <a:pt x="542" y="0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Line 24"/>
          <p:cNvSpPr/>
          <p:nvPr/>
        </p:nvSpPr>
        <p:spPr>
          <a:xfrm>
            <a:off x="8610480" y="990720"/>
            <a:ext cx="304920" cy="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Text Box 25"/>
          <p:cNvSpPr/>
          <p:nvPr/>
        </p:nvSpPr>
        <p:spPr>
          <a:xfrm>
            <a:off x="873720" y="223920"/>
            <a:ext cx="778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e9b03"/>
                </a:solidFill>
                <a:latin typeface="Arial"/>
              </a:rPr>
              <a:t>Module 13: Multichannel Buffered Serial Port F2833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Rectangle 26"/>
          <p:cNvSpPr/>
          <p:nvPr/>
        </p:nvSpPr>
        <p:spPr>
          <a:xfrm>
            <a:off x="838080" y="1905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32-Bit-Digital Signal Controll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TMS320F2833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/>
          <p:cNvSpPr/>
          <p:nvPr/>
        </p:nvSpPr>
        <p:spPr>
          <a:xfrm>
            <a:off x="0" y="0"/>
            <a:ext cx="9067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PMingLiU"/>
              </a:rPr>
              <a:t>McBSP - Clock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3" name="Picture 2" descr=""/>
          <p:cNvPicPr/>
          <p:nvPr/>
        </p:nvPicPr>
        <p:blipFill>
          <a:blip r:embed="rId1"/>
          <a:stretch/>
        </p:blipFill>
        <p:spPr>
          <a:xfrm>
            <a:off x="324000" y="762120"/>
            <a:ext cx="8515080" cy="1598400"/>
          </a:xfrm>
          <a:prstGeom prst="rect">
            <a:avLst/>
          </a:prstGeom>
          <a:ln w="0">
            <a:noFill/>
          </a:ln>
        </p:spPr>
      </p:pic>
      <p:sp>
        <p:nvSpPr>
          <p:cNvPr id="354" name="Rechteck 6"/>
          <p:cNvSpPr/>
          <p:nvPr/>
        </p:nvSpPr>
        <p:spPr>
          <a:xfrm>
            <a:off x="324000" y="2360520"/>
            <a:ext cx="8515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2880" indent="-5428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is shifted one bit at a tim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00080" indent="-5428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rom the DR pin to the RSR(s) o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00080" indent="-5428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rom the XSR(s) to the DX pi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receive clock signal (CLKR) controls bit transfers from the DR pin to the RSR(s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ransmit clock signal (CLKX) controls bit transfers from the XSR(s) to the DX pi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2"/>
          <p:cNvSpPr/>
          <p:nvPr/>
        </p:nvSpPr>
        <p:spPr>
          <a:xfrm>
            <a:off x="0" y="0"/>
            <a:ext cx="9067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PMingLiU"/>
              </a:rPr>
              <a:t>McBSP – Frame Pha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Rechteck 6"/>
          <p:cNvSpPr/>
          <p:nvPr/>
        </p:nvSpPr>
        <p:spPr>
          <a:xfrm>
            <a:off x="152280" y="5467320"/>
            <a:ext cx="851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2880" indent="-54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ase 1: 2 words of 12 bits ea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ase 2: 3 words of 8 bit ea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7" name="Picture 3" descr=""/>
          <p:cNvPicPr/>
          <p:nvPr/>
        </p:nvPicPr>
        <p:blipFill>
          <a:blip r:embed="rId1"/>
          <a:stretch/>
        </p:blipFill>
        <p:spPr>
          <a:xfrm>
            <a:off x="285840" y="1224000"/>
            <a:ext cx="8781840" cy="13240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"/>
          <p:cNvPicPr/>
          <p:nvPr/>
        </p:nvPicPr>
        <p:blipFill>
          <a:blip r:embed="rId2"/>
          <a:stretch/>
        </p:blipFill>
        <p:spPr>
          <a:xfrm>
            <a:off x="152280" y="3429000"/>
            <a:ext cx="8915400" cy="1876320"/>
          </a:xfrm>
          <a:prstGeom prst="rect">
            <a:avLst/>
          </a:prstGeom>
          <a:ln w="0">
            <a:noFill/>
          </a:ln>
        </p:spPr>
      </p:pic>
      <p:sp>
        <p:nvSpPr>
          <p:cNvPr id="359" name="Rechteck 7"/>
          <p:cNvSpPr/>
          <p:nvPr/>
        </p:nvSpPr>
        <p:spPr>
          <a:xfrm>
            <a:off x="159840" y="762120"/>
            <a:ext cx="54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Single Phase Frame, 8 bits per wo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Rechteck 8"/>
          <p:cNvSpPr/>
          <p:nvPr/>
        </p:nvSpPr>
        <p:spPr>
          <a:xfrm>
            <a:off x="168480" y="2943360"/>
            <a:ext cx="28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Dual Phase Fr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2"/>
          <p:cNvSpPr/>
          <p:nvPr/>
        </p:nvSpPr>
        <p:spPr>
          <a:xfrm>
            <a:off x="0" y="0"/>
            <a:ext cx="9067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PMingLiU"/>
              </a:rPr>
              <a:t>McBSP – Recep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Rechteck 6"/>
          <p:cNvSpPr/>
          <p:nvPr/>
        </p:nvSpPr>
        <p:spPr>
          <a:xfrm>
            <a:off x="152280" y="5467320"/>
            <a:ext cx="851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2880" indent="-54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R = Data Receive Regis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RDY = status bit “Receiver Ready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Rechteck 7"/>
          <p:cNvSpPr/>
          <p:nvPr/>
        </p:nvSpPr>
        <p:spPr>
          <a:xfrm>
            <a:off x="183240" y="900000"/>
            <a:ext cx="439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Reception physical data pa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Rechteck 8"/>
          <p:cNvSpPr/>
          <p:nvPr/>
        </p:nvSpPr>
        <p:spPr>
          <a:xfrm>
            <a:off x="285120" y="2943360"/>
            <a:ext cx="375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Reception signal activ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5" name="Picture 2" descr=""/>
          <p:cNvPicPr/>
          <p:nvPr/>
        </p:nvPicPr>
        <p:blipFill>
          <a:blip r:embed="rId1"/>
          <a:stretch/>
        </p:blipFill>
        <p:spPr>
          <a:xfrm>
            <a:off x="162000" y="1362240"/>
            <a:ext cx="8905680" cy="106668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3" descr=""/>
          <p:cNvPicPr/>
          <p:nvPr/>
        </p:nvPicPr>
        <p:blipFill>
          <a:blip r:embed="rId2"/>
          <a:stretch/>
        </p:blipFill>
        <p:spPr>
          <a:xfrm>
            <a:off x="266760" y="3405240"/>
            <a:ext cx="8670960" cy="1866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2"/>
          <p:cNvSpPr/>
          <p:nvPr/>
        </p:nvSpPr>
        <p:spPr>
          <a:xfrm>
            <a:off x="0" y="0"/>
            <a:ext cx="9067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PMingLiU"/>
              </a:rPr>
              <a:t>McBSP – Transmiss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Rechteck 6"/>
          <p:cNvSpPr/>
          <p:nvPr/>
        </p:nvSpPr>
        <p:spPr>
          <a:xfrm>
            <a:off x="152280" y="5467320"/>
            <a:ext cx="851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2880" indent="-54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XR = Data Transmit Regis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RDY = status bit “Transmitter Ready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Rechteck 7"/>
          <p:cNvSpPr/>
          <p:nvPr/>
        </p:nvSpPr>
        <p:spPr>
          <a:xfrm>
            <a:off x="108720" y="900000"/>
            <a:ext cx="49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Transmission physical data pa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Rechteck 8"/>
          <p:cNvSpPr/>
          <p:nvPr/>
        </p:nvSpPr>
        <p:spPr>
          <a:xfrm>
            <a:off x="30600" y="2943360"/>
            <a:ext cx="42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Transmission signal activ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266760" y="1362240"/>
            <a:ext cx="7810560" cy="105696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4" descr=""/>
          <p:cNvPicPr/>
          <p:nvPr/>
        </p:nvPicPr>
        <p:blipFill>
          <a:blip r:embed="rId2"/>
          <a:stretch/>
        </p:blipFill>
        <p:spPr>
          <a:xfrm>
            <a:off x="152280" y="3405240"/>
            <a:ext cx="8944200" cy="1942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2"/>
          <p:cNvSpPr/>
          <p:nvPr/>
        </p:nvSpPr>
        <p:spPr>
          <a:xfrm>
            <a:off x="0" y="0"/>
            <a:ext cx="9067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PMingLiU"/>
              </a:rPr>
              <a:t>McBSP – Interrupts and DM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Rechteck 7"/>
          <p:cNvSpPr/>
          <p:nvPr/>
        </p:nvSpPr>
        <p:spPr>
          <a:xfrm>
            <a:off x="753840" y="900000"/>
            <a:ext cx="67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Internal Signals from McBSP to CPU or DM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592200" y="1592280"/>
          <a:ext cx="7839000" cy="3479760"/>
        </p:xfrm>
        <a:graphic>
          <a:graphicData uri="http://schemas.openxmlformats.org/drawingml/2006/table">
            <a:tbl>
              <a:tblPr/>
              <a:tblGrid>
                <a:gridCol w="2436840"/>
                <a:gridCol w="5402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2aa4"/>
                          </a:solidFill>
                          <a:latin typeface="Arial"/>
                        </a:rPr>
                        <a:t>Internal Sign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d5d5d5"/>
                      </a:solidFill>
                    </a:lnL>
                    <a:lnR>
                      <a:noFill/>
                    </a:lnR>
                    <a:lnT w="4320">
                      <a:solidFill>
                        <a:srgbClr val="d5d5d5"/>
                      </a:solidFill>
                    </a:lnT>
                    <a:lnB w="4320">
                      <a:solidFill>
                        <a:srgbClr val="d5d5d5"/>
                      </a:solidFill>
                    </a:lnB>
                    <a:solidFill>
                      <a:srgbClr val="dad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2aa4"/>
                          </a:solidFill>
                          <a:latin typeface="Arial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d5d5d5"/>
                      </a:solidFill>
                    </a:lnR>
                    <a:lnT w="4320">
                      <a:solidFill>
                        <a:srgbClr val="d5d5d5"/>
                      </a:solidFill>
                    </a:lnT>
                    <a:lnB w="4320">
                      <a:solidFill>
                        <a:srgbClr val="d5d5d5"/>
                      </a:solidFill>
                    </a:lnB>
                    <a:solidFill>
                      <a:srgbClr val="dadad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I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d5d5d5"/>
                      </a:solidFill>
                    </a:lnL>
                    <a:lnR>
                      <a:noFill/>
                    </a:lnR>
                    <a:lnT w="4320">
                      <a:solidFill>
                        <a:srgbClr val="d5d5d5"/>
                      </a:solidFill>
                    </a:lnT>
                    <a:lnB w="4320">
                      <a:solidFill>
                        <a:srgbClr val="d5d5d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ceiver Interrupt from McBSP to CPU; based on a selected condition in the receiv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d5d5d5"/>
                      </a:solidFill>
                    </a:lnR>
                    <a:lnT w="4320">
                      <a:solidFill>
                        <a:srgbClr val="d5d5d5"/>
                      </a:solidFill>
                    </a:lnT>
                    <a:lnB w="4320">
                      <a:solidFill>
                        <a:srgbClr val="d5d5d5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I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d5d5d5"/>
                      </a:solidFill>
                    </a:lnL>
                    <a:lnR>
                      <a:noFill/>
                    </a:lnR>
                    <a:lnT w="4320">
                      <a:solidFill>
                        <a:srgbClr val="d5d5d5"/>
                      </a:solidFill>
                    </a:lnT>
                    <a:lnB w="4320">
                      <a:solidFill>
                        <a:srgbClr val="d5d5d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nsmitter Interrupt from McBSP to CPU; based on a selected condition in the transmitt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d5d5d5"/>
                      </a:solidFill>
                    </a:lnR>
                    <a:lnT w="4320">
                      <a:solidFill>
                        <a:srgbClr val="d5d5d5"/>
                      </a:solidFill>
                    </a:lnT>
                    <a:lnB w="4320">
                      <a:solidFill>
                        <a:srgbClr val="d5d5d5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V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d5d5d5"/>
                      </a:solidFill>
                    </a:lnL>
                    <a:lnR>
                      <a:noFill/>
                    </a:lnR>
                    <a:lnT w="4320">
                      <a:solidFill>
                        <a:srgbClr val="d5d5d5"/>
                      </a:solidFill>
                    </a:lnT>
                    <a:lnB w="4320">
                      <a:solidFill>
                        <a:srgbClr val="d5d5d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ceive synchronization event from McBSP to DMA; triggered when data has been received in DRR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d5d5d5"/>
                      </a:solidFill>
                    </a:lnR>
                    <a:lnT w="4320">
                      <a:solidFill>
                        <a:srgbClr val="d5d5d5"/>
                      </a:solidFill>
                    </a:lnT>
                    <a:lnB w="4320">
                      <a:solidFill>
                        <a:srgbClr val="d5d5d5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EV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d5d5d5"/>
                      </a:solidFill>
                    </a:lnL>
                    <a:lnR>
                      <a:noFill/>
                    </a:lnR>
                    <a:lnT w="4320">
                      <a:solidFill>
                        <a:srgbClr val="d5d5d5"/>
                      </a:solidFill>
                    </a:lnT>
                    <a:lnB w="4320">
                      <a:solidFill>
                        <a:srgbClr val="d5d5d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nsmit synchronization event from McBSP to DMA; triggered when DXR is ready to accept new data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d5d5d5"/>
                      </a:solidFill>
                    </a:lnR>
                    <a:lnT w="4320">
                      <a:solidFill>
                        <a:srgbClr val="d5d5d5"/>
                      </a:solidFill>
                    </a:lnT>
                    <a:lnB w="4320">
                      <a:solidFill>
                        <a:srgbClr val="d5d5d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2"/>
          <p:cNvSpPr/>
          <p:nvPr/>
        </p:nvSpPr>
        <p:spPr>
          <a:xfrm>
            <a:off x="0" y="0"/>
            <a:ext cx="9067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PMingLiU"/>
              </a:rPr>
              <a:t>McBSP – Register Se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Rechteck 7"/>
          <p:cNvSpPr/>
          <p:nvPr/>
        </p:nvSpPr>
        <p:spPr>
          <a:xfrm>
            <a:off x="1191600" y="757080"/>
            <a:ext cx="50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McBSP Control &amp; Data Register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219320" y="1219320"/>
          <a:ext cx="6095880" cy="4821120"/>
        </p:xfrm>
        <a:graphic>
          <a:graphicData uri="http://schemas.openxmlformats.org/drawingml/2006/table">
            <a:tbl>
              <a:tblPr/>
              <a:tblGrid>
                <a:gridCol w="1361880"/>
                <a:gridCol w="47340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gist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aaa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aaaa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R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Receive Register 2 (high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R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Receive Register 1 (low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XR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Transmit Register 2 (high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XR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Receive Register 1 (low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CR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ial Port Control Register 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CR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ial Port Control Register 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CR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ve Control Register 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CR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ve Control Register 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CR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mit Control Register 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CR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mit Control Register 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RGR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ple Rate Generator Register 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RGR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ple Rate Generator Register 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2"/>
          <p:cNvSpPr/>
          <p:nvPr/>
        </p:nvSpPr>
        <p:spPr>
          <a:xfrm>
            <a:off x="0" y="0"/>
            <a:ext cx="9067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PMingLiU"/>
              </a:rPr>
              <a:t>McBSP – Register Se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Rechteck 7"/>
          <p:cNvSpPr/>
          <p:nvPr/>
        </p:nvSpPr>
        <p:spPr>
          <a:xfrm>
            <a:off x="550440" y="762120"/>
            <a:ext cx="605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McBSP Multi Channel Control Register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482760" y="1228680"/>
          <a:ext cx="6956280" cy="3292560"/>
        </p:xfrm>
        <a:graphic>
          <a:graphicData uri="http://schemas.openxmlformats.org/drawingml/2006/table">
            <a:tbl>
              <a:tblPr/>
              <a:tblGrid>
                <a:gridCol w="1554120"/>
                <a:gridCol w="5402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gist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aaa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aaaa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CR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channel Control Register 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CR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channel Control Register 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CER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ve Channel Enable Register Partition 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CER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mit Channel Enable Register Partition 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C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n Control Regist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CER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mit Channel Enable Register Partition 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C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n Control Regist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FFI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rupt Enable Regist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</a:tr>
            </a:tbl>
          </a:graphicData>
        </a:graphic>
      </p:graphicFrame>
      <p:sp>
        <p:nvSpPr>
          <p:cNvPr id="382" name="Rechteck 5"/>
          <p:cNvSpPr/>
          <p:nvPr/>
        </p:nvSpPr>
        <p:spPr>
          <a:xfrm>
            <a:off x="480240" y="4743360"/>
            <a:ext cx="37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Arial"/>
              </a:rPr>
              <a:t>x = Partition A, B, C, D, E, F, G, 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5772240" y="3886200"/>
          <a:ext cx="2409840" cy="2743200"/>
        </p:xfrm>
        <a:graphic>
          <a:graphicData uri="http://schemas.openxmlformats.org/drawingml/2006/table">
            <a:tbl>
              <a:tblPr/>
              <a:tblGrid>
                <a:gridCol w="1204920"/>
                <a:gridCol w="12049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i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f4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nnel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f4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c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 - 1 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cce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– 3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c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 – 4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cce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 – 6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c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 – 7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cce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 – 9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c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 – 1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ccce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 - 12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8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2"/>
          <p:cNvSpPr/>
          <p:nvPr/>
        </p:nvSpPr>
        <p:spPr>
          <a:xfrm>
            <a:off x="0" y="0"/>
            <a:ext cx="9067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PMingLiU"/>
              </a:rPr>
              <a:t>McBSP – Data Regis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Rechteck 7"/>
          <p:cNvSpPr/>
          <p:nvPr/>
        </p:nvSpPr>
        <p:spPr>
          <a:xfrm>
            <a:off x="286560" y="762120"/>
            <a:ext cx="72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McBSP Data Receive Register (DRR2 and DRR1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6" name="Picture 2" descr=""/>
          <p:cNvPicPr/>
          <p:nvPr/>
        </p:nvPicPr>
        <p:blipFill>
          <a:blip r:embed="rId1"/>
          <a:stretch/>
        </p:blipFill>
        <p:spPr>
          <a:xfrm>
            <a:off x="247680" y="1224000"/>
            <a:ext cx="8629560" cy="1711440"/>
          </a:xfrm>
          <a:prstGeom prst="rect">
            <a:avLst/>
          </a:prstGeom>
          <a:ln w="0">
            <a:noFill/>
          </a:ln>
        </p:spPr>
      </p:pic>
      <p:sp>
        <p:nvSpPr>
          <p:cNvPr id="387" name="Rechteck 11"/>
          <p:cNvSpPr/>
          <p:nvPr/>
        </p:nvSpPr>
        <p:spPr>
          <a:xfrm>
            <a:off x="275400" y="3614760"/>
            <a:ext cx="73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McBSP Data Transmit Register (DXR2 and DXR1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8" name="Picture 3" descr=""/>
          <p:cNvPicPr/>
          <p:nvPr/>
        </p:nvPicPr>
        <p:blipFill>
          <a:blip r:embed="rId2"/>
          <a:stretch/>
        </p:blipFill>
        <p:spPr>
          <a:xfrm>
            <a:off x="247680" y="4076640"/>
            <a:ext cx="8629560" cy="1708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2"/>
          <p:cNvSpPr/>
          <p:nvPr/>
        </p:nvSpPr>
        <p:spPr>
          <a:xfrm>
            <a:off x="0" y="0"/>
            <a:ext cx="9067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Arial"/>
                <a:ea typeface="PMingLiU"/>
              </a:rPr>
              <a:t>McBSP – Serial Port Control Register (SPCR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Rechteck 11"/>
          <p:cNvSpPr/>
          <p:nvPr/>
        </p:nvSpPr>
        <p:spPr>
          <a:xfrm>
            <a:off x="253440" y="2141640"/>
            <a:ext cx="86101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LB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gital Loopback Mod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 = disabled;  1 = enabl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JUST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ceive Justification Mode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 = Right justify data and zero fill MSB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 = Right justify data and sign – extend MSB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 = Left justify data and zero fill LSB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KSTP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ock Stop Mod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 and 1  = disabl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 = enabled, without clock delay (SPI – Mod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 = enabled, with half-cycle clock delay (SPI – Mod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XENA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X Delay Enabl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 = OF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 = ON; extra delay for turn – ON - tim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INTM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ceiver Interrupt Mod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 = INT when RRDY = 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 = INT after 16 channels (multichannel mod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 = INT of frame sync pul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 = INT on Receive Frame Sync Err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SYNCERR: Receive Frame Sync Error 0 = no error; 1 = error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FULL: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ceiver Full Status bi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 = Receiver Full condition (RSR, RBR and DRR full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RDY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ceiver Ready Status bi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 = Receiver Ready; new data in DR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RST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ceiver Reset Control Bi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 = Reset Receiver; 1 = release Receiver from Res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1" name="Picture 2" descr=""/>
          <p:cNvPicPr/>
          <p:nvPr/>
        </p:nvPicPr>
        <p:blipFill>
          <a:blip r:embed="rId1"/>
          <a:stretch/>
        </p:blipFill>
        <p:spPr>
          <a:xfrm>
            <a:off x="162000" y="762120"/>
            <a:ext cx="8934480" cy="1379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2"/>
          <p:cNvSpPr/>
          <p:nvPr/>
        </p:nvSpPr>
        <p:spPr>
          <a:xfrm>
            <a:off x="0" y="0"/>
            <a:ext cx="9067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Arial"/>
                <a:ea typeface="PMingLiU"/>
              </a:rPr>
              <a:t>McBSP – Serial Port Control Register (SPCR2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Rechteck 11"/>
          <p:cNvSpPr/>
          <p:nvPr/>
        </p:nvSpPr>
        <p:spPr>
          <a:xfrm>
            <a:off x="162000" y="2343240"/>
            <a:ext cx="89056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REE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ree Run JTAG Mod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 = Stop at breakpoint;  1 = Free Ru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ft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ft Stop JTAG Mode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 = if FREE = 0, stop immediately in case of breakpoi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 = if FREE = 0, stop at end of fram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RST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rame Sync Logic Rese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 = Reset;  1 = release Frame Logic from Res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RST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mple Rate Generator Reset 0 = Reset; 1 = release SRG from Res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XINTM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ransmit Interrupt Mod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 = INT when XRDY = 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 = INT after 16 channels (multichannel mod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 = INT of frame sync pul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 = INT on Transmit Frame Sync Err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XSYNCERR: Receive Frame Sync Error 0 = no error; 1 = error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XEMPTY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ransmitter Empty Status bi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 = Transmitter empty (DXR1); 1 = not emp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XRDY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ransmitter Ready Status bi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 = Transmitter ready (DXR1,2) to accept new data XRST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ransmitter Reset Control Bi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=Reset Transmitter; 1=release Transmitter from Res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4" name="Picture 2" descr=""/>
          <p:cNvPicPr/>
          <p:nvPr/>
        </p:nvPicPr>
        <p:blipFill>
          <a:blip r:embed="rId1"/>
          <a:stretch/>
        </p:blipFill>
        <p:spPr>
          <a:xfrm>
            <a:off x="162000" y="658800"/>
            <a:ext cx="8696160" cy="1482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e9b03"/>
                </a:solidFill>
                <a:latin typeface="Arial"/>
              </a:rPr>
              <a:t>ulti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fe9b03"/>
                </a:solidFill>
                <a:latin typeface="Arial"/>
              </a:rPr>
              <a:t>hannel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en-US" sz="3200" spc="-1" strike="noStrike">
                <a:solidFill>
                  <a:srgbClr val="fe9b03"/>
                </a:solidFill>
                <a:latin typeface="Arial"/>
              </a:rPr>
              <a:t>uffered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3200" spc="-1" strike="noStrike">
                <a:solidFill>
                  <a:srgbClr val="fe9b03"/>
                </a:solidFill>
                <a:latin typeface="Arial"/>
              </a:rPr>
              <a:t>erial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fe9b03"/>
                </a:solidFill>
                <a:latin typeface="Arial"/>
              </a:rPr>
              <a:t>ort (McBSP)</a:t>
            </a:r>
            <a:endParaRPr b="1" lang="en-US" sz="32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60948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152280" y="685800"/>
            <a:ext cx="8763120" cy="55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2600" indent="-55260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9b03"/>
                </a:solidFill>
                <a:latin typeface="Arial"/>
              </a:rPr>
              <a:t>Introduction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wo High – Speed multichannel synchronous serial ports (McBSP-A and McBSP-B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imum data rate: 20 MH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ach McBSP consists of a data - flow – path and a control - pa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 Pins per chann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09800" indent="-5526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DX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ata transm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09800" indent="-5526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DR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ata receiv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09800" indent="-5526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CLKX: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ransmit cloc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09800" indent="-5526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CLKR: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eceive cloc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09800" indent="-5526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FSX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rame sync transm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09800" indent="-5526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FSR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rame sync rece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Text Box 299"/>
          <p:cNvSpPr/>
          <p:nvPr/>
        </p:nvSpPr>
        <p:spPr>
          <a:xfrm>
            <a:off x="5575320" y="5283360"/>
            <a:ext cx="380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/>
          <p:cNvSpPr/>
          <p:nvPr/>
        </p:nvSpPr>
        <p:spPr>
          <a:xfrm>
            <a:off x="0" y="0"/>
            <a:ext cx="9067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Arial"/>
                <a:ea typeface="PMingLiU"/>
              </a:rPr>
              <a:t>McBSP – Receive Control Register  1 (RCR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Rechteck 11"/>
          <p:cNvSpPr/>
          <p:nvPr/>
        </p:nvSpPr>
        <p:spPr>
          <a:xfrm>
            <a:off x="162000" y="2343240"/>
            <a:ext cx="890568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FRLEN1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ceive Frame Length1(0…0x7F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ngle Phase Frame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umber of Words in a frame (1…128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ual Phase Frame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umber of Words in frame – phase 1 (1...128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WDLEN1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ceive Word Length1 (0…7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ngle Phase Frame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umber of Bits in a Wor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ual Phase Frame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umber of Bits in a Word of frame - phase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 = 8 Bi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 = 12 Bi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 = 16 Bi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 = 20 Bi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 = 24 Bi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 = 32 Bi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 and 7: reserv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7" name="Picture 2" descr=""/>
          <p:cNvPicPr/>
          <p:nvPr/>
        </p:nvPicPr>
        <p:blipFill>
          <a:blip r:embed="rId1"/>
          <a:stretch/>
        </p:blipFill>
        <p:spPr>
          <a:xfrm>
            <a:off x="162000" y="762120"/>
            <a:ext cx="8910720" cy="1380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2"/>
          <p:cNvSpPr/>
          <p:nvPr/>
        </p:nvSpPr>
        <p:spPr>
          <a:xfrm>
            <a:off x="0" y="0"/>
            <a:ext cx="9067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Arial"/>
                <a:ea typeface="PMingLiU"/>
              </a:rPr>
              <a:t>McBSP – Receive Control Register  2 (RCR2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Rechteck 11"/>
          <p:cNvSpPr/>
          <p:nvPr/>
        </p:nvSpPr>
        <p:spPr>
          <a:xfrm>
            <a:off x="162000" y="2030400"/>
            <a:ext cx="89056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PHASE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ceive Phase Numb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 = Single Phase Fram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 = Dual Phase Fram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FRLEN2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ceive Frame Length 2 (0…0x7F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ngle Phase Frame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on’t ca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ual Phase Frame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umber of Words in frame – phase 2 (1...128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WDLEN2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ceive Word Length 2 (0…7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ngle Phase Frame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on’t ca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ual Phase Frame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umber of Bits in a Word of frame - phase 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 = 8 Bit, 1 = 12 Bit, 2 = 16 Bit, 3 = 20 Bit, 4 = 24 Bit, 5 = 32 Bi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COMPAND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ceive Companding Mod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 = no companding, MSB received fir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 = no companding, 8-bit-data, LSB fir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 = µ-law; 8-bit-data, MSB received fir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 = A-law;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8-bit-data, MSB received fir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FIG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ceive Frame Sync Ignor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 = unexpected Frame Sync ignor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DATDLY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ceive Data Dela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 = 0 clock cycles delay after frame Syn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 = 1 cycle; 2 = 2 cycles; 3 =reserv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0" name="Picture 2" descr=""/>
          <p:cNvPicPr/>
          <p:nvPr/>
        </p:nvPicPr>
        <p:blipFill>
          <a:blip r:embed="rId1"/>
          <a:stretch/>
        </p:blipFill>
        <p:spPr>
          <a:xfrm>
            <a:off x="162000" y="698400"/>
            <a:ext cx="8648640" cy="1332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2"/>
          <p:cNvSpPr/>
          <p:nvPr/>
        </p:nvSpPr>
        <p:spPr>
          <a:xfrm>
            <a:off x="0" y="0"/>
            <a:ext cx="9067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Arial"/>
                <a:ea typeface="PMingLiU"/>
              </a:rPr>
              <a:t>McBSP – Transmit Control Register  1 (XCR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Rechteck 11"/>
          <p:cNvSpPr/>
          <p:nvPr/>
        </p:nvSpPr>
        <p:spPr>
          <a:xfrm>
            <a:off x="162000" y="2257560"/>
            <a:ext cx="890568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XFRLEN1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ransmit Frame Length1(0…0x7F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ngle Phase Frame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umber of Words in a frame (1…128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ual Phase Frame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umber of Words in frame – phase 1 (1...128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XWDLEN1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ransmit Word Length1 (0…7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ngle Phase Frame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umber of Bits in a Wor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ual Phase Frame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umber of Bits in a Word of frame - phase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 = 8 Bi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 = 12 Bi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 = 16 Bi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 = 20 Bi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 = 24 Bi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 = 32 Bi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 and 7: reserv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3" name="Picture 2" descr=""/>
          <p:cNvPicPr/>
          <p:nvPr/>
        </p:nvPicPr>
        <p:blipFill>
          <a:blip r:embed="rId1"/>
          <a:stretch/>
        </p:blipFill>
        <p:spPr>
          <a:xfrm>
            <a:off x="162000" y="762120"/>
            <a:ext cx="8637480" cy="1338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2"/>
          <p:cNvSpPr/>
          <p:nvPr/>
        </p:nvSpPr>
        <p:spPr>
          <a:xfrm>
            <a:off x="0" y="0"/>
            <a:ext cx="9067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Arial"/>
                <a:ea typeface="PMingLiU"/>
              </a:rPr>
              <a:t>McBSP – Transmit Control Register  2 (XCR2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Rechteck 11"/>
          <p:cNvSpPr/>
          <p:nvPr/>
        </p:nvSpPr>
        <p:spPr>
          <a:xfrm>
            <a:off x="162000" y="2257560"/>
            <a:ext cx="890568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XPHASE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ransmit Phase Numb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 = Single Phase Fram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 = Dual Phase Fram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XFRLEN2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ransmit Frame Length 2 (0…0x7F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ngle Phase Frame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on’t ca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ual Phase Frame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umber of Words in frame – phase 2 (1...128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XWDLEN2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ransmit Word Length 2 (0…7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ngle Phase Frame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on’t ca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ual Phase Frame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umber of Bits in a Word of frame - phase 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 = 8 Bit, 1 = 12 Bit, 2 = 16 Bit, 3 = 20 Bit, 4 = 24 Bit, 5 = 32 Bi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XCOMPAND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ransmit Companding Mod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 = no companding, MSB transmitted fir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 = no companding, 8-bit-data, LSB fir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 = µ-law; 8-bit-data, MSB transmitted fir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 = A-law;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8-bit-data, MSB transmitted fir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XFIG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ransmit Frame Sync Ignor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 = unexpected Frame Sync ignor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XDATDLY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ransmit Data Dela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 = 0 clock cycles delay after frame Syn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 = 1 cycle; 2 = 2 cycles; 3 =reserv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6" name="Picture 2" descr=""/>
          <p:cNvPicPr/>
          <p:nvPr/>
        </p:nvPicPr>
        <p:blipFill>
          <a:blip r:embed="rId1"/>
          <a:stretch/>
        </p:blipFill>
        <p:spPr>
          <a:xfrm>
            <a:off x="162000" y="625320"/>
            <a:ext cx="8591400" cy="1360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2"/>
          <p:cNvSpPr/>
          <p:nvPr/>
        </p:nvSpPr>
        <p:spPr>
          <a:xfrm>
            <a:off x="0" y="0"/>
            <a:ext cx="9067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Arial"/>
                <a:ea typeface="PMingLiU"/>
              </a:rPr>
              <a:t>McBSP – Sample Rate Generator (SRGR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Rechteck 11"/>
          <p:cNvSpPr/>
          <p:nvPr/>
        </p:nvSpPr>
        <p:spPr>
          <a:xfrm>
            <a:off x="162000" y="2257560"/>
            <a:ext cx="89056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WID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rame Sync Pulse Width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…25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ulse Width of Frame Sync Signal in McBSP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ock cyc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KGDV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vide Down Value for Clock-Generator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…25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KG frequency = (Input clock frequency)/ (CLKGDV + 1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input clock is selected by the SCLKME (Register PCR) and CLKSM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Register SRGR) bit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162000" y="639720"/>
            <a:ext cx="8648640" cy="1357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0" name=""/>
          <p:cNvGraphicFramePr/>
          <p:nvPr/>
        </p:nvGraphicFramePr>
        <p:xfrm>
          <a:off x="1838160" y="4686480"/>
          <a:ext cx="6096240" cy="1854000"/>
        </p:xfrm>
        <a:graphic>
          <a:graphicData uri="http://schemas.openxmlformats.org/drawingml/2006/table">
            <a:tbl>
              <a:tblPr/>
              <a:tblGrid>
                <a:gridCol w="1390680"/>
                <a:gridCol w="1333800"/>
                <a:gridCol w="337176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LK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aaa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KS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aaa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put Clock Sour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aaaa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rv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SPCL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al on pin MCLK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al on pin MCLK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0" y="0"/>
            <a:ext cx="9067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Arial"/>
                <a:ea typeface="PMingLiU"/>
              </a:rPr>
              <a:t>McBSP – Sample Rate Generator (SRGR2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Rechteck 11"/>
          <p:cNvSpPr/>
          <p:nvPr/>
        </p:nvSpPr>
        <p:spPr>
          <a:xfrm>
            <a:off x="162000" y="2257560"/>
            <a:ext cx="89056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SYNC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ock Sync Mod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nly used, if clock source is exter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 = Clock Synchronization;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KG is adjusted to MCLKR / MCLK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 = no clock sync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KG free running, FSG every FPER-cyc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KSM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mple Clock Mod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SGM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rame Sync Mode;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rame Pulse from pin FSX (if FSXM = 0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f FSXM = 1, generate frame pulse when DXR is copied into XSR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f FSXM = 1, generate frame pulse based on FPER and FWI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PER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rame Sync Period  (1…4096); Number of CLKG cycles between fram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uls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2009880" y="3905280"/>
          <a:ext cx="6095880" cy="1523880"/>
        </p:xfrm>
        <a:graphic>
          <a:graphicData uri="http://schemas.openxmlformats.org/drawingml/2006/table">
            <a:tbl>
              <a:tblPr/>
              <a:tblGrid>
                <a:gridCol w="1390680"/>
                <a:gridCol w="1333440"/>
                <a:gridCol w="33717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LK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aaa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KS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aaa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put Clock Sour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aaaa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rv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SPCL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al on pin MCLK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al on pin MCLKX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</a:tr>
            </a:tbl>
          </a:graphicData>
        </a:graphic>
      </p:graphicFrame>
      <p:pic>
        <p:nvPicPr>
          <p:cNvPr id="414" name="Picture 2" descr=""/>
          <p:cNvPicPr/>
          <p:nvPr/>
        </p:nvPicPr>
        <p:blipFill>
          <a:blip r:embed="rId1"/>
          <a:stretch/>
        </p:blipFill>
        <p:spPr>
          <a:xfrm>
            <a:off x="162000" y="797040"/>
            <a:ext cx="8820000" cy="1436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2"/>
          <p:cNvSpPr/>
          <p:nvPr/>
        </p:nvSpPr>
        <p:spPr>
          <a:xfrm>
            <a:off x="0" y="0"/>
            <a:ext cx="9067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Arial"/>
                <a:ea typeface="PMingLiU"/>
              </a:rPr>
              <a:t>McBSP – Pin Control Register (PC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Rechteck 11"/>
          <p:cNvSpPr/>
          <p:nvPr/>
        </p:nvSpPr>
        <p:spPr>
          <a:xfrm>
            <a:off x="162000" y="1981080"/>
            <a:ext cx="89056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FSXM: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ransmit Frame Sync Mode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0 = Frame Pulse is supplied externally via pin FS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1 = Frame Pulse generated internally by Sample Rate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     Generator (bit FSGM of register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SRGR2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FSRM: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Receive Frame Sync Mode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0 = Frame Pulse is supplied externally via pin FS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1 = Frame Pulse generated internally by Sample Rate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     Generator (bit FSGM of register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SRGR2)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LKXM: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ransmit Clock Mode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f CLKSTP = 0 or 1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0 = external transmit clock from pin MCLK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1 = internal transmit clock; MCLKX is outpu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f CLKSTP = 2 or 3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0 = McBSP is slave in SPI – Protocol; MCLKX is inpu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1 = McBSP is master in SPI – Mode; MCLKX is outpu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CLKME: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ample Rate Generator Input Mode  (see CLKSM in Register SRGR2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XSTAT: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X pin Status Bit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1 = drive DX pin high; 0 = DX pin low (GPIO mod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RSTAT: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R pin Status Bit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1 = drive DR pin high; 0 = DR pin low (GPIO mod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FSXP: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ransmit Frame Sync Polarity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0 = active high; 1 = active lo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FSRP: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Receive Frame Sync Polarity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0 = active high; 1 = active lo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LKXP: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ransmit Clock Polarity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ata valid on rising (0) or falling (1) edge of CLK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LKRP: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Receive Clock Polarity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ata sampled on rising (1) or falling (0) edg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7" name="Picture 2" descr=""/>
          <p:cNvPicPr/>
          <p:nvPr/>
        </p:nvPicPr>
        <p:blipFill>
          <a:blip r:embed="rId1"/>
          <a:stretch/>
        </p:blipFill>
        <p:spPr>
          <a:xfrm>
            <a:off x="247680" y="531720"/>
            <a:ext cx="8782200" cy="1449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2"/>
          <p:cNvSpPr/>
          <p:nvPr/>
        </p:nvSpPr>
        <p:spPr>
          <a:xfrm>
            <a:off x="0" y="0"/>
            <a:ext cx="9067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Arial"/>
                <a:ea typeface="PMingLiU"/>
              </a:rPr>
              <a:t>McBSP – Interrupt Enable Register (MFFIN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Rechteck 11"/>
          <p:cNvSpPr/>
          <p:nvPr/>
        </p:nvSpPr>
        <p:spPr>
          <a:xfrm>
            <a:off x="162000" y="1981080"/>
            <a:ext cx="8905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INT ENA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 = disable McBSP Receive Interrup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 = enable McBSP Receive Interrup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314280" y="563400"/>
            <a:ext cx="8601120" cy="13161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" descr=""/>
          <p:cNvPicPr/>
          <p:nvPr/>
        </p:nvPicPr>
        <p:blipFill>
          <a:blip r:embed="rId2"/>
          <a:stretch/>
        </p:blipFill>
        <p:spPr>
          <a:xfrm>
            <a:off x="162000" y="2565360"/>
            <a:ext cx="5281560" cy="17240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4" descr=""/>
          <p:cNvPicPr/>
          <p:nvPr/>
        </p:nvPicPr>
        <p:blipFill>
          <a:blip r:embed="rId3"/>
          <a:stretch/>
        </p:blipFill>
        <p:spPr>
          <a:xfrm>
            <a:off x="2801880" y="4873680"/>
            <a:ext cx="5281560" cy="1735200"/>
          </a:xfrm>
          <a:prstGeom prst="rect">
            <a:avLst/>
          </a:prstGeom>
          <a:ln w="0">
            <a:noFill/>
          </a:ln>
        </p:spPr>
      </p:pic>
      <p:sp>
        <p:nvSpPr>
          <p:cNvPr id="423" name="Rechteck 7"/>
          <p:cNvSpPr/>
          <p:nvPr/>
        </p:nvSpPr>
        <p:spPr>
          <a:xfrm>
            <a:off x="2801880" y="4289400"/>
            <a:ext cx="7448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XINT ENA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 = disable McBSP Transmit Interrup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 = enable McBSP Transmit Interrupt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Stereo Audio Codec TLV320AIC23B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425" name="Rechteck 37"/>
          <p:cNvSpPr/>
          <p:nvPr/>
        </p:nvSpPr>
        <p:spPr>
          <a:xfrm>
            <a:off x="590400" y="762120"/>
            <a:ext cx="8229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Main Featur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90dB SNR Multibit Sigma-Delta ADC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00-dB SNR Multibit Sigma-Delta DAC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8 kHz …96 kHz Sampling-Frequ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I- Interface for Control Channel Compatible Serial-Port Protoco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  - Phase Audio - Data Input/Output via McBS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tandard I2S, MSB, or LSB Justified-Data Transf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6/20/24/32-Bit Audio Data Word Leng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olume Control With Mute on Input and Outp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DC Multiplexed Input for Stereo-Line Inputs and Microph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ighly Efficient Linear Headphone Amplifier (30 mW into 32 Ohm from a 3.3-V Analogue Supply Volt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Stereo Audio Codec TLV320AIC23B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427" name="Rechteck 37"/>
          <p:cNvSpPr/>
          <p:nvPr/>
        </p:nvSpPr>
        <p:spPr>
          <a:xfrm>
            <a:off x="219240" y="7621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nctional Block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gram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8" name="Picture 2" descr=""/>
          <p:cNvPicPr/>
          <p:nvPr/>
        </p:nvPicPr>
        <p:blipFill>
          <a:blip r:embed="rId1"/>
          <a:stretch/>
        </p:blipFill>
        <p:spPr>
          <a:xfrm>
            <a:off x="4048200" y="587520"/>
            <a:ext cx="4829040" cy="5887800"/>
          </a:xfrm>
          <a:prstGeom prst="rect">
            <a:avLst/>
          </a:prstGeom>
          <a:ln w="0">
            <a:noFill/>
          </a:ln>
        </p:spPr>
      </p:pic>
      <p:sp>
        <p:nvSpPr>
          <p:cNvPr id="429" name="Rechteck 4"/>
          <p:cNvSpPr/>
          <p:nvPr/>
        </p:nvSpPr>
        <p:spPr>
          <a:xfrm>
            <a:off x="219240" y="1962000"/>
            <a:ext cx="8229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gnal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HPOUT =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ght headphone o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HPOUT 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ft headphone o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Rechteck 5"/>
          <p:cNvSpPr/>
          <p:nvPr/>
        </p:nvSpPr>
        <p:spPr>
          <a:xfrm>
            <a:off x="144000" y="5572080"/>
            <a:ext cx="308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© Document  Number : SLWS106H,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age 1-3 (www.ti.com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McBSP Block Diagram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grpSp>
        <p:nvGrpSpPr>
          <p:cNvPr id="75" name="Group 108"/>
          <p:cNvGrpSpPr/>
          <p:nvPr/>
        </p:nvGrpSpPr>
        <p:grpSpPr>
          <a:xfrm>
            <a:off x="533520" y="838080"/>
            <a:ext cx="8288280" cy="5715000"/>
            <a:chOff x="533520" y="838080"/>
            <a:chExt cx="8288280" cy="5715000"/>
          </a:xfrm>
        </p:grpSpPr>
        <p:sp>
          <p:nvSpPr>
            <p:cNvPr id="76" name="Rectangle 5"/>
            <p:cNvSpPr/>
            <p:nvPr/>
          </p:nvSpPr>
          <p:spPr>
            <a:xfrm>
              <a:off x="533520" y="838080"/>
              <a:ext cx="6553080" cy="57150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AutoShape 6"/>
            <p:cNvSpPr/>
            <p:nvPr/>
          </p:nvSpPr>
          <p:spPr>
            <a:xfrm flipH="1" rot="16200000">
              <a:off x="2842920" y="2342160"/>
              <a:ext cx="419040" cy="306360"/>
            </a:xfrm>
            <a:prstGeom prst="rightArrow">
              <a:avLst>
                <a:gd name="adj1" fmla="val 75000"/>
                <a:gd name="adj2" fmla="val 26951"/>
              </a:avLst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Rectangle 7"/>
            <p:cNvSpPr/>
            <p:nvPr/>
          </p:nvSpPr>
          <p:spPr>
            <a:xfrm>
              <a:off x="2856960" y="2303640"/>
              <a:ext cx="379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Rectangle 16"/>
            <p:cNvSpPr/>
            <p:nvPr/>
          </p:nvSpPr>
          <p:spPr>
            <a:xfrm>
              <a:off x="2070000" y="2014560"/>
              <a:ext cx="1968480" cy="30312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Text Box 17"/>
            <p:cNvSpPr/>
            <p:nvPr/>
          </p:nvSpPr>
          <p:spPr>
            <a:xfrm>
              <a:off x="2344320" y="2070000"/>
              <a:ext cx="1459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XR2 TX Buff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8"/>
            <p:cNvSpPr/>
            <p:nvPr/>
          </p:nvSpPr>
          <p:spPr>
            <a:xfrm>
              <a:off x="2070000" y="2714760"/>
              <a:ext cx="1968480" cy="30312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Text Box 19"/>
            <p:cNvSpPr/>
            <p:nvPr/>
          </p:nvSpPr>
          <p:spPr>
            <a:xfrm>
              <a:off x="2738520" y="2770200"/>
              <a:ext cx="64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XSR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AutoShape 20"/>
            <p:cNvSpPr/>
            <p:nvPr/>
          </p:nvSpPr>
          <p:spPr>
            <a:xfrm flipH="1" rot="16200000">
              <a:off x="5509800" y="2342160"/>
              <a:ext cx="419040" cy="306360"/>
            </a:xfrm>
            <a:prstGeom prst="rightArrow">
              <a:avLst>
                <a:gd name="adj1" fmla="val 75000"/>
                <a:gd name="adj2" fmla="val 26951"/>
              </a:avLst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Rectangle 21"/>
            <p:cNvSpPr/>
            <p:nvPr/>
          </p:nvSpPr>
          <p:spPr>
            <a:xfrm>
              <a:off x="5523840" y="2303640"/>
              <a:ext cx="379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Rectangle 30"/>
            <p:cNvSpPr/>
            <p:nvPr/>
          </p:nvSpPr>
          <p:spPr>
            <a:xfrm>
              <a:off x="4737240" y="2014560"/>
              <a:ext cx="1968480" cy="30312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Text Box 31"/>
            <p:cNvSpPr/>
            <p:nvPr/>
          </p:nvSpPr>
          <p:spPr>
            <a:xfrm>
              <a:off x="5011200" y="2070000"/>
              <a:ext cx="1459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XR1 TX Buff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Rectangle 32"/>
            <p:cNvSpPr/>
            <p:nvPr/>
          </p:nvSpPr>
          <p:spPr>
            <a:xfrm>
              <a:off x="4737240" y="2714760"/>
              <a:ext cx="1968480" cy="30312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Text Box 33"/>
            <p:cNvSpPr/>
            <p:nvPr/>
          </p:nvSpPr>
          <p:spPr>
            <a:xfrm>
              <a:off x="5405760" y="2770200"/>
              <a:ext cx="64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XSR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AutoShape 34"/>
            <p:cNvSpPr/>
            <p:nvPr/>
          </p:nvSpPr>
          <p:spPr>
            <a:xfrm flipH="1" rot="16200000">
              <a:off x="2842920" y="4713840"/>
              <a:ext cx="419040" cy="306360"/>
            </a:xfrm>
            <a:prstGeom prst="rightArrow">
              <a:avLst>
                <a:gd name="adj1" fmla="val 75000"/>
                <a:gd name="adj2" fmla="val 26951"/>
              </a:avLst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Rectangle 35"/>
            <p:cNvSpPr/>
            <p:nvPr/>
          </p:nvSpPr>
          <p:spPr>
            <a:xfrm>
              <a:off x="2856960" y="4675320"/>
              <a:ext cx="379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Rectangle 44"/>
            <p:cNvSpPr/>
            <p:nvPr/>
          </p:nvSpPr>
          <p:spPr>
            <a:xfrm>
              <a:off x="2070000" y="5089680"/>
              <a:ext cx="1968480" cy="30312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Text Box 45"/>
            <p:cNvSpPr/>
            <p:nvPr/>
          </p:nvSpPr>
          <p:spPr>
            <a:xfrm>
              <a:off x="2345040" y="5145120"/>
              <a:ext cx="148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RR2 RX Buff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Rectangle 46"/>
            <p:cNvSpPr/>
            <p:nvPr/>
          </p:nvSpPr>
          <p:spPr>
            <a:xfrm>
              <a:off x="2070000" y="4352760"/>
              <a:ext cx="1968480" cy="30348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Text Box 47"/>
            <p:cNvSpPr/>
            <p:nvPr/>
          </p:nvSpPr>
          <p:spPr>
            <a:xfrm>
              <a:off x="2441880" y="4408560"/>
              <a:ext cx="1369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BR2 Regist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AutoShape 48"/>
            <p:cNvSpPr/>
            <p:nvPr/>
          </p:nvSpPr>
          <p:spPr>
            <a:xfrm flipH="1" rot="16200000">
              <a:off x="5509800" y="4713840"/>
              <a:ext cx="419040" cy="306360"/>
            </a:xfrm>
            <a:prstGeom prst="rightArrow">
              <a:avLst>
                <a:gd name="adj1" fmla="val 75000"/>
                <a:gd name="adj2" fmla="val 26951"/>
              </a:avLst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49"/>
            <p:cNvSpPr/>
            <p:nvPr/>
          </p:nvSpPr>
          <p:spPr>
            <a:xfrm>
              <a:off x="5523840" y="4675320"/>
              <a:ext cx="379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58"/>
            <p:cNvSpPr/>
            <p:nvPr/>
          </p:nvSpPr>
          <p:spPr>
            <a:xfrm>
              <a:off x="4737240" y="5089680"/>
              <a:ext cx="1968480" cy="30312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Text Box 59"/>
            <p:cNvSpPr/>
            <p:nvPr/>
          </p:nvSpPr>
          <p:spPr>
            <a:xfrm>
              <a:off x="5011920" y="5145120"/>
              <a:ext cx="148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RR1 RX Buff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Rectangle 60"/>
            <p:cNvSpPr/>
            <p:nvPr/>
          </p:nvSpPr>
          <p:spPr>
            <a:xfrm>
              <a:off x="4737240" y="4352760"/>
              <a:ext cx="1968480" cy="30348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Text Box 61"/>
            <p:cNvSpPr/>
            <p:nvPr/>
          </p:nvSpPr>
          <p:spPr>
            <a:xfrm>
              <a:off x="5108760" y="4408560"/>
              <a:ext cx="1369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BR1 Regist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AutoShape 62"/>
            <p:cNvSpPr/>
            <p:nvPr/>
          </p:nvSpPr>
          <p:spPr>
            <a:xfrm flipH="1" rot="16200000">
              <a:off x="2842920" y="3977280"/>
              <a:ext cx="419040" cy="306360"/>
            </a:xfrm>
            <a:prstGeom prst="rightArrow">
              <a:avLst>
                <a:gd name="adj1" fmla="val 75000"/>
                <a:gd name="adj2" fmla="val 26951"/>
              </a:avLst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Rectangle 63"/>
            <p:cNvSpPr/>
            <p:nvPr/>
          </p:nvSpPr>
          <p:spPr>
            <a:xfrm>
              <a:off x="2856960" y="3938760"/>
              <a:ext cx="379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Rectangle 64"/>
            <p:cNvSpPr/>
            <p:nvPr/>
          </p:nvSpPr>
          <p:spPr>
            <a:xfrm>
              <a:off x="2070000" y="3616200"/>
              <a:ext cx="1968480" cy="30348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Text Box 65"/>
            <p:cNvSpPr/>
            <p:nvPr/>
          </p:nvSpPr>
          <p:spPr>
            <a:xfrm>
              <a:off x="2738520" y="3672000"/>
              <a:ext cx="65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SR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AutoShape 66"/>
            <p:cNvSpPr/>
            <p:nvPr/>
          </p:nvSpPr>
          <p:spPr>
            <a:xfrm flipH="1" rot="16200000">
              <a:off x="5509800" y="3977280"/>
              <a:ext cx="419040" cy="306360"/>
            </a:xfrm>
            <a:prstGeom prst="rightArrow">
              <a:avLst>
                <a:gd name="adj1" fmla="val 75000"/>
                <a:gd name="adj2" fmla="val 26951"/>
              </a:avLst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Rectangle 67"/>
            <p:cNvSpPr/>
            <p:nvPr/>
          </p:nvSpPr>
          <p:spPr>
            <a:xfrm>
              <a:off x="5523840" y="3938760"/>
              <a:ext cx="379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Rectangle 68"/>
            <p:cNvSpPr/>
            <p:nvPr/>
          </p:nvSpPr>
          <p:spPr>
            <a:xfrm>
              <a:off x="4737240" y="3616200"/>
              <a:ext cx="1968480" cy="30348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Text Box 69"/>
            <p:cNvSpPr/>
            <p:nvPr/>
          </p:nvSpPr>
          <p:spPr>
            <a:xfrm>
              <a:off x="5405760" y="3672000"/>
              <a:ext cx="65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SR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Line 70"/>
            <p:cNvSpPr/>
            <p:nvPr/>
          </p:nvSpPr>
          <p:spPr>
            <a:xfrm>
              <a:off x="4035600" y="2857680"/>
              <a:ext cx="6998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Line 71"/>
            <p:cNvSpPr/>
            <p:nvPr/>
          </p:nvSpPr>
          <p:spPr>
            <a:xfrm>
              <a:off x="4035600" y="3765600"/>
              <a:ext cx="6998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Line 72"/>
            <p:cNvSpPr/>
            <p:nvPr/>
          </p:nvSpPr>
          <p:spPr>
            <a:xfrm>
              <a:off x="6703920" y="2857680"/>
              <a:ext cx="12416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Line 73"/>
            <p:cNvSpPr/>
            <p:nvPr/>
          </p:nvSpPr>
          <p:spPr>
            <a:xfrm>
              <a:off x="6703920" y="3772080"/>
              <a:ext cx="12416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Line 74"/>
            <p:cNvSpPr/>
            <p:nvPr/>
          </p:nvSpPr>
          <p:spPr>
            <a:xfrm>
              <a:off x="7089840" y="1390680"/>
              <a:ext cx="601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Line 75"/>
            <p:cNvSpPr/>
            <p:nvPr/>
          </p:nvSpPr>
          <p:spPr>
            <a:xfrm>
              <a:off x="7086600" y="1905120"/>
              <a:ext cx="601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Line 76"/>
            <p:cNvSpPr/>
            <p:nvPr/>
          </p:nvSpPr>
          <p:spPr>
            <a:xfrm>
              <a:off x="7089840" y="5257800"/>
              <a:ext cx="601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Line 77"/>
            <p:cNvSpPr/>
            <p:nvPr/>
          </p:nvSpPr>
          <p:spPr>
            <a:xfrm>
              <a:off x="7086600" y="5772240"/>
              <a:ext cx="601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Text Box 78"/>
            <p:cNvSpPr/>
            <p:nvPr/>
          </p:nvSpPr>
          <p:spPr>
            <a:xfrm>
              <a:off x="7932960" y="2682720"/>
              <a:ext cx="87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DXx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Text Box 79"/>
            <p:cNvSpPr/>
            <p:nvPr/>
          </p:nvSpPr>
          <p:spPr>
            <a:xfrm>
              <a:off x="7932240" y="3610080"/>
              <a:ext cx="88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DRx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Text Box 80"/>
            <p:cNvSpPr/>
            <p:nvPr/>
          </p:nvSpPr>
          <p:spPr>
            <a:xfrm>
              <a:off x="7666560" y="1249200"/>
              <a:ext cx="93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FSX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Text Box 81"/>
            <p:cNvSpPr/>
            <p:nvPr/>
          </p:nvSpPr>
          <p:spPr>
            <a:xfrm>
              <a:off x="7652520" y="5637240"/>
              <a:ext cx="94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FSR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Text Box 82"/>
            <p:cNvSpPr/>
            <p:nvPr/>
          </p:nvSpPr>
          <p:spPr>
            <a:xfrm>
              <a:off x="7666560" y="1757520"/>
              <a:ext cx="10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CLKX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Text Box 83"/>
            <p:cNvSpPr/>
            <p:nvPr/>
          </p:nvSpPr>
          <p:spPr>
            <a:xfrm>
              <a:off x="7679520" y="5110200"/>
              <a:ext cx="109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CLKR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AutoShape 86"/>
            <p:cNvSpPr/>
            <p:nvPr/>
          </p:nvSpPr>
          <p:spPr>
            <a:xfrm>
              <a:off x="1447920" y="1182600"/>
              <a:ext cx="5486400" cy="519120"/>
            </a:xfrm>
            <a:prstGeom prst="rightArrow">
              <a:avLst>
                <a:gd name="adj1" fmla="val 58796"/>
                <a:gd name="adj2" fmla="val 151582"/>
              </a:avLst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eripheral / DMA Bu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AutoShape 87"/>
            <p:cNvSpPr/>
            <p:nvPr/>
          </p:nvSpPr>
          <p:spPr>
            <a:xfrm flipH="1">
              <a:off x="1447920" y="5715000"/>
              <a:ext cx="5486400" cy="533520"/>
            </a:xfrm>
            <a:prstGeom prst="rightArrow">
              <a:avLst>
                <a:gd name="adj1" fmla="val 58796"/>
                <a:gd name="adj2" fmla="val 147491"/>
              </a:avLst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eripheral / DMA Bu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Line 90"/>
            <p:cNvSpPr/>
            <p:nvPr/>
          </p:nvSpPr>
          <p:spPr>
            <a:xfrm>
              <a:off x="1433520" y="1100160"/>
              <a:ext cx="0" cy="5334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AutoShape 93"/>
            <p:cNvSpPr/>
            <p:nvPr/>
          </p:nvSpPr>
          <p:spPr>
            <a:xfrm flipH="1" rot="16200000">
              <a:off x="2842920" y="1656360"/>
              <a:ext cx="419040" cy="306360"/>
            </a:xfrm>
            <a:prstGeom prst="rightArrow">
              <a:avLst>
                <a:gd name="adj1" fmla="val 75000"/>
                <a:gd name="adj2" fmla="val 26951"/>
              </a:avLst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Rectangle 94"/>
            <p:cNvSpPr/>
            <p:nvPr/>
          </p:nvSpPr>
          <p:spPr>
            <a:xfrm>
              <a:off x="2856960" y="1617840"/>
              <a:ext cx="379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AutoShape 95"/>
            <p:cNvSpPr/>
            <p:nvPr/>
          </p:nvSpPr>
          <p:spPr>
            <a:xfrm flipH="1" rot="16200000">
              <a:off x="2845800" y="5447520"/>
              <a:ext cx="419400" cy="306360"/>
            </a:xfrm>
            <a:prstGeom prst="rightArrow">
              <a:avLst>
                <a:gd name="adj1" fmla="val 75000"/>
                <a:gd name="adj2" fmla="val 26974"/>
              </a:avLst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Rectangle 96"/>
            <p:cNvSpPr/>
            <p:nvPr/>
          </p:nvSpPr>
          <p:spPr>
            <a:xfrm>
              <a:off x="2859840" y="5408640"/>
              <a:ext cx="379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AutoShape 99"/>
            <p:cNvSpPr/>
            <p:nvPr/>
          </p:nvSpPr>
          <p:spPr>
            <a:xfrm flipH="1" rot="16200000">
              <a:off x="5509800" y="1656360"/>
              <a:ext cx="419040" cy="306360"/>
            </a:xfrm>
            <a:prstGeom prst="rightArrow">
              <a:avLst>
                <a:gd name="adj1" fmla="val 75000"/>
                <a:gd name="adj2" fmla="val 26951"/>
              </a:avLst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Rectangle 100"/>
            <p:cNvSpPr/>
            <p:nvPr/>
          </p:nvSpPr>
          <p:spPr>
            <a:xfrm>
              <a:off x="5523840" y="1617840"/>
              <a:ext cx="379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AutoShape 101"/>
            <p:cNvSpPr/>
            <p:nvPr/>
          </p:nvSpPr>
          <p:spPr>
            <a:xfrm flipH="1" rot="16200000">
              <a:off x="5513040" y="5456880"/>
              <a:ext cx="419040" cy="306360"/>
            </a:xfrm>
            <a:prstGeom prst="rightArrow">
              <a:avLst>
                <a:gd name="adj1" fmla="val 75000"/>
                <a:gd name="adj2" fmla="val 26951"/>
              </a:avLst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Rectangle 102"/>
            <p:cNvSpPr/>
            <p:nvPr/>
          </p:nvSpPr>
          <p:spPr>
            <a:xfrm>
              <a:off x="5527080" y="5418000"/>
              <a:ext cx="379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AutoShape 105"/>
            <p:cNvSpPr/>
            <p:nvPr/>
          </p:nvSpPr>
          <p:spPr>
            <a:xfrm>
              <a:off x="685800" y="3352680"/>
              <a:ext cx="685800" cy="609840"/>
            </a:xfrm>
            <a:prstGeom prst="leftRightArrow">
              <a:avLst>
                <a:gd name="adj1" fmla="val 50000"/>
                <a:gd name="adj2" fmla="val 22387"/>
              </a:avLst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PU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Stereo Audio Codec TLV320AIC23B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graphicFrame>
        <p:nvGraphicFramePr>
          <p:cNvPr id="432" name=""/>
          <p:cNvGraphicFramePr/>
          <p:nvPr/>
        </p:nvGraphicFramePr>
        <p:xfrm>
          <a:off x="657360" y="762120"/>
          <a:ext cx="8076960" cy="5776920"/>
        </p:xfrm>
        <a:graphic>
          <a:graphicData uri="http://schemas.openxmlformats.org/drawingml/2006/table">
            <a:tbl>
              <a:tblPr/>
              <a:tblGrid>
                <a:gridCol w="1763640"/>
                <a:gridCol w="2465280"/>
                <a:gridCol w="2121120"/>
                <a:gridCol w="1726920"/>
              </a:tblGrid>
              <a:tr h="712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PIO -MU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bacc6"/>
                      </a:solidFill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2833x – Func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IC23–sig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464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PIO20 = 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bacc6"/>
                      </a:solidFill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cBSPA – MDX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udio data ou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465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PIO21 = 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bacc6"/>
                      </a:solidFill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cBSPA – MDR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udio data 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OU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PIO22 = 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bacc6"/>
                      </a:solidFill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cBSPA – MCLKX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ransmit cloc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CL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PIO23 = 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bacc6"/>
                      </a:solidFill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cBSPA – MFSX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ransmit frame syn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RC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PIO58 = 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bacc6"/>
                      </a:solidFill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cBSPA – MCLKR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eceive Cloc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CL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PIO59 = 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bacc6"/>
                      </a:solidFill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cBSPA – MFR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eceive frame syn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RCOU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473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PIO16 = 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bacc6"/>
                      </a:solidFill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PIA – SPISIM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ntrol data ou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D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PIO18 = 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bacc6"/>
                      </a:solidFill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PIA – SPICL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ntrol data cloc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CL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PIO19 = 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bacc6"/>
                      </a:solidFill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PIA – SPIS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lave trans. enab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/C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Stereo Audio Codec TLV320AIC23B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pic>
        <p:nvPicPr>
          <p:cNvPr id="434" name="Picture 2" descr=""/>
          <p:cNvPicPr/>
          <p:nvPr/>
        </p:nvPicPr>
        <p:blipFill>
          <a:blip r:embed="rId1"/>
          <a:stretch/>
        </p:blipFill>
        <p:spPr>
          <a:xfrm>
            <a:off x="326880" y="1235160"/>
            <a:ext cx="8445600" cy="1155600"/>
          </a:xfrm>
          <a:prstGeom prst="rect">
            <a:avLst/>
          </a:prstGeom>
          <a:ln w="0">
            <a:noFill/>
          </a:ln>
        </p:spPr>
      </p:pic>
      <p:sp>
        <p:nvSpPr>
          <p:cNvPr id="435" name="Rechteck 4"/>
          <p:cNvSpPr/>
          <p:nvPr/>
        </p:nvSpPr>
        <p:spPr>
          <a:xfrm>
            <a:off x="219240" y="7621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t Register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Rechteck 6"/>
          <p:cNvSpPr/>
          <p:nvPr/>
        </p:nvSpPr>
        <p:spPr>
          <a:xfrm>
            <a:off x="371520" y="255276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wer Down Control Register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7" name="Picture 3" descr=""/>
          <p:cNvPicPr/>
          <p:nvPr/>
        </p:nvPicPr>
        <p:blipFill>
          <a:blip r:embed="rId2"/>
          <a:stretch/>
        </p:blipFill>
        <p:spPr>
          <a:xfrm>
            <a:off x="371520" y="3014640"/>
            <a:ext cx="8445600" cy="1176480"/>
          </a:xfrm>
          <a:prstGeom prst="rect">
            <a:avLst/>
          </a:prstGeom>
          <a:ln w="0">
            <a:noFill/>
          </a:ln>
        </p:spPr>
      </p:pic>
      <p:sp>
        <p:nvSpPr>
          <p:cNvPr id="438" name="Rechteck 7"/>
          <p:cNvSpPr/>
          <p:nvPr/>
        </p:nvSpPr>
        <p:spPr>
          <a:xfrm>
            <a:off x="447840" y="419112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 = Line Inp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C  =  Microphone Inp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C = Internal AD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C = Internal DA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UT = Output Signa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SC = Oscillat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K = CLOC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FF = Device Powe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Rechteck 8"/>
          <p:cNvSpPr/>
          <p:nvPr/>
        </p:nvSpPr>
        <p:spPr>
          <a:xfrm>
            <a:off x="4580640" y="5095800"/>
            <a:ext cx="24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 = ON; 1 = OF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Geschweifte Klammer rechts 9"/>
          <p:cNvSpPr/>
          <p:nvPr/>
        </p:nvSpPr>
        <p:spPr>
          <a:xfrm>
            <a:off x="3505320" y="4314960"/>
            <a:ext cx="914400" cy="2184120"/>
          </a:xfrm>
          <a:custGeom>
            <a:avLst/>
            <a:gdLst>
              <a:gd name="textAreaLeft" fmla="*/ 0 w 914400"/>
              <a:gd name="textAreaRight" fmla="*/ 330120 w 914400"/>
              <a:gd name="textAreaTop" fmla="*/ 23760 h 2184120"/>
              <a:gd name="textAreaBottom" fmla="*/ 2160360 h 21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77"/>
                  <a:pt x="10800" y="753"/>
                </a:cubicBezTo>
                <a:lnTo>
                  <a:pt x="10800" y="10047"/>
                </a:lnTo>
                <a:cubicBezTo>
                  <a:pt x="10800" y="10424"/>
                  <a:pt x="16200" y="10800"/>
                  <a:pt x="21600" y="10800"/>
                </a:cubicBezTo>
                <a:cubicBezTo>
                  <a:pt x="16200" y="10800"/>
                  <a:pt x="10800" y="11177"/>
                  <a:pt x="10800" y="11553"/>
                </a:cubicBezTo>
                <a:lnTo>
                  <a:pt x="10800" y="20847"/>
                </a:lnTo>
                <a:cubicBezTo>
                  <a:pt x="10800" y="21224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Stereo Audio Codec TLV320AIC23B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442" name="Rechteck 4"/>
          <p:cNvSpPr/>
          <p:nvPr/>
        </p:nvSpPr>
        <p:spPr>
          <a:xfrm>
            <a:off x="219240" y="7621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ft Channel Headphone Volume Control Register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Rechteck 6"/>
          <p:cNvSpPr/>
          <p:nvPr/>
        </p:nvSpPr>
        <p:spPr>
          <a:xfrm>
            <a:off x="219240" y="36576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ght Channel Headphone Volume Control Register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4" name="Picture 2" descr=""/>
          <p:cNvPicPr/>
          <p:nvPr/>
        </p:nvPicPr>
        <p:blipFill>
          <a:blip r:embed="rId1"/>
          <a:stretch/>
        </p:blipFill>
        <p:spPr>
          <a:xfrm>
            <a:off x="219240" y="1224000"/>
            <a:ext cx="8705520" cy="1054080"/>
          </a:xfrm>
          <a:prstGeom prst="rect">
            <a:avLst/>
          </a:prstGeom>
          <a:ln w="0">
            <a:noFill/>
          </a:ln>
        </p:spPr>
      </p:pic>
      <p:sp>
        <p:nvSpPr>
          <p:cNvPr id="445" name="Rechteck 10"/>
          <p:cNvSpPr/>
          <p:nvPr/>
        </p:nvSpPr>
        <p:spPr>
          <a:xfrm>
            <a:off x="304920" y="232236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RS = Left / Right simultaneous update volume ( 0 = OFF, 1 = O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ZC = Left channel zero cross (0 = OFF, 1 = ON). If ON, volume updates only at zero crossing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HV = Left Headphone Volume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0x7F = +6dB; 0x79 = 0dB; 0x30 = -73dB (mut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6" name="Picture 3" descr=""/>
          <p:cNvPicPr/>
          <p:nvPr/>
        </p:nvPicPr>
        <p:blipFill>
          <a:blip r:embed="rId2"/>
          <a:stretch/>
        </p:blipFill>
        <p:spPr>
          <a:xfrm>
            <a:off x="304920" y="4119480"/>
            <a:ext cx="8705880" cy="979560"/>
          </a:xfrm>
          <a:prstGeom prst="rect">
            <a:avLst/>
          </a:prstGeom>
          <a:ln w="0">
            <a:noFill/>
          </a:ln>
        </p:spPr>
      </p:pic>
      <p:sp>
        <p:nvSpPr>
          <p:cNvPr id="447" name="Rechteck 14"/>
          <p:cNvSpPr/>
          <p:nvPr/>
        </p:nvSpPr>
        <p:spPr>
          <a:xfrm>
            <a:off x="304920" y="5238720"/>
            <a:ext cx="861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LS = Right / Left simultaneous update volume ( 0 = OFF, 1 = O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ZC = Right channel zero cross (0 = OFF, 1 = ON). If ON, volume updates only at zero crossing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HV = Right Headphone Volume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0x7F = +6dB; 0x79 = 0dB; 0x30 = -73dB (mut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Stereo Audio Codec TLV320AIC23B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449" name="Rechteck 4"/>
          <p:cNvSpPr/>
          <p:nvPr/>
        </p:nvSpPr>
        <p:spPr>
          <a:xfrm>
            <a:off x="219240" y="7621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ogue Audio Path Control Register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Rechteck 10"/>
          <p:cNvSpPr/>
          <p:nvPr/>
        </p:nvSpPr>
        <p:spPr>
          <a:xfrm>
            <a:off x="304920" y="2322360"/>
            <a:ext cx="86295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CB = Microphone boost (0 = 0dB; 1 = 20dB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CM = Microphone mute (0 = normal; 1 = muted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SEL = Input Select for Audio (0 = line; 1 = Microphon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YP  = Bypass (0 = disabled; 1 = enabled (line in to line out)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C = DAC select ( 0 = DAC OFF; 1 = DAC O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E = Added Side Tone  (  0 = OFF; 1 = O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 = Side Tone Volume (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f STE = ON, MIC is routed both to headphone &amp; line out 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1" name="Picture 2" descr=""/>
          <p:cNvPicPr/>
          <p:nvPr/>
        </p:nvPicPr>
        <p:blipFill>
          <a:blip r:embed="rId1"/>
          <a:stretch/>
        </p:blipFill>
        <p:spPr>
          <a:xfrm>
            <a:off x="142920" y="1224000"/>
            <a:ext cx="8924760" cy="10126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3" descr=""/>
          <p:cNvPicPr/>
          <p:nvPr/>
        </p:nvPicPr>
        <p:blipFill>
          <a:blip r:embed="rId2"/>
          <a:stretch/>
        </p:blipFill>
        <p:spPr>
          <a:xfrm>
            <a:off x="1395360" y="4354560"/>
            <a:ext cx="5553000" cy="2314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Stereo Audio Codec TLV320AIC23B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454" name="Rechteck 10"/>
          <p:cNvSpPr/>
          <p:nvPr/>
        </p:nvSpPr>
        <p:spPr>
          <a:xfrm>
            <a:off x="219240" y="2322360"/>
            <a:ext cx="862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CHP = ADC High Pass Filter (0 = enabled; 1 = disabled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EMP = De-emphasis control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0 = disabled, 1 = 32kHz, 2 = 44.1kHz, 3 = 48kHz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CM  = DAC soft mute (0 = disabled; 1 = enabled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5" name="Picture 2" descr=""/>
          <p:cNvPicPr/>
          <p:nvPr/>
        </p:nvPicPr>
        <p:blipFill>
          <a:blip r:embed="rId1"/>
          <a:stretch/>
        </p:blipFill>
        <p:spPr>
          <a:xfrm>
            <a:off x="219240" y="1224000"/>
            <a:ext cx="8715240" cy="1098360"/>
          </a:xfrm>
          <a:prstGeom prst="rect">
            <a:avLst/>
          </a:prstGeom>
          <a:ln w="0">
            <a:noFill/>
          </a:ln>
        </p:spPr>
      </p:pic>
      <p:sp>
        <p:nvSpPr>
          <p:cNvPr id="456" name="Rechteck 7"/>
          <p:cNvSpPr/>
          <p:nvPr/>
        </p:nvSpPr>
        <p:spPr>
          <a:xfrm>
            <a:off x="219240" y="64764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gital Audio Path Control Register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Stereo Audio Codec TLV320AIC23B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458" name="Rechteck 4"/>
          <p:cNvSpPr/>
          <p:nvPr/>
        </p:nvSpPr>
        <p:spPr>
          <a:xfrm>
            <a:off x="219240" y="7621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gital Audio Interface Format Register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Rechteck 10"/>
          <p:cNvSpPr/>
          <p:nvPr/>
        </p:nvSpPr>
        <p:spPr>
          <a:xfrm>
            <a:off x="219240" y="2505240"/>
            <a:ext cx="8629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 = Data Format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 = MSB first, right align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 = MSB first, left align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 = I2S – Format, MSB first, left -1 align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 = DSP – Format; Frame sync followed by 2 word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WL = Input word length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 = 16 b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 = 20 b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 = 24 b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 = 32 b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RP = DAC left /right phase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 = right channel on and LRCIN = hig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 = right channel on and LRCIN  = low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RSWAP = DAC left / right swap (0 = NO, 1 = YE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S = Master Mode ( 0 = Slave; 1 = Maste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0" name="Picture 2" descr=""/>
          <p:cNvPicPr/>
          <p:nvPr/>
        </p:nvPicPr>
        <p:blipFill>
          <a:blip r:embed="rId1"/>
          <a:stretch/>
        </p:blipFill>
        <p:spPr>
          <a:xfrm>
            <a:off x="219240" y="1224000"/>
            <a:ext cx="8629560" cy="1127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Stereo Audio Codec TLV320AIC23B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462" name="Rechteck 4"/>
          <p:cNvSpPr/>
          <p:nvPr/>
        </p:nvSpPr>
        <p:spPr>
          <a:xfrm>
            <a:off x="219240" y="7621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ple Rate Control Register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Rechteck 10"/>
          <p:cNvSpPr/>
          <p:nvPr/>
        </p:nvSpPr>
        <p:spPr>
          <a:xfrm>
            <a:off x="219240" y="2286000"/>
            <a:ext cx="8629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B  = Clock Mode Select  (0 = Normal, 1 = USB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OSR = Base Oversampling Rat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B – Mode: 0 = 250fs, 1 = 272fs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rmal – Mode: 0 = 256fs; 1 = 384f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R = Sampling Rat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KIN = Clock Input Divider (0 = MCLK; 1 = MCLK/2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KOUT = Clock Output Divider (0 = MCLK; 1 = MCLK/2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4" name="Picture 2" descr=""/>
          <p:cNvPicPr/>
          <p:nvPr/>
        </p:nvPicPr>
        <p:blipFill>
          <a:blip r:embed="rId1"/>
          <a:stretch/>
        </p:blipFill>
        <p:spPr>
          <a:xfrm>
            <a:off x="219240" y="1224000"/>
            <a:ext cx="8629560" cy="106200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3" descr=""/>
          <p:cNvPicPr/>
          <p:nvPr/>
        </p:nvPicPr>
        <p:blipFill>
          <a:blip r:embed="rId2"/>
          <a:stretch/>
        </p:blipFill>
        <p:spPr>
          <a:xfrm>
            <a:off x="2571840" y="3467160"/>
            <a:ext cx="6495840" cy="2666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Stereo Audio Codec TLV320AIC23B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467" name="Rechteck 4"/>
          <p:cNvSpPr/>
          <p:nvPr/>
        </p:nvSpPr>
        <p:spPr>
          <a:xfrm>
            <a:off x="219240" y="7621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gital Interface Activation Register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Rechteck 10"/>
          <p:cNvSpPr/>
          <p:nvPr/>
        </p:nvSpPr>
        <p:spPr>
          <a:xfrm>
            <a:off x="219240" y="2654280"/>
            <a:ext cx="862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  = Activate Interface (0 = NO, 1 = YE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 = reserv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9" name="Picture 2" descr=""/>
          <p:cNvPicPr/>
          <p:nvPr/>
        </p:nvPicPr>
        <p:blipFill>
          <a:blip r:embed="rId1"/>
          <a:stretch/>
        </p:blipFill>
        <p:spPr>
          <a:xfrm>
            <a:off x="219240" y="1400040"/>
            <a:ext cx="8848440" cy="1090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AIC23B Exercises: 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471" name="Rechteck 4"/>
          <p:cNvSpPr/>
          <p:nvPr/>
        </p:nvSpPr>
        <p:spPr>
          <a:xfrm>
            <a:off x="219240" y="762120"/>
            <a:ext cx="8229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b13_1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tialize SPI-A as control channel for AIC23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tialize McBSP-A as data channel for AIC23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IC23B is master and sends the 12MHz base clo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IC23B sends a 44.1 kHz frame sync signal to McBS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d a sinusoidal signal, based on the BOOT-ROM look-up table  to the DAC of the AIC23B; sample rate is 44.1 kH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b13_2: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d two different signals to left and right audio channe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 volume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b13_3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rovement of Lab13_2; reduce Interrupt Service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EPROM AT25256 Exercise: 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473" name="Rechteck 4"/>
          <p:cNvSpPr/>
          <p:nvPr/>
        </p:nvSpPr>
        <p:spPr>
          <a:xfrm>
            <a:off x="219240" y="762120"/>
            <a:ext cx="8229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b13_4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tialize McBSP-B in SPI-Mode for AT2525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rite data to EEPROM, if button PB1 (GPIO17) is pushed. Read the current value from Hex-Encoder (GPIO12…15) and store it into EEPROM-address 0x0040, bits 3…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d data from EEPROM-address 0x0040, when button PB2 (GPIO48) is pushed and display bits 2…0 at LEDs LD4 (GPOI49), LD3 (GPIO34) and LD1 (GPIO9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4" name="Grafik 3" descr=""/>
          <p:cNvPicPr/>
          <p:nvPr/>
        </p:nvPicPr>
        <p:blipFill>
          <a:blip r:embed="rId1"/>
          <a:stretch/>
        </p:blipFill>
        <p:spPr>
          <a:xfrm>
            <a:off x="1984320" y="4246560"/>
            <a:ext cx="4759560" cy="2354400"/>
          </a:xfrm>
          <a:prstGeom prst="rect">
            <a:avLst/>
          </a:prstGeom>
          <a:ln w="9360">
            <a:solidFill>
              <a:srgbClr val="000f40"/>
            </a:solidFill>
            <a:miter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e9b03"/>
                </a:solidFill>
                <a:latin typeface="Arial"/>
              </a:rPr>
              <a:t>Features of McBSP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152280" y="685800"/>
            <a:ext cx="8763120" cy="56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2600" indent="-5526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ull - duplex commun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uble-buffered transmission and triple-buffered reception, allowing a continuous data strea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dependent clocking and framing for reception and transmis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nd interrupts to the CPU and send DMA events to the DMA -  controlle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28 channels for transmission and recep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channel selection modes that enable or disable block transfers in each of the chann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rect interface to industry-standard CODECs, analog interface chips (AICs), and other serially connected A/D and D/A devi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rt for external generation of clock signals and frame -synchronization signal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programmable sample rate generator for internal generation and control of clock signals and frame - synchronization signa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EPROM AT25256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476" name="Rechteck 4"/>
          <p:cNvSpPr/>
          <p:nvPr/>
        </p:nvSpPr>
        <p:spPr>
          <a:xfrm>
            <a:off x="219240" y="7621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ing Diagram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7" name="Picture 2" descr=""/>
          <p:cNvPicPr/>
          <p:nvPr/>
        </p:nvPicPr>
        <p:blipFill>
          <a:blip r:embed="rId1"/>
          <a:stretch/>
        </p:blipFill>
        <p:spPr>
          <a:xfrm>
            <a:off x="219240" y="1862280"/>
            <a:ext cx="8600760" cy="3402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EPROM AT25256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479" name="Rechteck 4"/>
          <p:cNvSpPr/>
          <p:nvPr/>
        </p:nvSpPr>
        <p:spPr>
          <a:xfrm>
            <a:off x="219240" y="7621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ess Status Registe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AutoShape 18"/>
          <p:cNvSpPr/>
          <p:nvPr/>
        </p:nvSpPr>
        <p:spPr>
          <a:xfrm rot="5400000">
            <a:off x="4800600" y="1981440"/>
            <a:ext cx="457200" cy="1218960"/>
          </a:xfrm>
          <a:custGeom>
            <a:avLst/>
            <a:gdLst>
              <a:gd name="textAreaLeft" fmla="*/ 0 w 457200"/>
              <a:gd name="textAreaRight" fmla="*/ 164880 w 45720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Text Box 19"/>
          <p:cNvSpPr/>
          <p:nvPr/>
        </p:nvSpPr>
        <p:spPr>
          <a:xfrm>
            <a:off x="2472840" y="3267720"/>
            <a:ext cx="3745440" cy="15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00 = no prote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01 = 0x6000 – 0x7FFF protec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0 = 0x4000 – 0x7FFF protec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1 = 0x0000 – 0x7FFF protecte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Text Box 20"/>
          <p:cNvSpPr/>
          <p:nvPr/>
        </p:nvSpPr>
        <p:spPr>
          <a:xfrm>
            <a:off x="1531080" y="5479560"/>
            <a:ext cx="2614680" cy="9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Times New Roman"/>
              </a:rPr>
              <a:t>Write Protect Enabl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 = no write acces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0 = normal oper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Text Box 21"/>
          <p:cNvSpPr/>
          <p:nvPr/>
        </p:nvSpPr>
        <p:spPr>
          <a:xfrm>
            <a:off x="6491160" y="3041640"/>
            <a:ext cx="2656080" cy="10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Times New Roman"/>
              </a:rPr>
              <a:t>Write in progr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0 = no write cy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 = write in progr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Freeform 22"/>
          <p:cNvSpPr/>
          <p:nvPr/>
        </p:nvSpPr>
        <p:spPr>
          <a:xfrm>
            <a:off x="1295280" y="2438280"/>
            <a:ext cx="190800" cy="3429000"/>
          </a:xfrm>
          <a:custGeom>
            <a:avLst/>
            <a:gdLst>
              <a:gd name="textAreaLeft" fmla="*/ 0 w 190800"/>
              <a:gd name="textAreaRight" fmla="*/ 191160 w 19080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144" h="2304">
                <a:moveTo>
                  <a:pt x="0" y="0"/>
                </a:moveTo>
                <a:lnTo>
                  <a:pt x="0" y="2304"/>
                </a:lnTo>
                <a:lnTo>
                  <a:pt x="144" y="2304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5" name="Group 32"/>
          <p:cNvGrpSpPr/>
          <p:nvPr/>
        </p:nvGrpSpPr>
        <p:grpSpPr>
          <a:xfrm>
            <a:off x="762120" y="1905120"/>
            <a:ext cx="6705360" cy="457200"/>
            <a:chOff x="762120" y="1905120"/>
            <a:chExt cx="6705360" cy="457200"/>
          </a:xfrm>
        </p:grpSpPr>
        <p:sp>
          <p:nvSpPr>
            <p:cNvPr id="486" name="Rectangle 3"/>
            <p:cNvSpPr/>
            <p:nvPr/>
          </p:nvSpPr>
          <p:spPr>
            <a:xfrm>
              <a:off x="762120" y="1905120"/>
              <a:ext cx="8380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Rectangle 4"/>
            <p:cNvSpPr/>
            <p:nvPr/>
          </p:nvSpPr>
          <p:spPr>
            <a:xfrm>
              <a:off x="1600200" y="1905120"/>
              <a:ext cx="8380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Rectangle 6"/>
            <p:cNvSpPr/>
            <p:nvPr/>
          </p:nvSpPr>
          <p:spPr>
            <a:xfrm>
              <a:off x="3276720" y="1905120"/>
              <a:ext cx="8380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Rectangle 7"/>
            <p:cNvSpPr/>
            <p:nvPr/>
          </p:nvSpPr>
          <p:spPr>
            <a:xfrm>
              <a:off x="4114800" y="1905120"/>
              <a:ext cx="8380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Rectangle 10"/>
            <p:cNvSpPr/>
            <p:nvPr/>
          </p:nvSpPr>
          <p:spPr>
            <a:xfrm>
              <a:off x="4952880" y="1905120"/>
              <a:ext cx="83844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Rectangle 26"/>
            <p:cNvSpPr/>
            <p:nvPr/>
          </p:nvSpPr>
          <p:spPr>
            <a:xfrm>
              <a:off x="2438280" y="1905120"/>
              <a:ext cx="83844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Rectangle 30"/>
            <p:cNvSpPr/>
            <p:nvPr/>
          </p:nvSpPr>
          <p:spPr>
            <a:xfrm>
              <a:off x="5791320" y="1905120"/>
              <a:ext cx="8380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Rectangle 31"/>
            <p:cNvSpPr/>
            <p:nvPr/>
          </p:nvSpPr>
          <p:spPr>
            <a:xfrm>
              <a:off x="6629400" y="1905120"/>
              <a:ext cx="8380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4" name="Group 36"/>
          <p:cNvGrpSpPr/>
          <p:nvPr/>
        </p:nvGrpSpPr>
        <p:grpSpPr>
          <a:xfrm>
            <a:off x="1144440" y="1600200"/>
            <a:ext cx="5933880" cy="313200"/>
            <a:chOff x="1144440" y="1600200"/>
            <a:chExt cx="5933880" cy="313200"/>
          </a:xfrm>
        </p:grpSpPr>
        <p:sp>
          <p:nvSpPr>
            <p:cNvPr id="495" name="Text Box 9"/>
            <p:cNvSpPr/>
            <p:nvPr/>
          </p:nvSpPr>
          <p:spPr>
            <a:xfrm>
              <a:off x="6783120" y="1600200"/>
              <a:ext cx="29520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Text Box 11"/>
            <p:cNvSpPr/>
            <p:nvPr/>
          </p:nvSpPr>
          <p:spPr>
            <a:xfrm>
              <a:off x="6021360" y="1600200"/>
              <a:ext cx="29520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Text Box 12"/>
            <p:cNvSpPr/>
            <p:nvPr/>
          </p:nvSpPr>
          <p:spPr>
            <a:xfrm>
              <a:off x="5259240" y="1600200"/>
              <a:ext cx="29520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Text Box 13"/>
            <p:cNvSpPr/>
            <p:nvPr/>
          </p:nvSpPr>
          <p:spPr>
            <a:xfrm>
              <a:off x="1144440" y="1600200"/>
              <a:ext cx="29520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Text Box 14"/>
            <p:cNvSpPr/>
            <p:nvPr/>
          </p:nvSpPr>
          <p:spPr>
            <a:xfrm>
              <a:off x="1906560" y="1600200"/>
              <a:ext cx="29520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Text Box 15"/>
            <p:cNvSpPr/>
            <p:nvPr/>
          </p:nvSpPr>
          <p:spPr>
            <a:xfrm>
              <a:off x="2763720" y="1600200"/>
              <a:ext cx="29520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Text Box 27"/>
            <p:cNvSpPr/>
            <p:nvPr/>
          </p:nvSpPr>
          <p:spPr>
            <a:xfrm>
              <a:off x="4421160" y="1600200"/>
              <a:ext cx="29520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Text Box 33"/>
            <p:cNvSpPr/>
            <p:nvPr/>
          </p:nvSpPr>
          <p:spPr>
            <a:xfrm>
              <a:off x="3582720" y="1600200"/>
              <a:ext cx="29520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3" name="Group 49"/>
          <p:cNvGrpSpPr/>
          <p:nvPr/>
        </p:nvGrpSpPr>
        <p:grpSpPr>
          <a:xfrm>
            <a:off x="5486400" y="5257080"/>
            <a:ext cx="2984400" cy="786600"/>
            <a:chOff x="5486400" y="5257080"/>
            <a:chExt cx="2984400" cy="786600"/>
          </a:xfrm>
        </p:grpSpPr>
        <p:sp>
          <p:nvSpPr>
            <p:cNvPr id="504" name="Text Box 17"/>
            <p:cNvSpPr/>
            <p:nvPr/>
          </p:nvSpPr>
          <p:spPr>
            <a:xfrm>
              <a:off x="5486400" y="5257080"/>
              <a:ext cx="2984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Write Enable Latch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Rectangle 35"/>
            <p:cNvSpPr/>
            <p:nvPr/>
          </p:nvSpPr>
          <p:spPr>
            <a:xfrm>
              <a:off x="6017760" y="5486400"/>
              <a:ext cx="211608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0 = write disable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1 = write enable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6" name="Group 37"/>
          <p:cNvGrpSpPr/>
          <p:nvPr/>
        </p:nvGrpSpPr>
        <p:grpSpPr>
          <a:xfrm>
            <a:off x="768960" y="1981080"/>
            <a:ext cx="6603120" cy="313200"/>
            <a:chOff x="768960" y="1981080"/>
            <a:chExt cx="6603120" cy="313200"/>
          </a:xfrm>
        </p:grpSpPr>
        <p:sp>
          <p:nvSpPr>
            <p:cNvPr id="507" name="Text Box 38"/>
            <p:cNvSpPr/>
            <p:nvPr/>
          </p:nvSpPr>
          <p:spPr>
            <a:xfrm>
              <a:off x="6633720" y="1981080"/>
              <a:ext cx="73836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/RD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Text Box 39"/>
            <p:cNvSpPr/>
            <p:nvPr/>
          </p:nvSpPr>
          <p:spPr>
            <a:xfrm>
              <a:off x="5856120" y="1981080"/>
              <a:ext cx="7264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Text Box 40"/>
            <p:cNvSpPr/>
            <p:nvPr/>
          </p:nvSpPr>
          <p:spPr>
            <a:xfrm>
              <a:off x="5140440" y="1981080"/>
              <a:ext cx="58752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P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Text Box 41"/>
            <p:cNvSpPr/>
            <p:nvPr/>
          </p:nvSpPr>
          <p:spPr>
            <a:xfrm>
              <a:off x="768960" y="1981080"/>
              <a:ext cx="86652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P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Text Box 42"/>
            <p:cNvSpPr/>
            <p:nvPr/>
          </p:nvSpPr>
          <p:spPr>
            <a:xfrm>
              <a:off x="1836720" y="1981080"/>
              <a:ext cx="29520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Text Box 43"/>
            <p:cNvSpPr/>
            <p:nvPr/>
          </p:nvSpPr>
          <p:spPr>
            <a:xfrm>
              <a:off x="2720520" y="1981080"/>
              <a:ext cx="29520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Text Box 44"/>
            <p:cNvSpPr/>
            <p:nvPr/>
          </p:nvSpPr>
          <p:spPr>
            <a:xfrm>
              <a:off x="4277880" y="1981080"/>
              <a:ext cx="58752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P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Text Box 45"/>
            <p:cNvSpPr/>
            <p:nvPr/>
          </p:nvSpPr>
          <p:spPr>
            <a:xfrm>
              <a:off x="3562200" y="1981080"/>
              <a:ext cx="29520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5" name="Line 46"/>
          <p:cNvSpPr/>
          <p:nvPr/>
        </p:nvSpPr>
        <p:spPr>
          <a:xfrm>
            <a:off x="7086600" y="2362320"/>
            <a:ext cx="0" cy="609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Line 47"/>
          <p:cNvSpPr/>
          <p:nvPr/>
        </p:nvSpPr>
        <p:spPr>
          <a:xfrm>
            <a:off x="6248520" y="2362320"/>
            <a:ext cx="380880" cy="2819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Text Box 48"/>
          <p:cNvSpPr/>
          <p:nvPr/>
        </p:nvSpPr>
        <p:spPr>
          <a:xfrm>
            <a:off x="3048120" y="3047400"/>
            <a:ext cx="29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Times New Roman"/>
              </a:rPr>
              <a:t>Block protect sel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EPROM AT25256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519" name="Rechteck 4"/>
          <p:cNvSpPr/>
          <p:nvPr/>
        </p:nvSpPr>
        <p:spPr>
          <a:xfrm>
            <a:off x="219240" y="7621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ruction Registe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20" name=""/>
          <p:cNvGraphicFramePr/>
          <p:nvPr/>
        </p:nvGraphicFramePr>
        <p:xfrm>
          <a:off x="1523880" y="1397160"/>
          <a:ext cx="6096240" cy="40669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583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Instruc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Descrip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Cod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7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WR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Write Enab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000 01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WRD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Write Disab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000 0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RDS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Read Status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000 01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WDS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Write Status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000 00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79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REA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Read Dat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000 00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80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WRI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Write Dat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000 00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EPROM AT25256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522" name="Rechteck 4"/>
          <p:cNvSpPr/>
          <p:nvPr/>
        </p:nvSpPr>
        <p:spPr>
          <a:xfrm>
            <a:off x="219240" y="7621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rite – Enable (WREN) Timing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3" name="Picture 2" descr=""/>
          <p:cNvPicPr/>
          <p:nvPr/>
        </p:nvPicPr>
        <p:blipFill>
          <a:blip r:embed="rId1"/>
          <a:stretch/>
        </p:blipFill>
        <p:spPr>
          <a:xfrm>
            <a:off x="219240" y="1347840"/>
            <a:ext cx="8678520" cy="2843280"/>
          </a:xfrm>
          <a:prstGeom prst="rect">
            <a:avLst/>
          </a:prstGeom>
          <a:ln w="0">
            <a:noFill/>
          </a:ln>
        </p:spPr>
      </p:pic>
      <p:sp>
        <p:nvSpPr>
          <p:cNvPr id="524" name="Rectangle 7"/>
          <p:cNvSpPr/>
          <p:nvPr/>
        </p:nvSpPr>
        <p:spPr>
          <a:xfrm>
            <a:off x="1085760" y="4191120"/>
            <a:ext cx="601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© Atmel Corporation; Datasheet  AT25256 (doc0872.pdf)  – 2005; Page 10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EPROM AT25256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526" name="Rechteck 4"/>
          <p:cNvSpPr/>
          <p:nvPr/>
        </p:nvSpPr>
        <p:spPr>
          <a:xfrm>
            <a:off x="219240" y="7621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d Status Register (RDSR) Timing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Rectangle 7"/>
          <p:cNvSpPr/>
          <p:nvPr/>
        </p:nvSpPr>
        <p:spPr>
          <a:xfrm>
            <a:off x="933480" y="4896000"/>
            <a:ext cx="601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© Atmel Corporation; Datasheet  AT25256 (doc0872.pdf)  – 2005; Page 10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8" name="Picture 2" descr=""/>
          <p:cNvPicPr/>
          <p:nvPr/>
        </p:nvPicPr>
        <p:blipFill>
          <a:blip r:embed="rId1"/>
          <a:stretch/>
        </p:blipFill>
        <p:spPr>
          <a:xfrm>
            <a:off x="219240" y="1224000"/>
            <a:ext cx="8278560" cy="3672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EPROM AT25256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530" name="Rechteck 4"/>
          <p:cNvSpPr/>
          <p:nvPr/>
        </p:nvSpPr>
        <p:spPr>
          <a:xfrm>
            <a:off x="219240" y="7621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d (READ) Timing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Rectangle 7"/>
          <p:cNvSpPr/>
          <p:nvPr/>
        </p:nvSpPr>
        <p:spPr>
          <a:xfrm>
            <a:off x="933480" y="5415120"/>
            <a:ext cx="601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© Atmel Corporation; Datasheet  AT25256 (doc0872.pdf)  – 2005; Page 11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2" name="Picture 2" descr=""/>
          <p:cNvPicPr/>
          <p:nvPr/>
        </p:nvPicPr>
        <p:blipFill>
          <a:blip r:embed="rId1"/>
          <a:stretch/>
        </p:blipFill>
        <p:spPr>
          <a:xfrm>
            <a:off x="219240" y="1623960"/>
            <a:ext cx="8829360" cy="3791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EPROM AT25256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534" name="Rechteck 4"/>
          <p:cNvSpPr/>
          <p:nvPr/>
        </p:nvSpPr>
        <p:spPr>
          <a:xfrm>
            <a:off x="219240" y="7621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rite (WRITE) Timing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Rectangle 7"/>
          <p:cNvSpPr/>
          <p:nvPr/>
        </p:nvSpPr>
        <p:spPr>
          <a:xfrm>
            <a:off x="933480" y="5415120"/>
            <a:ext cx="601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© Atmel Corporation; Datasheet  AT25256 (doc0872.pdf)  – 2005; Page 11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6" name="Picture 2" descr=""/>
          <p:cNvPicPr/>
          <p:nvPr/>
        </p:nvPicPr>
        <p:blipFill>
          <a:blip r:embed="rId1"/>
          <a:stretch/>
        </p:blipFill>
        <p:spPr>
          <a:xfrm>
            <a:off x="142920" y="1471680"/>
            <a:ext cx="8858160" cy="3914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21552"/>
            </a:gs>
            <a:gs pos="50000">
              <a:srgbClr val="042aa4"/>
            </a:gs>
            <a:gs pos="100000">
              <a:srgbClr val="02155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Group 2"/>
          <p:cNvGrpSpPr/>
          <p:nvPr/>
        </p:nvGrpSpPr>
        <p:grpSpPr>
          <a:xfrm>
            <a:off x="2247840" y="1574640"/>
            <a:ext cx="4214880" cy="4113360"/>
            <a:chOff x="2247840" y="1574640"/>
            <a:chExt cx="4214880" cy="4113360"/>
          </a:xfrm>
        </p:grpSpPr>
        <p:sp>
          <p:nvSpPr>
            <p:cNvPr id="538" name="Freeform 3"/>
            <p:cNvSpPr/>
            <p:nvPr/>
          </p:nvSpPr>
          <p:spPr>
            <a:xfrm>
              <a:off x="4797360" y="2103480"/>
              <a:ext cx="455760" cy="419040"/>
            </a:xfrm>
            <a:custGeom>
              <a:avLst/>
              <a:gdLst>
                <a:gd name="textAreaLeft" fmla="*/ 0 w 455760"/>
                <a:gd name="textAreaRight" fmla="*/ 456120 w 45576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287" h="264">
                  <a:moveTo>
                    <a:pt x="286" y="132"/>
                  </a:moveTo>
                  <a:lnTo>
                    <a:pt x="286" y="90"/>
                  </a:lnTo>
                  <a:lnTo>
                    <a:pt x="272" y="90"/>
                  </a:lnTo>
                  <a:lnTo>
                    <a:pt x="272" y="69"/>
                  </a:lnTo>
                  <a:lnTo>
                    <a:pt x="272" y="55"/>
                  </a:lnTo>
                  <a:lnTo>
                    <a:pt x="258" y="55"/>
                  </a:lnTo>
                  <a:lnTo>
                    <a:pt x="258" y="42"/>
                  </a:lnTo>
                  <a:lnTo>
                    <a:pt x="244" y="42"/>
                  </a:lnTo>
                  <a:lnTo>
                    <a:pt x="244" y="28"/>
                  </a:lnTo>
                  <a:lnTo>
                    <a:pt x="230" y="28"/>
                  </a:lnTo>
                  <a:lnTo>
                    <a:pt x="216" y="28"/>
                  </a:lnTo>
                  <a:lnTo>
                    <a:pt x="216" y="14"/>
                  </a:lnTo>
                  <a:lnTo>
                    <a:pt x="188" y="14"/>
                  </a:lnTo>
                  <a:lnTo>
                    <a:pt x="188" y="0"/>
                  </a:lnTo>
                  <a:lnTo>
                    <a:pt x="98" y="0"/>
                  </a:lnTo>
                  <a:lnTo>
                    <a:pt x="98" y="14"/>
                  </a:lnTo>
                  <a:lnTo>
                    <a:pt x="70" y="14"/>
                  </a:lnTo>
                  <a:lnTo>
                    <a:pt x="70" y="28"/>
                  </a:lnTo>
                  <a:lnTo>
                    <a:pt x="56" y="28"/>
                  </a:lnTo>
                  <a:lnTo>
                    <a:pt x="42" y="28"/>
                  </a:lnTo>
                  <a:lnTo>
                    <a:pt x="42" y="42"/>
                  </a:lnTo>
                  <a:lnTo>
                    <a:pt x="28" y="42"/>
                  </a:lnTo>
                  <a:lnTo>
                    <a:pt x="28" y="55"/>
                  </a:lnTo>
                  <a:lnTo>
                    <a:pt x="14" y="55"/>
                  </a:lnTo>
                  <a:lnTo>
                    <a:pt x="14" y="69"/>
                  </a:lnTo>
                  <a:lnTo>
                    <a:pt x="14" y="90"/>
                  </a:lnTo>
                  <a:lnTo>
                    <a:pt x="0" y="90"/>
                  </a:lnTo>
                  <a:lnTo>
                    <a:pt x="0" y="132"/>
                  </a:lnTo>
                  <a:lnTo>
                    <a:pt x="0" y="173"/>
                  </a:lnTo>
                  <a:lnTo>
                    <a:pt x="14" y="173"/>
                  </a:lnTo>
                  <a:lnTo>
                    <a:pt x="14" y="201"/>
                  </a:lnTo>
                  <a:lnTo>
                    <a:pt x="14" y="215"/>
                  </a:lnTo>
                  <a:lnTo>
                    <a:pt x="28" y="215"/>
                  </a:lnTo>
                  <a:lnTo>
                    <a:pt x="28" y="228"/>
                  </a:lnTo>
                  <a:lnTo>
                    <a:pt x="42" y="228"/>
                  </a:lnTo>
                  <a:lnTo>
                    <a:pt x="42" y="235"/>
                  </a:lnTo>
                  <a:lnTo>
                    <a:pt x="56" y="235"/>
                  </a:lnTo>
                  <a:lnTo>
                    <a:pt x="70" y="235"/>
                  </a:lnTo>
                  <a:lnTo>
                    <a:pt x="70" y="249"/>
                  </a:lnTo>
                  <a:lnTo>
                    <a:pt x="98" y="249"/>
                  </a:lnTo>
                  <a:lnTo>
                    <a:pt x="98" y="263"/>
                  </a:lnTo>
                  <a:lnTo>
                    <a:pt x="188" y="263"/>
                  </a:lnTo>
                  <a:lnTo>
                    <a:pt x="188" y="249"/>
                  </a:lnTo>
                  <a:lnTo>
                    <a:pt x="216" y="249"/>
                  </a:lnTo>
                  <a:lnTo>
                    <a:pt x="216" y="235"/>
                  </a:lnTo>
                  <a:lnTo>
                    <a:pt x="230" y="235"/>
                  </a:lnTo>
                  <a:lnTo>
                    <a:pt x="244" y="235"/>
                  </a:lnTo>
                  <a:lnTo>
                    <a:pt x="244" y="228"/>
                  </a:lnTo>
                  <a:lnTo>
                    <a:pt x="258" y="228"/>
                  </a:lnTo>
                  <a:lnTo>
                    <a:pt x="258" y="215"/>
                  </a:lnTo>
                  <a:lnTo>
                    <a:pt x="272" y="215"/>
                  </a:lnTo>
                  <a:lnTo>
                    <a:pt x="272" y="201"/>
                  </a:lnTo>
                  <a:lnTo>
                    <a:pt x="272" y="173"/>
                  </a:lnTo>
                  <a:lnTo>
                    <a:pt x="286" y="173"/>
                  </a:lnTo>
                  <a:lnTo>
                    <a:pt x="286" y="132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Freeform 4"/>
            <p:cNvSpPr/>
            <p:nvPr/>
          </p:nvSpPr>
          <p:spPr>
            <a:xfrm>
              <a:off x="4506840" y="2684520"/>
              <a:ext cx="655560" cy="1415880"/>
            </a:xfrm>
            <a:custGeom>
              <a:avLst/>
              <a:gdLst>
                <a:gd name="textAreaLeft" fmla="*/ 0 w 655560"/>
                <a:gd name="textAreaRight" fmla="*/ 655920 w 655560"/>
                <a:gd name="textAreaTop" fmla="*/ 0 h 1415880"/>
                <a:gd name="textAreaBottom" fmla="*/ 1415880 h 1415880"/>
              </a:gdLst>
              <a:ahLst/>
              <a:rect l="textAreaLeft" t="textAreaTop" r="textAreaRight" b="textAreaBottom"/>
              <a:pathLst>
                <a:path w="413" h="892">
                  <a:moveTo>
                    <a:pt x="164" y="0"/>
                  </a:moveTo>
                  <a:lnTo>
                    <a:pt x="164" y="40"/>
                  </a:lnTo>
                  <a:lnTo>
                    <a:pt x="152" y="40"/>
                  </a:lnTo>
                  <a:lnTo>
                    <a:pt x="152" y="100"/>
                  </a:lnTo>
                  <a:lnTo>
                    <a:pt x="141" y="100"/>
                  </a:lnTo>
                  <a:lnTo>
                    <a:pt x="141" y="153"/>
                  </a:lnTo>
                  <a:lnTo>
                    <a:pt x="130" y="153"/>
                  </a:lnTo>
                  <a:lnTo>
                    <a:pt x="130" y="219"/>
                  </a:lnTo>
                  <a:lnTo>
                    <a:pt x="119" y="219"/>
                  </a:lnTo>
                  <a:lnTo>
                    <a:pt x="119" y="279"/>
                  </a:lnTo>
                  <a:lnTo>
                    <a:pt x="107" y="279"/>
                  </a:lnTo>
                  <a:lnTo>
                    <a:pt x="107" y="332"/>
                  </a:lnTo>
                  <a:lnTo>
                    <a:pt x="96" y="332"/>
                  </a:lnTo>
                  <a:lnTo>
                    <a:pt x="96" y="392"/>
                  </a:lnTo>
                  <a:lnTo>
                    <a:pt x="85" y="392"/>
                  </a:lnTo>
                  <a:lnTo>
                    <a:pt x="85" y="459"/>
                  </a:lnTo>
                  <a:lnTo>
                    <a:pt x="73" y="459"/>
                  </a:lnTo>
                  <a:lnTo>
                    <a:pt x="73" y="512"/>
                  </a:lnTo>
                  <a:lnTo>
                    <a:pt x="62" y="512"/>
                  </a:lnTo>
                  <a:lnTo>
                    <a:pt x="62" y="572"/>
                  </a:lnTo>
                  <a:lnTo>
                    <a:pt x="51" y="572"/>
                  </a:lnTo>
                  <a:lnTo>
                    <a:pt x="51" y="638"/>
                  </a:lnTo>
                  <a:lnTo>
                    <a:pt x="45" y="638"/>
                  </a:lnTo>
                  <a:lnTo>
                    <a:pt x="45" y="692"/>
                  </a:lnTo>
                  <a:lnTo>
                    <a:pt x="34" y="692"/>
                  </a:lnTo>
                  <a:lnTo>
                    <a:pt x="34" y="751"/>
                  </a:lnTo>
                  <a:lnTo>
                    <a:pt x="23" y="751"/>
                  </a:lnTo>
                  <a:lnTo>
                    <a:pt x="23" y="818"/>
                  </a:lnTo>
                  <a:lnTo>
                    <a:pt x="11" y="818"/>
                  </a:lnTo>
                  <a:lnTo>
                    <a:pt x="11" y="864"/>
                  </a:lnTo>
                  <a:lnTo>
                    <a:pt x="0" y="864"/>
                  </a:lnTo>
                  <a:lnTo>
                    <a:pt x="0" y="891"/>
                  </a:lnTo>
                  <a:lnTo>
                    <a:pt x="248" y="891"/>
                  </a:lnTo>
                  <a:lnTo>
                    <a:pt x="248" y="864"/>
                  </a:lnTo>
                  <a:lnTo>
                    <a:pt x="260" y="864"/>
                  </a:lnTo>
                  <a:lnTo>
                    <a:pt x="260" y="805"/>
                  </a:lnTo>
                  <a:lnTo>
                    <a:pt x="271" y="805"/>
                  </a:lnTo>
                  <a:lnTo>
                    <a:pt x="271" y="751"/>
                  </a:lnTo>
                  <a:lnTo>
                    <a:pt x="282" y="751"/>
                  </a:lnTo>
                  <a:lnTo>
                    <a:pt x="282" y="692"/>
                  </a:lnTo>
                  <a:lnTo>
                    <a:pt x="293" y="692"/>
                  </a:lnTo>
                  <a:lnTo>
                    <a:pt x="293" y="625"/>
                  </a:lnTo>
                  <a:lnTo>
                    <a:pt x="305" y="625"/>
                  </a:lnTo>
                  <a:lnTo>
                    <a:pt x="305" y="572"/>
                  </a:lnTo>
                  <a:lnTo>
                    <a:pt x="316" y="572"/>
                  </a:lnTo>
                  <a:lnTo>
                    <a:pt x="316" y="512"/>
                  </a:lnTo>
                  <a:lnTo>
                    <a:pt x="327" y="512"/>
                  </a:lnTo>
                  <a:lnTo>
                    <a:pt x="327" y="446"/>
                  </a:lnTo>
                  <a:lnTo>
                    <a:pt x="333" y="446"/>
                  </a:lnTo>
                  <a:lnTo>
                    <a:pt x="333" y="392"/>
                  </a:lnTo>
                  <a:lnTo>
                    <a:pt x="344" y="392"/>
                  </a:lnTo>
                  <a:lnTo>
                    <a:pt x="344" y="332"/>
                  </a:lnTo>
                  <a:lnTo>
                    <a:pt x="356" y="332"/>
                  </a:lnTo>
                  <a:lnTo>
                    <a:pt x="356" y="266"/>
                  </a:lnTo>
                  <a:lnTo>
                    <a:pt x="367" y="266"/>
                  </a:lnTo>
                  <a:lnTo>
                    <a:pt x="367" y="219"/>
                  </a:lnTo>
                  <a:lnTo>
                    <a:pt x="378" y="219"/>
                  </a:lnTo>
                  <a:lnTo>
                    <a:pt x="378" y="153"/>
                  </a:lnTo>
                  <a:lnTo>
                    <a:pt x="389" y="153"/>
                  </a:lnTo>
                  <a:lnTo>
                    <a:pt x="389" y="86"/>
                  </a:lnTo>
                  <a:lnTo>
                    <a:pt x="401" y="86"/>
                  </a:lnTo>
                  <a:lnTo>
                    <a:pt x="401" y="40"/>
                  </a:lnTo>
                  <a:lnTo>
                    <a:pt x="412" y="40"/>
                  </a:lnTo>
                  <a:lnTo>
                    <a:pt x="412" y="0"/>
                  </a:lnTo>
                  <a:lnTo>
                    <a:pt x="164" y="0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Freeform 5"/>
            <p:cNvSpPr/>
            <p:nvPr/>
          </p:nvSpPr>
          <p:spPr>
            <a:xfrm>
              <a:off x="2247840" y="1574640"/>
              <a:ext cx="4214880" cy="4113360"/>
            </a:xfrm>
            <a:custGeom>
              <a:avLst/>
              <a:gdLst>
                <a:gd name="textAreaLeft" fmla="*/ 0 w 4214880"/>
                <a:gd name="textAreaRight" fmla="*/ 4215240 w 4214880"/>
                <a:gd name="textAreaTop" fmla="*/ 0 h 4113360"/>
                <a:gd name="textAreaBottom" fmla="*/ 4113720 h 4113360"/>
              </a:gdLst>
              <a:ahLst/>
              <a:rect l="textAreaLeft" t="textAreaTop" r="textAreaRight" b="textAreaBottom"/>
              <a:pathLst>
                <a:path w="2655" h="2591">
                  <a:moveTo>
                    <a:pt x="131" y="1309"/>
                  </a:moveTo>
                  <a:lnTo>
                    <a:pt x="117" y="1295"/>
                  </a:lnTo>
                  <a:lnTo>
                    <a:pt x="103" y="1295"/>
                  </a:lnTo>
                  <a:lnTo>
                    <a:pt x="103" y="1281"/>
                  </a:lnTo>
                  <a:lnTo>
                    <a:pt x="103" y="1267"/>
                  </a:lnTo>
                  <a:lnTo>
                    <a:pt x="89" y="1267"/>
                  </a:lnTo>
                  <a:lnTo>
                    <a:pt x="89" y="1253"/>
                  </a:lnTo>
                  <a:lnTo>
                    <a:pt x="76" y="1253"/>
                  </a:lnTo>
                  <a:lnTo>
                    <a:pt x="76" y="1239"/>
                  </a:lnTo>
                  <a:lnTo>
                    <a:pt x="69" y="1239"/>
                  </a:lnTo>
                  <a:lnTo>
                    <a:pt x="69" y="1232"/>
                  </a:lnTo>
                  <a:lnTo>
                    <a:pt x="69" y="1218"/>
                  </a:lnTo>
                  <a:lnTo>
                    <a:pt x="55" y="1204"/>
                  </a:lnTo>
                  <a:lnTo>
                    <a:pt x="41" y="1204"/>
                  </a:lnTo>
                  <a:lnTo>
                    <a:pt x="41" y="1177"/>
                  </a:lnTo>
                  <a:lnTo>
                    <a:pt x="28" y="1177"/>
                  </a:lnTo>
                  <a:lnTo>
                    <a:pt x="28" y="1163"/>
                  </a:lnTo>
                  <a:lnTo>
                    <a:pt x="28" y="1121"/>
                  </a:lnTo>
                  <a:lnTo>
                    <a:pt x="14" y="1121"/>
                  </a:lnTo>
                  <a:lnTo>
                    <a:pt x="14" y="1093"/>
                  </a:lnTo>
                  <a:lnTo>
                    <a:pt x="0" y="1079"/>
                  </a:lnTo>
                  <a:lnTo>
                    <a:pt x="0" y="1030"/>
                  </a:lnTo>
                  <a:lnTo>
                    <a:pt x="674" y="1030"/>
                  </a:lnTo>
                  <a:lnTo>
                    <a:pt x="688" y="1030"/>
                  </a:lnTo>
                  <a:lnTo>
                    <a:pt x="688" y="0"/>
                  </a:lnTo>
                  <a:lnTo>
                    <a:pt x="1348" y="0"/>
                  </a:lnTo>
                  <a:lnTo>
                    <a:pt x="1348" y="425"/>
                  </a:lnTo>
                  <a:lnTo>
                    <a:pt x="1348" y="439"/>
                  </a:lnTo>
                  <a:lnTo>
                    <a:pt x="1361" y="439"/>
                  </a:lnTo>
                  <a:lnTo>
                    <a:pt x="1361" y="453"/>
                  </a:lnTo>
                  <a:lnTo>
                    <a:pt x="1375" y="453"/>
                  </a:lnTo>
                  <a:lnTo>
                    <a:pt x="1375" y="466"/>
                  </a:lnTo>
                  <a:lnTo>
                    <a:pt x="1375" y="480"/>
                  </a:lnTo>
                  <a:lnTo>
                    <a:pt x="1403" y="480"/>
                  </a:lnTo>
                  <a:lnTo>
                    <a:pt x="1416" y="480"/>
                  </a:lnTo>
                  <a:lnTo>
                    <a:pt x="1416" y="494"/>
                  </a:lnTo>
                  <a:lnTo>
                    <a:pt x="1437" y="494"/>
                  </a:lnTo>
                  <a:lnTo>
                    <a:pt x="1437" y="508"/>
                  </a:lnTo>
                  <a:lnTo>
                    <a:pt x="1451" y="508"/>
                  </a:lnTo>
                  <a:lnTo>
                    <a:pt x="1465" y="522"/>
                  </a:lnTo>
                  <a:lnTo>
                    <a:pt x="1492" y="522"/>
                  </a:lnTo>
                  <a:lnTo>
                    <a:pt x="1492" y="536"/>
                  </a:lnTo>
                  <a:lnTo>
                    <a:pt x="1506" y="536"/>
                  </a:lnTo>
                  <a:lnTo>
                    <a:pt x="1451" y="856"/>
                  </a:lnTo>
                  <a:lnTo>
                    <a:pt x="1203" y="856"/>
                  </a:lnTo>
                  <a:lnTo>
                    <a:pt x="1148" y="1135"/>
                  </a:lnTo>
                  <a:lnTo>
                    <a:pt x="1389" y="1135"/>
                  </a:lnTo>
                  <a:lnTo>
                    <a:pt x="1389" y="1149"/>
                  </a:lnTo>
                  <a:lnTo>
                    <a:pt x="1389" y="1191"/>
                  </a:lnTo>
                  <a:lnTo>
                    <a:pt x="1375" y="1204"/>
                  </a:lnTo>
                  <a:lnTo>
                    <a:pt x="1375" y="1253"/>
                  </a:lnTo>
                  <a:lnTo>
                    <a:pt x="1361" y="1267"/>
                  </a:lnTo>
                  <a:lnTo>
                    <a:pt x="1361" y="1323"/>
                  </a:lnTo>
                  <a:lnTo>
                    <a:pt x="1348" y="1337"/>
                  </a:lnTo>
                  <a:lnTo>
                    <a:pt x="1348" y="1379"/>
                  </a:lnTo>
                  <a:lnTo>
                    <a:pt x="1334" y="1392"/>
                  </a:lnTo>
                  <a:lnTo>
                    <a:pt x="1334" y="1427"/>
                  </a:lnTo>
                  <a:lnTo>
                    <a:pt x="1320" y="1441"/>
                  </a:lnTo>
                  <a:lnTo>
                    <a:pt x="1320" y="1469"/>
                  </a:lnTo>
                  <a:lnTo>
                    <a:pt x="1306" y="1483"/>
                  </a:lnTo>
                  <a:lnTo>
                    <a:pt x="1306" y="1539"/>
                  </a:lnTo>
                  <a:lnTo>
                    <a:pt x="1293" y="1539"/>
                  </a:lnTo>
                  <a:lnTo>
                    <a:pt x="1293" y="1587"/>
                  </a:lnTo>
                  <a:lnTo>
                    <a:pt x="1279" y="1601"/>
                  </a:lnTo>
                  <a:lnTo>
                    <a:pt x="1279" y="1727"/>
                  </a:lnTo>
                  <a:lnTo>
                    <a:pt x="1293" y="1734"/>
                  </a:lnTo>
                  <a:lnTo>
                    <a:pt x="1293" y="1761"/>
                  </a:lnTo>
                  <a:lnTo>
                    <a:pt x="1306" y="1761"/>
                  </a:lnTo>
                  <a:lnTo>
                    <a:pt x="1306" y="1775"/>
                  </a:lnTo>
                  <a:lnTo>
                    <a:pt x="1320" y="1789"/>
                  </a:lnTo>
                  <a:lnTo>
                    <a:pt x="1320" y="1803"/>
                  </a:lnTo>
                  <a:lnTo>
                    <a:pt x="1334" y="1803"/>
                  </a:lnTo>
                  <a:lnTo>
                    <a:pt x="1334" y="1817"/>
                  </a:lnTo>
                  <a:lnTo>
                    <a:pt x="1361" y="1845"/>
                  </a:lnTo>
                  <a:lnTo>
                    <a:pt x="1361" y="1859"/>
                  </a:lnTo>
                  <a:lnTo>
                    <a:pt x="1375" y="1859"/>
                  </a:lnTo>
                  <a:lnTo>
                    <a:pt x="1403" y="1887"/>
                  </a:lnTo>
                  <a:lnTo>
                    <a:pt x="1416" y="1887"/>
                  </a:lnTo>
                  <a:lnTo>
                    <a:pt x="1430" y="1901"/>
                  </a:lnTo>
                  <a:lnTo>
                    <a:pt x="1451" y="1901"/>
                  </a:lnTo>
                  <a:lnTo>
                    <a:pt x="1451" y="1908"/>
                  </a:lnTo>
                  <a:lnTo>
                    <a:pt x="1492" y="1908"/>
                  </a:lnTo>
                  <a:lnTo>
                    <a:pt x="1506" y="1922"/>
                  </a:lnTo>
                  <a:lnTo>
                    <a:pt x="1588" y="1922"/>
                  </a:lnTo>
                  <a:lnTo>
                    <a:pt x="1691" y="1922"/>
                  </a:lnTo>
                  <a:lnTo>
                    <a:pt x="1733" y="1922"/>
                  </a:lnTo>
                  <a:lnTo>
                    <a:pt x="1733" y="1908"/>
                  </a:lnTo>
                  <a:lnTo>
                    <a:pt x="1760" y="1908"/>
                  </a:lnTo>
                  <a:lnTo>
                    <a:pt x="1760" y="1901"/>
                  </a:lnTo>
                  <a:lnTo>
                    <a:pt x="1781" y="1901"/>
                  </a:lnTo>
                  <a:lnTo>
                    <a:pt x="1795" y="1887"/>
                  </a:lnTo>
                  <a:lnTo>
                    <a:pt x="1808" y="1887"/>
                  </a:lnTo>
                  <a:lnTo>
                    <a:pt x="1836" y="1887"/>
                  </a:lnTo>
                  <a:lnTo>
                    <a:pt x="1836" y="1873"/>
                  </a:lnTo>
                  <a:lnTo>
                    <a:pt x="1850" y="1873"/>
                  </a:lnTo>
                  <a:lnTo>
                    <a:pt x="1850" y="1859"/>
                  </a:lnTo>
                  <a:lnTo>
                    <a:pt x="1863" y="1859"/>
                  </a:lnTo>
                  <a:lnTo>
                    <a:pt x="1905" y="1671"/>
                  </a:lnTo>
                  <a:lnTo>
                    <a:pt x="1891" y="1671"/>
                  </a:lnTo>
                  <a:lnTo>
                    <a:pt x="1877" y="1671"/>
                  </a:lnTo>
                  <a:lnTo>
                    <a:pt x="1877" y="1685"/>
                  </a:lnTo>
                  <a:lnTo>
                    <a:pt x="1850" y="1685"/>
                  </a:lnTo>
                  <a:lnTo>
                    <a:pt x="1850" y="1699"/>
                  </a:lnTo>
                  <a:lnTo>
                    <a:pt x="1781" y="1699"/>
                  </a:lnTo>
                  <a:lnTo>
                    <a:pt x="1781" y="1685"/>
                  </a:lnTo>
                  <a:lnTo>
                    <a:pt x="1774" y="1685"/>
                  </a:lnTo>
                  <a:lnTo>
                    <a:pt x="1774" y="1671"/>
                  </a:lnTo>
                  <a:lnTo>
                    <a:pt x="1760" y="1671"/>
                  </a:lnTo>
                  <a:lnTo>
                    <a:pt x="1760" y="1643"/>
                  </a:lnTo>
                  <a:lnTo>
                    <a:pt x="1760" y="1629"/>
                  </a:lnTo>
                  <a:lnTo>
                    <a:pt x="1850" y="1149"/>
                  </a:lnTo>
                  <a:lnTo>
                    <a:pt x="2049" y="1149"/>
                  </a:lnTo>
                  <a:lnTo>
                    <a:pt x="2111" y="870"/>
                  </a:lnTo>
                  <a:lnTo>
                    <a:pt x="1918" y="870"/>
                  </a:lnTo>
                  <a:lnTo>
                    <a:pt x="1966" y="571"/>
                  </a:lnTo>
                  <a:lnTo>
                    <a:pt x="1980" y="571"/>
                  </a:lnTo>
                  <a:lnTo>
                    <a:pt x="2008" y="571"/>
                  </a:lnTo>
                  <a:lnTo>
                    <a:pt x="2008" y="564"/>
                  </a:lnTo>
                  <a:lnTo>
                    <a:pt x="2090" y="564"/>
                  </a:lnTo>
                  <a:lnTo>
                    <a:pt x="2104" y="550"/>
                  </a:lnTo>
                  <a:lnTo>
                    <a:pt x="2152" y="550"/>
                  </a:lnTo>
                  <a:lnTo>
                    <a:pt x="2152" y="564"/>
                  </a:lnTo>
                  <a:lnTo>
                    <a:pt x="2262" y="564"/>
                  </a:lnTo>
                  <a:lnTo>
                    <a:pt x="2262" y="571"/>
                  </a:lnTo>
                  <a:lnTo>
                    <a:pt x="2310" y="571"/>
                  </a:lnTo>
                  <a:lnTo>
                    <a:pt x="2324" y="571"/>
                  </a:lnTo>
                  <a:lnTo>
                    <a:pt x="2365" y="571"/>
                  </a:lnTo>
                  <a:lnTo>
                    <a:pt x="2365" y="585"/>
                  </a:lnTo>
                  <a:lnTo>
                    <a:pt x="2406" y="585"/>
                  </a:lnTo>
                  <a:lnTo>
                    <a:pt x="2420" y="599"/>
                  </a:lnTo>
                  <a:lnTo>
                    <a:pt x="2434" y="599"/>
                  </a:lnTo>
                  <a:lnTo>
                    <a:pt x="2448" y="613"/>
                  </a:lnTo>
                  <a:lnTo>
                    <a:pt x="2468" y="613"/>
                  </a:lnTo>
                  <a:lnTo>
                    <a:pt x="2510" y="613"/>
                  </a:lnTo>
                  <a:lnTo>
                    <a:pt x="2510" y="627"/>
                  </a:lnTo>
                  <a:lnTo>
                    <a:pt x="2523" y="627"/>
                  </a:lnTo>
                  <a:lnTo>
                    <a:pt x="2523" y="696"/>
                  </a:lnTo>
                  <a:lnTo>
                    <a:pt x="2510" y="710"/>
                  </a:lnTo>
                  <a:lnTo>
                    <a:pt x="2510" y="975"/>
                  </a:lnTo>
                  <a:lnTo>
                    <a:pt x="2523" y="989"/>
                  </a:lnTo>
                  <a:lnTo>
                    <a:pt x="2523" y="1003"/>
                  </a:lnTo>
                  <a:lnTo>
                    <a:pt x="2537" y="1017"/>
                  </a:lnTo>
                  <a:lnTo>
                    <a:pt x="2537" y="1030"/>
                  </a:lnTo>
                  <a:lnTo>
                    <a:pt x="2551" y="1044"/>
                  </a:lnTo>
                  <a:lnTo>
                    <a:pt x="2551" y="1058"/>
                  </a:lnTo>
                  <a:lnTo>
                    <a:pt x="2565" y="1065"/>
                  </a:lnTo>
                  <a:lnTo>
                    <a:pt x="2565" y="1079"/>
                  </a:lnTo>
                  <a:lnTo>
                    <a:pt x="2578" y="1079"/>
                  </a:lnTo>
                  <a:lnTo>
                    <a:pt x="2578" y="1093"/>
                  </a:lnTo>
                  <a:lnTo>
                    <a:pt x="2606" y="1121"/>
                  </a:lnTo>
                  <a:lnTo>
                    <a:pt x="2620" y="1121"/>
                  </a:lnTo>
                  <a:lnTo>
                    <a:pt x="2620" y="1135"/>
                  </a:lnTo>
                  <a:lnTo>
                    <a:pt x="2626" y="1135"/>
                  </a:lnTo>
                  <a:lnTo>
                    <a:pt x="2626" y="1163"/>
                  </a:lnTo>
                  <a:lnTo>
                    <a:pt x="2640" y="1177"/>
                  </a:lnTo>
                  <a:lnTo>
                    <a:pt x="2640" y="1239"/>
                  </a:lnTo>
                  <a:lnTo>
                    <a:pt x="2654" y="1239"/>
                  </a:lnTo>
                  <a:lnTo>
                    <a:pt x="2654" y="1427"/>
                  </a:lnTo>
                  <a:lnTo>
                    <a:pt x="2640" y="1441"/>
                  </a:lnTo>
                  <a:lnTo>
                    <a:pt x="2640" y="1497"/>
                  </a:lnTo>
                  <a:lnTo>
                    <a:pt x="2626" y="1525"/>
                  </a:lnTo>
                  <a:lnTo>
                    <a:pt x="2626" y="1573"/>
                  </a:lnTo>
                  <a:lnTo>
                    <a:pt x="2620" y="1587"/>
                  </a:lnTo>
                  <a:lnTo>
                    <a:pt x="2620" y="1601"/>
                  </a:lnTo>
                  <a:lnTo>
                    <a:pt x="2606" y="1615"/>
                  </a:lnTo>
                  <a:lnTo>
                    <a:pt x="2606" y="1629"/>
                  </a:lnTo>
                  <a:lnTo>
                    <a:pt x="2592" y="1643"/>
                  </a:lnTo>
                  <a:lnTo>
                    <a:pt x="2592" y="1657"/>
                  </a:lnTo>
                  <a:lnTo>
                    <a:pt x="2578" y="1671"/>
                  </a:lnTo>
                  <a:lnTo>
                    <a:pt x="2578" y="1685"/>
                  </a:lnTo>
                  <a:lnTo>
                    <a:pt x="2565" y="1685"/>
                  </a:lnTo>
                  <a:lnTo>
                    <a:pt x="2551" y="1699"/>
                  </a:lnTo>
                  <a:lnTo>
                    <a:pt x="2537" y="1699"/>
                  </a:lnTo>
                  <a:lnTo>
                    <a:pt x="2523" y="1713"/>
                  </a:lnTo>
                  <a:lnTo>
                    <a:pt x="2496" y="1713"/>
                  </a:lnTo>
                  <a:lnTo>
                    <a:pt x="2482" y="1727"/>
                  </a:lnTo>
                  <a:lnTo>
                    <a:pt x="2455" y="1727"/>
                  </a:lnTo>
                  <a:lnTo>
                    <a:pt x="2448" y="1734"/>
                  </a:lnTo>
                  <a:lnTo>
                    <a:pt x="2434" y="1734"/>
                  </a:lnTo>
                  <a:lnTo>
                    <a:pt x="2420" y="1748"/>
                  </a:lnTo>
                  <a:lnTo>
                    <a:pt x="2406" y="1748"/>
                  </a:lnTo>
                  <a:lnTo>
                    <a:pt x="2393" y="1761"/>
                  </a:lnTo>
                  <a:lnTo>
                    <a:pt x="2365" y="1761"/>
                  </a:lnTo>
                  <a:lnTo>
                    <a:pt x="2351" y="1775"/>
                  </a:lnTo>
                  <a:lnTo>
                    <a:pt x="2338" y="1775"/>
                  </a:lnTo>
                  <a:lnTo>
                    <a:pt x="2324" y="1789"/>
                  </a:lnTo>
                  <a:lnTo>
                    <a:pt x="2310" y="1789"/>
                  </a:lnTo>
                  <a:lnTo>
                    <a:pt x="2296" y="1803"/>
                  </a:lnTo>
                  <a:lnTo>
                    <a:pt x="2283" y="1803"/>
                  </a:lnTo>
                  <a:lnTo>
                    <a:pt x="2276" y="1817"/>
                  </a:lnTo>
                  <a:lnTo>
                    <a:pt x="2262" y="1817"/>
                  </a:lnTo>
                  <a:lnTo>
                    <a:pt x="2248" y="1831"/>
                  </a:lnTo>
                  <a:lnTo>
                    <a:pt x="2235" y="1831"/>
                  </a:lnTo>
                  <a:lnTo>
                    <a:pt x="2235" y="1845"/>
                  </a:lnTo>
                  <a:lnTo>
                    <a:pt x="2207" y="1845"/>
                  </a:lnTo>
                  <a:lnTo>
                    <a:pt x="2180" y="1873"/>
                  </a:lnTo>
                  <a:lnTo>
                    <a:pt x="2166" y="1873"/>
                  </a:lnTo>
                  <a:lnTo>
                    <a:pt x="2152" y="1887"/>
                  </a:lnTo>
                  <a:lnTo>
                    <a:pt x="2138" y="1887"/>
                  </a:lnTo>
                  <a:lnTo>
                    <a:pt x="2138" y="1901"/>
                  </a:lnTo>
                  <a:lnTo>
                    <a:pt x="2125" y="1901"/>
                  </a:lnTo>
                  <a:lnTo>
                    <a:pt x="2111" y="1908"/>
                  </a:lnTo>
                  <a:lnTo>
                    <a:pt x="2104" y="1908"/>
                  </a:lnTo>
                  <a:lnTo>
                    <a:pt x="2104" y="1922"/>
                  </a:lnTo>
                  <a:lnTo>
                    <a:pt x="2090" y="1922"/>
                  </a:lnTo>
                  <a:lnTo>
                    <a:pt x="2021" y="1991"/>
                  </a:lnTo>
                  <a:lnTo>
                    <a:pt x="2008" y="1991"/>
                  </a:lnTo>
                  <a:lnTo>
                    <a:pt x="2008" y="2005"/>
                  </a:lnTo>
                  <a:lnTo>
                    <a:pt x="1994" y="2005"/>
                  </a:lnTo>
                  <a:lnTo>
                    <a:pt x="1994" y="2019"/>
                  </a:lnTo>
                  <a:lnTo>
                    <a:pt x="1980" y="2019"/>
                  </a:lnTo>
                  <a:lnTo>
                    <a:pt x="1980" y="2033"/>
                  </a:lnTo>
                  <a:lnTo>
                    <a:pt x="1966" y="2033"/>
                  </a:lnTo>
                  <a:lnTo>
                    <a:pt x="1966" y="2061"/>
                  </a:lnTo>
                  <a:lnTo>
                    <a:pt x="1953" y="2061"/>
                  </a:lnTo>
                  <a:lnTo>
                    <a:pt x="1953" y="2068"/>
                  </a:lnTo>
                  <a:lnTo>
                    <a:pt x="1946" y="2082"/>
                  </a:lnTo>
                  <a:lnTo>
                    <a:pt x="1946" y="2096"/>
                  </a:lnTo>
                  <a:lnTo>
                    <a:pt x="1932" y="2110"/>
                  </a:lnTo>
                  <a:lnTo>
                    <a:pt x="1932" y="2137"/>
                  </a:lnTo>
                  <a:lnTo>
                    <a:pt x="1918" y="2137"/>
                  </a:lnTo>
                  <a:lnTo>
                    <a:pt x="1918" y="2179"/>
                  </a:lnTo>
                  <a:lnTo>
                    <a:pt x="1905" y="2193"/>
                  </a:lnTo>
                  <a:lnTo>
                    <a:pt x="1905" y="2381"/>
                  </a:lnTo>
                  <a:lnTo>
                    <a:pt x="1918" y="2381"/>
                  </a:lnTo>
                  <a:lnTo>
                    <a:pt x="1918" y="2430"/>
                  </a:lnTo>
                  <a:lnTo>
                    <a:pt x="1932" y="2430"/>
                  </a:lnTo>
                  <a:lnTo>
                    <a:pt x="1932" y="2472"/>
                  </a:lnTo>
                  <a:lnTo>
                    <a:pt x="1946" y="2486"/>
                  </a:lnTo>
                  <a:lnTo>
                    <a:pt x="1946" y="2513"/>
                  </a:lnTo>
                  <a:lnTo>
                    <a:pt x="1953" y="2513"/>
                  </a:lnTo>
                  <a:lnTo>
                    <a:pt x="1953" y="2541"/>
                  </a:lnTo>
                  <a:lnTo>
                    <a:pt x="1966" y="2541"/>
                  </a:lnTo>
                  <a:lnTo>
                    <a:pt x="1966" y="2555"/>
                  </a:lnTo>
                  <a:lnTo>
                    <a:pt x="1953" y="2555"/>
                  </a:lnTo>
                  <a:lnTo>
                    <a:pt x="1953" y="2562"/>
                  </a:lnTo>
                  <a:lnTo>
                    <a:pt x="1946" y="2562"/>
                  </a:lnTo>
                  <a:lnTo>
                    <a:pt x="1932" y="2576"/>
                  </a:lnTo>
                  <a:lnTo>
                    <a:pt x="1891" y="2576"/>
                  </a:lnTo>
                  <a:lnTo>
                    <a:pt x="1891" y="2590"/>
                  </a:lnTo>
                  <a:lnTo>
                    <a:pt x="1746" y="2590"/>
                  </a:lnTo>
                  <a:lnTo>
                    <a:pt x="1746" y="2576"/>
                  </a:lnTo>
                  <a:lnTo>
                    <a:pt x="1678" y="2576"/>
                  </a:lnTo>
                  <a:lnTo>
                    <a:pt x="1678" y="2562"/>
                  </a:lnTo>
                  <a:lnTo>
                    <a:pt x="1636" y="2562"/>
                  </a:lnTo>
                  <a:lnTo>
                    <a:pt x="1623" y="2555"/>
                  </a:lnTo>
                  <a:lnTo>
                    <a:pt x="1602" y="2555"/>
                  </a:lnTo>
                  <a:lnTo>
                    <a:pt x="1602" y="2541"/>
                  </a:lnTo>
                  <a:lnTo>
                    <a:pt x="1588" y="2541"/>
                  </a:lnTo>
                  <a:lnTo>
                    <a:pt x="1575" y="2527"/>
                  </a:lnTo>
                  <a:lnTo>
                    <a:pt x="1561" y="2527"/>
                  </a:lnTo>
                  <a:lnTo>
                    <a:pt x="1547" y="2513"/>
                  </a:lnTo>
                  <a:lnTo>
                    <a:pt x="1533" y="2513"/>
                  </a:lnTo>
                  <a:lnTo>
                    <a:pt x="1533" y="2499"/>
                  </a:lnTo>
                  <a:lnTo>
                    <a:pt x="1520" y="2499"/>
                  </a:lnTo>
                  <a:lnTo>
                    <a:pt x="1492" y="2472"/>
                  </a:lnTo>
                  <a:lnTo>
                    <a:pt x="1478" y="2472"/>
                  </a:lnTo>
                  <a:lnTo>
                    <a:pt x="1478" y="2458"/>
                  </a:lnTo>
                  <a:lnTo>
                    <a:pt x="1465" y="2458"/>
                  </a:lnTo>
                  <a:lnTo>
                    <a:pt x="1465" y="2444"/>
                  </a:lnTo>
                  <a:lnTo>
                    <a:pt x="1451" y="2444"/>
                  </a:lnTo>
                  <a:lnTo>
                    <a:pt x="1451" y="2430"/>
                  </a:lnTo>
                  <a:lnTo>
                    <a:pt x="1437" y="2430"/>
                  </a:lnTo>
                  <a:lnTo>
                    <a:pt x="1430" y="2416"/>
                  </a:lnTo>
                  <a:lnTo>
                    <a:pt x="1430" y="2402"/>
                  </a:lnTo>
                  <a:lnTo>
                    <a:pt x="1416" y="2402"/>
                  </a:lnTo>
                  <a:lnTo>
                    <a:pt x="1416" y="2395"/>
                  </a:lnTo>
                  <a:lnTo>
                    <a:pt x="1403" y="2395"/>
                  </a:lnTo>
                  <a:lnTo>
                    <a:pt x="1403" y="2381"/>
                  </a:lnTo>
                  <a:lnTo>
                    <a:pt x="1389" y="2367"/>
                  </a:lnTo>
                  <a:lnTo>
                    <a:pt x="1375" y="2367"/>
                  </a:lnTo>
                  <a:lnTo>
                    <a:pt x="1375" y="2353"/>
                  </a:lnTo>
                  <a:lnTo>
                    <a:pt x="1348" y="2325"/>
                  </a:lnTo>
                  <a:lnTo>
                    <a:pt x="1348" y="2312"/>
                  </a:lnTo>
                  <a:lnTo>
                    <a:pt x="1306" y="2270"/>
                  </a:lnTo>
                  <a:lnTo>
                    <a:pt x="1306" y="2256"/>
                  </a:lnTo>
                  <a:lnTo>
                    <a:pt x="1293" y="2242"/>
                  </a:lnTo>
                  <a:lnTo>
                    <a:pt x="1293" y="2228"/>
                  </a:lnTo>
                  <a:lnTo>
                    <a:pt x="1279" y="2221"/>
                  </a:lnTo>
                  <a:lnTo>
                    <a:pt x="1265" y="2221"/>
                  </a:lnTo>
                  <a:lnTo>
                    <a:pt x="1265" y="2207"/>
                  </a:lnTo>
                  <a:lnTo>
                    <a:pt x="1258" y="2193"/>
                  </a:lnTo>
                  <a:lnTo>
                    <a:pt x="1258" y="2179"/>
                  </a:lnTo>
                  <a:lnTo>
                    <a:pt x="1244" y="2165"/>
                  </a:lnTo>
                  <a:lnTo>
                    <a:pt x="1244" y="2151"/>
                  </a:lnTo>
                  <a:lnTo>
                    <a:pt x="1231" y="2137"/>
                  </a:lnTo>
                  <a:lnTo>
                    <a:pt x="1231" y="2124"/>
                  </a:lnTo>
                  <a:lnTo>
                    <a:pt x="1203" y="2096"/>
                  </a:lnTo>
                  <a:lnTo>
                    <a:pt x="1203" y="2082"/>
                  </a:lnTo>
                  <a:lnTo>
                    <a:pt x="1189" y="2068"/>
                  </a:lnTo>
                  <a:lnTo>
                    <a:pt x="1189" y="2061"/>
                  </a:lnTo>
                  <a:lnTo>
                    <a:pt x="1176" y="2047"/>
                  </a:lnTo>
                  <a:lnTo>
                    <a:pt x="1176" y="2033"/>
                  </a:lnTo>
                  <a:lnTo>
                    <a:pt x="1162" y="2019"/>
                  </a:lnTo>
                  <a:lnTo>
                    <a:pt x="1162" y="2005"/>
                  </a:lnTo>
                  <a:lnTo>
                    <a:pt x="1148" y="1991"/>
                  </a:lnTo>
                  <a:lnTo>
                    <a:pt x="1148" y="1977"/>
                  </a:lnTo>
                  <a:lnTo>
                    <a:pt x="1121" y="1949"/>
                  </a:lnTo>
                  <a:lnTo>
                    <a:pt x="1121" y="1922"/>
                  </a:lnTo>
                  <a:lnTo>
                    <a:pt x="1107" y="1908"/>
                  </a:lnTo>
                  <a:lnTo>
                    <a:pt x="1107" y="1901"/>
                  </a:lnTo>
                  <a:lnTo>
                    <a:pt x="1093" y="1887"/>
                  </a:lnTo>
                  <a:lnTo>
                    <a:pt x="1093" y="1873"/>
                  </a:lnTo>
                  <a:lnTo>
                    <a:pt x="1086" y="1859"/>
                  </a:lnTo>
                  <a:lnTo>
                    <a:pt x="1086" y="1845"/>
                  </a:lnTo>
                  <a:lnTo>
                    <a:pt x="1073" y="1817"/>
                  </a:lnTo>
                  <a:lnTo>
                    <a:pt x="1073" y="1803"/>
                  </a:lnTo>
                  <a:lnTo>
                    <a:pt x="1059" y="1789"/>
                  </a:lnTo>
                  <a:lnTo>
                    <a:pt x="1059" y="1775"/>
                  </a:lnTo>
                  <a:lnTo>
                    <a:pt x="1045" y="1761"/>
                  </a:lnTo>
                  <a:lnTo>
                    <a:pt x="1045" y="1734"/>
                  </a:lnTo>
                  <a:lnTo>
                    <a:pt x="1031" y="1727"/>
                  </a:lnTo>
                  <a:lnTo>
                    <a:pt x="1031" y="1713"/>
                  </a:lnTo>
                  <a:lnTo>
                    <a:pt x="1018" y="1713"/>
                  </a:lnTo>
                  <a:lnTo>
                    <a:pt x="1018" y="1699"/>
                  </a:lnTo>
                  <a:lnTo>
                    <a:pt x="976" y="1699"/>
                  </a:lnTo>
                  <a:lnTo>
                    <a:pt x="976" y="1685"/>
                  </a:lnTo>
                  <a:lnTo>
                    <a:pt x="914" y="1685"/>
                  </a:lnTo>
                  <a:lnTo>
                    <a:pt x="914" y="1671"/>
                  </a:lnTo>
                  <a:lnTo>
                    <a:pt x="859" y="1671"/>
                  </a:lnTo>
                  <a:lnTo>
                    <a:pt x="859" y="1685"/>
                  </a:lnTo>
                  <a:lnTo>
                    <a:pt x="832" y="1685"/>
                  </a:lnTo>
                  <a:lnTo>
                    <a:pt x="832" y="1699"/>
                  </a:lnTo>
                  <a:lnTo>
                    <a:pt x="818" y="1699"/>
                  </a:lnTo>
                  <a:lnTo>
                    <a:pt x="818" y="1713"/>
                  </a:lnTo>
                  <a:lnTo>
                    <a:pt x="804" y="1713"/>
                  </a:lnTo>
                  <a:lnTo>
                    <a:pt x="791" y="1713"/>
                  </a:lnTo>
                  <a:lnTo>
                    <a:pt x="791" y="1727"/>
                  </a:lnTo>
                  <a:lnTo>
                    <a:pt x="777" y="1727"/>
                  </a:lnTo>
                  <a:lnTo>
                    <a:pt x="763" y="1748"/>
                  </a:lnTo>
                  <a:lnTo>
                    <a:pt x="749" y="1748"/>
                  </a:lnTo>
                  <a:lnTo>
                    <a:pt x="749" y="1761"/>
                  </a:lnTo>
                  <a:lnTo>
                    <a:pt x="743" y="1761"/>
                  </a:lnTo>
                  <a:lnTo>
                    <a:pt x="743" y="1775"/>
                  </a:lnTo>
                  <a:lnTo>
                    <a:pt x="743" y="1789"/>
                  </a:lnTo>
                  <a:lnTo>
                    <a:pt x="729" y="1789"/>
                  </a:lnTo>
                  <a:lnTo>
                    <a:pt x="729" y="1817"/>
                  </a:lnTo>
                  <a:lnTo>
                    <a:pt x="715" y="1817"/>
                  </a:lnTo>
                  <a:lnTo>
                    <a:pt x="715" y="1831"/>
                  </a:lnTo>
                  <a:lnTo>
                    <a:pt x="591" y="1831"/>
                  </a:lnTo>
                  <a:lnTo>
                    <a:pt x="591" y="1817"/>
                  </a:lnTo>
                  <a:lnTo>
                    <a:pt x="571" y="1817"/>
                  </a:lnTo>
                  <a:lnTo>
                    <a:pt x="557" y="1803"/>
                  </a:lnTo>
                  <a:lnTo>
                    <a:pt x="529" y="1803"/>
                  </a:lnTo>
                  <a:lnTo>
                    <a:pt x="529" y="1789"/>
                  </a:lnTo>
                  <a:lnTo>
                    <a:pt x="516" y="1789"/>
                  </a:lnTo>
                  <a:lnTo>
                    <a:pt x="502" y="1789"/>
                  </a:lnTo>
                  <a:lnTo>
                    <a:pt x="502" y="1775"/>
                  </a:lnTo>
                  <a:lnTo>
                    <a:pt x="488" y="1775"/>
                  </a:lnTo>
                  <a:lnTo>
                    <a:pt x="488" y="1761"/>
                  </a:lnTo>
                  <a:lnTo>
                    <a:pt x="474" y="1761"/>
                  </a:lnTo>
                  <a:lnTo>
                    <a:pt x="474" y="1748"/>
                  </a:lnTo>
                  <a:lnTo>
                    <a:pt x="461" y="1748"/>
                  </a:lnTo>
                  <a:lnTo>
                    <a:pt x="447" y="1748"/>
                  </a:lnTo>
                  <a:lnTo>
                    <a:pt x="447" y="1734"/>
                  </a:lnTo>
                  <a:lnTo>
                    <a:pt x="447" y="1727"/>
                  </a:lnTo>
                  <a:lnTo>
                    <a:pt x="433" y="1713"/>
                  </a:lnTo>
                  <a:lnTo>
                    <a:pt x="419" y="1713"/>
                  </a:lnTo>
                  <a:lnTo>
                    <a:pt x="419" y="1699"/>
                  </a:lnTo>
                  <a:lnTo>
                    <a:pt x="413" y="1699"/>
                  </a:lnTo>
                  <a:lnTo>
                    <a:pt x="413" y="1671"/>
                  </a:lnTo>
                  <a:lnTo>
                    <a:pt x="399" y="1671"/>
                  </a:lnTo>
                  <a:lnTo>
                    <a:pt x="399" y="1657"/>
                  </a:lnTo>
                  <a:lnTo>
                    <a:pt x="399" y="1629"/>
                  </a:lnTo>
                  <a:lnTo>
                    <a:pt x="385" y="1629"/>
                  </a:lnTo>
                  <a:lnTo>
                    <a:pt x="385" y="1615"/>
                  </a:lnTo>
                  <a:lnTo>
                    <a:pt x="371" y="1601"/>
                  </a:lnTo>
                  <a:lnTo>
                    <a:pt x="371" y="1587"/>
                  </a:lnTo>
                  <a:lnTo>
                    <a:pt x="358" y="1573"/>
                  </a:lnTo>
                  <a:lnTo>
                    <a:pt x="358" y="1567"/>
                  </a:lnTo>
                  <a:lnTo>
                    <a:pt x="358" y="1553"/>
                  </a:lnTo>
                  <a:lnTo>
                    <a:pt x="344" y="1553"/>
                  </a:lnTo>
                  <a:lnTo>
                    <a:pt x="344" y="1525"/>
                  </a:lnTo>
                  <a:lnTo>
                    <a:pt x="330" y="1525"/>
                  </a:lnTo>
                  <a:lnTo>
                    <a:pt x="330" y="1511"/>
                  </a:lnTo>
                  <a:lnTo>
                    <a:pt x="316" y="1497"/>
                  </a:lnTo>
                  <a:lnTo>
                    <a:pt x="316" y="1483"/>
                  </a:lnTo>
                  <a:lnTo>
                    <a:pt x="289" y="1455"/>
                  </a:lnTo>
                  <a:lnTo>
                    <a:pt x="289" y="1441"/>
                  </a:lnTo>
                  <a:lnTo>
                    <a:pt x="199" y="1351"/>
                  </a:lnTo>
                  <a:lnTo>
                    <a:pt x="186" y="1351"/>
                  </a:lnTo>
                  <a:lnTo>
                    <a:pt x="186" y="1337"/>
                  </a:lnTo>
                  <a:lnTo>
                    <a:pt x="172" y="1323"/>
                  </a:lnTo>
                  <a:lnTo>
                    <a:pt x="158" y="1323"/>
                  </a:lnTo>
                  <a:lnTo>
                    <a:pt x="131" y="1295"/>
                  </a:lnTo>
                  <a:lnTo>
                    <a:pt x="131" y="1309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e9b03"/>
                </a:solidFill>
                <a:latin typeface="Arial"/>
              </a:rPr>
              <a:t>Features of McBSP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152280" y="685800"/>
            <a:ext cx="8763120" cy="60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2600" indent="-55260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Direct interface t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09800" indent="-55260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T1/E1 fram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09800" indent="-55260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IOM-2 compliant devic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09800" indent="-55260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AC97-compliant devices with multiphase frame cap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09800" indent="-55260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I2S compliant de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09800" indent="-55260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SPI de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Variable data sizes: 8, 12, 16, 20, 24, and 32 b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-law (Europe) and µ-law (US &amp; Japan) hardware compression / expan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Definition: Word and Frame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1679040" y="4375080"/>
            <a:ext cx="599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ame” - contains one or multiple wo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mber of words per frame: 1-12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1" name="Group 4"/>
          <p:cNvGrpSpPr/>
          <p:nvPr/>
        </p:nvGrpSpPr>
        <p:grpSpPr>
          <a:xfrm>
            <a:off x="3276720" y="2651040"/>
            <a:ext cx="4876560" cy="457200"/>
            <a:chOff x="3276720" y="2651040"/>
            <a:chExt cx="4876560" cy="457200"/>
          </a:xfrm>
        </p:grpSpPr>
        <p:sp>
          <p:nvSpPr>
            <p:cNvPr id="142" name="AutoShape 5"/>
            <p:cNvSpPr/>
            <p:nvPr/>
          </p:nvSpPr>
          <p:spPr>
            <a:xfrm>
              <a:off x="3276720" y="2651040"/>
              <a:ext cx="609480" cy="457200"/>
            </a:xfrm>
            <a:prstGeom prst="hexagon">
              <a:avLst>
                <a:gd name="adj" fmla="val 33327"/>
                <a:gd name="vf" fmla="val 115470"/>
              </a:avLst>
            </a:prstGeom>
            <a:solidFill>
              <a:srgbClr val="000f4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AutoShape 6"/>
            <p:cNvSpPr/>
            <p:nvPr/>
          </p:nvSpPr>
          <p:spPr>
            <a:xfrm>
              <a:off x="3886200" y="2651040"/>
              <a:ext cx="609480" cy="457200"/>
            </a:xfrm>
            <a:prstGeom prst="hexagon">
              <a:avLst>
                <a:gd name="adj" fmla="val 33327"/>
                <a:gd name="vf" fmla="val 115470"/>
              </a:avLst>
            </a:prstGeom>
            <a:solidFill>
              <a:srgbClr val="000f4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AutoShape 7"/>
            <p:cNvSpPr/>
            <p:nvPr/>
          </p:nvSpPr>
          <p:spPr>
            <a:xfrm>
              <a:off x="4495680" y="2651040"/>
              <a:ext cx="609840" cy="457200"/>
            </a:xfrm>
            <a:prstGeom prst="hexagon">
              <a:avLst>
                <a:gd name="adj" fmla="val 33346"/>
                <a:gd name="vf" fmla="val 115470"/>
              </a:avLst>
            </a:prstGeom>
            <a:solidFill>
              <a:srgbClr val="000f4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AutoShape 8"/>
            <p:cNvSpPr/>
            <p:nvPr/>
          </p:nvSpPr>
          <p:spPr>
            <a:xfrm>
              <a:off x="5105520" y="2651040"/>
              <a:ext cx="609480" cy="457200"/>
            </a:xfrm>
            <a:prstGeom prst="hexagon">
              <a:avLst>
                <a:gd name="adj" fmla="val 33327"/>
                <a:gd name="vf" fmla="val 115470"/>
              </a:avLst>
            </a:prstGeom>
            <a:solidFill>
              <a:srgbClr val="000f4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AutoShape 9"/>
            <p:cNvSpPr/>
            <p:nvPr/>
          </p:nvSpPr>
          <p:spPr>
            <a:xfrm>
              <a:off x="5715000" y="2651040"/>
              <a:ext cx="609480" cy="457200"/>
            </a:xfrm>
            <a:prstGeom prst="hexagon">
              <a:avLst>
                <a:gd name="adj" fmla="val 33327"/>
                <a:gd name="vf" fmla="val 115470"/>
              </a:avLst>
            </a:prstGeom>
            <a:solidFill>
              <a:srgbClr val="000f4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AutoShape 10"/>
            <p:cNvSpPr/>
            <p:nvPr/>
          </p:nvSpPr>
          <p:spPr>
            <a:xfrm>
              <a:off x="6324480" y="2651040"/>
              <a:ext cx="609840" cy="457200"/>
            </a:xfrm>
            <a:prstGeom prst="hexagon">
              <a:avLst>
                <a:gd name="adj" fmla="val 33346"/>
                <a:gd name="vf" fmla="val 115470"/>
              </a:avLst>
            </a:prstGeom>
            <a:solidFill>
              <a:srgbClr val="000f4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AutoShape 11"/>
            <p:cNvSpPr/>
            <p:nvPr/>
          </p:nvSpPr>
          <p:spPr>
            <a:xfrm>
              <a:off x="6934320" y="2651040"/>
              <a:ext cx="609480" cy="457200"/>
            </a:xfrm>
            <a:prstGeom prst="hexagon">
              <a:avLst>
                <a:gd name="adj" fmla="val 33327"/>
                <a:gd name="vf" fmla="val 115470"/>
              </a:avLst>
            </a:prstGeom>
            <a:solidFill>
              <a:srgbClr val="000f4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AutoShape 12"/>
            <p:cNvSpPr/>
            <p:nvPr/>
          </p:nvSpPr>
          <p:spPr>
            <a:xfrm>
              <a:off x="7543800" y="2651040"/>
              <a:ext cx="609480" cy="457200"/>
            </a:xfrm>
            <a:prstGeom prst="hexagon">
              <a:avLst>
                <a:gd name="adj" fmla="val 33327"/>
                <a:gd name="vf" fmla="val 115470"/>
              </a:avLst>
            </a:prstGeom>
            <a:solidFill>
              <a:srgbClr val="000f4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0" name="Group 13"/>
          <p:cNvGrpSpPr/>
          <p:nvPr/>
        </p:nvGrpSpPr>
        <p:grpSpPr>
          <a:xfrm>
            <a:off x="3276720" y="3300480"/>
            <a:ext cx="4876560" cy="459720"/>
            <a:chOff x="3276720" y="3300480"/>
            <a:chExt cx="4876560" cy="459720"/>
          </a:xfrm>
        </p:grpSpPr>
        <p:sp>
          <p:nvSpPr>
            <p:cNvPr id="151" name="Text Box 14"/>
            <p:cNvSpPr/>
            <p:nvPr/>
          </p:nvSpPr>
          <p:spPr>
            <a:xfrm>
              <a:off x="5189400" y="3300480"/>
              <a:ext cx="106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ra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Line 15"/>
            <p:cNvSpPr/>
            <p:nvPr/>
          </p:nvSpPr>
          <p:spPr>
            <a:xfrm>
              <a:off x="6400800" y="3465360"/>
              <a:ext cx="17524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Line 16"/>
            <p:cNvSpPr/>
            <p:nvPr/>
          </p:nvSpPr>
          <p:spPr>
            <a:xfrm flipH="1">
              <a:off x="3276720" y="3465360"/>
              <a:ext cx="17524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" name="Group 17"/>
          <p:cNvGrpSpPr/>
          <p:nvPr/>
        </p:nvGrpSpPr>
        <p:grpSpPr>
          <a:xfrm>
            <a:off x="838080" y="1447920"/>
            <a:ext cx="7925040" cy="2437920"/>
            <a:chOff x="838080" y="1447920"/>
            <a:chExt cx="7925040" cy="2437920"/>
          </a:xfrm>
        </p:grpSpPr>
        <p:sp>
          <p:nvSpPr>
            <p:cNvPr id="155" name="Line 18"/>
            <p:cNvSpPr/>
            <p:nvPr/>
          </p:nvSpPr>
          <p:spPr>
            <a:xfrm>
              <a:off x="838080" y="1447920"/>
              <a:ext cx="0" cy="243792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Line 19"/>
            <p:cNvSpPr/>
            <p:nvPr/>
          </p:nvSpPr>
          <p:spPr>
            <a:xfrm>
              <a:off x="1447920" y="1447920"/>
              <a:ext cx="0" cy="211284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Line 20"/>
            <p:cNvSpPr/>
            <p:nvPr/>
          </p:nvSpPr>
          <p:spPr>
            <a:xfrm>
              <a:off x="2057400" y="1447920"/>
              <a:ext cx="0" cy="211284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Line 21"/>
            <p:cNvSpPr/>
            <p:nvPr/>
          </p:nvSpPr>
          <p:spPr>
            <a:xfrm>
              <a:off x="2666880" y="1447920"/>
              <a:ext cx="0" cy="243792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Line 22"/>
            <p:cNvSpPr/>
            <p:nvPr/>
          </p:nvSpPr>
          <p:spPr>
            <a:xfrm>
              <a:off x="3276720" y="1447920"/>
              <a:ext cx="0" cy="243792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0" name="Group 23"/>
            <p:cNvGrpSpPr/>
            <p:nvPr/>
          </p:nvGrpSpPr>
          <p:grpSpPr>
            <a:xfrm>
              <a:off x="3886200" y="1447920"/>
              <a:ext cx="3657600" cy="1869120"/>
              <a:chOff x="3886200" y="1447920"/>
              <a:chExt cx="3657600" cy="1869120"/>
            </a:xfrm>
          </p:grpSpPr>
          <p:sp>
            <p:nvSpPr>
              <p:cNvPr id="161" name="Line 24"/>
              <p:cNvSpPr/>
              <p:nvPr/>
            </p:nvSpPr>
            <p:spPr>
              <a:xfrm>
                <a:off x="3886200" y="1447920"/>
                <a:ext cx="0" cy="1869120"/>
              </a:xfrm>
              <a:prstGeom prst="line">
                <a:avLst/>
              </a:prstGeom>
              <a:ln cap="rnd" w="324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Line 25"/>
              <p:cNvSpPr/>
              <p:nvPr/>
            </p:nvSpPr>
            <p:spPr>
              <a:xfrm>
                <a:off x="4495680" y="1447920"/>
                <a:ext cx="0" cy="1869120"/>
              </a:xfrm>
              <a:prstGeom prst="line">
                <a:avLst/>
              </a:prstGeom>
              <a:ln cap="rnd" w="324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Line 26"/>
              <p:cNvSpPr/>
              <p:nvPr/>
            </p:nvSpPr>
            <p:spPr>
              <a:xfrm>
                <a:off x="5105520" y="1447920"/>
                <a:ext cx="0" cy="1869120"/>
              </a:xfrm>
              <a:prstGeom prst="line">
                <a:avLst/>
              </a:prstGeom>
              <a:ln cap="rnd" w="324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Line 27"/>
              <p:cNvSpPr/>
              <p:nvPr/>
            </p:nvSpPr>
            <p:spPr>
              <a:xfrm>
                <a:off x="5715000" y="1447920"/>
                <a:ext cx="0" cy="1869120"/>
              </a:xfrm>
              <a:prstGeom prst="line">
                <a:avLst/>
              </a:prstGeom>
              <a:ln cap="rnd" w="324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Line 28"/>
              <p:cNvSpPr/>
              <p:nvPr/>
            </p:nvSpPr>
            <p:spPr>
              <a:xfrm>
                <a:off x="6324480" y="1447920"/>
                <a:ext cx="0" cy="1869120"/>
              </a:xfrm>
              <a:prstGeom prst="line">
                <a:avLst/>
              </a:prstGeom>
              <a:ln cap="rnd" w="324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Line 29"/>
              <p:cNvSpPr/>
              <p:nvPr/>
            </p:nvSpPr>
            <p:spPr>
              <a:xfrm>
                <a:off x="6934320" y="1447920"/>
                <a:ext cx="0" cy="1869120"/>
              </a:xfrm>
              <a:prstGeom prst="line">
                <a:avLst/>
              </a:prstGeom>
              <a:ln cap="rnd" w="324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Line 30"/>
              <p:cNvSpPr/>
              <p:nvPr/>
            </p:nvSpPr>
            <p:spPr>
              <a:xfrm>
                <a:off x="7543800" y="1447920"/>
                <a:ext cx="0" cy="1869120"/>
              </a:xfrm>
              <a:prstGeom prst="line">
                <a:avLst/>
              </a:prstGeom>
              <a:ln cap="rnd" w="324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8" name="Line 31"/>
            <p:cNvSpPr/>
            <p:nvPr/>
          </p:nvSpPr>
          <p:spPr>
            <a:xfrm>
              <a:off x="8153280" y="1447920"/>
              <a:ext cx="0" cy="243792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Line 32"/>
            <p:cNvSpPr/>
            <p:nvPr/>
          </p:nvSpPr>
          <p:spPr>
            <a:xfrm>
              <a:off x="8763120" y="1447920"/>
              <a:ext cx="0" cy="243792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0" name="Group 33"/>
          <p:cNvGrpSpPr/>
          <p:nvPr/>
        </p:nvGrpSpPr>
        <p:grpSpPr>
          <a:xfrm>
            <a:off x="1296360" y="3456000"/>
            <a:ext cx="909360" cy="650880"/>
            <a:chOff x="1296360" y="3456000"/>
            <a:chExt cx="909360" cy="650880"/>
          </a:xfrm>
        </p:grpSpPr>
        <p:sp>
          <p:nvSpPr>
            <p:cNvPr id="171" name="Line 34"/>
            <p:cNvSpPr/>
            <p:nvPr/>
          </p:nvSpPr>
          <p:spPr>
            <a:xfrm flipH="1">
              <a:off x="1447560" y="3456000"/>
              <a:ext cx="6094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Text Box 35"/>
            <p:cNvSpPr/>
            <p:nvPr/>
          </p:nvSpPr>
          <p:spPr>
            <a:xfrm>
              <a:off x="1296360" y="3647160"/>
              <a:ext cx="90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or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3" name="Group 36"/>
          <p:cNvGrpSpPr/>
          <p:nvPr/>
        </p:nvGrpSpPr>
        <p:grpSpPr>
          <a:xfrm>
            <a:off x="367200" y="2660760"/>
            <a:ext cx="1690200" cy="502200"/>
            <a:chOff x="367200" y="2660760"/>
            <a:chExt cx="1690200" cy="502200"/>
          </a:xfrm>
        </p:grpSpPr>
        <p:grpSp>
          <p:nvGrpSpPr>
            <p:cNvPr id="174" name="Group 37"/>
            <p:cNvGrpSpPr/>
            <p:nvPr/>
          </p:nvGrpSpPr>
          <p:grpSpPr>
            <a:xfrm>
              <a:off x="838080" y="2660760"/>
              <a:ext cx="1219320" cy="453960"/>
              <a:chOff x="838080" y="2660760"/>
              <a:chExt cx="1219320" cy="453960"/>
            </a:xfrm>
          </p:grpSpPr>
          <p:sp>
            <p:nvSpPr>
              <p:cNvPr id="175" name="AutoShape 38"/>
              <p:cNvSpPr/>
              <p:nvPr/>
            </p:nvSpPr>
            <p:spPr>
              <a:xfrm>
                <a:off x="838080" y="2660760"/>
                <a:ext cx="609840" cy="453960"/>
              </a:xfrm>
              <a:prstGeom prst="hexagon">
                <a:avLst>
                  <a:gd name="adj" fmla="val 33584"/>
                  <a:gd name="vf" fmla="val 115470"/>
                </a:avLst>
              </a:prstGeom>
              <a:solidFill>
                <a:srgbClr val="000f40"/>
              </a:soli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w6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AutoShape 39"/>
              <p:cNvSpPr/>
              <p:nvPr/>
            </p:nvSpPr>
            <p:spPr>
              <a:xfrm>
                <a:off x="1447920" y="2660760"/>
                <a:ext cx="609480" cy="453960"/>
              </a:xfrm>
              <a:prstGeom prst="hexagon">
                <a:avLst>
                  <a:gd name="adj" fmla="val 33565"/>
                  <a:gd name="vf" fmla="val 115470"/>
                </a:avLst>
              </a:prstGeom>
              <a:solidFill>
                <a:srgbClr val="000f40"/>
              </a:soli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w7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7" name="Text Box 40"/>
            <p:cNvSpPr/>
            <p:nvPr/>
          </p:nvSpPr>
          <p:spPr>
            <a:xfrm>
              <a:off x="367200" y="2703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8" name="Group 41"/>
          <p:cNvGrpSpPr/>
          <p:nvPr/>
        </p:nvGrpSpPr>
        <p:grpSpPr>
          <a:xfrm>
            <a:off x="154080" y="1805040"/>
            <a:ext cx="8810640" cy="549720"/>
            <a:chOff x="154080" y="1805040"/>
            <a:chExt cx="8810640" cy="549720"/>
          </a:xfrm>
        </p:grpSpPr>
        <p:sp>
          <p:nvSpPr>
            <p:cNvPr id="179" name="Text Box 42"/>
            <p:cNvSpPr/>
            <p:nvPr/>
          </p:nvSpPr>
          <p:spPr>
            <a:xfrm>
              <a:off x="154080" y="1895040"/>
              <a:ext cx="56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Freeform 43"/>
            <p:cNvSpPr/>
            <p:nvPr/>
          </p:nvSpPr>
          <p:spPr>
            <a:xfrm>
              <a:off x="523800" y="1805040"/>
              <a:ext cx="8440920" cy="461880"/>
            </a:xfrm>
            <a:custGeom>
              <a:avLst/>
              <a:gdLst>
                <a:gd name="textAreaLeft" fmla="*/ 0 w 8440920"/>
                <a:gd name="textAreaRight" fmla="*/ 8441280 w 844092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5317" h="293">
                  <a:moveTo>
                    <a:pt x="0" y="293"/>
                  </a:moveTo>
                  <a:lnTo>
                    <a:pt x="1644" y="293"/>
                  </a:lnTo>
                  <a:lnTo>
                    <a:pt x="1644" y="10"/>
                  </a:lnTo>
                  <a:lnTo>
                    <a:pt x="1734" y="10"/>
                  </a:lnTo>
                  <a:lnTo>
                    <a:pt x="1734" y="292"/>
                  </a:lnTo>
                  <a:lnTo>
                    <a:pt x="5118" y="293"/>
                  </a:lnTo>
                  <a:lnTo>
                    <a:pt x="5118" y="0"/>
                  </a:lnTo>
                  <a:lnTo>
                    <a:pt x="5194" y="0"/>
                  </a:lnTo>
                  <a:lnTo>
                    <a:pt x="5194" y="293"/>
                  </a:lnTo>
                  <a:lnTo>
                    <a:pt x="5317" y="293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Definition: Bit and Word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grpSp>
        <p:nvGrpSpPr>
          <p:cNvPr id="182" name="Group 3"/>
          <p:cNvGrpSpPr/>
          <p:nvPr/>
        </p:nvGrpSpPr>
        <p:grpSpPr>
          <a:xfrm>
            <a:off x="44640" y="1447920"/>
            <a:ext cx="9060840" cy="515520"/>
            <a:chOff x="44640" y="1447920"/>
            <a:chExt cx="9060840" cy="515520"/>
          </a:xfrm>
        </p:grpSpPr>
        <p:grpSp>
          <p:nvGrpSpPr>
            <p:cNvPr id="183" name="Group 4"/>
            <p:cNvGrpSpPr/>
            <p:nvPr/>
          </p:nvGrpSpPr>
          <p:grpSpPr>
            <a:xfrm>
              <a:off x="571320" y="1447920"/>
              <a:ext cx="8534160" cy="457200"/>
              <a:chOff x="571320" y="1447920"/>
              <a:chExt cx="8534160" cy="457200"/>
            </a:xfrm>
          </p:grpSpPr>
          <p:sp>
            <p:nvSpPr>
              <p:cNvPr id="184" name="Line 5"/>
              <p:cNvSpPr/>
              <p:nvPr/>
            </p:nvSpPr>
            <p:spPr>
              <a:xfrm>
                <a:off x="875880" y="1447920"/>
                <a:ext cx="3049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Line 6"/>
              <p:cNvSpPr/>
              <p:nvPr/>
            </p:nvSpPr>
            <p:spPr>
              <a:xfrm>
                <a:off x="1180800" y="1447920"/>
                <a:ext cx="0" cy="457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Line 7"/>
              <p:cNvSpPr/>
              <p:nvPr/>
            </p:nvSpPr>
            <p:spPr>
              <a:xfrm>
                <a:off x="1180800" y="1905120"/>
                <a:ext cx="3049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Line 8"/>
              <p:cNvSpPr/>
              <p:nvPr/>
            </p:nvSpPr>
            <p:spPr>
              <a:xfrm>
                <a:off x="1485720" y="1447920"/>
                <a:ext cx="0" cy="457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Line 9"/>
              <p:cNvSpPr/>
              <p:nvPr/>
            </p:nvSpPr>
            <p:spPr>
              <a:xfrm>
                <a:off x="1485720" y="1447920"/>
                <a:ext cx="30456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Line 10"/>
              <p:cNvSpPr/>
              <p:nvPr/>
            </p:nvSpPr>
            <p:spPr>
              <a:xfrm>
                <a:off x="1790280" y="1447920"/>
                <a:ext cx="0" cy="457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Line 11"/>
              <p:cNvSpPr/>
              <p:nvPr/>
            </p:nvSpPr>
            <p:spPr>
              <a:xfrm>
                <a:off x="1790280" y="1905120"/>
                <a:ext cx="3049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Line 12"/>
              <p:cNvSpPr/>
              <p:nvPr/>
            </p:nvSpPr>
            <p:spPr>
              <a:xfrm>
                <a:off x="2095200" y="1447920"/>
                <a:ext cx="0" cy="457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92" name="Group 13"/>
              <p:cNvGrpSpPr/>
              <p:nvPr/>
            </p:nvGrpSpPr>
            <p:grpSpPr>
              <a:xfrm>
                <a:off x="2095200" y="1447920"/>
                <a:ext cx="609480" cy="457200"/>
                <a:chOff x="2095200" y="1447920"/>
                <a:chExt cx="609480" cy="457200"/>
              </a:xfrm>
            </p:grpSpPr>
            <p:sp>
              <p:nvSpPr>
                <p:cNvPr id="193" name="Line 14"/>
                <p:cNvSpPr/>
                <p:nvPr/>
              </p:nvSpPr>
              <p:spPr>
                <a:xfrm>
                  <a:off x="2095200" y="1447920"/>
                  <a:ext cx="30492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Line 15"/>
                <p:cNvSpPr/>
                <p:nvPr/>
              </p:nvSpPr>
              <p:spPr>
                <a:xfrm>
                  <a:off x="2400120" y="144792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Line 16"/>
                <p:cNvSpPr/>
                <p:nvPr/>
              </p:nvSpPr>
              <p:spPr>
                <a:xfrm>
                  <a:off x="2400120" y="1905120"/>
                  <a:ext cx="30456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Line 17"/>
                <p:cNvSpPr/>
                <p:nvPr/>
              </p:nvSpPr>
              <p:spPr>
                <a:xfrm>
                  <a:off x="2704680" y="144792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Line 18"/>
              <p:cNvSpPr/>
              <p:nvPr/>
            </p:nvSpPr>
            <p:spPr>
              <a:xfrm>
                <a:off x="2704680" y="1447920"/>
                <a:ext cx="3049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Line 19"/>
              <p:cNvSpPr/>
              <p:nvPr/>
            </p:nvSpPr>
            <p:spPr>
              <a:xfrm>
                <a:off x="3009600" y="1447920"/>
                <a:ext cx="0" cy="457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Line 20"/>
              <p:cNvSpPr/>
              <p:nvPr/>
            </p:nvSpPr>
            <p:spPr>
              <a:xfrm>
                <a:off x="3009600" y="1905120"/>
                <a:ext cx="3049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Line 21"/>
              <p:cNvSpPr/>
              <p:nvPr/>
            </p:nvSpPr>
            <p:spPr>
              <a:xfrm>
                <a:off x="3314520" y="1447920"/>
                <a:ext cx="0" cy="457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01" name="Group 22"/>
              <p:cNvGrpSpPr/>
              <p:nvPr/>
            </p:nvGrpSpPr>
            <p:grpSpPr>
              <a:xfrm>
                <a:off x="3314520" y="1447920"/>
                <a:ext cx="609480" cy="457200"/>
                <a:chOff x="3314520" y="1447920"/>
                <a:chExt cx="609480" cy="457200"/>
              </a:xfrm>
            </p:grpSpPr>
            <p:sp>
              <p:nvSpPr>
                <p:cNvPr id="202" name="Line 23"/>
                <p:cNvSpPr/>
                <p:nvPr/>
              </p:nvSpPr>
              <p:spPr>
                <a:xfrm>
                  <a:off x="3314520" y="1447920"/>
                  <a:ext cx="30492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Line 24"/>
                <p:cNvSpPr/>
                <p:nvPr/>
              </p:nvSpPr>
              <p:spPr>
                <a:xfrm>
                  <a:off x="3619440" y="144792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Line 25"/>
                <p:cNvSpPr/>
                <p:nvPr/>
              </p:nvSpPr>
              <p:spPr>
                <a:xfrm>
                  <a:off x="3619440" y="1905120"/>
                  <a:ext cx="30456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Line 26"/>
                <p:cNvSpPr/>
                <p:nvPr/>
              </p:nvSpPr>
              <p:spPr>
                <a:xfrm>
                  <a:off x="3924000" y="144792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" name="Group 27"/>
              <p:cNvGrpSpPr/>
              <p:nvPr/>
            </p:nvGrpSpPr>
            <p:grpSpPr>
              <a:xfrm>
                <a:off x="3924000" y="1447920"/>
                <a:ext cx="609480" cy="457200"/>
                <a:chOff x="3924000" y="1447920"/>
                <a:chExt cx="609480" cy="457200"/>
              </a:xfrm>
            </p:grpSpPr>
            <p:sp>
              <p:nvSpPr>
                <p:cNvPr id="207" name="Line 28"/>
                <p:cNvSpPr/>
                <p:nvPr/>
              </p:nvSpPr>
              <p:spPr>
                <a:xfrm>
                  <a:off x="3924000" y="1447920"/>
                  <a:ext cx="30492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Line 29"/>
                <p:cNvSpPr/>
                <p:nvPr/>
              </p:nvSpPr>
              <p:spPr>
                <a:xfrm>
                  <a:off x="4228920" y="144792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Line 30"/>
                <p:cNvSpPr/>
                <p:nvPr/>
              </p:nvSpPr>
              <p:spPr>
                <a:xfrm>
                  <a:off x="4228920" y="1905120"/>
                  <a:ext cx="30456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Line 31"/>
                <p:cNvSpPr/>
                <p:nvPr/>
              </p:nvSpPr>
              <p:spPr>
                <a:xfrm>
                  <a:off x="4533480" y="144792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Group 32"/>
              <p:cNvGrpSpPr/>
              <p:nvPr/>
            </p:nvGrpSpPr>
            <p:grpSpPr>
              <a:xfrm>
                <a:off x="4533480" y="1447920"/>
                <a:ext cx="609480" cy="457200"/>
                <a:chOff x="4533480" y="1447920"/>
                <a:chExt cx="609480" cy="457200"/>
              </a:xfrm>
            </p:grpSpPr>
            <p:sp>
              <p:nvSpPr>
                <p:cNvPr id="212" name="Line 33"/>
                <p:cNvSpPr/>
                <p:nvPr/>
              </p:nvSpPr>
              <p:spPr>
                <a:xfrm>
                  <a:off x="4533480" y="1447920"/>
                  <a:ext cx="30492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Line 34"/>
                <p:cNvSpPr/>
                <p:nvPr/>
              </p:nvSpPr>
              <p:spPr>
                <a:xfrm>
                  <a:off x="4838400" y="144792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Line 35"/>
                <p:cNvSpPr/>
                <p:nvPr/>
              </p:nvSpPr>
              <p:spPr>
                <a:xfrm>
                  <a:off x="4838400" y="1905120"/>
                  <a:ext cx="30456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Line 36"/>
                <p:cNvSpPr/>
                <p:nvPr/>
              </p:nvSpPr>
              <p:spPr>
                <a:xfrm>
                  <a:off x="5142960" y="144792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Group 37"/>
              <p:cNvGrpSpPr/>
              <p:nvPr/>
            </p:nvGrpSpPr>
            <p:grpSpPr>
              <a:xfrm>
                <a:off x="5143320" y="1447920"/>
                <a:ext cx="609480" cy="457200"/>
                <a:chOff x="5143320" y="1447920"/>
                <a:chExt cx="609480" cy="457200"/>
              </a:xfrm>
            </p:grpSpPr>
            <p:sp>
              <p:nvSpPr>
                <p:cNvPr id="217" name="Line 38"/>
                <p:cNvSpPr/>
                <p:nvPr/>
              </p:nvSpPr>
              <p:spPr>
                <a:xfrm>
                  <a:off x="5143320" y="1447920"/>
                  <a:ext cx="30492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Line 39"/>
                <p:cNvSpPr/>
                <p:nvPr/>
              </p:nvSpPr>
              <p:spPr>
                <a:xfrm>
                  <a:off x="5448240" y="144792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Line 40"/>
                <p:cNvSpPr/>
                <p:nvPr/>
              </p:nvSpPr>
              <p:spPr>
                <a:xfrm>
                  <a:off x="5448240" y="1905120"/>
                  <a:ext cx="30456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Line 41"/>
                <p:cNvSpPr/>
                <p:nvPr/>
              </p:nvSpPr>
              <p:spPr>
                <a:xfrm>
                  <a:off x="5752800" y="144792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" name="Group 42"/>
              <p:cNvGrpSpPr/>
              <p:nvPr/>
            </p:nvGrpSpPr>
            <p:grpSpPr>
              <a:xfrm>
                <a:off x="5752800" y="1447920"/>
                <a:ext cx="609480" cy="457200"/>
                <a:chOff x="5752800" y="1447920"/>
                <a:chExt cx="609480" cy="457200"/>
              </a:xfrm>
            </p:grpSpPr>
            <p:sp>
              <p:nvSpPr>
                <p:cNvPr id="222" name="Line 43"/>
                <p:cNvSpPr/>
                <p:nvPr/>
              </p:nvSpPr>
              <p:spPr>
                <a:xfrm>
                  <a:off x="5752800" y="1447920"/>
                  <a:ext cx="30492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Line 44"/>
                <p:cNvSpPr/>
                <p:nvPr/>
              </p:nvSpPr>
              <p:spPr>
                <a:xfrm>
                  <a:off x="6057720" y="144792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Line 45"/>
                <p:cNvSpPr/>
                <p:nvPr/>
              </p:nvSpPr>
              <p:spPr>
                <a:xfrm>
                  <a:off x="6057720" y="1905120"/>
                  <a:ext cx="30456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Line 46"/>
                <p:cNvSpPr/>
                <p:nvPr/>
              </p:nvSpPr>
              <p:spPr>
                <a:xfrm>
                  <a:off x="6362280" y="144792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" name="Group 47"/>
              <p:cNvGrpSpPr/>
              <p:nvPr/>
            </p:nvGrpSpPr>
            <p:grpSpPr>
              <a:xfrm>
                <a:off x="6362280" y="1447920"/>
                <a:ext cx="609480" cy="457200"/>
                <a:chOff x="6362280" y="1447920"/>
                <a:chExt cx="609480" cy="457200"/>
              </a:xfrm>
            </p:grpSpPr>
            <p:sp>
              <p:nvSpPr>
                <p:cNvPr id="227" name="Line 48"/>
                <p:cNvSpPr/>
                <p:nvPr/>
              </p:nvSpPr>
              <p:spPr>
                <a:xfrm>
                  <a:off x="6362280" y="1447920"/>
                  <a:ext cx="30492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Line 49"/>
                <p:cNvSpPr/>
                <p:nvPr/>
              </p:nvSpPr>
              <p:spPr>
                <a:xfrm>
                  <a:off x="6667200" y="144792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Line 50"/>
                <p:cNvSpPr/>
                <p:nvPr/>
              </p:nvSpPr>
              <p:spPr>
                <a:xfrm>
                  <a:off x="6667200" y="1905120"/>
                  <a:ext cx="30456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Line 51"/>
                <p:cNvSpPr/>
                <p:nvPr/>
              </p:nvSpPr>
              <p:spPr>
                <a:xfrm>
                  <a:off x="6971760" y="144792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Group 52"/>
              <p:cNvGrpSpPr/>
              <p:nvPr/>
            </p:nvGrpSpPr>
            <p:grpSpPr>
              <a:xfrm>
                <a:off x="6972120" y="1447920"/>
                <a:ext cx="609480" cy="457200"/>
                <a:chOff x="6972120" y="1447920"/>
                <a:chExt cx="609480" cy="457200"/>
              </a:xfrm>
            </p:grpSpPr>
            <p:sp>
              <p:nvSpPr>
                <p:cNvPr id="232" name="Line 53"/>
                <p:cNvSpPr/>
                <p:nvPr/>
              </p:nvSpPr>
              <p:spPr>
                <a:xfrm>
                  <a:off x="6972120" y="1447920"/>
                  <a:ext cx="30492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Line 54"/>
                <p:cNvSpPr/>
                <p:nvPr/>
              </p:nvSpPr>
              <p:spPr>
                <a:xfrm>
                  <a:off x="7277040" y="144792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Line 55"/>
                <p:cNvSpPr/>
                <p:nvPr/>
              </p:nvSpPr>
              <p:spPr>
                <a:xfrm>
                  <a:off x="7277040" y="1905120"/>
                  <a:ext cx="30456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Line 56"/>
                <p:cNvSpPr/>
                <p:nvPr/>
              </p:nvSpPr>
              <p:spPr>
                <a:xfrm>
                  <a:off x="7581600" y="144792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Group 57"/>
              <p:cNvGrpSpPr/>
              <p:nvPr/>
            </p:nvGrpSpPr>
            <p:grpSpPr>
              <a:xfrm>
                <a:off x="7581600" y="1447920"/>
                <a:ext cx="609480" cy="457200"/>
                <a:chOff x="7581600" y="1447920"/>
                <a:chExt cx="609480" cy="457200"/>
              </a:xfrm>
            </p:grpSpPr>
            <p:sp>
              <p:nvSpPr>
                <p:cNvPr id="237" name="Line 58"/>
                <p:cNvSpPr/>
                <p:nvPr/>
              </p:nvSpPr>
              <p:spPr>
                <a:xfrm>
                  <a:off x="7581600" y="1447920"/>
                  <a:ext cx="30492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Line 59"/>
                <p:cNvSpPr/>
                <p:nvPr/>
              </p:nvSpPr>
              <p:spPr>
                <a:xfrm>
                  <a:off x="7886520" y="144792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Line 60"/>
                <p:cNvSpPr/>
                <p:nvPr/>
              </p:nvSpPr>
              <p:spPr>
                <a:xfrm>
                  <a:off x="7886520" y="1905120"/>
                  <a:ext cx="30456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Line 61"/>
                <p:cNvSpPr/>
                <p:nvPr/>
              </p:nvSpPr>
              <p:spPr>
                <a:xfrm>
                  <a:off x="8191080" y="144792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1" name="Line 62"/>
              <p:cNvSpPr/>
              <p:nvPr/>
            </p:nvSpPr>
            <p:spPr>
              <a:xfrm>
                <a:off x="8191080" y="1447920"/>
                <a:ext cx="3049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Line 63"/>
              <p:cNvSpPr/>
              <p:nvPr/>
            </p:nvSpPr>
            <p:spPr>
              <a:xfrm>
                <a:off x="8496000" y="1447920"/>
                <a:ext cx="0" cy="457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Line 64"/>
              <p:cNvSpPr/>
              <p:nvPr/>
            </p:nvSpPr>
            <p:spPr>
              <a:xfrm>
                <a:off x="8496000" y="1905120"/>
                <a:ext cx="3049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Line 65"/>
              <p:cNvSpPr/>
              <p:nvPr/>
            </p:nvSpPr>
            <p:spPr>
              <a:xfrm>
                <a:off x="875880" y="1447920"/>
                <a:ext cx="0" cy="457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Line 66"/>
              <p:cNvSpPr/>
              <p:nvPr/>
            </p:nvSpPr>
            <p:spPr>
              <a:xfrm>
                <a:off x="571320" y="1905120"/>
                <a:ext cx="30456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Line 67"/>
              <p:cNvSpPr/>
              <p:nvPr/>
            </p:nvSpPr>
            <p:spPr>
              <a:xfrm>
                <a:off x="8800920" y="1447920"/>
                <a:ext cx="0" cy="457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Line 68"/>
              <p:cNvSpPr/>
              <p:nvPr/>
            </p:nvSpPr>
            <p:spPr>
              <a:xfrm>
                <a:off x="8800920" y="1447920"/>
                <a:ext cx="30456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8" name="Text Box 69"/>
            <p:cNvSpPr/>
            <p:nvPr/>
          </p:nvSpPr>
          <p:spPr>
            <a:xfrm>
              <a:off x="44640" y="1503720"/>
              <a:ext cx="77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K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9" name="Group 70"/>
          <p:cNvGrpSpPr/>
          <p:nvPr/>
        </p:nvGrpSpPr>
        <p:grpSpPr>
          <a:xfrm>
            <a:off x="876240" y="1981080"/>
            <a:ext cx="7924680" cy="2286000"/>
            <a:chOff x="876240" y="1981080"/>
            <a:chExt cx="7924680" cy="2286000"/>
          </a:xfrm>
        </p:grpSpPr>
        <p:sp>
          <p:nvSpPr>
            <p:cNvPr id="250" name="Line 71"/>
            <p:cNvSpPr/>
            <p:nvPr/>
          </p:nvSpPr>
          <p:spPr>
            <a:xfrm>
              <a:off x="876240" y="1981080"/>
              <a:ext cx="0" cy="228600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Line 72"/>
            <p:cNvSpPr/>
            <p:nvPr/>
          </p:nvSpPr>
          <p:spPr>
            <a:xfrm>
              <a:off x="1485720" y="1981080"/>
              <a:ext cx="0" cy="228600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Line 73"/>
            <p:cNvSpPr/>
            <p:nvPr/>
          </p:nvSpPr>
          <p:spPr>
            <a:xfrm>
              <a:off x="2095200" y="1981080"/>
              <a:ext cx="0" cy="228600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Line 74"/>
            <p:cNvSpPr/>
            <p:nvPr/>
          </p:nvSpPr>
          <p:spPr>
            <a:xfrm>
              <a:off x="2705040" y="1981080"/>
              <a:ext cx="0" cy="228600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Line 75"/>
            <p:cNvSpPr/>
            <p:nvPr/>
          </p:nvSpPr>
          <p:spPr>
            <a:xfrm>
              <a:off x="3314520" y="1981080"/>
              <a:ext cx="0" cy="228600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5" name="Group 76"/>
            <p:cNvGrpSpPr/>
            <p:nvPr/>
          </p:nvGrpSpPr>
          <p:grpSpPr>
            <a:xfrm>
              <a:off x="3924000" y="1981080"/>
              <a:ext cx="3657600" cy="1752480"/>
              <a:chOff x="3924000" y="1981080"/>
              <a:chExt cx="3657600" cy="1752480"/>
            </a:xfrm>
          </p:grpSpPr>
          <p:sp>
            <p:nvSpPr>
              <p:cNvPr id="256" name="Line 77"/>
              <p:cNvSpPr/>
              <p:nvPr/>
            </p:nvSpPr>
            <p:spPr>
              <a:xfrm>
                <a:off x="3924000" y="1981080"/>
                <a:ext cx="0" cy="1752480"/>
              </a:xfrm>
              <a:prstGeom prst="line">
                <a:avLst/>
              </a:prstGeom>
              <a:ln cap="rnd" w="324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Line 78"/>
              <p:cNvSpPr/>
              <p:nvPr/>
            </p:nvSpPr>
            <p:spPr>
              <a:xfrm>
                <a:off x="4533480" y="1981080"/>
                <a:ext cx="0" cy="1752480"/>
              </a:xfrm>
              <a:prstGeom prst="line">
                <a:avLst/>
              </a:prstGeom>
              <a:ln cap="rnd" w="324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Line 79"/>
              <p:cNvSpPr/>
              <p:nvPr/>
            </p:nvSpPr>
            <p:spPr>
              <a:xfrm>
                <a:off x="5143320" y="1981080"/>
                <a:ext cx="0" cy="1752480"/>
              </a:xfrm>
              <a:prstGeom prst="line">
                <a:avLst/>
              </a:prstGeom>
              <a:ln cap="rnd" w="324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Line 80"/>
              <p:cNvSpPr/>
              <p:nvPr/>
            </p:nvSpPr>
            <p:spPr>
              <a:xfrm>
                <a:off x="5752800" y="1981080"/>
                <a:ext cx="0" cy="1752480"/>
              </a:xfrm>
              <a:prstGeom prst="line">
                <a:avLst/>
              </a:prstGeom>
              <a:ln cap="rnd" w="324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Line 81"/>
              <p:cNvSpPr/>
              <p:nvPr/>
            </p:nvSpPr>
            <p:spPr>
              <a:xfrm>
                <a:off x="6362280" y="1981080"/>
                <a:ext cx="0" cy="1752480"/>
              </a:xfrm>
              <a:prstGeom prst="line">
                <a:avLst/>
              </a:prstGeom>
              <a:ln cap="rnd" w="324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Line 82"/>
              <p:cNvSpPr/>
              <p:nvPr/>
            </p:nvSpPr>
            <p:spPr>
              <a:xfrm>
                <a:off x="6972120" y="1981080"/>
                <a:ext cx="0" cy="1752480"/>
              </a:xfrm>
              <a:prstGeom prst="line">
                <a:avLst/>
              </a:prstGeom>
              <a:ln cap="rnd" w="324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Line 83"/>
              <p:cNvSpPr/>
              <p:nvPr/>
            </p:nvSpPr>
            <p:spPr>
              <a:xfrm>
                <a:off x="7581600" y="1981080"/>
                <a:ext cx="0" cy="1752480"/>
              </a:xfrm>
              <a:prstGeom prst="line">
                <a:avLst/>
              </a:prstGeom>
              <a:ln cap="rnd" w="324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3" name="Line 84"/>
            <p:cNvSpPr/>
            <p:nvPr/>
          </p:nvSpPr>
          <p:spPr>
            <a:xfrm>
              <a:off x="8191440" y="1981080"/>
              <a:ext cx="0" cy="228600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Line 85"/>
            <p:cNvSpPr/>
            <p:nvPr/>
          </p:nvSpPr>
          <p:spPr>
            <a:xfrm>
              <a:off x="8800920" y="1981080"/>
              <a:ext cx="0" cy="228600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5" name="Group 86"/>
          <p:cNvGrpSpPr/>
          <p:nvPr/>
        </p:nvGrpSpPr>
        <p:grpSpPr>
          <a:xfrm>
            <a:off x="192240" y="2209680"/>
            <a:ext cx="8913240" cy="1947240"/>
            <a:chOff x="192240" y="2209680"/>
            <a:chExt cx="8913240" cy="1947240"/>
          </a:xfrm>
        </p:grpSpPr>
        <p:grpSp>
          <p:nvGrpSpPr>
            <p:cNvPr id="266" name="Group 87"/>
            <p:cNvGrpSpPr/>
            <p:nvPr/>
          </p:nvGrpSpPr>
          <p:grpSpPr>
            <a:xfrm>
              <a:off x="3314520" y="3047760"/>
              <a:ext cx="4876920" cy="1109160"/>
              <a:chOff x="3314520" y="3047760"/>
              <a:chExt cx="4876920" cy="1109160"/>
            </a:xfrm>
          </p:grpSpPr>
          <p:grpSp>
            <p:nvGrpSpPr>
              <p:cNvPr id="267" name="Group 88"/>
              <p:cNvGrpSpPr/>
              <p:nvPr/>
            </p:nvGrpSpPr>
            <p:grpSpPr>
              <a:xfrm>
                <a:off x="3314520" y="3047760"/>
                <a:ext cx="4876920" cy="457200"/>
                <a:chOff x="3314520" y="3047760"/>
                <a:chExt cx="4876920" cy="457200"/>
              </a:xfrm>
            </p:grpSpPr>
            <p:sp>
              <p:nvSpPr>
                <p:cNvPr id="268" name="AutoShape 89"/>
                <p:cNvSpPr/>
                <p:nvPr/>
              </p:nvSpPr>
              <p:spPr>
                <a:xfrm>
                  <a:off x="3314520" y="3047760"/>
                  <a:ext cx="609480" cy="457200"/>
                </a:xfrm>
                <a:prstGeom prst="hexagon">
                  <a:avLst>
                    <a:gd name="adj" fmla="val 33327"/>
                    <a:gd name="vf" fmla="val 115470"/>
                  </a:avLst>
                </a:prstGeom>
                <a:solidFill>
                  <a:srgbClr val="000f40"/>
                </a:solidFill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b7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AutoShape 90"/>
                <p:cNvSpPr/>
                <p:nvPr/>
              </p:nvSpPr>
              <p:spPr>
                <a:xfrm>
                  <a:off x="3924000" y="3047760"/>
                  <a:ext cx="609840" cy="457200"/>
                </a:xfrm>
                <a:prstGeom prst="hexagon">
                  <a:avLst>
                    <a:gd name="adj" fmla="val 33346"/>
                    <a:gd name="vf" fmla="val 115470"/>
                  </a:avLst>
                </a:prstGeom>
                <a:solidFill>
                  <a:srgbClr val="000f40"/>
                </a:solidFill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b6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AutoShape 91"/>
                <p:cNvSpPr/>
                <p:nvPr/>
              </p:nvSpPr>
              <p:spPr>
                <a:xfrm>
                  <a:off x="4533840" y="3047760"/>
                  <a:ext cx="609480" cy="457200"/>
                </a:xfrm>
                <a:prstGeom prst="hexagon">
                  <a:avLst>
                    <a:gd name="adj" fmla="val 33327"/>
                    <a:gd name="vf" fmla="val 115470"/>
                  </a:avLst>
                </a:prstGeom>
                <a:solidFill>
                  <a:srgbClr val="000f40"/>
                </a:solidFill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b5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AutoShape 92"/>
                <p:cNvSpPr/>
                <p:nvPr/>
              </p:nvSpPr>
              <p:spPr>
                <a:xfrm>
                  <a:off x="5143320" y="3047760"/>
                  <a:ext cx="609480" cy="457200"/>
                </a:xfrm>
                <a:prstGeom prst="hexagon">
                  <a:avLst>
                    <a:gd name="adj" fmla="val 33327"/>
                    <a:gd name="vf" fmla="val 115470"/>
                  </a:avLst>
                </a:prstGeom>
                <a:solidFill>
                  <a:srgbClr val="000f40"/>
                </a:solidFill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b4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AutoShape 93"/>
                <p:cNvSpPr/>
                <p:nvPr/>
              </p:nvSpPr>
              <p:spPr>
                <a:xfrm>
                  <a:off x="5752800" y="3047760"/>
                  <a:ext cx="609840" cy="457200"/>
                </a:xfrm>
                <a:prstGeom prst="hexagon">
                  <a:avLst>
                    <a:gd name="adj" fmla="val 33346"/>
                    <a:gd name="vf" fmla="val 115470"/>
                  </a:avLst>
                </a:prstGeom>
                <a:solidFill>
                  <a:srgbClr val="000f40"/>
                </a:solidFill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b3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AutoShape 94"/>
                <p:cNvSpPr/>
                <p:nvPr/>
              </p:nvSpPr>
              <p:spPr>
                <a:xfrm>
                  <a:off x="6362640" y="3047760"/>
                  <a:ext cx="609480" cy="457200"/>
                </a:xfrm>
                <a:prstGeom prst="hexagon">
                  <a:avLst>
                    <a:gd name="adj" fmla="val 33327"/>
                    <a:gd name="vf" fmla="val 115470"/>
                  </a:avLst>
                </a:prstGeom>
                <a:solidFill>
                  <a:srgbClr val="000f40"/>
                </a:solidFill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b2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AutoShape 95"/>
                <p:cNvSpPr/>
                <p:nvPr/>
              </p:nvSpPr>
              <p:spPr>
                <a:xfrm>
                  <a:off x="6972120" y="3047760"/>
                  <a:ext cx="609480" cy="457200"/>
                </a:xfrm>
                <a:prstGeom prst="hexagon">
                  <a:avLst>
                    <a:gd name="adj" fmla="val 33327"/>
                    <a:gd name="vf" fmla="val 115470"/>
                  </a:avLst>
                </a:prstGeom>
                <a:solidFill>
                  <a:srgbClr val="000f40"/>
                </a:solidFill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b1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AutoShape 96"/>
                <p:cNvSpPr/>
                <p:nvPr/>
              </p:nvSpPr>
              <p:spPr>
                <a:xfrm>
                  <a:off x="7581600" y="3047760"/>
                  <a:ext cx="609840" cy="457200"/>
                </a:xfrm>
                <a:prstGeom prst="hexagon">
                  <a:avLst>
                    <a:gd name="adj" fmla="val 33346"/>
                    <a:gd name="vf" fmla="val 115470"/>
                  </a:avLst>
                </a:prstGeom>
                <a:solidFill>
                  <a:srgbClr val="000f40"/>
                </a:solidFill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b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Group 97"/>
              <p:cNvGrpSpPr/>
              <p:nvPr/>
            </p:nvGrpSpPr>
            <p:grpSpPr>
              <a:xfrm>
                <a:off x="3314520" y="3697200"/>
                <a:ext cx="4876920" cy="459720"/>
                <a:chOff x="3314520" y="3697200"/>
                <a:chExt cx="4876920" cy="459720"/>
              </a:xfrm>
            </p:grpSpPr>
            <p:sp>
              <p:nvSpPr>
                <p:cNvPr id="277" name="Text Box 98"/>
                <p:cNvSpPr/>
                <p:nvPr/>
              </p:nvSpPr>
              <p:spPr>
                <a:xfrm>
                  <a:off x="5301360" y="3697200"/>
                  <a:ext cx="909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Word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99"/>
                <p:cNvSpPr/>
                <p:nvPr/>
              </p:nvSpPr>
              <p:spPr>
                <a:xfrm>
                  <a:off x="6286320" y="3862080"/>
                  <a:ext cx="1905120" cy="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100"/>
                <p:cNvSpPr/>
                <p:nvPr/>
              </p:nvSpPr>
              <p:spPr>
                <a:xfrm flipH="1">
                  <a:off x="3314520" y="3862080"/>
                  <a:ext cx="1905120" cy="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0" name="Group 101"/>
            <p:cNvGrpSpPr/>
            <p:nvPr/>
          </p:nvGrpSpPr>
          <p:grpSpPr>
            <a:xfrm>
              <a:off x="192240" y="2209680"/>
              <a:ext cx="8913240" cy="528120"/>
              <a:chOff x="192240" y="2209680"/>
              <a:chExt cx="8913240" cy="528120"/>
            </a:xfrm>
          </p:grpSpPr>
          <p:grpSp>
            <p:nvGrpSpPr>
              <p:cNvPr id="281" name="Group 102"/>
              <p:cNvGrpSpPr/>
              <p:nvPr/>
            </p:nvGrpSpPr>
            <p:grpSpPr>
              <a:xfrm>
                <a:off x="571320" y="2209680"/>
                <a:ext cx="8534160" cy="457200"/>
                <a:chOff x="571320" y="2209680"/>
                <a:chExt cx="8534160" cy="457200"/>
              </a:xfrm>
            </p:grpSpPr>
            <p:sp>
              <p:nvSpPr>
                <p:cNvPr id="282" name="Line 103"/>
                <p:cNvSpPr/>
                <p:nvPr/>
              </p:nvSpPr>
              <p:spPr>
                <a:xfrm>
                  <a:off x="2704680" y="220968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Line 104"/>
                <p:cNvSpPr/>
                <p:nvPr/>
              </p:nvSpPr>
              <p:spPr>
                <a:xfrm>
                  <a:off x="3314520" y="220968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Line 105"/>
                <p:cNvSpPr/>
                <p:nvPr/>
              </p:nvSpPr>
              <p:spPr>
                <a:xfrm>
                  <a:off x="2704680" y="2209680"/>
                  <a:ext cx="60984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Line 106"/>
                <p:cNvSpPr/>
                <p:nvPr/>
              </p:nvSpPr>
              <p:spPr>
                <a:xfrm flipH="1">
                  <a:off x="571320" y="2666880"/>
                  <a:ext cx="213336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Line 107"/>
                <p:cNvSpPr/>
                <p:nvPr/>
              </p:nvSpPr>
              <p:spPr>
                <a:xfrm flipH="1">
                  <a:off x="3314520" y="2666880"/>
                  <a:ext cx="54864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Line 108"/>
                <p:cNvSpPr/>
                <p:nvPr/>
              </p:nvSpPr>
              <p:spPr>
                <a:xfrm>
                  <a:off x="8800920" y="220968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Line 109"/>
                <p:cNvSpPr/>
                <p:nvPr/>
              </p:nvSpPr>
              <p:spPr>
                <a:xfrm>
                  <a:off x="8800920" y="2209680"/>
                  <a:ext cx="30456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9" name="Text Box 110"/>
              <p:cNvSpPr/>
              <p:nvPr/>
            </p:nvSpPr>
            <p:spPr>
              <a:xfrm>
                <a:off x="192240" y="2278080"/>
                <a:ext cx="56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F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0" name="Group 111"/>
          <p:cNvGrpSpPr/>
          <p:nvPr/>
        </p:nvGrpSpPr>
        <p:grpSpPr>
          <a:xfrm>
            <a:off x="405360" y="3048120"/>
            <a:ext cx="1689840" cy="1452960"/>
            <a:chOff x="405360" y="3048120"/>
            <a:chExt cx="1689840" cy="1452960"/>
          </a:xfrm>
        </p:grpSpPr>
        <p:grpSp>
          <p:nvGrpSpPr>
            <p:cNvPr id="291" name="Group 112"/>
            <p:cNvGrpSpPr/>
            <p:nvPr/>
          </p:nvGrpSpPr>
          <p:grpSpPr>
            <a:xfrm>
              <a:off x="876240" y="3048120"/>
              <a:ext cx="1218960" cy="456840"/>
              <a:chOff x="876240" y="3048120"/>
              <a:chExt cx="1218960" cy="456840"/>
            </a:xfrm>
          </p:grpSpPr>
          <p:sp>
            <p:nvSpPr>
              <p:cNvPr id="292" name="AutoShape 113"/>
              <p:cNvSpPr/>
              <p:nvPr/>
            </p:nvSpPr>
            <p:spPr>
              <a:xfrm>
                <a:off x="876240" y="3048120"/>
                <a:ext cx="609480" cy="456840"/>
              </a:xfrm>
              <a:prstGeom prst="hexagon">
                <a:avLst>
                  <a:gd name="adj" fmla="val 33353"/>
                  <a:gd name="vf" fmla="val 115470"/>
                </a:avLst>
              </a:prstGeom>
              <a:solidFill>
                <a:srgbClr val="000f40"/>
              </a:soli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a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AutoShape 114"/>
              <p:cNvSpPr/>
              <p:nvPr/>
            </p:nvSpPr>
            <p:spPr>
              <a:xfrm>
                <a:off x="1485720" y="3048120"/>
                <a:ext cx="609480" cy="456840"/>
              </a:xfrm>
              <a:prstGeom prst="hexagon">
                <a:avLst>
                  <a:gd name="adj" fmla="val 33353"/>
                  <a:gd name="vf" fmla="val 115470"/>
                </a:avLst>
              </a:prstGeom>
              <a:solidFill>
                <a:srgbClr val="000f40"/>
              </a:soli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a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Group 115"/>
            <p:cNvGrpSpPr/>
            <p:nvPr/>
          </p:nvGrpSpPr>
          <p:grpSpPr>
            <a:xfrm>
              <a:off x="1485360" y="3849480"/>
              <a:ext cx="609480" cy="651600"/>
              <a:chOff x="1485360" y="3849480"/>
              <a:chExt cx="609480" cy="651600"/>
            </a:xfrm>
          </p:grpSpPr>
          <p:sp>
            <p:nvSpPr>
              <p:cNvPr id="295" name="Line 116"/>
              <p:cNvSpPr/>
              <p:nvPr/>
            </p:nvSpPr>
            <p:spPr>
              <a:xfrm flipH="1">
                <a:off x="1485360" y="3849480"/>
                <a:ext cx="60948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Text Box 117"/>
              <p:cNvSpPr/>
              <p:nvPr/>
            </p:nvSpPr>
            <p:spPr>
              <a:xfrm>
                <a:off x="1519560" y="4041360"/>
                <a:ext cx="53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Bi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7" name="Text Box 118"/>
            <p:cNvSpPr/>
            <p:nvPr/>
          </p:nvSpPr>
          <p:spPr>
            <a:xfrm>
              <a:off x="405360" y="3090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8" name="Text Box 119"/>
          <p:cNvSpPr/>
          <p:nvPr/>
        </p:nvSpPr>
        <p:spPr>
          <a:xfrm>
            <a:off x="1054080" y="530208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d” or “channel” contains number of bits (8, 12, 16, 20, 24, 3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Text Box 120"/>
          <p:cNvSpPr/>
          <p:nvPr/>
        </p:nvSpPr>
        <p:spPr>
          <a:xfrm>
            <a:off x="1829520" y="4805280"/>
            <a:ext cx="60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t” - one data bit per serial clock perio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0" y="0"/>
            <a:ext cx="9067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PMingLiU"/>
              </a:rPr>
              <a:t>Multi-Channel Selec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1" name="Group 3"/>
          <p:cNvGrpSpPr/>
          <p:nvPr/>
        </p:nvGrpSpPr>
        <p:grpSpPr>
          <a:xfrm>
            <a:off x="7543800" y="609480"/>
            <a:ext cx="1066680" cy="2502000"/>
            <a:chOff x="7543800" y="609480"/>
            <a:chExt cx="1066680" cy="2502000"/>
          </a:xfrm>
        </p:grpSpPr>
        <p:sp>
          <p:nvSpPr>
            <p:cNvPr id="302" name="Rectangle 4"/>
            <p:cNvSpPr/>
            <p:nvPr/>
          </p:nvSpPr>
          <p:spPr>
            <a:xfrm>
              <a:off x="7543800" y="609480"/>
              <a:ext cx="1066680" cy="3366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h0-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Rectangle 5"/>
            <p:cNvSpPr/>
            <p:nvPr/>
          </p:nvSpPr>
          <p:spPr>
            <a:xfrm>
              <a:off x="7543800" y="946080"/>
              <a:ext cx="1066680" cy="33660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h0-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Rectangle 6"/>
            <p:cNvSpPr/>
            <p:nvPr/>
          </p:nvSpPr>
          <p:spPr>
            <a:xfrm>
              <a:off x="7543800" y="1523880"/>
              <a:ext cx="1066680" cy="3366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h5-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Rectangle 7"/>
            <p:cNvSpPr/>
            <p:nvPr/>
          </p:nvSpPr>
          <p:spPr>
            <a:xfrm>
              <a:off x="7543800" y="1860480"/>
              <a:ext cx="1066680" cy="33660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h5-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Rectangle 8"/>
            <p:cNvSpPr/>
            <p:nvPr/>
          </p:nvSpPr>
          <p:spPr>
            <a:xfrm>
              <a:off x="7543800" y="2438280"/>
              <a:ext cx="1066680" cy="3366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h27-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Rectangle 9"/>
            <p:cNvSpPr/>
            <p:nvPr/>
          </p:nvSpPr>
          <p:spPr>
            <a:xfrm>
              <a:off x="7543800" y="2774880"/>
              <a:ext cx="1066680" cy="33660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h27-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8" name="Text Box 10"/>
          <p:cNvSpPr/>
          <p:nvPr/>
        </p:nvSpPr>
        <p:spPr>
          <a:xfrm>
            <a:off x="349920" y="4651200"/>
            <a:ext cx="626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lti-channel mode controlled primarily via two register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9" name="Group 11"/>
          <p:cNvGrpSpPr/>
          <p:nvPr/>
        </p:nvGrpSpPr>
        <p:grpSpPr>
          <a:xfrm>
            <a:off x="1527840" y="5105520"/>
            <a:ext cx="6014880" cy="1015200"/>
            <a:chOff x="1527840" y="5105520"/>
            <a:chExt cx="6014880" cy="1015200"/>
          </a:xfrm>
        </p:grpSpPr>
        <p:sp>
          <p:nvSpPr>
            <p:cNvPr id="310" name="Rectangle 12"/>
            <p:cNvSpPr/>
            <p:nvPr/>
          </p:nvSpPr>
          <p:spPr>
            <a:xfrm>
              <a:off x="1528560" y="5378400"/>
              <a:ext cx="2514600" cy="38124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MC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Text Box 13"/>
            <p:cNvSpPr/>
            <p:nvPr/>
          </p:nvSpPr>
          <p:spPr>
            <a:xfrm>
              <a:off x="1527840" y="5105520"/>
              <a:ext cx="2527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ulti-channel Control Re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Text Box 14"/>
            <p:cNvSpPr/>
            <p:nvPr/>
          </p:nvSpPr>
          <p:spPr>
            <a:xfrm>
              <a:off x="1806480" y="5783400"/>
              <a:ext cx="192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(enables Mc-mode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Rectangle 15"/>
            <p:cNvSpPr/>
            <p:nvPr/>
          </p:nvSpPr>
          <p:spPr>
            <a:xfrm>
              <a:off x="4765680" y="5378400"/>
              <a:ext cx="2514600" cy="38124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R/XCER (A-H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Text Box 16"/>
            <p:cNvSpPr/>
            <p:nvPr/>
          </p:nvSpPr>
          <p:spPr>
            <a:xfrm>
              <a:off x="4551840" y="5110200"/>
              <a:ext cx="299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c/Xmt Channel Enable Reg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Text Box 17"/>
            <p:cNvSpPr/>
            <p:nvPr/>
          </p:nvSpPr>
          <p:spPr>
            <a:xfrm>
              <a:off x="4779720" y="5783400"/>
              <a:ext cx="2495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(enable/disable channels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6" name="Text Box 18"/>
          <p:cNvSpPr/>
          <p:nvPr/>
        </p:nvSpPr>
        <p:spPr>
          <a:xfrm>
            <a:off x="222840" y="6141960"/>
            <a:ext cx="50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p to 128 channels can be enabled/disabl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7" name="Group 19"/>
          <p:cNvGrpSpPr/>
          <p:nvPr/>
        </p:nvGrpSpPr>
        <p:grpSpPr>
          <a:xfrm>
            <a:off x="380880" y="743040"/>
            <a:ext cx="7010640" cy="2076480"/>
            <a:chOff x="380880" y="743040"/>
            <a:chExt cx="7010640" cy="2076480"/>
          </a:xfrm>
        </p:grpSpPr>
        <p:grpSp>
          <p:nvGrpSpPr>
            <p:cNvPr id="318" name="Group 20"/>
            <p:cNvGrpSpPr/>
            <p:nvPr/>
          </p:nvGrpSpPr>
          <p:grpSpPr>
            <a:xfrm>
              <a:off x="380880" y="900000"/>
              <a:ext cx="4648320" cy="1843200"/>
              <a:chOff x="380880" y="900000"/>
              <a:chExt cx="4648320" cy="1843200"/>
            </a:xfrm>
          </p:grpSpPr>
          <p:sp>
            <p:nvSpPr>
              <p:cNvPr id="319" name="Rectangle 21"/>
              <p:cNvSpPr/>
              <p:nvPr/>
            </p:nvSpPr>
            <p:spPr>
              <a:xfrm>
                <a:off x="380880" y="1295280"/>
                <a:ext cx="457200" cy="144792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ourier New"/>
                  </a:rPr>
                  <a:t>C</a:t>
                </a:r>
                <a:br>
                  <a:rPr sz="2000"/>
                </a:br>
                <a:r>
                  <a:rPr b="0" lang="en-US" sz="2000" spc="-1" strike="noStrike">
                    <a:solidFill>
                      <a:srgbClr val="ffffff"/>
                    </a:solidFill>
                    <a:latin typeface="Courier New"/>
                  </a:rPr>
                  <a:t>O</a:t>
                </a:r>
                <a:br>
                  <a:rPr sz="2000"/>
                </a:br>
                <a:r>
                  <a:rPr b="0" lang="en-US" sz="2000" spc="-1" strike="noStrike">
                    <a:solidFill>
                      <a:srgbClr val="ffffff"/>
                    </a:solidFill>
                    <a:latin typeface="Courier New"/>
                  </a:rPr>
                  <a:t>D</a:t>
                </a:r>
                <a:br>
                  <a:rPr sz="2000"/>
                </a:br>
                <a:r>
                  <a:rPr b="0" lang="en-US" sz="2000" spc="-1" strike="noStrike">
                    <a:solidFill>
                      <a:srgbClr val="ffffff"/>
                    </a:solidFill>
                    <a:latin typeface="Courier New"/>
                  </a:rPr>
                  <a:t>E</a:t>
                </a:r>
                <a:br>
                  <a:rPr sz="2000"/>
                </a:br>
                <a:r>
                  <a:rPr b="0" lang="en-US" sz="2000" spc="-1" strike="noStrike">
                    <a:solidFill>
                      <a:srgbClr val="ffffff"/>
                    </a:solidFill>
                    <a:latin typeface="Courier New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Rectangle 22"/>
              <p:cNvSpPr/>
              <p:nvPr/>
            </p:nvSpPr>
            <p:spPr>
              <a:xfrm>
                <a:off x="4495680" y="1143000"/>
                <a:ext cx="533520" cy="152712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ourier New"/>
                  </a:rPr>
                  <a:t>M</a:t>
                </a:r>
                <a:br>
                  <a:rPr sz="2000"/>
                </a:br>
                <a:r>
                  <a:rPr b="0" lang="en-US" sz="2000" spc="-1" strike="noStrike">
                    <a:solidFill>
                      <a:srgbClr val="ffffff"/>
                    </a:solidFill>
                    <a:latin typeface="Courier New"/>
                  </a:rPr>
                  <a:t>c</a:t>
                </a:r>
                <a:br>
                  <a:rPr sz="2000"/>
                </a:br>
                <a:r>
                  <a:rPr b="0" lang="en-US" sz="2000" spc="-1" strike="noStrike">
                    <a:solidFill>
                      <a:srgbClr val="ffffff"/>
                    </a:solidFill>
                    <a:latin typeface="Courier New"/>
                  </a:rPr>
                  <a:t>B</a:t>
                </a:r>
                <a:br>
                  <a:rPr sz="2000"/>
                </a:br>
                <a:r>
                  <a:rPr b="0" lang="en-US" sz="2000" spc="-1" strike="noStrike">
                    <a:solidFill>
                      <a:srgbClr val="ffffff"/>
                    </a:solidFill>
                    <a:latin typeface="Courier New"/>
                  </a:rPr>
                  <a:t>S</a:t>
                </a:r>
                <a:br>
                  <a:rPr sz="2000"/>
                </a:br>
                <a:r>
                  <a:rPr b="0" lang="en-US" sz="2000" spc="-1" strike="noStrike">
                    <a:solidFill>
                      <a:srgbClr val="ffffff"/>
                    </a:solidFill>
                    <a:latin typeface="Courier New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21" name="Group 23"/>
              <p:cNvGrpSpPr/>
              <p:nvPr/>
            </p:nvGrpSpPr>
            <p:grpSpPr>
              <a:xfrm>
                <a:off x="776520" y="900000"/>
                <a:ext cx="2974680" cy="368280"/>
                <a:chOff x="776520" y="900000"/>
                <a:chExt cx="2974680" cy="368280"/>
              </a:xfrm>
            </p:grpSpPr>
            <p:sp>
              <p:nvSpPr>
                <p:cNvPr id="322" name="Text Box 24"/>
                <p:cNvSpPr/>
                <p:nvPr/>
              </p:nvSpPr>
              <p:spPr>
                <a:xfrm>
                  <a:off x="776520" y="900000"/>
                  <a:ext cx="840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 u="sng">
                      <a:solidFill>
                        <a:srgbClr val="ffffff"/>
                      </a:solidFill>
                      <a:uFillTx/>
                      <a:latin typeface="Arial"/>
                    </a:rPr>
                    <a:t>Frame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Text Box 25"/>
                <p:cNvSpPr/>
                <p:nvPr/>
              </p:nvSpPr>
              <p:spPr>
                <a:xfrm>
                  <a:off x="1944360" y="900000"/>
                  <a:ext cx="18068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TDM Bit Stream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" name="Group 26"/>
              <p:cNvGrpSpPr/>
              <p:nvPr/>
            </p:nvGrpSpPr>
            <p:grpSpPr>
              <a:xfrm>
                <a:off x="1599840" y="1216080"/>
                <a:ext cx="2438280" cy="460440"/>
                <a:chOff x="1599840" y="1216080"/>
                <a:chExt cx="2438280" cy="460440"/>
              </a:xfrm>
            </p:grpSpPr>
            <p:sp>
              <p:nvSpPr>
                <p:cNvPr id="325" name="Rectangle 27"/>
                <p:cNvSpPr/>
                <p:nvPr/>
              </p:nvSpPr>
              <p:spPr>
                <a:xfrm flipH="1">
                  <a:off x="3351960" y="1295280"/>
                  <a:ext cx="685800" cy="381240"/>
                </a:xfrm>
                <a:prstGeom prst="rect">
                  <a:avLst/>
                </a:prstGeom>
                <a:solidFill>
                  <a:srgbClr val="0249fc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Ch0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Rectangle 28"/>
                <p:cNvSpPr/>
                <p:nvPr/>
              </p:nvSpPr>
              <p:spPr>
                <a:xfrm flipH="1">
                  <a:off x="2666160" y="1295280"/>
                  <a:ext cx="685800" cy="381240"/>
                </a:xfrm>
                <a:prstGeom prst="rect">
                  <a:avLst/>
                </a:prstGeom>
                <a:solidFill>
                  <a:srgbClr val="0249fc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Ch1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Rectangle 29"/>
                <p:cNvSpPr/>
                <p:nvPr/>
              </p:nvSpPr>
              <p:spPr>
                <a:xfrm flipH="1">
                  <a:off x="1599480" y="1295280"/>
                  <a:ext cx="685800" cy="381240"/>
                </a:xfrm>
                <a:prstGeom prst="rect">
                  <a:avLst/>
                </a:prstGeom>
                <a:solidFill>
                  <a:srgbClr val="0249fc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Ch31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Text Box 30"/>
                <p:cNvSpPr/>
                <p:nvPr/>
              </p:nvSpPr>
              <p:spPr>
                <a:xfrm flipH="1">
                  <a:off x="2275920" y="1216080"/>
                  <a:ext cx="409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...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9" name="Text Box 31"/>
              <p:cNvSpPr/>
              <p:nvPr/>
            </p:nvSpPr>
            <p:spPr>
              <a:xfrm>
                <a:off x="1068840" y="13572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Line 32"/>
              <p:cNvSpPr/>
              <p:nvPr/>
            </p:nvSpPr>
            <p:spPr>
              <a:xfrm>
                <a:off x="838080" y="1490760"/>
                <a:ext cx="2286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Line 33"/>
              <p:cNvSpPr/>
              <p:nvPr/>
            </p:nvSpPr>
            <p:spPr>
              <a:xfrm>
                <a:off x="1371600" y="1490760"/>
                <a:ext cx="2286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Line 34"/>
              <p:cNvSpPr/>
              <p:nvPr/>
            </p:nvSpPr>
            <p:spPr>
              <a:xfrm>
                <a:off x="4038480" y="1490760"/>
                <a:ext cx="457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33" name="Group 35"/>
              <p:cNvGrpSpPr/>
              <p:nvPr/>
            </p:nvGrpSpPr>
            <p:grpSpPr>
              <a:xfrm>
                <a:off x="1599840" y="1752480"/>
                <a:ext cx="2438280" cy="460440"/>
                <a:chOff x="1599840" y="1752480"/>
                <a:chExt cx="2438280" cy="460440"/>
              </a:xfrm>
            </p:grpSpPr>
            <p:sp>
              <p:nvSpPr>
                <p:cNvPr id="334" name="Rectangle 36"/>
                <p:cNvSpPr/>
                <p:nvPr/>
              </p:nvSpPr>
              <p:spPr>
                <a:xfrm flipH="1">
                  <a:off x="3351960" y="1832040"/>
                  <a:ext cx="685800" cy="380880"/>
                </a:xfrm>
                <a:prstGeom prst="rect">
                  <a:avLst/>
                </a:prstGeom>
                <a:solidFill>
                  <a:srgbClr val="6039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Ch0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Rectangle 37"/>
                <p:cNvSpPr/>
                <p:nvPr/>
              </p:nvSpPr>
              <p:spPr>
                <a:xfrm flipH="1">
                  <a:off x="2666160" y="1832040"/>
                  <a:ext cx="685800" cy="380880"/>
                </a:xfrm>
                <a:prstGeom prst="rect">
                  <a:avLst/>
                </a:prstGeom>
                <a:solidFill>
                  <a:srgbClr val="6039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Ch1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Rectangle 38"/>
                <p:cNvSpPr/>
                <p:nvPr/>
              </p:nvSpPr>
              <p:spPr>
                <a:xfrm flipH="1">
                  <a:off x="1599480" y="1832040"/>
                  <a:ext cx="685800" cy="380880"/>
                </a:xfrm>
                <a:prstGeom prst="rect">
                  <a:avLst/>
                </a:prstGeom>
                <a:solidFill>
                  <a:srgbClr val="6039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Ch31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Text Box 39"/>
                <p:cNvSpPr/>
                <p:nvPr/>
              </p:nvSpPr>
              <p:spPr>
                <a:xfrm flipH="1">
                  <a:off x="2275920" y="1752480"/>
                  <a:ext cx="409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...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" name="Group 40"/>
              <p:cNvGrpSpPr/>
              <p:nvPr/>
            </p:nvGrpSpPr>
            <p:grpSpPr>
              <a:xfrm>
                <a:off x="838080" y="1849320"/>
                <a:ext cx="3657600" cy="368280"/>
                <a:chOff x="838080" y="1849320"/>
                <a:chExt cx="3657600" cy="368280"/>
              </a:xfrm>
            </p:grpSpPr>
            <p:sp>
              <p:nvSpPr>
                <p:cNvPr id="339" name="Text Box 41"/>
                <p:cNvSpPr/>
                <p:nvPr/>
              </p:nvSpPr>
              <p:spPr>
                <a:xfrm>
                  <a:off x="1068840" y="1849320"/>
                  <a:ext cx="30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Line 42"/>
                <p:cNvSpPr/>
                <p:nvPr/>
              </p:nvSpPr>
              <p:spPr>
                <a:xfrm>
                  <a:off x="838080" y="1992240"/>
                  <a:ext cx="228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Line 43"/>
                <p:cNvSpPr/>
                <p:nvPr/>
              </p:nvSpPr>
              <p:spPr>
                <a:xfrm>
                  <a:off x="1371600" y="1992240"/>
                  <a:ext cx="228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Line 44"/>
                <p:cNvSpPr/>
                <p:nvPr/>
              </p:nvSpPr>
              <p:spPr>
                <a:xfrm>
                  <a:off x="4038480" y="1992240"/>
                  <a:ext cx="457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3" name="Group 45"/>
            <p:cNvGrpSpPr/>
            <p:nvPr/>
          </p:nvGrpSpPr>
          <p:grpSpPr>
            <a:xfrm>
              <a:off x="5026680" y="743040"/>
              <a:ext cx="2364840" cy="2076480"/>
              <a:chOff x="5026680" y="743040"/>
              <a:chExt cx="2364840" cy="2076480"/>
            </a:xfrm>
          </p:grpSpPr>
          <p:sp>
            <p:nvSpPr>
              <p:cNvPr id="344" name="AutoShape 46"/>
              <p:cNvSpPr/>
              <p:nvPr/>
            </p:nvSpPr>
            <p:spPr>
              <a:xfrm>
                <a:off x="5029200" y="1054080"/>
                <a:ext cx="2362320" cy="1765440"/>
              </a:xfrm>
              <a:prstGeom prst="rightArrowCallout">
                <a:avLst>
                  <a:gd name="adj1" fmla="val 25002"/>
                  <a:gd name="adj2" fmla="val 22394"/>
                  <a:gd name="adj3" fmla="val 30553"/>
                  <a:gd name="adj4" fmla="val 66667"/>
                </a:avLst>
              </a:prstGeom>
              <a:solidFill>
                <a:srgbClr val="005c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600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Transmi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600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600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Receiv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600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only </a:t>
                </a:r>
                <a:r>
                  <a:rPr b="0" i="1" lang="en-US" sz="1800" spc="-1" strike="noStrike" u="sng">
                    <a:solidFill>
                      <a:srgbClr val="ffffff"/>
                    </a:solidFill>
                    <a:uFillTx/>
                    <a:latin typeface="Arial"/>
                  </a:rPr>
                  <a:t>selected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600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Channels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Text Box 47"/>
              <p:cNvSpPr/>
              <p:nvPr/>
            </p:nvSpPr>
            <p:spPr>
              <a:xfrm>
                <a:off x="5026680" y="743040"/>
                <a:ext cx="1535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Multi-channe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6" name="Text Box 48"/>
          <p:cNvSpPr/>
          <p:nvPr/>
        </p:nvSpPr>
        <p:spPr>
          <a:xfrm>
            <a:off x="362160" y="3228840"/>
            <a:ext cx="81086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lows multiple channels (words) to be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independentl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ed for transmit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d receive (e.g. only enable Ch0, 5, 27 for receive, then process via CPU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Text Box 49"/>
          <p:cNvSpPr/>
          <p:nvPr/>
        </p:nvSpPr>
        <p:spPr>
          <a:xfrm>
            <a:off x="436680" y="3951360"/>
            <a:ext cx="79214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cBSP keeps time sync with all channels, but only “listens” or “talks”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the specific channel is enabled (reduces processing/bus overhead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"/>
          <p:cNvSpPr/>
          <p:nvPr/>
        </p:nvSpPr>
        <p:spPr>
          <a:xfrm>
            <a:off x="0" y="0"/>
            <a:ext cx="9067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PMingLiU"/>
              </a:rPr>
              <a:t>Compression &amp; Expanding Dat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9" name="Picture 2" descr=""/>
          <p:cNvPicPr/>
          <p:nvPr/>
        </p:nvPicPr>
        <p:blipFill>
          <a:blip r:embed="rId1"/>
          <a:stretch/>
        </p:blipFill>
        <p:spPr>
          <a:xfrm>
            <a:off x="266760" y="1179360"/>
            <a:ext cx="8229600" cy="14590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3" descr=""/>
          <p:cNvPicPr/>
          <p:nvPr/>
        </p:nvPicPr>
        <p:blipFill>
          <a:blip r:embed="rId2"/>
          <a:stretch/>
        </p:blipFill>
        <p:spPr>
          <a:xfrm>
            <a:off x="871560" y="3333600"/>
            <a:ext cx="7400880" cy="100044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4" descr=""/>
          <p:cNvPicPr/>
          <p:nvPr/>
        </p:nvPicPr>
        <p:blipFill>
          <a:blip r:embed="rId3"/>
          <a:stretch/>
        </p:blipFill>
        <p:spPr>
          <a:xfrm>
            <a:off x="871560" y="4829040"/>
            <a:ext cx="7400880" cy="1133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2T08:02:44Z</dcterms:created>
  <dc:creator>Frank Bormann</dc:creator>
  <dc:description/>
  <cp:keywords>12</cp:keywords>
  <dc:language>en-US</dc:language>
  <cp:lastModifiedBy>Windows-Benutzer</cp:lastModifiedBy>
  <dcterms:modified xsi:type="dcterms:W3CDTF">2010-04-06T07:29:54Z</dcterms:modified>
  <cp:revision>280</cp:revision>
  <dc:subject/>
  <dc:title>Module 13 Multichannel Buffered Serial Port</dc:title>
</cp:coreProperties>
</file>