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BB68-1DAB-4332-9039-1360609D8A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7719-6950-4311-99E4-B673AAC5D87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box"/>
          <p:cNvSpPr/>
          <p:nvPr/>
        </p:nvSpPr>
        <p:spPr>
          <a:xfrm>
            <a:off x="624852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16 - </a:t>
            </a:r>
            <a:fld id="{753A2EDA-2037-4CD7-BC1B-C03F1CF35641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0168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28296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53560" indent="-28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68640" indent="-30132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3"/>
          <p:cNvSpPr/>
          <p:nvPr/>
        </p:nvSpPr>
        <p:spPr>
          <a:xfrm>
            <a:off x="720720" y="1120680"/>
            <a:ext cx="7773840" cy="43023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14400" y="312408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60" name="Line 17"/>
          <p:cNvSpPr/>
          <p:nvPr/>
        </p:nvSpPr>
        <p:spPr>
          <a:xfrm>
            <a:off x="928800" y="838080"/>
            <a:ext cx="745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8389800" y="457200"/>
            <a:ext cx="75420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Freeform 23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1379160" y="228600"/>
            <a:ext cx="556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Module 16: FLASH Memory AP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83808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2-Bit-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MS320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67"/>
          <p:cNvSpPr/>
          <p:nvPr/>
        </p:nvSpPr>
        <p:spPr>
          <a:xfrm>
            <a:off x="1393200" y="0"/>
            <a:ext cx="63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9b03"/>
                </a:solidFill>
                <a:latin typeface="Arial"/>
              </a:rPr>
              <a:t>TMS320F2833x FLASH Load Op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Grafik 164" descr=""/>
          <p:cNvPicPr/>
          <p:nvPr/>
        </p:nvPicPr>
        <p:blipFill>
          <a:blip r:embed="rId1"/>
          <a:stretch/>
        </p:blipFill>
        <p:spPr>
          <a:xfrm>
            <a:off x="880920" y="981000"/>
            <a:ext cx="7483680" cy="5075280"/>
          </a:xfrm>
          <a:prstGeom prst="rect">
            <a:avLst/>
          </a:prstGeom>
          <a:ln w="9360">
            <a:solidFill>
              <a:srgbClr val="000f40"/>
            </a:solidFill>
            <a:miter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9b03"/>
                </a:solidFill>
                <a:latin typeface="Arial"/>
              </a:rPr>
              <a:t>FLASH – API - Installation</a:t>
            </a:r>
            <a:endParaRPr b="1" lang="en-US" sz="2800" spc="-1" strike="noStrike">
              <a:solidFill>
                <a:srgbClr val="fe9b03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90600" y="1193760"/>
            <a:ext cx="3009960" cy="4505400"/>
          </a:xfrm>
          <a:prstGeom prst="rect">
            <a:avLst/>
          </a:prstGeom>
          <a:ln w="0">
            <a:noFill/>
          </a:ln>
        </p:spPr>
      </p:pic>
      <p:sp>
        <p:nvSpPr>
          <p:cNvPr id="74" name="Textfeld 36"/>
          <p:cNvSpPr/>
          <p:nvPr/>
        </p:nvSpPr>
        <p:spPr>
          <a:xfrm>
            <a:off x="3849840" y="1627200"/>
            <a:ext cx="509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ownload from: www.ti.co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F2833x: 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PRC539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2823x: “SPRC665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ault Installation path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C:\tidcs\c28\FLASH28_API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d included docu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lash2833x_API_Readme.pdf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FLASH – API – Fundamentals </a:t>
            </a:r>
            <a:endParaRPr b="1" lang="en-US" sz="32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76" name="Rechteck 11"/>
          <p:cNvSpPr/>
          <p:nvPr/>
        </p:nvSpPr>
        <p:spPr>
          <a:xfrm>
            <a:off x="606600" y="849240"/>
            <a:ext cx="813420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ra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 - Compac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sure that no bits are over era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e – Con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t all bits to ‘0’ to allow an even er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r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t all memory bits to ‘1’ ( = Erased sta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ost – Conditio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sure that no bits are left in “over – erased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gram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program selected bits from ‘1’ to ‘0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Verif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CPU read to compare FLASH and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FLASH – API Checklist</a:t>
            </a:r>
            <a:endParaRPr b="1" lang="en-US" sz="32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78" name="Textfeld 43"/>
          <p:cNvSpPr/>
          <p:nvPr/>
        </p:nvSpPr>
        <p:spPr>
          <a:xfrm>
            <a:off x="460440" y="1174680"/>
            <a:ext cx="7613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Preparation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ify file “Flash2833x_API_Config.h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 Flash2833x_API_Library.h in source –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FLASH-API – library to your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 - Code Modification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ize PLL and wait for loc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sure, that PLL is not in “limp” – m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 all API – functions from FLASH into SA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ize global variable “Flash_CPUScaleFacto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ize callback – pointer “Flash_CallbackPt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l API -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FLASH – API function </a:t>
            </a:r>
            <a:endParaRPr b="1" lang="en-US" sz="32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80" name="Textfeld 43"/>
          <p:cNvSpPr/>
          <p:nvPr/>
        </p:nvSpPr>
        <p:spPr>
          <a:xfrm>
            <a:off x="454680" y="1174680"/>
            <a:ext cx="790596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alled FLASH – API – function will perfo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isable of the Watchdog – Ti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heck of the registers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LASSID/PARTI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resses 0x0882 and 0x380090)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heck of the content of 0x3FFFB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I – version versus silicon - re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of the selected operation a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isables and restores interrupts around time critical s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vokes the callback – func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returns an success - or error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feld 4"/>
          <p:cNvSpPr/>
          <p:nvPr/>
        </p:nvSpPr>
        <p:spPr>
          <a:xfrm>
            <a:off x="403200" y="1022400"/>
            <a:ext cx="845820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un stand alone control code from FLASH –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36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in()” - loop reads value “FLASH_Voltage_A0” from FLASH-B and display the four most significant bits at LEDs LD4…LD1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U – Timer 0 will start an ADC conversion of channel ADCINA0 (potentiometer VR1) each 50 milliseco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ADC interrupt service will store the result of the conversion in SARAM - variable “Voltage_A0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button PB1 is pushed, FLASH – B variable “FLASH_Voltage_A0” is updated with  “Voltage_A0” using FLASH – API functions “Erase”, “Program” and “Verify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Lab16: Use of FLASH  – API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84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8:02:44Z</dcterms:created>
  <dc:creator>Frank Bormann</dc:creator>
  <dc:description>C2000 Teaching CD-ROM
Revision 3.0
© Frank Bormann</dc:description>
  <cp:keywords>16</cp:keywords>
  <dc:language>en-US</dc:language>
  <cp:lastModifiedBy>Windows-Benutzer</cp:lastModifiedBy>
  <dcterms:modified xsi:type="dcterms:W3CDTF">2009-11-22T14:38:56Z</dcterms:modified>
  <cp:revision>171</cp:revision>
  <dc:subject/>
  <dc:title>Module 16 FLASH API</dc:title>
</cp:coreProperties>
</file>