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245225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15E-6441-4E42-AF2A-A73413E6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5308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2819520"/>
            <a:ext cx="5308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09E-C6F3-45AE-A509-474D6934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888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EAA-37C6-4C0E-A28B-8FF06049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63320" y="135216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58640" y="135216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281952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63320" y="281952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58640" y="281952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3E9-8AEB-41CB-B6DE-AB7F2115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2160"/>
            <a:ext cx="53085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CC5-73F1-448D-AD58-98AF9271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5308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958-6C46-42F6-8AF1-0DD9E327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3A6-AF0C-4DFF-88FC-DA7647C7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95C-E0A9-4B45-B4FD-46D0BF5A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15800"/>
            <a:ext cx="530856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483-DCCD-42A2-A6BD-E95530A4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D19-D0A9-4501-8313-8BDEFCCE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888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82C-4802-420B-8B97-1D1734EF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2819520"/>
            <a:ext cx="5308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A1B-ABB1-446F-A839-12C982A6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2160"/>
            <a:ext cx="5308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 fontScale="99000"/>
          </a:bodyPr>
          <a:p>
            <a:pPr marL="230760" indent="-2307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9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73280" indent="-155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1080" indent="-1537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9068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9068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9068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4265640"/>
            <a:ext cx="1301760" cy="3110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4265640"/>
            <a:ext cx="1977840" cy="3110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75160" y="4265640"/>
            <a:ext cx="1301760" cy="3110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DF69-776F-4D4A-8649-8BBFD060D16A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1"/>
          <p:cNvSpPr/>
          <p:nvPr/>
        </p:nvSpPr>
        <p:spPr>
          <a:xfrm>
            <a:off x="1548720" y="104472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stituzione elimin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"/>
          <p:cNvPicPr/>
          <p:nvPr/>
        </p:nvPicPr>
        <p:blipFill>
          <a:blip r:embed="rId1"/>
          <a:stretch/>
        </p:blipFill>
        <p:spPr>
          <a:xfrm>
            <a:off x="0" y="666720"/>
            <a:ext cx="62452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uppo 2"/>
          <p:cNvGrpSpPr/>
          <p:nvPr/>
        </p:nvGrpSpPr>
        <p:grpSpPr>
          <a:xfrm>
            <a:off x="0" y="612720"/>
            <a:ext cx="6245280" cy="3210120"/>
            <a:chOff x="0" y="612720"/>
            <a:chExt cx="6245280" cy="3210120"/>
          </a:xfrm>
        </p:grpSpPr>
        <p:pic>
          <p:nvPicPr>
            <p:cNvPr id="44" name="Immagine 1" descr=""/>
            <p:cNvPicPr/>
            <p:nvPr/>
          </p:nvPicPr>
          <p:blipFill>
            <a:blip r:embed="rId1"/>
            <a:srcRect l="0" t="0" r="0" b="19890"/>
            <a:stretch/>
          </p:blipFill>
          <p:spPr>
            <a:xfrm>
              <a:off x="0" y="612720"/>
              <a:ext cx="624528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ttangolo arrotondato 1"/>
            <p:cNvSpPr/>
            <p:nvPr/>
          </p:nvSpPr>
          <p:spPr>
            <a:xfrm>
              <a:off x="1969920" y="846000"/>
              <a:ext cx="1800000" cy="64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ttangolo arrotondato 3"/>
            <p:cNvSpPr/>
            <p:nvPr/>
          </p:nvSpPr>
          <p:spPr>
            <a:xfrm>
              <a:off x="1969920" y="1757160"/>
              <a:ext cx="18000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ttangolo arrotondato 4"/>
            <p:cNvSpPr/>
            <p:nvPr/>
          </p:nvSpPr>
          <p:spPr>
            <a:xfrm>
              <a:off x="1969920" y="2525760"/>
              <a:ext cx="1368360" cy="64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ttangolo arrotondato 5"/>
            <p:cNvSpPr/>
            <p:nvPr/>
          </p:nvSpPr>
          <p:spPr>
            <a:xfrm>
              <a:off x="3892680" y="2646360"/>
              <a:ext cx="2038320" cy="64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ttangolo arrotondato 6"/>
            <p:cNvSpPr/>
            <p:nvPr/>
          </p:nvSpPr>
          <p:spPr>
            <a:xfrm>
              <a:off x="1898640" y="2068560"/>
              <a:ext cx="1800000" cy="64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ttangolo arrotondato 7"/>
            <p:cNvSpPr/>
            <p:nvPr/>
          </p:nvSpPr>
          <p:spPr>
            <a:xfrm>
              <a:off x="3267000" y="3175200"/>
              <a:ext cx="18000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uppo 12"/>
          <p:cNvGrpSpPr/>
          <p:nvPr/>
        </p:nvGrpSpPr>
        <p:grpSpPr>
          <a:xfrm>
            <a:off x="-9360" y="684360"/>
            <a:ext cx="6244920" cy="3209760"/>
            <a:chOff x="-9360" y="684360"/>
            <a:chExt cx="6244920" cy="3209760"/>
          </a:xfrm>
        </p:grpSpPr>
        <p:grpSp>
          <p:nvGrpSpPr>
            <p:cNvPr id="52" name="Gruppo 1"/>
            <p:cNvGrpSpPr/>
            <p:nvPr/>
          </p:nvGrpSpPr>
          <p:grpSpPr>
            <a:xfrm>
              <a:off x="-9360" y="684360"/>
              <a:ext cx="6244920" cy="3209760"/>
              <a:chOff x="-9360" y="684360"/>
              <a:chExt cx="6244920" cy="3209760"/>
            </a:xfrm>
          </p:grpSpPr>
          <p:pic>
            <p:nvPicPr>
              <p:cNvPr id="53" name="Immagine 1" descr=""/>
              <p:cNvPicPr/>
              <p:nvPr/>
            </p:nvPicPr>
            <p:blipFill>
              <a:blip r:embed="rId1"/>
              <a:srcRect l="0" t="0" r="0" b="19890"/>
              <a:stretch/>
            </p:blipFill>
            <p:spPr>
              <a:xfrm>
                <a:off x="-9360" y="684360"/>
                <a:ext cx="6244920" cy="268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ttangolo arrotondato 8"/>
              <p:cNvSpPr/>
              <p:nvPr/>
            </p:nvSpPr>
            <p:spPr>
              <a:xfrm>
                <a:off x="3257640" y="3246480"/>
                <a:ext cx="18000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CasellaDiTesto 9"/>
            <p:cNvSpPr/>
            <p:nvPr/>
          </p:nvSpPr>
          <p:spPr>
            <a:xfrm>
              <a:off x="1054800" y="1304640"/>
              <a:ext cx="243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CasellaDiTesto 10"/>
            <p:cNvSpPr/>
            <p:nvPr/>
          </p:nvSpPr>
          <p:spPr>
            <a:xfrm>
              <a:off x="1284840" y="1908720"/>
              <a:ext cx="250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CasellaDiTesto 11"/>
            <p:cNvSpPr/>
            <p:nvPr/>
          </p:nvSpPr>
          <p:spPr>
            <a:xfrm>
              <a:off x="1054800" y="2526840"/>
              <a:ext cx="243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egnaposto contenuto 3" descr=""/>
          <p:cNvPicPr/>
          <p:nvPr/>
        </p:nvPicPr>
        <p:blipFill>
          <a:blip r:embed="rId1"/>
          <a:stretch/>
        </p:blipFill>
        <p:spPr>
          <a:xfrm>
            <a:off x="182520" y="1332000"/>
            <a:ext cx="559440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7:05:25Z</dcterms:created>
  <dc:creator>lucia gardossi</dc:creator>
  <dc:description/>
  <dc:language>en-US</dc:language>
  <cp:lastModifiedBy>dscfnbgardossi</cp:lastModifiedBy>
  <dcterms:modified xsi:type="dcterms:W3CDTF">2021-11-21T21:10:20Z</dcterms:modified>
  <cp:revision>135</cp:revision>
  <dc:subject/>
  <dc:title>Composto carbonilico</dc:title>
</cp:coreProperties>
</file>