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245225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588B6F-47FD-4B0E-BF1A-266C790D70C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3A424-93AF-4DC8-88BC-E194FF9A5B1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8C45F7-1813-4F01-ACAA-793ED225B22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D9E427-CB69-4AA4-81C9-97DD9DA48BA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39F-6DF7-47F1-B1B9-30D5218A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E67-D39B-42FE-BCA4-077DA89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74C-8B1D-4986-9051-ADC2C605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6332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58640" y="135216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6332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58640" y="2819520"/>
            <a:ext cx="170928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D5C-5D11-466A-AE9F-63FBF128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471-52F6-4378-A420-1EA58299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139-D2A4-4DF1-9FD3-D8F0189D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A5F-CFF8-4B5D-B286-3309B80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888-7CE9-461C-989B-BA235A08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15800"/>
            <a:ext cx="530856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293-70E6-499A-9D73-32026493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BC3-823F-433A-BA34-6D7AD8F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8880" y="281952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441-FBD9-4D0F-BF74-54CD3B39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8880" y="1352160"/>
            <a:ext cx="2590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2819520"/>
            <a:ext cx="5308560" cy="13395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381-6797-4159-A5BC-E858E38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2160"/>
            <a:ext cx="5308560" cy="2808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 fontScale="99000"/>
          </a:bodyPr>
          <a:p>
            <a:pPr marL="230760" indent="-2307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9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1555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1080" indent="-1537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9068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4265640"/>
            <a:ext cx="197784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75160" y="4265640"/>
            <a:ext cx="1301760" cy="31104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28B-FF1D-4218-B454-1F31B9BE781C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160" y="77760"/>
            <a:ext cx="5776920" cy="301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360" y="569880"/>
            <a:ext cx="60469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ALOGENURI PRIMAR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 e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 generalmente prevale nettam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caso d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ucleofili  ingombranti e basici si ha E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43000" y="1962000"/>
            <a:ext cx="5786280" cy="2719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864400" y="2846520"/>
            <a:ext cx="15228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2-Bromo-2-metilprop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4452840"/>
            <a:ext cx="28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Dal volume: McMurry “Chimica organica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92800" y="4452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Piccin Nuova Libraria S.p.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ap-11_0035a"/>
          <p:cNvPicPr/>
          <p:nvPr/>
        </p:nvPicPr>
        <p:blipFill>
          <a:blip r:embed="rId1"/>
          <a:stretch/>
        </p:blipFill>
        <p:spPr>
          <a:xfrm>
            <a:off x="819000" y="1260360"/>
            <a:ext cx="4664160" cy="243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93600" y="1263600"/>
            <a:ext cx="6240240" cy="107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33520" y="2755800"/>
            <a:ext cx="4632120" cy="1241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versione di configurazione in reazioni Sn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92120" y="1405080"/>
            <a:ext cx="4829040" cy="163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azioni Sn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25440" y="1986120"/>
            <a:ext cx="5162400" cy="1866600"/>
          </a:xfrm>
          <a:prstGeom prst="rect">
            <a:avLst/>
          </a:prstGeom>
          <a:ln w="0">
            <a:noFill/>
          </a:ln>
        </p:spPr>
      </p:pic>
      <p:sp>
        <p:nvSpPr>
          <p:cNvPr id="97" name="Rettangolo 6"/>
          <p:cNvSpPr/>
          <p:nvPr/>
        </p:nvSpPr>
        <p:spPr>
          <a:xfrm>
            <a:off x="614520" y="2841480"/>
            <a:ext cx="488448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68360" y="1116000"/>
            <a:ext cx="5315040" cy="1771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acemizzazione  in reazioni Sn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ttangolo 5"/>
          <p:cNvSpPr/>
          <p:nvPr/>
        </p:nvSpPr>
        <p:spPr>
          <a:xfrm>
            <a:off x="385920" y="2197080"/>
            <a:ext cx="53974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812880" y="2570040"/>
            <a:ext cx="5067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160" y="77400"/>
            <a:ext cx="5776920" cy="35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444600"/>
            <a:ext cx="5307120" cy="10396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ALOGENURI SECONDARI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1, S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2 , E1 e 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a distribuzione dei prodotti dipende dal nucleofilo e dalle condizioni di re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8160" y="1417680"/>
            <a:ext cx="4956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560" y="90360"/>
            <a:ext cx="5746680" cy="387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20" y="828720"/>
            <a:ext cx="5622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LOGENURI TERZIARI: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N1,  E1,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108160" y="1803240"/>
            <a:ext cx="3967200" cy="1489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03560" y="2030400"/>
            <a:ext cx="15562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 presenza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ucleofili debo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solventi po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66480" y="3357720"/>
            <a:ext cx="1455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 presenza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ucleofili for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solventi m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o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2111400" y="3357720"/>
            <a:ext cx="41338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06640" y="1620720"/>
            <a:ext cx="4390920" cy="87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859040" y="3063960"/>
            <a:ext cx="288612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98280" y="415800"/>
            <a:ext cx="6031080" cy="98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i forma prevalentemente l’alchene più sostituito perché è più stab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1-cloro-1-metilcicloes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ap-11_0026a"/>
          <p:cNvPicPr/>
          <p:nvPr/>
        </p:nvPicPr>
        <p:blipFill>
          <a:blip r:embed="rId1"/>
          <a:stretch/>
        </p:blipFill>
        <p:spPr>
          <a:xfrm>
            <a:off x="1177920" y="1116000"/>
            <a:ext cx="3906720" cy="1994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43000" y="181080"/>
            <a:ext cx="5868720" cy="73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43000" y="1189080"/>
            <a:ext cx="6002280" cy="703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se forte, alogenuro alchilico terziatio  ingombrato,  solvente polare pro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Down Arrow 10"/>
          <p:cNvSpPr/>
          <p:nvPr/>
        </p:nvSpPr>
        <p:spPr>
          <a:xfrm>
            <a:off x="2617920" y="3306600"/>
            <a:ext cx="433080" cy="5763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330560" y="3997440"/>
            <a:ext cx="2751840" cy="45972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vale eli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ccia in giù 1"/>
          <p:cNvSpPr/>
          <p:nvPr/>
        </p:nvSpPr>
        <p:spPr>
          <a:xfrm rot="18797400">
            <a:off x="3745800" y="2934000"/>
            <a:ext cx="482760" cy="9921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4417920" y="3444840"/>
            <a:ext cx="1827360" cy="94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 forma maggiormente l’alchene più sostituito più st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79600" y="1533600"/>
            <a:ext cx="5064120" cy="1311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06200" y="208080"/>
            <a:ext cx="6032520" cy="98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i forma prevalentemente l’alchene più sostituito perché è più stab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74640" y="4680"/>
            <a:ext cx="4981680" cy="3438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57320" y="108000"/>
            <a:ext cx="6014880" cy="86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-Eliminazio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106640" y="3743280"/>
            <a:ext cx="3876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352160"/>
            <a:ext cx="530856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p173"/>
          <p:cNvPicPr/>
          <p:nvPr/>
        </p:nvPicPr>
        <p:blipFill>
          <a:blip r:embed="rId2"/>
          <a:stretch/>
        </p:blipFill>
        <p:spPr>
          <a:xfrm>
            <a:off x="263520" y="1352520"/>
            <a:ext cx="5718240" cy="2270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263520" y="3235320"/>
            <a:ext cx="5746680" cy="387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rmAutofit fontScale="97000"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15800"/>
            <a:ext cx="5308560" cy="7812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2-Bromopropa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cap-11_0035"/>
          <p:cNvPicPr/>
          <p:nvPr/>
        </p:nvPicPr>
        <p:blipFill>
          <a:blip r:embed="rId1"/>
          <a:stretch/>
        </p:blipFill>
        <p:spPr>
          <a:xfrm>
            <a:off x="961920" y="1332000"/>
            <a:ext cx="4218120" cy="2097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77920" y="90360"/>
            <a:ext cx="5868720" cy="73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ctr">
            <a:noAutofit/>
          </a:bodyPr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mpetizione tra sostituzione ed eliminaz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6:31:31Z</dcterms:created>
  <dc:creator>lucia gardossi</dc:creator>
  <dc:description/>
  <dc:language>en-US</dc:language>
  <cp:lastModifiedBy>Utente Windows</cp:lastModifiedBy>
  <dcterms:modified xsi:type="dcterms:W3CDTF">2020-12-17T10:37:16Z</dcterms:modified>
  <cp:revision>123</cp:revision>
  <dc:subject/>
  <dc:title>Sostituzione eliminazione</dc:title>
</cp:coreProperties>
</file>