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5.wmf" ContentType="image/x-wmf"/>
  <Override PartName="/ppt/media/image4.jpeg" ContentType="image/jpeg"/>
  <Override PartName="/ppt/media/image10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2C0D-BEEA-4759-B510-62413EF5F8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90EC-5292-492D-8FB9-CA6B574AE46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59E6-64D2-4CF4-90DD-2266898277F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6F78-05D4-4CE1-9CF4-AE31E18F4A9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9824-DB1E-4612-87B6-BF07C86DD38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7923-2973-45D2-A39C-F7CBB7AD4B2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7888-962F-481E-AD0A-62F7E947943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48C0-21A9-458C-AC06-22FDB252D36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2AD7-746D-4285-B6AF-4555E50104D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25B2-29EB-4BDF-99AB-58528C3A944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7BC8-4869-4A35-99DB-2442FBEDE70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57E2-8F49-42BC-AC89-5C376C41DF2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9E2F-38BF-4CF6-84CD-E364FE33F63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576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 transceiver: SN75LBC0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nterfaces the single ended CAN controller with the differential CAN b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ransmission rate up to 1Mbit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states on the b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ssive: CAN_H = CAN_L = 2.5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t: CAN_H = 3.5V and CAN_L = 1.5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15C6-4680-44EF-85DD-47A97CEA2F4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2EA4-0CB8-4952-86AE-A7713D7727A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11D7-98B9-4694-AB52-A204F52D394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098C-A25B-4210-938D-573969C7C04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782D-A9D3-489C-88D8-4ABC1B1020C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C955-379C-424A-BA0F-3EFEF161791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79D1-FE79-448D-ADC0-BB58FB8623E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9DA9-0556-47DB-8D91-3436955E9E4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0463-01A8-4E29-AF20-C19B90AA401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AEC6-FA3F-4AF7-8967-8BDC2FD9F34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53C8-E6C7-4108-BD1F-4D1E2ABFAB9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7ADE-52FA-4659-9096-6F3BBD82F1C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F405-3EE6-46DE-91E8-35E622F51FC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9797-CF93-47EF-BAAE-94ABA70C8BB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6A80-7D8F-4DBC-81EE-28071CD9E1A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067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2a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oter box"/>
          <p:cNvSpPr/>
          <p:nvPr/>
        </p:nvSpPr>
        <p:spPr>
          <a:xfrm>
            <a:off x="6248520" y="64771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9b03"/>
                </a:solidFill>
                <a:latin typeface="Arial"/>
              </a:rPr>
              <a:t>11 - </a:t>
            </a:r>
            <a:fld id="{C1AD4C04-39B2-4324-8362-76D139A95E79}" type="slidenum">
              <a:rPr b="0" lang="en-US" sz="1200" spc="-1" strike="noStrike">
                <a:solidFill>
                  <a:srgbClr val="fe9b0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57560" indent="-28296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3560" indent="-28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168640" indent="-30132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Oval 3"/>
          <p:cNvSpPr/>
          <p:nvPr/>
        </p:nvSpPr>
        <p:spPr>
          <a:xfrm>
            <a:off x="720720" y="1120680"/>
            <a:ext cx="7773840" cy="430236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2c1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914400" y="3124080"/>
            <a:ext cx="7337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xas Instruments Incorpo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ean Customer Training Cent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versity of Applied Sciences Zwick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227160" y="6411960"/>
            <a:ext cx="746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0" y="6291360"/>
            <a:ext cx="7550280" cy="566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13" descr=""/>
          <p:cNvPicPr/>
          <p:nvPr/>
        </p:nvPicPr>
        <p:blipFill>
          <a:blip r:embed="rId1"/>
          <a:stretch/>
        </p:blipFill>
        <p:spPr>
          <a:xfrm>
            <a:off x="514440" y="6510240"/>
            <a:ext cx="6448320" cy="255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>
            <a:off x="7531200" y="6291360"/>
            <a:ext cx="1612800" cy="56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2"/>
          <a:stretch/>
        </p:blipFill>
        <p:spPr>
          <a:xfrm>
            <a:off x="7924680" y="6427800"/>
            <a:ext cx="87012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3"/>
          <a:stretch/>
        </p:blipFill>
        <p:spPr>
          <a:xfrm>
            <a:off x="228600" y="457200"/>
            <a:ext cx="765000" cy="755640"/>
          </a:xfrm>
          <a:prstGeom prst="rect">
            <a:avLst/>
          </a:prstGeom>
          <a:ln w="0">
            <a:noFill/>
          </a:ln>
        </p:spPr>
      </p:pic>
      <p:sp>
        <p:nvSpPr>
          <p:cNvPr id="60" name="Line 17"/>
          <p:cNvSpPr/>
          <p:nvPr/>
        </p:nvSpPr>
        <p:spPr>
          <a:xfrm>
            <a:off x="928800" y="838080"/>
            <a:ext cx="745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8389800" y="457200"/>
            <a:ext cx="754200" cy="755640"/>
          </a:xfrm>
          <a:prstGeom prst="rect">
            <a:avLst/>
          </a:prstGeom>
          <a:solidFill>
            <a:srgbClr val="042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Freeform 19"/>
          <p:cNvSpPr/>
          <p:nvPr/>
        </p:nvSpPr>
        <p:spPr>
          <a:xfrm>
            <a:off x="8418600" y="485640"/>
            <a:ext cx="687240" cy="347760"/>
          </a:xfrm>
          <a:custGeom>
            <a:avLst/>
            <a:gdLst>
              <a:gd name="textAreaLeft" fmla="*/ 0 w 687240"/>
              <a:gd name="textAreaRight" fmla="*/ 687600 w 68724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1298" h="659">
                <a:moveTo>
                  <a:pt x="1290" y="659"/>
                </a:moveTo>
                <a:lnTo>
                  <a:pt x="1298" y="651"/>
                </a:lnTo>
                <a:lnTo>
                  <a:pt x="654" y="0"/>
                </a:lnTo>
                <a:lnTo>
                  <a:pt x="0" y="659"/>
                </a:lnTo>
                <a:lnTo>
                  <a:pt x="15" y="659"/>
                </a:lnTo>
                <a:lnTo>
                  <a:pt x="652" y="17"/>
                </a:lnTo>
                <a:lnTo>
                  <a:pt x="1290" y="6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Freeform 20"/>
          <p:cNvSpPr/>
          <p:nvPr/>
        </p:nvSpPr>
        <p:spPr>
          <a:xfrm>
            <a:off x="8418600" y="833400"/>
            <a:ext cx="347400" cy="345960"/>
          </a:xfrm>
          <a:custGeom>
            <a:avLst/>
            <a:gdLst>
              <a:gd name="textAreaLeft" fmla="*/ 0 w 347400"/>
              <a:gd name="textAreaRight" fmla="*/ 347760 w 3474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656" h="653">
                <a:moveTo>
                  <a:pt x="0" y="0"/>
                </a:moveTo>
                <a:lnTo>
                  <a:pt x="648" y="653"/>
                </a:lnTo>
                <a:lnTo>
                  <a:pt x="656" y="645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Freeform 21"/>
          <p:cNvSpPr/>
          <p:nvPr/>
        </p:nvSpPr>
        <p:spPr>
          <a:xfrm>
            <a:off x="8751960" y="819000"/>
            <a:ext cx="358560" cy="360360"/>
          </a:xfrm>
          <a:custGeom>
            <a:avLst/>
            <a:gdLst>
              <a:gd name="textAreaLeft" fmla="*/ 0 w 358560"/>
              <a:gd name="textAreaRight" fmla="*/ 358560 w 3585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679" h="681">
                <a:moveTo>
                  <a:pt x="0" y="651"/>
                </a:moveTo>
                <a:lnTo>
                  <a:pt x="31" y="681"/>
                </a:lnTo>
                <a:lnTo>
                  <a:pt x="679" y="31"/>
                </a:lnTo>
                <a:lnTo>
                  <a:pt x="649" y="0"/>
                </a:lnTo>
                <a:lnTo>
                  <a:pt x="0" y="65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Freeform 22"/>
          <p:cNvSpPr/>
          <p:nvPr/>
        </p:nvSpPr>
        <p:spPr>
          <a:xfrm>
            <a:off x="8599320" y="633240"/>
            <a:ext cx="314640" cy="385920"/>
          </a:xfrm>
          <a:custGeom>
            <a:avLst/>
            <a:gdLst>
              <a:gd name="textAreaLeft" fmla="*/ 0 w 314640"/>
              <a:gd name="textAreaRight" fmla="*/ 315000 w 31464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592" h="730">
                <a:moveTo>
                  <a:pt x="592" y="13"/>
                </a:moveTo>
                <a:lnTo>
                  <a:pt x="576" y="0"/>
                </a:lnTo>
                <a:lnTo>
                  <a:pt x="0" y="717"/>
                </a:lnTo>
                <a:lnTo>
                  <a:pt x="16" y="730"/>
                </a:lnTo>
                <a:lnTo>
                  <a:pt x="592" y="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Freeform 23"/>
          <p:cNvSpPr/>
          <p:nvPr/>
        </p:nvSpPr>
        <p:spPr>
          <a:xfrm>
            <a:off x="8618400" y="631800"/>
            <a:ext cx="285840" cy="7920"/>
          </a:xfrm>
          <a:custGeom>
            <a:avLst/>
            <a:gdLst>
              <a:gd name="textAreaLeft" fmla="*/ 0 w 285840"/>
              <a:gd name="textAreaRight" fmla="*/ 286200 w 28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42" h="13">
                <a:moveTo>
                  <a:pt x="0" y="2"/>
                </a:moveTo>
                <a:lnTo>
                  <a:pt x="0" y="13"/>
                </a:lnTo>
                <a:lnTo>
                  <a:pt x="542" y="9"/>
                </a:lnTo>
                <a:lnTo>
                  <a:pt x="54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8610480" y="990720"/>
            <a:ext cx="30492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1041480" y="228600"/>
            <a:ext cx="753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e9b03"/>
                </a:solidFill>
                <a:latin typeface="Arial"/>
              </a:rPr>
              <a:t>Module 11: Controller Area Network 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83808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2-Bit-Digital Signal Control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MS320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e9b03"/>
                </a:solidFill>
                <a:latin typeface="Arial"/>
                <a:ea typeface="Arial"/>
              </a:rPr>
              <a:t>The CAN Data Frame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304920" y="609480"/>
            <a:ext cx="8702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ach data frame consists of four segment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9b03"/>
                </a:solidFill>
                <a:latin typeface="Arial"/>
              </a:rPr>
              <a:t>(1) arbitration-field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3000" indent="-3808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denote the priority of the mess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3000" indent="-3808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logical address of the message (identifi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3000" indent="-3808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Standard frame, CAN 2.0A: 11 bit-identifi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3000" indent="-3808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xtended frame, CAN 2.0B: 29 bit-identif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9b03"/>
                </a:solidFill>
                <a:latin typeface="Arial"/>
              </a:rPr>
              <a:t>(2) data field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3000" indent="-3808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up to 8 bytes per message 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3000" indent="-3808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 0 byte message is also permit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9b03"/>
                </a:solidFill>
                <a:latin typeface="Arial"/>
              </a:rPr>
              <a:t>(3) CRC fiel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3000" indent="-3808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cyclic redundancy check ; contains a checksum generated by a CRC-polynom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9b03"/>
                </a:solidFill>
                <a:latin typeface="Arial"/>
              </a:rPr>
              <a:t>(4)  end of frame fiel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3000" indent="-3808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contains acknowledgement, error-messages, end of mess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e9b03"/>
                </a:solidFill>
                <a:latin typeface="Arial"/>
                <a:ea typeface="Arial"/>
              </a:rPr>
              <a:t>The CAN Data Frame  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4920" y="609480"/>
            <a:ext cx="8702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04920" y="609480"/>
            <a:ext cx="883908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1143000">
              <a:lnSpc>
                <a:spcPct val="100000"/>
              </a:lnSpc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start bit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1 bit - dominant): beginning of a message; after idle-time falling-edge to synchronize all transmit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identifier </a:t>
            </a: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11 bit): mark the name of the message and its priority ;the lower the value the higher the prior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RTR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1 bit): remote transmission request; if RTR=1 (recessive) no valid data inside the frame - it is a request for receivers to send their messag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IDE </a:t>
            </a: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1 bit): Identifier Extension; if IDE=1 then extended CAN-fram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r0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1 bit): reser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CDL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4 bit): data length code in byte (0...8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data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0...8 byte): the data of the mess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CRC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15 bit): cyclic redundancy code for error detection, no correction; hamming-distance 6 (up to 6 single bit errors can be detecte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ACK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2 bit): acknowledge; if a receiving node has received a valid message, it must transmit an dominant acknowledge – bi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EOF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7 bit = 1, recessive): end of frame; intentional violation of the bit-stuff-rule ; normally after five recessive bits one stuff-bit follows automatical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IFS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3 bit = 1, recessive): inter frame space; time space to copy a received message from bus-handler into buff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Extended Frame only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143000" indent="-1143000">
              <a:lnSpc>
                <a:spcPct val="80000"/>
              </a:lnSpc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SRR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1 bit = recessive): substitute remote request ; substitution of the RTR-bit in standard fram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143000" indent="-1143000">
              <a:lnSpc>
                <a:spcPct val="80000"/>
              </a:lnSpc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r1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1 bit ): reser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e9b03"/>
                </a:solidFill>
                <a:latin typeface="Arial"/>
                <a:ea typeface="Arial"/>
              </a:rPr>
              <a:t>The Standardisation of CAN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41360" y="876240"/>
            <a:ext cx="855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N is an open system and has been standardized by IS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N follows the ISO - OSI seven layer model for open system interconnec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N implements layer 1, 2 and 7 on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owever, Layer 7 is not standard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00040" y="3643200"/>
          <a:ext cx="8358120" cy="2413080"/>
        </p:xfrm>
        <a:graphic>
          <a:graphicData uri="http://schemas.openxmlformats.org/drawingml/2006/table">
            <a:tbl>
              <a:tblPr/>
              <a:tblGrid>
                <a:gridCol w="2786040"/>
                <a:gridCol w="2786040"/>
                <a:gridCol w="2786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Layer 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uro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ww.iso.or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th Amer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ww.sae.or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 – Wire C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E J24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 Wire CAN for Vehicle Applica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-Speed Fault Tolerant C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 11519 -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 11898 - 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-Speed C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 118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EJ22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ISO Reference Model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746280" y="879480"/>
            <a:ext cx="81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15640" y="685800"/>
            <a:ext cx="55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9b03"/>
                </a:solidFill>
                <a:latin typeface="Arial"/>
              </a:rPr>
              <a:t>Open Systems Interconnection (OSI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1" name="Object 5"/>
          <p:cNvGraphicFramePr/>
          <p:nvPr/>
        </p:nvGraphicFramePr>
        <p:xfrm>
          <a:off x="108000" y="1773360"/>
          <a:ext cx="4381560" cy="377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773360"/>
                    <a:ext cx="4381560" cy="37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6"/>
          <p:cNvSpPr/>
          <p:nvPr/>
        </p:nvSpPr>
        <p:spPr>
          <a:xfrm>
            <a:off x="4786200" y="1500120"/>
            <a:ext cx="42069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Layer 1:</a:t>
            </a:r>
            <a:r>
              <a:rPr b="1" lang="en-GB" sz="16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transmission line(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17136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differential two-wire-line, twisted pair with/without shiel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17136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Transceiver Integrated Circu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17136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Optional: fibre optical  lines (passive coupled star, carbon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17136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Optional: Coding as  PWM, NRZ, Manchester Co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17136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ISO 11898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Layer 2:</a:t>
            </a:r>
            <a:r>
              <a:rPr b="1" lang="en-GB" sz="16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Data Link Lay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17136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message format and transmission protoc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17136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ISO 1189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17136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CSMA/CA access protoc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Layer 7:</a:t>
            </a:r>
            <a:r>
              <a:rPr b="1" lang="en-GB" sz="16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Application Layer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17136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different standards in industry, not standardized in automo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e9b03"/>
                </a:solidFill>
                <a:latin typeface="Arial"/>
                <a:ea typeface="Arial"/>
              </a:rPr>
              <a:t>CAN Layer 7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746280" y="879480"/>
            <a:ext cx="81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04920" y="838080"/>
            <a:ext cx="87627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593640" y="650880"/>
            <a:ext cx="855036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e9b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CAN Application Layer (CAL)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9880" indent="-1890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European CAN user group ”CAN in Automation (CiA)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9880" indent="-1890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originated by Philips Medical Systems 19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9880" indent="-1890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CiA DS-201 to DS-20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9880" indent="-1890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standardised communication objects, -services and -protocols (CAN-based Message Specificati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9880" indent="-1890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Services and protocols for dynamic attachment of  identifiers (DB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9880" indent="-1890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Services and protocols for initialise, configure and obtain the net (NM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9880" indent="-1890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Services and protocols for parametric set-up of layer 2 &amp;1 (LM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9880" indent="-1890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Automation, medicine, traffic-indust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9880" indent="-189000">
              <a:lnSpc>
                <a:spcPct val="100000"/>
              </a:lnSpc>
              <a:buClr>
                <a:srgbClr val="fe9b0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e9b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OSEK/VD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9880" indent="-1890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de-DE" sz="2000" spc="-1" strike="noStrike">
                <a:solidFill>
                  <a:srgbClr val="fe9b03"/>
                </a:solidFill>
                <a:latin typeface="Arial"/>
                <a:ea typeface="Arial"/>
              </a:rPr>
              <a:t>O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ffene </a:t>
            </a:r>
            <a:r>
              <a:rPr b="1" lang="de-DE" sz="2000" spc="-1" strike="noStrike">
                <a:solidFill>
                  <a:srgbClr val="fe9b03"/>
                </a:solidFill>
                <a:latin typeface="Arial"/>
                <a:ea typeface="Arial"/>
              </a:rPr>
              <a:t>S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ysteme für </a:t>
            </a:r>
            <a:r>
              <a:rPr b="1" lang="de-DE" sz="2000" spc="-1" strike="noStrike">
                <a:solidFill>
                  <a:srgbClr val="fe9b03"/>
                </a:solidFill>
                <a:latin typeface="Arial"/>
                <a:ea typeface="Arial"/>
              </a:rPr>
              <a:t>E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lektronik im </a:t>
            </a:r>
            <a:r>
              <a:rPr b="1" lang="de-DE" sz="2000" spc="-1" strike="noStrike">
                <a:solidFill>
                  <a:srgbClr val="fe9b03"/>
                </a:solidFill>
                <a:latin typeface="Arial"/>
                <a:ea typeface="Arial"/>
              </a:rPr>
              <a:t>K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raftfahrzeug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9880" indent="-1890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Standard of European automotive electronics indust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9880" indent="-1890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include services of a standardised real-time-operating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9880" indent="-1890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Network Management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9880" indent="-1890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Communic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e9b03"/>
                </a:solidFill>
                <a:latin typeface="Arial"/>
                <a:ea typeface="Arial"/>
              </a:rPr>
              <a:t>CAN Layer 7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746280" y="879480"/>
            <a:ext cx="81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04920" y="838080"/>
            <a:ext cx="87627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93640" y="533520"/>
            <a:ext cx="8550360" cy="57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e9b03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CANopen 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96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European Community funded projec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“ESPRIT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96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1995 : CANopen profile :CiA DS-3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96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1996 : CANopen device profile for I/O : CiA DS-4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96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1997 : CANopen drive pro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96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industrial control , numeric control in Euro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96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e9b03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DeviceNet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96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Allen-Bradley,  now ODVA-group (www. odva.or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96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device profiles for drives, sensors and actuator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96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master-slave communication as well as peer to pe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96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industrial control , mostly U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96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e9b03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Smart Distributed Systems (SD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96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Honeywell ,  device prof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96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only 4 communication functions , less hardware resour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96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industrial control and PC-based contr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96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Bus Access Procedur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59000" y="833400"/>
            <a:ext cx="18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575280" y="650880"/>
            <a:ext cx="42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9b0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e9b03"/>
                </a:solidFill>
                <a:latin typeface="Arial"/>
              </a:rPr>
              <a:t>The “Ethernet”: CSMA / C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Object 5"/>
          <p:cNvGraphicFramePr/>
          <p:nvPr/>
        </p:nvGraphicFramePr>
        <p:xfrm>
          <a:off x="304920" y="1143000"/>
          <a:ext cx="3730680" cy="528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373068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Text Box 6"/>
          <p:cNvSpPr/>
          <p:nvPr/>
        </p:nvSpPr>
        <p:spPr>
          <a:xfrm>
            <a:off x="4799880" y="1870200"/>
            <a:ext cx="2856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SMA /C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rri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n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M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ulti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ccess w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ollis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t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286160" y="5786280"/>
            <a:ext cx="4724640" cy="642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te:     This flowchart does NOT apply to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AN!  See following p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CAN Access Procedure: CSMA/CA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459000" y="833400"/>
            <a:ext cx="18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152280" y="2209680"/>
          <a:ext cx="5181840" cy="30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09680"/>
                    <a:ext cx="5181840" cy="30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Text Box 5"/>
          <p:cNvSpPr/>
          <p:nvPr/>
        </p:nvSpPr>
        <p:spPr>
          <a:xfrm>
            <a:off x="898560" y="87948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SMA/ CA: “</a:t>
            </a: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rier </a:t>
            </a: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se </a:t>
            </a: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tiple </a:t>
            </a: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cess with </a:t>
            </a: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lision </a:t>
            </a: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idance”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5470560" y="2286000"/>
            <a:ext cx="3673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ccess-control with non destructive bit-wide arbit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f there is a collision , the “winner” contin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message with higher priority is not delayed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al-time capability for high prioritised mess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lower the identifier, the higher the prior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CSMA/CA (cont.)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59000" y="833400"/>
            <a:ext cx="18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33520" y="609480"/>
            <a:ext cx="801684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9b03"/>
                </a:solidFill>
                <a:latin typeface="Arial"/>
              </a:rPr>
              <a:t>CSMA / CA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"bit - wide arbitration during transmission with simultaneous receiving and comparing of the transmitted message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ans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5280" indent="-1890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f there is a collision within the arbitration-field, only the nodes with lower priorities cancel transmiss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5280" indent="-1890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node with the highest priority continues with the transmission of the messag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Object 5"/>
          <p:cNvGraphicFramePr/>
          <p:nvPr/>
        </p:nvGraphicFramePr>
        <p:xfrm>
          <a:off x="1547640" y="3429000"/>
          <a:ext cx="6019920" cy="28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429000"/>
                    <a:ext cx="6019920" cy="28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CAN Physical Lay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59000" y="833400"/>
            <a:ext cx="18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33520" y="609480"/>
            <a:ext cx="80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9b03"/>
                </a:solidFill>
                <a:latin typeface="Arial"/>
              </a:rPr>
              <a:t>CAN - High - Speed (ISO 11898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3" name="Object 5"/>
          <p:cNvGraphicFramePr/>
          <p:nvPr/>
        </p:nvGraphicFramePr>
        <p:xfrm>
          <a:off x="2786040" y="1143000"/>
          <a:ext cx="5691240" cy="240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86040" y="1143000"/>
                    <a:ext cx="569124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5" name="Picture 7" descr=""/>
          <p:cNvPicPr/>
          <p:nvPr/>
        </p:nvPicPr>
        <p:blipFill>
          <a:blip r:embed="rId3"/>
          <a:stretch/>
        </p:blipFill>
        <p:spPr>
          <a:xfrm>
            <a:off x="1071720" y="3786120"/>
            <a:ext cx="4714560" cy="2962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Controller Area Network (CAN)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52280" y="685800"/>
            <a:ext cx="87631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veloped by Robert Bosch GmbH, Germany in 198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oducts available from all microcontroller manufacturer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nternational Standards: ISO11898 (Europe), SAE J2284 (US) for “high – speed” CAN; ISO 11519-2 for “fault-tolerant low speed” CA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backbone serial bus system for automotive applications, but also used in industrial automation &amp; cont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vent triggered Serial Bus System; Self-Synchronis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More Features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38232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multi master bus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38232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random access with collision avoidance (CSMA / CA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38232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hort message length , at max. 8 Bytes per 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38232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ata rates 100KBPS to 1MB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38232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hort bus length, physical length depends on data 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38232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elf-synchronised bit coding technolo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38232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Robust EMC - behavio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38232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uild in fault toler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CAN High speed Nod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2448000" y="1204920"/>
            <a:ext cx="4241880" cy="1079640"/>
          </a:xfrm>
          <a:prstGeom prst="rect">
            <a:avLst/>
          </a:prstGeom>
          <a:solidFill>
            <a:srgbClr val="000f40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024360" y="3094200"/>
            <a:ext cx="3174840" cy="771480"/>
          </a:xfrm>
          <a:prstGeom prst="rect">
            <a:avLst/>
          </a:prstGeom>
          <a:solidFill>
            <a:srgbClr val="0249fc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2914560" y="1306440"/>
            <a:ext cx="320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2833x with on-c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3235320" y="3200400"/>
            <a:ext cx="2860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Transcei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705480" y="5342040"/>
            <a:ext cx="1901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- b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4714920" y="2286000"/>
            <a:ext cx="0" cy="798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4286160" y="2286000"/>
            <a:ext cx="0" cy="7984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4785480" y="2571840"/>
            <a:ext cx="512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x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3713760" y="2571840"/>
            <a:ext cx="524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x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763560" y="4473720"/>
            <a:ext cx="7453440" cy="61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13"/>
          <p:cNvSpPr/>
          <p:nvPr/>
        </p:nvSpPr>
        <p:spPr>
          <a:xfrm flipV="1">
            <a:off x="752400" y="5313240"/>
            <a:ext cx="7478640" cy="144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8159760" y="4729320"/>
            <a:ext cx="139680" cy="306360"/>
          </a:xfrm>
          <a:prstGeom prst="rect">
            <a:avLst/>
          </a:prstGeom>
          <a:solidFill>
            <a:srgbClr val="042aa4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8229600" y="5041800"/>
            <a:ext cx="0" cy="2271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16"/>
          <p:cNvSpPr/>
          <p:nvPr/>
        </p:nvSpPr>
        <p:spPr>
          <a:xfrm flipV="1">
            <a:off x="8229600" y="4460760"/>
            <a:ext cx="4680" cy="2318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695160" y="4743360"/>
            <a:ext cx="140040" cy="306360"/>
          </a:xfrm>
          <a:prstGeom prst="rect">
            <a:avLst/>
          </a:prstGeom>
          <a:solidFill>
            <a:srgbClr val="042aa4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763560" y="5056200"/>
            <a:ext cx="1440" cy="2649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19"/>
          <p:cNvSpPr/>
          <p:nvPr/>
        </p:nvSpPr>
        <p:spPr>
          <a:xfrm flipH="1" flipV="1">
            <a:off x="763560" y="4460760"/>
            <a:ext cx="1440" cy="2541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5394960" y="4944960"/>
            <a:ext cx="91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_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Oval 21"/>
          <p:cNvSpPr/>
          <p:nvPr/>
        </p:nvSpPr>
        <p:spPr>
          <a:xfrm>
            <a:off x="3787920" y="4408560"/>
            <a:ext cx="139680" cy="120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2856600" y="4113360"/>
            <a:ext cx="9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_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23"/>
          <p:cNvSpPr/>
          <p:nvPr/>
        </p:nvSpPr>
        <p:spPr>
          <a:xfrm>
            <a:off x="3871800" y="3871800"/>
            <a:ext cx="0" cy="601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24"/>
          <p:cNvSpPr/>
          <p:nvPr/>
        </p:nvSpPr>
        <p:spPr>
          <a:xfrm>
            <a:off x="5357880" y="3895560"/>
            <a:ext cx="0" cy="1378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Oval 25"/>
          <p:cNvSpPr/>
          <p:nvPr/>
        </p:nvSpPr>
        <p:spPr>
          <a:xfrm>
            <a:off x="5278320" y="5237280"/>
            <a:ext cx="139680" cy="120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26"/>
          <p:cNvSpPr/>
          <p:nvPr/>
        </p:nvSpPr>
        <p:spPr>
          <a:xfrm>
            <a:off x="3813480" y="3581280"/>
            <a:ext cx="1637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N65HVD23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e9b03"/>
                </a:solidFill>
                <a:latin typeface="Arial"/>
              </a:rPr>
              <a:t>CAN Error – Frame</a:t>
            </a:r>
            <a:r>
              <a:rPr b="1" lang="en-GB" sz="3600" spc="-1" strike="noStrike">
                <a:solidFill>
                  <a:srgbClr val="fe9b03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746280" y="879480"/>
            <a:ext cx="81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304920" y="838080"/>
            <a:ext cx="87627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593640" y="53352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304920" y="762120"/>
            <a:ext cx="8381880" cy="57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y node that detects a bus error generates an error - fr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 error frame is transmitted as soon as an error has been detected, e.g. inside a data fr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nsists of two fields: 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Error Flag Field; Error Delimiter Field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fe9b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fe9b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Error Delimiter Field: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1360" indent="-2541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8 recessive b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1360" indent="-2541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llow bus nodes to restart bus communication after an err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fe9b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Error Flag Fiel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1360" indent="-254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ype depends on the error-state of the nod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68560" indent="-254160">
              <a:lnSpc>
                <a:spcPct val="100000"/>
              </a:lnSpc>
              <a:buClr>
                <a:srgbClr val="fe9b0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  <a:ea typeface="Arial"/>
              </a:rPr>
              <a:t>error active: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6 consecutive dominant error bits; all other nodes will respond to this violation with their own error frames </a:t>
            </a:r>
            <a:r>
              <a:rPr b="1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Error Flag Field = 6…12 dominant b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68560" indent="-254160">
              <a:lnSpc>
                <a:spcPct val="100000"/>
              </a:lnSpc>
              <a:buClr>
                <a:srgbClr val="fe9b0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  <a:ea typeface="Arial"/>
              </a:rPr>
              <a:t>error passive: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6 consecutive recessive bits plus 8 error delimiter bits = 14 recessive b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receiver:  does not corrupt the messag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ransmitter:  other nodes may respond with active          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      error fram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e9b03"/>
                </a:solidFill>
                <a:latin typeface="Arial"/>
              </a:rPr>
              <a:t>CAN Error – Frame</a:t>
            </a:r>
            <a:r>
              <a:rPr b="1" lang="en-GB" sz="3600" spc="-1" strike="noStrike">
                <a:solidFill>
                  <a:srgbClr val="fe9b03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593640" y="53352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746280" y="1628640"/>
            <a:ext cx="81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7"/>
          <p:cNvSpPr/>
          <p:nvPr/>
        </p:nvSpPr>
        <p:spPr>
          <a:xfrm>
            <a:off x="593640" y="2738520"/>
            <a:ext cx="1098720" cy="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8"/>
          <p:cNvSpPr/>
          <p:nvPr/>
        </p:nvSpPr>
        <p:spPr>
          <a:xfrm>
            <a:off x="1692360" y="2738520"/>
            <a:ext cx="0" cy="36036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1692360" y="3098880"/>
            <a:ext cx="1054080" cy="144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3132000" y="3098880"/>
            <a:ext cx="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12"/>
          <p:cNvSpPr/>
          <p:nvPr/>
        </p:nvSpPr>
        <p:spPr>
          <a:xfrm>
            <a:off x="2746440" y="2954160"/>
            <a:ext cx="0" cy="28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13"/>
          <p:cNvSpPr/>
          <p:nvPr/>
        </p:nvSpPr>
        <p:spPr>
          <a:xfrm>
            <a:off x="2892600" y="2954160"/>
            <a:ext cx="0" cy="28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Line 14"/>
          <p:cNvSpPr/>
          <p:nvPr/>
        </p:nvSpPr>
        <p:spPr>
          <a:xfrm flipV="1">
            <a:off x="2892600" y="3098880"/>
            <a:ext cx="1679400" cy="144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15"/>
          <p:cNvSpPr/>
          <p:nvPr/>
        </p:nvSpPr>
        <p:spPr>
          <a:xfrm>
            <a:off x="4572000" y="2738520"/>
            <a:ext cx="0" cy="36036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16"/>
          <p:cNvSpPr/>
          <p:nvPr/>
        </p:nvSpPr>
        <p:spPr>
          <a:xfrm flipH="1">
            <a:off x="593640" y="3098880"/>
            <a:ext cx="1098720" cy="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17"/>
          <p:cNvSpPr/>
          <p:nvPr/>
        </p:nvSpPr>
        <p:spPr>
          <a:xfrm>
            <a:off x="4572000" y="2738520"/>
            <a:ext cx="1224000" cy="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18"/>
          <p:cNvSpPr/>
          <p:nvPr/>
        </p:nvSpPr>
        <p:spPr>
          <a:xfrm>
            <a:off x="5796000" y="2738520"/>
            <a:ext cx="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19"/>
          <p:cNvSpPr/>
          <p:nvPr/>
        </p:nvSpPr>
        <p:spPr>
          <a:xfrm>
            <a:off x="5796000" y="2593800"/>
            <a:ext cx="0" cy="28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Line 20"/>
          <p:cNvSpPr/>
          <p:nvPr/>
        </p:nvSpPr>
        <p:spPr>
          <a:xfrm>
            <a:off x="5796000" y="2593800"/>
            <a:ext cx="0" cy="28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21"/>
          <p:cNvSpPr/>
          <p:nvPr/>
        </p:nvSpPr>
        <p:spPr>
          <a:xfrm>
            <a:off x="5940360" y="2593800"/>
            <a:ext cx="0" cy="28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Line 22"/>
          <p:cNvSpPr/>
          <p:nvPr/>
        </p:nvSpPr>
        <p:spPr>
          <a:xfrm>
            <a:off x="5940360" y="2738520"/>
            <a:ext cx="2975040" cy="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23"/>
          <p:cNvSpPr/>
          <p:nvPr/>
        </p:nvSpPr>
        <p:spPr>
          <a:xfrm>
            <a:off x="7740720" y="2738520"/>
            <a:ext cx="0" cy="36036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24"/>
          <p:cNvSpPr/>
          <p:nvPr/>
        </p:nvSpPr>
        <p:spPr>
          <a:xfrm>
            <a:off x="7740720" y="3098880"/>
            <a:ext cx="1174680" cy="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25"/>
          <p:cNvSpPr/>
          <p:nvPr/>
        </p:nvSpPr>
        <p:spPr>
          <a:xfrm>
            <a:off x="1692360" y="2233440"/>
            <a:ext cx="0" cy="505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26"/>
          <p:cNvSpPr/>
          <p:nvPr/>
        </p:nvSpPr>
        <p:spPr>
          <a:xfrm>
            <a:off x="593640" y="2378160"/>
            <a:ext cx="1098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27"/>
          <p:cNvSpPr/>
          <p:nvPr/>
        </p:nvSpPr>
        <p:spPr>
          <a:xfrm>
            <a:off x="748080" y="202104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28"/>
          <p:cNvSpPr/>
          <p:nvPr/>
        </p:nvSpPr>
        <p:spPr>
          <a:xfrm>
            <a:off x="7740720" y="2325600"/>
            <a:ext cx="0" cy="412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29"/>
          <p:cNvSpPr/>
          <p:nvPr/>
        </p:nvSpPr>
        <p:spPr>
          <a:xfrm>
            <a:off x="1692360" y="2378160"/>
            <a:ext cx="60483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30"/>
          <p:cNvSpPr/>
          <p:nvPr/>
        </p:nvSpPr>
        <p:spPr>
          <a:xfrm>
            <a:off x="4004640" y="202104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rror fr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Line 31"/>
          <p:cNvSpPr/>
          <p:nvPr/>
        </p:nvSpPr>
        <p:spPr>
          <a:xfrm flipH="1">
            <a:off x="7740360" y="2378160"/>
            <a:ext cx="11746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32"/>
          <p:cNvSpPr/>
          <p:nvPr/>
        </p:nvSpPr>
        <p:spPr>
          <a:xfrm>
            <a:off x="7548840" y="2021040"/>
            <a:ext cx="165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r frame spa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33"/>
          <p:cNvSpPr/>
          <p:nvPr/>
        </p:nvSpPr>
        <p:spPr>
          <a:xfrm>
            <a:off x="4572000" y="3098880"/>
            <a:ext cx="0" cy="93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Line 34"/>
          <p:cNvSpPr/>
          <p:nvPr/>
        </p:nvSpPr>
        <p:spPr>
          <a:xfrm>
            <a:off x="1692360" y="3098880"/>
            <a:ext cx="0" cy="93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35"/>
          <p:cNvSpPr/>
          <p:nvPr/>
        </p:nvSpPr>
        <p:spPr>
          <a:xfrm>
            <a:off x="3147840" y="3100320"/>
            <a:ext cx="0" cy="503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36"/>
          <p:cNvSpPr/>
          <p:nvPr/>
        </p:nvSpPr>
        <p:spPr>
          <a:xfrm>
            <a:off x="1687680" y="3429000"/>
            <a:ext cx="1455480" cy="792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37"/>
          <p:cNvSpPr/>
          <p:nvPr/>
        </p:nvSpPr>
        <p:spPr>
          <a:xfrm>
            <a:off x="1793880" y="3429000"/>
            <a:ext cx="138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 bit error fl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38"/>
          <p:cNvSpPr/>
          <p:nvPr/>
        </p:nvSpPr>
        <p:spPr>
          <a:xfrm>
            <a:off x="1692360" y="3762360"/>
            <a:ext cx="28796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39"/>
          <p:cNvSpPr/>
          <p:nvPr/>
        </p:nvSpPr>
        <p:spPr>
          <a:xfrm>
            <a:off x="2281680" y="3728880"/>
            <a:ext cx="198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..12 bit error overl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Line 40"/>
          <p:cNvSpPr/>
          <p:nvPr/>
        </p:nvSpPr>
        <p:spPr>
          <a:xfrm>
            <a:off x="7740720" y="3098880"/>
            <a:ext cx="0" cy="93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Line 41"/>
          <p:cNvSpPr/>
          <p:nvPr/>
        </p:nvSpPr>
        <p:spPr>
          <a:xfrm>
            <a:off x="4572000" y="3762360"/>
            <a:ext cx="3168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42"/>
          <p:cNvSpPr/>
          <p:nvPr/>
        </p:nvSpPr>
        <p:spPr>
          <a:xfrm>
            <a:off x="5138640" y="372888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 bit error delimi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43"/>
          <p:cNvSpPr/>
          <p:nvPr/>
        </p:nvSpPr>
        <p:spPr>
          <a:xfrm>
            <a:off x="3278520" y="4172040"/>
            <a:ext cx="28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e error fra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43"/>
          <p:cNvSpPr/>
          <p:nvPr/>
        </p:nvSpPr>
        <p:spPr>
          <a:xfrm>
            <a:off x="217440" y="1071720"/>
            <a:ext cx="46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1:   Active error fra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e9b03"/>
                </a:solidFill>
                <a:latin typeface="Arial"/>
              </a:rPr>
              <a:t>CAN Error – Frame</a:t>
            </a:r>
            <a:r>
              <a:rPr b="1" lang="en-GB" sz="3600" spc="-1" strike="noStrike">
                <a:solidFill>
                  <a:srgbClr val="fe9b03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746280" y="879480"/>
            <a:ext cx="81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20" y="838080"/>
            <a:ext cx="87627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593640" y="53352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Group 43"/>
          <p:cNvGrpSpPr/>
          <p:nvPr/>
        </p:nvGrpSpPr>
        <p:grpSpPr>
          <a:xfrm>
            <a:off x="593640" y="933480"/>
            <a:ext cx="8614080" cy="2048760"/>
            <a:chOff x="593640" y="933480"/>
            <a:chExt cx="8614080" cy="2048760"/>
          </a:xfrm>
        </p:grpSpPr>
        <p:sp>
          <p:nvSpPr>
            <p:cNvPr id="241" name="Line 6"/>
            <p:cNvSpPr/>
            <p:nvPr/>
          </p:nvSpPr>
          <p:spPr>
            <a:xfrm>
              <a:off x="593640" y="1650960"/>
              <a:ext cx="1098720" cy="0"/>
            </a:xfrm>
            <a:prstGeom prst="line">
              <a:avLst/>
            </a:prstGeom>
            <a:ln w="284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Line 7"/>
            <p:cNvSpPr/>
            <p:nvPr/>
          </p:nvSpPr>
          <p:spPr>
            <a:xfrm>
              <a:off x="1692360" y="1650960"/>
              <a:ext cx="0" cy="360360"/>
            </a:xfrm>
            <a:prstGeom prst="line">
              <a:avLst/>
            </a:prstGeom>
            <a:ln w="284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Line 15"/>
            <p:cNvSpPr/>
            <p:nvPr/>
          </p:nvSpPr>
          <p:spPr>
            <a:xfrm flipH="1">
              <a:off x="593640" y="2011320"/>
              <a:ext cx="1098720" cy="0"/>
            </a:xfrm>
            <a:prstGeom prst="line">
              <a:avLst/>
            </a:prstGeom>
            <a:ln w="284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Line 17"/>
            <p:cNvSpPr/>
            <p:nvPr/>
          </p:nvSpPr>
          <p:spPr>
            <a:xfrm>
              <a:off x="5796000" y="1650960"/>
              <a:ext cx="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Line 21"/>
            <p:cNvSpPr/>
            <p:nvPr/>
          </p:nvSpPr>
          <p:spPr>
            <a:xfrm>
              <a:off x="1692360" y="1650960"/>
              <a:ext cx="7223040" cy="0"/>
            </a:xfrm>
            <a:prstGeom prst="line">
              <a:avLst/>
            </a:prstGeom>
            <a:ln w="284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Line 22"/>
            <p:cNvSpPr/>
            <p:nvPr/>
          </p:nvSpPr>
          <p:spPr>
            <a:xfrm>
              <a:off x="7740720" y="1650960"/>
              <a:ext cx="0" cy="360360"/>
            </a:xfrm>
            <a:prstGeom prst="line">
              <a:avLst/>
            </a:prstGeom>
            <a:ln w="284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Line 23"/>
            <p:cNvSpPr/>
            <p:nvPr/>
          </p:nvSpPr>
          <p:spPr>
            <a:xfrm>
              <a:off x="7740720" y="2011320"/>
              <a:ext cx="1174680" cy="0"/>
            </a:xfrm>
            <a:prstGeom prst="line">
              <a:avLst/>
            </a:prstGeom>
            <a:ln w="284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Line 24"/>
            <p:cNvSpPr/>
            <p:nvPr/>
          </p:nvSpPr>
          <p:spPr>
            <a:xfrm>
              <a:off x="1692360" y="1146240"/>
              <a:ext cx="0" cy="50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Line 25"/>
            <p:cNvSpPr/>
            <p:nvPr/>
          </p:nvSpPr>
          <p:spPr>
            <a:xfrm>
              <a:off x="593640" y="1290600"/>
              <a:ext cx="1098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Text Box 26"/>
            <p:cNvSpPr/>
            <p:nvPr/>
          </p:nvSpPr>
          <p:spPr>
            <a:xfrm>
              <a:off x="748080" y="9334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Line 27"/>
            <p:cNvSpPr/>
            <p:nvPr/>
          </p:nvSpPr>
          <p:spPr>
            <a:xfrm>
              <a:off x="7740720" y="1238400"/>
              <a:ext cx="0" cy="41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Line 28"/>
            <p:cNvSpPr/>
            <p:nvPr/>
          </p:nvSpPr>
          <p:spPr>
            <a:xfrm>
              <a:off x="1692360" y="1290600"/>
              <a:ext cx="6048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Text Box 29"/>
            <p:cNvSpPr/>
            <p:nvPr/>
          </p:nvSpPr>
          <p:spPr>
            <a:xfrm>
              <a:off x="4004640" y="933480"/>
              <a:ext cx="113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rror fram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Line 30"/>
            <p:cNvSpPr/>
            <p:nvPr/>
          </p:nvSpPr>
          <p:spPr>
            <a:xfrm flipH="1">
              <a:off x="7740360" y="1290600"/>
              <a:ext cx="117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Text Box 31"/>
            <p:cNvSpPr/>
            <p:nvPr/>
          </p:nvSpPr>
          <p:spPr>
            <a:xfrm>
              <a:off x="7548840" y="933480"/>
              <a:ext cx="165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ter frame spac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Line 32"/>
            <p:cNvSpPr/>
            <p:nvPr/>
          </p:nvSpPr>
          <p:spPr>
            <a:xfrm>
              <a:off x="4572000" y="1650960"/>
              <a:ext cx="0" cy="129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Line 33"/>
            <p:cNvSpPr/>
            <p:nvPr/>
          </p:nvSpPr>
          <p:spPr>
            <a:xfrm>
              <a:off x="1692360" y="2011320"/>
              <a:ext cx="0" cy="93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Text Box 36"/>
            <p:cNvSpPr/>
            <p:nvPr/>
          </p:nvSpPr>
          <p:spPr>
            <a:xfrm>
              <a:off x="2440080" y="2675160"/>
              <a:ext cx="1383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 bit error fla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Line 37"/>
            <p:cNvSpPr/>
            <p:nvPr/>
          </p:nvSpPr>
          <p:spPr>
            <a:xfrm>
              <a:off x="1692360" y="2675160"/>
              <a:ext cx="28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Line 39"/>
            <p:cNvSpPr/>
            <p:nvPr/>
          </p:nvSpPr>
          <p:spPr>
            <a:xfrm>
              <a:off x="7740720" y="2011320"/>
              <a:ext cx="0" cy="93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Line 40"/>
            <p:cNvSpPr/>
            <p:nvPr/>
          </p:nvSpPr>
          <p:spPr>
            <a:xfrm>
              <a:off x="4572000" y="2675160"/>
              <a:ext cx="3168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Text Box 41"/>
            <p:cNvSpPr/>
            <p:nvPr/>
          </p:nvSpPr>
          <p:spPr>
            <a:xfrm>
              <a:off x="5138640" y="2641680"/>
              <a:ext cx="20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8 bit error delimit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Text Box 42"/>
          <p:cNvSpPr/>
          <p:nvPr/>
        </p:nvSpPr>
        <p:spPr>
          <a:xfrm>
            <a:off x="2088720" y="2979720"/>
            <a:ext cx="54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ssive error frame from a receiver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45"/>
          <p:cNvSpPr/>
          <p:nvPr/>
        </p:nvSpPr>
        <p:spPr>
          <a:xfrm>
            <a:off x="746280" y="3284640"/>
            <a:ext cx="81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Line 46"/>
          <p:cNvSpPr/>
          <p:nvPr/>
        </p:nvSpPr>
        <p:spPr>
          <a:xfrm>
            <a:off x="593640" y="4394160"/>
            <a:ext cx="1098720" cy="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Line 47"/>
          <p:cNvSpPr/>
          <p:nvPr/>
        </p:nvSpPr>
        <p:spPr>
          <a:xfrm>
            <a:off x="1692360" y="4394160"/>
            <a:ext cx="0" cy="36036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48"/>
          <p:cNvSpPr/>
          <p:nvPr/>
        </p:nvSpPr>
        <p:spPr>
          <a:xfrm>
            <a:off x="1722600" y="4394160"/>
            <a:ext cx="1439640" cy="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49"/>
          <p:cNvSpPr/>
          <p:nvPr/>
        </p:nvSpPr>
        <p:spPr>
          <a:xfrm>
            <a:off x="3213000" y="4394160"/>
            <a:ext cx="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51"/>
          <p:cNvSpPr/>
          <p:nvPr/>
        </p:nvSpPr>
        <p:spPr>
          <a:xfrm>
            <a:off x="3170160" y="4249800"/>
            <a:ext cx="0" cy="28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Line 52"/>
          <p:cNvSpPr/>
          <p:nvPr/>
        </p:nvSpPr>
        <p:spPr>
          <a:xfrm>
            <a:off x="3357720" y="4249800"/>
            <a:ext cx="0" cy="28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54"/>
          <p:cNvSpPr/>
          <p:nvPr/>
        </p:nvSpPr>
        <p:spPr>
          <a:xfrm>
            <a:off x="4572000" y="4394160"/>
            <a:ext cx="0" cy="36036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55"/>
          <p:cNvSpPr/>
          <p:nvPr/>
        </p:nvSpPr>
        <p:spPr>
          <a:xfrm flipH="1">
            <a:off x="593640" y="4754520"/>
            <a:ext cx="1098720" cy="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56"/>
          <p:cNvSpPr/>
          <p:nvPr/>
        </p:nvSpPr>
        <p:spPr>
          <a:xfrm>
            <a:off x="4572000" y="4394160"/>
            <a:ext cx="1224000" cy="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57"/>
          <p:cNvSpPr/>
          <p:nvPr/>
        </p:nvSpPr>
        <p:spPr>
          <a:xfrm>
            <a:off x="5796000" y="4394160"/>
            <a:ext cx="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58"/>
          <p:cNvSpPr/>
          <p:nvPr/>
        </p:nvSpPr>
        <p:spPr>
          <a:xfrm>
            <a:off x="5796000" y="4249800"/>
            <a:ext cx="0" cy="28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59"/>
          <p:cNvSpPr/>
          <p:nvPr/>
        </p:nvSpPr>
        <p:spPr>
          <a:xfrm>
            <a:off x="5796000" y="4249800"/>
            <a:ext cx="0" cy="28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Line 60"/>
          <p:cNvSpPr/>
          <p:nvPr/>
        </p:nvSpPr>
        <p:spPr>
          <a:xfrm>
            <a:off x="5940360" y="4249800"/>
            <a:ext cx="0" cy="28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Line 61"/>
          <p:cNvSpPr/>
          <p:nvPr/>
        </p:nvSpPr>
        <p:spPr>
          <a:xfrm>
            <a:off x="5940360" y="4394160"/>
            <a:ext cx="2975040" cy="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Line 62"/>
          <p:cNvSpPr/>
          <p:nvPr/>
        </p:nvSpPr>
        <p:spPr>
          <a:xfrm>
            <a:off x="7740720" y="4394160"/>
            <a:ext cx="0" cy="36036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Line 63"/>
          <p:cNvSpPr/>
          <p:nvPr/>
        </p:nvSpPr>
        <p:spPr>
          <a:xfrm>
            <a:off x="7740720" y="4754520"/>
            <a:ext cx="1174680" cy="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Line 64"/>
          <p:cNvSpPr/>
          <p:nvPr/>
        </p:nvSpPr>
        <p:spPr>
          <a:xfrm>
            <a:off x="1692360" y="3889440"/>
            <a:ext cx="0" cy="504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Line 65"/>
          <p:cNvSpPr/>
          <p:nvPr/>
        </p:nvSpPr>
        <p:spPr>
          <a:xfrm>
            <a:off x="593640" y="4033800"/>
            <a:ext cx="1098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66"/>
          <p:cNvSpPr/>
          <p:nvPr/>
        </p:nvSpPr>
        <p:spPr>
          <a:xfrm>
            <a:off x="748080" y="36766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Line 67"/>
          <p:cNvSpPr/>
          <p:nvPr/>
        </p:nvSpPr>
        <p:spPr>
          <a:xfrm>
            <a:off x="7740720" y="3981600"/>
            <a:ext cx="0" cy="412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Line 68"/>
          <p:cNvSpPr/>
          <p:nvPr/>
        </p:nvSpPr>
        <p:spPr>
          <a:xfrm>
            <a:off x="1692360" y="4033800"/>
            <a:ext cx="60483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69"/>
          <p:cNvSpPr/>
          <p:nvPr/>
        </p:nvSpPr>
        <p:spPr>
          <a:xfrm>
            <a:off x="4004640" y="367668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rror fr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Line 70"/>
          <p:cNvSpPr/>
          <p:nvPr/>
        </p:nvSpPr>
        <p:spPr>
          <a:xfrm flipH="1">
            <a:off x="7740360" y="4033800"/>
            <a:ext cx="11746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71"/>
          <p:cNvSpPr/>
          <p:nvPr/>
        </p:nvSpPr>
        <p:spPr>
          <a:xfrm>
            <a:off x="7548840" y="3676680"/>
            <a:ext cx="165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r frame spa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Line 72"/>
          <p:cNvSpPr/>
          <p:nvPr/>
        </p:nvSpPr>
        <p:spPr>
          <a:xfrm>
            <a:off x="4572000" y="4754520"/>
            <a:ext cx="0" cy="93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Line 73"/>
          <p:cNvSpPr/>
          <p:nvPr/>
        </p:nvSpPr>
        <p:spPr>
          <a:xfrm>
            <a:off x="1692360" y="4754520"/>
            <a:ext cx="0" cy="358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Line 74"/>
          <p:cNvSpPr/>
          <p:nvPr/>
        </p:nvSpPr>
        <p:spPr>
          <a:xfrm>
            <a:off x="3564000" y="439416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Line 75"/>
          <p:cNvSpPr/>
          <p:nvPr/>
        </p:nvSpPr>
        <p:spPr>
          <a:xfrm>
            <a:off x="1692360" y="5113440"/>
            <a:ext cx="18716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76"/>
          <p:cNvSpPr/>
          <p:nvPr/>
        </p:nvSpPr>
        <p:spPr>
          <a:xfrm>
            <a:off x="1686240" y="511344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 bit passive error fl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Line 77"/>
          <p:cNvSpPr/>
          <p:nvPr/>
        </p:nvSpPr>
        <p:spPr>
          <a:xfrm>
            <a:off x="3564000" y="5418000"/>
            <a:ext cx="1008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78"/>
          <p:cNvSpPr/>
          <p:nvPr/>
        </p:nvSpPr>
        <p:spPr>
          <a:xfrm>
            <a:off x="2664000" y="5689440"/>
            <a:ext cx="230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 bit active error overl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rom another active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Line 79"/>
          <p:cNvSpPr/>
          <p:nvPr/>
        </p:nvSpPr>
        <p:spPr>
          <a:xfrm>
            <a:off x="7740720" y="4754520"/>
            <a:ext cx="0" cy="93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Line 80"/>
          <p:cNvSpPr/>
          <p:nvPr/>
        </p:nvSpPr>
        <p:spPr>
          <a:xfrm>
            <a:off x="4572000" y="5418000"/>
            <a:ext cx="3168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81"/>
          <p:cNvSpPr/>
          <p:nvPr/>
        </p:nvSpPr>
        <p:spPr>
          <a:xfrm>
            <a:off x="5138640" y="538488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 bit error delimi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82"/>
          <p:cNvSpPr/>
          <p:nvPr/>
        </p:nvSpPr>
        <p:spPr>
          <a:xfrm>
            <a:off x="1657800" y="6056280"/>
            <a:ext cx="579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ssive error frame from a transmitt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Line 83"/>
          <p:cNvSpPr/>
          <p:nvPr/>
        </p:nvSpPr>
        <p:spPr>
          <a:xfrm flipH="1">
            <a:off x="3563640" y="4754520"/>
            <a:ext cx="990360" cy="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Line 84"/>
          <p:cNvSpPr/>
          <p:nvPr/>
        </p:nvSpPr>
        <p:spPr>
          <a:xfrm>
            <a:off x="3357720" y="4394160"/>
            <a:ext cx="206280" cy="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Line 85"/>
          <p:cNvSpPr/>
          <p:nvPr/>
        </p:nvSpPr>
        <p:spPr>
          <a:xfrm>
            <a:off x="3564000" y="4394160"/>
            <a:ext cx="0" cy="36036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e9b03"/>
                </a:solidFill>
                <a:latin typeface="Arial"/>
              </a:rPr>
              <a:t>CAN Error – Frame</a:t>
            </a:r>
            <a:r>
              <a:rPr b="1" lang="en-GB" sz="3600" spc="-1" strike="noStrike">
                <a:solidFill>
                  <a:srgbClr val="fe9b03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746280" y="879480"/>
            <a:ext cx="81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593640" y="53352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Line 7"/>
          <p:cNvSpPr/>
          <p:nvPr/>
        </p:nvSpPr>
        <p:spPr>
          <a:xfrm>
            <a:off x="1725480" y="1650960"/>
            <a:ext cx="1098720" cy="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Line 8"/>
          <p:cNvSpPr/>
          <p:nvPr/>
        </p:nvSpPr>
        <p:spPr>
          <a:xfrm>
            <a:off x="2824200" y="1650960"/>
            <a:ext cx="0" cy="36036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Line 9"/>
          <p:cNvSpPr/>
          <p:nvPr/>
        </p:nvSpPr>
        <p:spPr>
          <a:xfrm flipH="1">
            <a:off x="1725480" y="2011320"/>
            <a:ext cx="1098720" cy="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Line 10"/>
          <p:cNvSpPr/>
          <p:nvPr/>
        </p:nvSpPr>
        <p:spPr>
          <a:xfrm>
            <a:off x="6927840" y="1650960"/>
            <a:ext cx="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Line 11"/>
          <p:cNvSpPr/>
          <p:nvPr/>
        </p:nvSpPr>
        <p:spPr>
          <a:xfrm>
            <a:off x="2824200" y="2011320"/>
            <a:ext cx="1460520" cy="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Line 14"/>
          <p:cNvSpPr/>
          <p:nvPr/>
        </p:nvSpPr>
        <p:spPr>
          <a:xfrm>
            <a:off x="2824200" y="1146240"/>
            <a:ext cx="0" cy="504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Line 15"/>
          <p:cNvSpPr/>
          <p:nvPr/>
        </p:nvSpPr>
        <p:spPr>
          <a:xfrm>
            <a:off x="1725480" y="1290600"/>
            <a:ext cx="1098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2429280" y="9334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19"/>
          <p:cNvSpPr/>
          <p:nvPr/>
        </p:nvSpPr>
        <p:spPr>
          <a:xfrm>
            <a:off x="82800" y="1290600"/>
            <a:ext cx="1331280" cy="520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nsmitter 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N - T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30"/>
          <p:cNvSpPr/>
          <p:nvPr/>
        </p:nvSpPr>
        <p:spPr>
          <a:xfrm>
            <a:off x="746280" y="3284640"/>
            <a:ext cx="81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65"/>
          <p:cNvSpPr/>
          <p:nvPr/>
        </p:nvSpPr>
        <p:spPr>
          <a:xfrm>
            <a:off x="2414520" y="5827680"/>
            <a:ext cx="42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: active error fra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69"/>
          <p:cNvSpPr/>
          <p:nvPr/>
        </p:nvSpPr>
        <p:spPr>
          <a:xfrm>
            <a:off x="203760" y="2349360"/>
            <a:ext cx="1093680" cy="520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eiver 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N - T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70"/>
          <p:cNvSpPr/>
          <p:nvPr/>
        </p:nvSpPr>
        <p:spPr>
          <a:xfrm>
            <a:off x="203760" y="3483000"/>
            <a:ext cx="1082880" cy="520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eiver Z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N - T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71"/>
          <p:cNvSpPr/>
          <p:nvPr/>
        </p:nvSpPr>
        <p:spPr>
          <a:xfrm>
            <a:off x="218520" y="4653000"/>
            <a:ext cx="1073880" cy="520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us -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Line 72"/>
          <p:cNvSpPr/>
          <p:nvPr/>
        </p:nvSpPr>
        <p:spPr>
          <a:xfrm>
            <a:off x="1725480" y="4788000"/>
            <a:ext cx="1098720" cy="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Line 73"/>
          <p:cNvSpPr/>
          <p:nvPr/>
        </p:nvSpPr>
        <p:spPr>
          <a:xfrm>
            <a:off x="2824200" y="4788000"/>
            <a:ext cx="0" cy="36036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Line 74"/>
          <p:cNvSpPr/>
          <p:nvPr/>
        </p:nvSpPr>
        <p:spPr>
          <a:xfrm flipH="1">
            <a:off x="1725480" y="5148360"/>
            <a:ext cx="1098720" cy="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Line 75"/>
          <p:cNvSpPr/>
          <p:nvPr/>
        </p:nvSpPr>
        <p:spPr>
          <a:xfrm>
            <a:off x="6927840" y="4788000"/>
            <a:ext cx="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Line 76"/>
          <p:cNvSpPr/>
          <p:nvPr/>
        </p:nvSpPr>
        <p:spPr>
          <a:xfrm>
            <a:off x="2824200" y="5148360"/>
            <a:ext cx="2971800" cy="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Line 77"/>
          <p:cNvSpPr/>
          <p:nvPr/>
        </p:nvSpPr>
        <p:spPr>
          <a:xfrm>
            <a:off x="2824200" y="2011320"/>
            <a:ext cx="0" cy="3433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Oval 78"/>
          <p:cNvSpPr/>
          <p:nvPr/>
        </p:nvSpPr>
        <p:spPr>
          <a:xfrm>
            <a:off x="2428920" y="4508640"/>
            <a:ext cx="271440" cy="27936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Oval 80"/>
          <p:cNvSpPr/>
          <p:nvPr/>
        </p:nvSpPr>
        <p:spPr>
          <a:xfrm>
            <a:off x="2916360" y="1336680"/>
            <a:ext cx="271440" cy="27936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Line 81"/>
          <p:cNvSpPr/>
          <p:nvPr/>
        </p:nvSpPr>
        <p:spPr>
          <a:xfrm>
            <a:off x="1725480" y="2349360"/>
            <a:ext cx="2559240" cy="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Line 82"/>
          <p:cNvSpPr/>
          <p:nvPr/>
        </p:nvSpPr>
        <p:spPr>
          <a:xfrm>
            <a:off x="1725480" y="3492360"/>
            <a:ext cx="2559240" cy="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Line 83"/>
          <p:cNvSpPr/>
          <p:nvPr/>
        </p:nvSpPr>
        <p:spPr>
          <a:xfrm>
            <a:off x="4284720" y="2349360"/>
            <a:ext cx="0" cy="35892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Line 84"/>
          <p:cNvSpPr/>
          <p:nvPr/>
        </p:nvSpPr>
        <p:spPr>
          <a:xfrm>
            <a:off x="4284720" y="2708280"/>
            <a:ext cx="1511280" cy="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Line 85"/>
          <p:cNvSpPr/>
          <p:nvPr/>
        </p:nvSpPr>
        <p:spPr>
          <a:xfrm>
            <a:off x="5796000" y="2349360"/>
            <a:ext cx="0" cy="35892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Line 86"/>
          <p:cNvSpPr/>
          <p:nvPr/>
        </p:nvSpPr>
        <p:spPr>
          <a:xfrm>
            <a:off x="5796000" y="2349360"/>
            <a:ext cx="2716200" cy="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Line 87"/>
          <p:cNvSpPr/>
          <p:nvPr/>
        </p:nvSpPr>
        <p:spPr>
          <a:xfrm>
            <a:off x="4284720" y="3492360"/>
            <a:ext cx="0" cy="36828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Line 88"/>
          <p:cNvSpPr/>
          <p:nvPr/>
        </p:nvSpPr>
        <p:spPr>
          <a:xfrm>
            <a:off x="4284720" y="3860640"/>
            <a:ext cx="1511280" cy="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Line 89"/>
          <p:cNvSpPr/>
          <p:nvPr/>
        </p:nvSpPr>
        <p:spPr>
          <a:xfrm>
            <a:off x="5796000" y="3483000"/>
            <a:ext cx="0" cy="37764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Line 90"/>
          <p:cNvSpPr/>
          <p:nvPr/>
        </p:nvSpPr>
        <p:spPr>
          <a:xfrm>
            <a:off x="5796000" y="3483000"/>
            <a:ext cx="2716200" cy="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Line 91"/>
          <p:cNvSpPr/>
          <p:nvPr/>
        </p:nvSpPr>
        <p:spPr>
          <a:xfrm flipV="1">
            <a:off x="4284720" y="1616040"/>
            <a:ext cx="0" cy="39528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Line 92"/>
          <p:cNvSpPr/>
          <p:nvPr/>
        </p:nvSpPr>
        <p:spPr>
          <a:xfrm>
            <a:off x="4284720" y="1616040"/>
            <a:ext cx="4227480" cy="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Line 93"/>
          <p:cNvSpPr/>
          <p:nvPr/>
        </p:nvSpPr>
        <p:spPr>
          <a:xfrm>
            <a:off x="4284720" y="2011320"/>
            <a:ext cx="0" cy="3433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Line 94"/>
          <p:cNvSpPr/>
          <p:nvPr/>
        </p:nvSpPr>
        <p:spPr>
          <a:xfrm>
            <a:off x="5796000" y="2349360"/>
            <a:ext cx="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Line 95"/>
          <p:cNvSpPr/>
          <p:nvPr/>
        </p:nvSpPr>
        <p:spPr>
          <a:xfrm>
            <a:off x="5796000" y="1616040"/>
            <a:ext cx="0" cy="382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Oval 96"/>
          <p:cNvSpPr/>
          <p:nvPr/>
        </p:nvSpPr>
        <p:spPr>
          <a:xfrm>
            <a:off x="4013280" y="4788000"/>
            <a:ext cx="271440" cy="27936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Oval 97"/>
          <p:cNvSpPr/>
          <p:nvPr/>
        </p:nvSpPr>
        <p:spPr>
          <a:xfrm>
            <a:off x="4284720" y="2349360"/>
            <a:ext cx="271440" cy="27972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Oval 98"/>
          <p:cNvSpPr/>
          <p:nvPr/>
        </p:nvSpPr>
        <p:spPr>
          <a:xfrm>
            <a:off x="4284720" y="3492360"/>
            <a:ext cx="271440" cy="27972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Oval 99"/>
          <p:cNvSpPr/>
          <p:nvPr/>
        </p:nvSpPr>
        <p:spPr>
          <a:xfrm>
            <a:off x="4284720" y="4513320"/>
            <a:ext cx="271440" cy="27936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Line 100"/>
          <p:cNvSpPr/>
          <p:nvPr/>
        </p:nvSpPr>
        <p:spPr>
          <a:xfrm flipV="1">
            <a:off x="5796000" y="4787640"/>
            <a:ext cx="0" cy="36036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Line 101"/>
          <p:cNvSpPr/>
          <p:nvPr/>
        </p:nvSpPr>
        <p:spPr>
          <a:xfrm>
            <a:off x="5796000" y="4792680"/>
            <a:ext cx="2716200" cy="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Line 102"/>
          <p:cNvSpPr/>
          <p:nvPr/>
        </p:nvSpPr>
        <p:spPr>
          <a:xfrm>
            <a:off x="7812000" y="1616040"/>
            <a:ext cx="0" cy="382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Line 103"/>
          <p:cNvSpPr/>
          <p:nvPr/>
        </p:nvSpPr>
        <p:spPr>
          <a:xfrm>
            <a:off x="8512200" y="1616040"/>
            <a:ext cx="0" cy="382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Text Box 104"/>
          <p:cNvSpPr/>
          <p:nvPr/>
        </p:nvSpPr>
        <p:spPr>
          <a:xfrm>
            <a:off x="3421080" y="5183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ext Box 105"/>
          <p:cNvSpPr/>
          <p:nvPr/>
        </p:nvSpPr>
        <p:spPr>
          <a:xfrm>
            <a:off x="4789440" y="5183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Text Box 106"/>
          <p:cNvSpPr/>
          <p:nvPr/>
        </p:nvSpPr>
        <p:spPr>
          <a:xfrm>
            <a:off x="6716520" y="5200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107"/>
          <p:cNvSpPr/>
          <p:nvPr/>
        </p:nvSpPr>
        <p:spPr>
          <a:xfrm>
            <a:off x="7958160" y="5183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Oval 109"/>
          <p:cNvSpPr/>
          <p:nvPr/>
        </p:nvSpPr>
        <p:spPr>
          <a:xfrm>
            <a:off x="8643960" y="1371600"/>
            <a:ext cx="271440" cy="27936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e9b03"/>
                </a:solidFill>
                <a:latin typeface="Arial"/>
              </a:rPr>
              <a:t>CAN Error – Frame</a:t>
            </a:r>
            <a:r>
              <a:rPr b="1" lang="en-GB" sz="3600" spc="-1" strike="noStrike">
                <a:solidFill>
                  <a:srgbClr val="fe9b03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746280" y="879480"/>
            <a:ext cx="81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593640" y="53352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Oval 54"/>
          <p:cNvSpPr/>
          <p:nvPr/>
        </p:nvSpPr>
        <p:spPr>
          <a:xfrm>
            <a:off x="322200" y="900000"/>
            <a:ext cx="271440" cy="27936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Text Box 55"/>
          <p:cNvSpPr/>
          <p:nvPr/>
        </p:nvSpPr>
        <p:spPr>
          <a:xfrm>
            <a:off x="814320" y="808200"/>
            <a:ext cx="27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de X sees a bit err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Oval 56"/>
          <p:cNvSpPr/>
          <p:nvPr/>
        </p:nvSpPr>
        <p:spPr>
          <a:xfrm>
            <a:off x="322200" y="1314360"/>
            <a:ext cx="271440" cy="27936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Text Box 57"/>
          <p:cNvSpPr/>
          <p:nvPr/>
        </p:nvSpPr>
        <p:spPr>
          <a:xfrm>
            <a:off x="811440" y="1204920"/>
            <a:ext cx="494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de X generates an active error flag fie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Oval 58"/>
          <p:cNvSpPr/>
          <p:nvPr/>
        </p:nvSpPr>
        <p:spPr>
          <a:xfrm>
            <a:off x="322200" y="1693800"/>
            <a:ext cx="271440" cy="27936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59"/>
          <p:cNvSpPr/>
          <p:nvPr/>
        </p:nvSpPr>
        <p:spPr>
          <a:xfrm>
            <a:off x="826920" y="1601640"/>
            <a:ext cx="8240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des Y, Z realize a stuff bit error after bit 6 of the active error flag fie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note: if the corrupted data frame had dominant bits, the stuff bit error is detected earlier)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Oval 60"/>
          <p:cNvSpPr/>
          <p:nvPr/>
        </p:nvSpPr>
        <p:spPr>
          <a:xfrm>
            <a:off x="322200" y="2608200"/>
            <a:ext cx="271440" cy="27936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61"/>
          <p:cNvSpPr/>
          <p:nvPr/>
        </p:nvSpPr>
        <p:spPr>
          <a:xfrm>
            <a:off x="903240" y="2608200"/>
            <a:ext cx="824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des Y,Z transmit their own active error flag field  of 6 dominant bit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Oval 62"/>
          <p:cNvSpPr/>
          <p:nvPr/>
        </p:nvSpPr>
        <p:spPr>
          <a:xfrm>
            <a:off x="322200" y="3357720"/>
            <a:ext cx="271440" cy="27936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Text Box 63"/>
          <p:cNvSpPr/>
          <p:nvPr/>
        </p:nvSpPr>
        <p:spPr>
          <a:xfrm>
            <a:off x="903240" y="3357720"/>
            <a:ext cx="816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nodes transmit the recessive error delimiter field. Node Y and Z s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difference @ bus level, but node X detects a delay of 6 bits between bus level and its own output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e9b03"/>
                </a:solidFill>
                <a:latin typeface="Arial"/>
              </a:rPr>
              <a:t>First node to message err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Oval 64"/>
          <p:cNvSpPr/>
          <p:nvPr/>
        </p:nvSpPr>
        <p:spPr>
          <a:xfrm>
            <a:off x="322200" y="4581360"/>
            <a:ext cx="271440" cy="27972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Text Box 65"/>
          <p:cNvSpPr/>
          <p:nvPr/>
        </p:nvSpPr>
        <p:spPr>
          <a:xfrm>
            <a:off x="903240" y="4581360"/>
            <a:ext cx="8240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 the last 8 recessive error delimiter bits @ CAN-bus and 3 bit of inter frame space a new arbitration is entered by node X, e.g. it has to compete again with other node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e9b03"/>
                </a:solidFill>
                <a:latin typeface="Times New Roman"/>
              </a:rPr>
              <a:t>  </a:t>
            </a:r>
            <a:r>
              <a:rPr b="1" lang="en-GB" sz="3600" spc="-1" strike="noStrike">
                <a:solidFill>
                  <a:srgbClr val="fe9b03"/>
                </a:solidFill>
                <a:latin typeface="Arial"/>
                <a:ea typeface="Arial"/>
              </a:rPr>
              <a:t>CAN Error Recognition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72" name="Text Box 1027"/>
          <p:cNvSpPr/>
          <p:nvPr/>
        </p:nvSpPr>
        <p:spPr>
          <a:xfrm>
            <a:off x="746280" y="879480"/>
            <a:ext cx="81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Text Box 1028"/>
          <p:cNvSpPr/>
          <p:nvPr/>
        </p:nvSpPr>
        <p:spPr>
          <a:xfrm>
            <a:off x="304920" y="838080"/>
            <a:ext cx="87627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Text Box 1029"/>
          <p:cNvSpPr/>
          <p:nvPr/>
        </p:nvSpPr>
        <p:spPr>
          <a:xfrm>
            <a:off x="593640" y="53352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1030"/>
          <p:cNvSpPr/>
          <p:nvPr/>
        </p:nvSpPr>
        <p:spPr>
          <a:xfrm>
            <a:off x="250920" y="1052640"/>
            <a:ext cx="862632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e9b0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9b0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e9b03"/>
                </a:solidFill>
                <a:latin typeface="Arial"/>
              </a:rPr>
              <a:t>Bit-Err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19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transmitted bit doesn’t read back with the same digital level (except arbitration and acknowledge- slot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e9b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9b0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e9b03"/>
                </a:solidFill>
                <a:latin typeface="Arial"/>
              </a:rPr>
              <a:t>Bit-Stuff-Err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19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more than 5 continuous bits read back with the same digital level (except ‘end of frame’-part of the message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e9b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9b0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e9b03"/>
                </a:solidFill>
                <a:latin typeface="Arial"/>
              </a:rPr>
              <a:t>CRC-Err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received CRC-sum doesn’t match with the calculated s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e9b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9b0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e9b03"/>
                </a:solidFill>
                <a:latin typeface="Arial"/>
              </a:rPr>
              <a:t>Format-Err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Violation of the data-format of the message , e.g.: CRC-delimiter is not recessive or violation of the ‘end -of-frame’-fie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e9b0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9b0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e9b03"/>
                </a:solidFill>
                <a:latin typeface="Arial"/>
              </a:rPr>
              <a:t>Acknowledgement-Err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ransmitter receives no dominant bit during the acknowledgement slot, i.e. the message was not received by another nod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e9b03"/>
                </a:solidFill>
                <a:latin typeface="Arial"/>
                <a:ea typeface="Arial"/>
              </a:rPr>
              <a:t>CAN Error Status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746280" y="879480"/>
            <a:ext cx="81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304920" y="838080"/>
            <a:ext cx="87627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365040" y="650880"/>
            <a:ext cx="862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0" name="Object 7"/>
          <p:cNvGraphicFramePr/>
          <p:nvPr/>
        </p:nvGraphicFramePr>
        <p:xfrm>
          <a:off x="263520" y="836640"/>
          <a:ext cx="3886200" cy="198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520" y="836640"/>
                    <a:ext cx="3886200" cy="19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8"/>
          <p:cNvGraphicFramePr/>
          <p:nvPr/>
        </p:nvGraphicFramePr>
        <p:xfrm>
          <a:off x="4876920" y="2362320"/>
          <a:ext cx="3600360" cy="100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362320"/>
                    <a:ext cx="360036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Text Box 9"/>
          <p:cNvSpPr/>
          <p:nvPr/>
        </p:nvSpPr>
        <p:spPr>
          <a:xfrm>
            <a:off x="4114800" y="762120"/>
            <a:ext cx="4876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rpose: avoid persistent disturbances of the CAN by switching  off defective no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ree  Error States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289080" y="3317760"/>
            <a:ext cx="8702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Error Activ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: normal mode, messages will be received and transmitted. In case of error an </a:t>
            </a: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active error fram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will be transmit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Error Passiv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: after detection of a certain number of errors, the node reaches this state. Messages will be received and transmitted but in case of an error the node sends a </a:t>
            </a: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passive error fram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Bus Off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: the node is separated from CAN, neither transmission nor receive of messages is allowed and the node is no longer able to transmit  error fram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e9b03"/>
                </a:solidFill>
                <a:latin typeface="Arial"/>
                <a:ea typeface="Arial"/>
              </a:rPr>
              <a:t>CAN Error Counter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746280" y="879480"/>
            <a:ext cx="81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304920" y="838080"/>
            <a:ext cx="87627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9" name="Object 0"/>
          <p:cNvGraphicFramePr/>
          <p:nvPr/>
        </p:nvGraphicFramePr>
        <p:xfrm>
          <a:off x="190440" y="2004840"/>
          <a:ext cx="3886200" cy="31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2004840"/>
                    <a:ext cx="388620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Text Box 8"/>
          <p:cNvSpPr/>
          <p:nvPr/>
        </p:nvSpPr>
        <p:spPr>
          <a:xfrm>
            <a:off x="4114800" y="1143000"/>
            <a:ext cx="48769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itions will be carried out automatically by the CAN-chip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tates are managed by 2 Error Counter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Receive Error Counter (REC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Transmit Error Counter (TEC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ossible situation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) a transmitter recognises an  error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TEC:=TEC + 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b) a receiver sees an error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:   </a:t>
            </a: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REC:=REC +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) a receiver sees an error, after transmitting an   error frame: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REC:=REC + 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) if an ‘error active’-node find’s a bit-stuff-error during transmission of an error frame: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TEC:=TEC+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e) successful transmission: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TEC:=TEC -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f) successful receive: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GB" sz="1600" spc="-1" strike="noStrike">
                <a:solidFill>
                  <a:srgbClr val="fe9b03"/>
                </a:solidFill>
                <a:latin typeface="Arial"/>
              </a:rPr>
              <a:t>REC:=REC -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594720" y="112536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9b03"/>
                </a:solidFill>
                <a:latin typeface="Arial"/>
              </a:rPr>
              <a:t>State - Diagra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F2833x CAN Feature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0" y="673200"/>
            <a:ext cx="9144000" cy="60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ully CAN protocol compliant, version 2.0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pports data rates up to 1 Mbp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irty-two mailbox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figurable as receive or transmi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figurable with standard or extended identifi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grammable receive mas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pports data and remote fram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osed of 0 to 8 bytes of dat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s 32-bit time stamp on messag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grammable interrupt scheme (two level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grammable alarm time-ou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grammable wake-up on bus activit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lf-test mode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Electronic Control Unit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3809880" cy="21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79280" y="549360"/>
            <a:ext cx="8763120" cy="63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amples for Microcontrollers used in ca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Antilock Break System - ABS ( 1 + 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Keyless Entry System(1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Active Wheel Drive Control (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Engine Control (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Airbag Sensor Systems (6+)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Seat occupation sensors(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Automatic Gearbox(1)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Electronic Park Brake(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diagnostic computer(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driver display unit(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air conditioning system(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33440" indent="-382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  <a:ea typeface="Arial"/>
              </a:rPr>
              <a:t>            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  <a:ea typeface="Arial"/>
              </a:rPr>
              <a:t>adaptive cruise control(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radio / CD-player(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collision warning radar(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rain/ice/snow sensor systems (1) eac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dynamic drive control(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active damping system (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driver information system(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e9b03"/>
                </a:solidFill>
                <a:latin typeface="Arial"/>
              </a:rPr>
              <a:t>GPS navigation system(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Picture 1057" descr="1-UBK-13076"/>
          <p:cNvPicPr/>
          <p:nvPr/>
        </p:nvPicPr>
        <p:blipFill>
          <a:blip r:embed="rId1"/>
          <a:stretch/>
        </p:blipFill>
        <p:spPr>
          <a:xfrm>
            <a:off x="214200" y="3000240"/>
            <a:ext cx="4316400" cy="3119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343080" y="1295280"/>
            <a:ext cx="8572320" cy="391176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F2833x CAN Block Diagram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397" name="Group 4"/>
          <p:cNvGrpSpPr/>
          <p:nvPr/>
        </p:nvGrpSpPr>
        <p:grpSpPr>
          <a:xfrm>
            <a:off x="3468600" y="1905120"/>
            <a:ext cx="2352600" cy="1371600"/>
            <a:chOff x="3468600" y="1905120"/>
            <a:chExt cx="2352600" cy="1371600"/>
          </a:xfrm>
        </p:grpSpPr>
        <p:sp>
          <p:nvSpPr>
            <p:cNvPr id="398" name="Rectangle 5"/>
            <p:cNvSpPr/>
            <p:nvPr/>
          </p:nvSpPr>
          <p:spPr>
            <a:xfrm>
              <a:off x="3471840" y="1905120"/>
              <a:ext cx="2286000" cy="13716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Text Box 6"/>
            <p:cNvSpPr/>
            <p:nvPr/>
          </p:nvSpPr>
          <p:spPr>
            <a:xfrm>
              <a:off x="3476520" y="1994040"/>
              <a:ext cx="2344680" cy="12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mory Managem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Uni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PU Interfa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Receive Control Uni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imer Management Uni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3468600" y="2530440"/>
              <a:ext cx="2290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1" name="Group 8"/>
          <p:cNvGrpSpPr/>
          <p:nvPr/>
        </p:nvGrpSpPr>
        <p:grpSpPr>
          <a:xfrm>
            <a:off x="6324480" y="1905120"/>
            <a:ext cx="2286000" cy="1371600"/>
            <a:chOff x="6324480" y="1905120"/>
            <a:chExt cx="2286000" cy="1371600"/>
          </a:xfrm>
        </p:grpSpPr>
        <p:sp>
          <p:nvSpPr>
            <p:cNvPr id="402" name="Rectangle 9"/>
            <p:cNvSpPr/>
            <p:nvPr/>
          </p:nvSpPr>
          <p:spPr>
            <a:xfrm>
              <a:off x="6324480" y="1905120"/>
              <a:ext cx="2286000" cy="13716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Text Box 10"/>
            <p:cNvSpPr/>
            <p:nvPr/>
          </p:nvSpPr>
          <p:spPr>
            <a:xfrm>
              <a:off x="6436080" y="2162160"/>
              <a:ext cx="206424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eCAN Memor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(512 Bytes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Register and Messag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Object Contro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Group 11"/>
          <p:cNvGrpSpPr/>
          <p:nvPr/>
        </p:nvGrpSpPr>
        <p:grpSpPr>
          <a:xfrm>
            <a:off x="609480" y="1905120"/>
            <a:ext cx="2286000" cy="1371600"/>
            <a:chOff x="609480" y="1905120"/>
            <a:chExt cx="2286000" cy="1371600"/>
          </a:xfrm>
        </p:grpSpPr>
        <p:sp>
          <p:nvSpPr>
            <p:cNvPr id="405" name="Rectangle 12"/>
            <p:cNvSpPr/>
            <p:nvPr/>
          </p:nvSpPr>
          <p:spPr>
            <a:xfrm>
              <a:off x="609480" y="1905120"/>
              <a:ext cx="2286000" cy="13716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Text Box 13"/>
            <p:cNvSpPr/>
            <p:nvPr/>
          </p:nvSpPr>
          <p:spPr>
            <a:xfrm>
              <a:off x="775080" y="2057760"/>
              <a:ext cx="196092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ailbox RA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(512 Bytes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32-Message Mailbo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of 4 x 32-Bit Wor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7" name="AutoShape 14"/>
          <p:cNvSpPr/>
          <p:nvPr/>
        </p:nvSpPr>
        <p:spPr>
          <a:xfrm>
            <a:off x="2908440" y="2616120"/>
            <a:ext cx="533160" cy="6098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AutoShape 15"/>
          <p:cNvSpPr/>
          <p:nvPr/>
        </p:nvSpPr>
        <p:spPr>
          <a:xfrm>
            <a:off x="5778360" y="2616120"/>
            <a:ext cx="533520" cy="6098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16"/>
          <p:cNvSpPr/>
          <p:nvPr/>
        </p:nvSpPr>
        <p:spPr>
          <a:xfrm>
            <a:off x="2986200" y="2768760"/>
            <a:ext cx="409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17"/>
          <p:cNvSpPr/>
          <p:nvPr/>
        </p:nvSpPr>
        <p:spPr>
          <a:xfrm>
            <a:off x="5862600" y="2768760"/>
            <a:ext cx="409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AutoShape 18"/>
          <p:cNvSpPr/>
          <p:nvPr/>
        </p:nvSpPr>
        <p:spPr>
          <a:xfrm>
            <a:off x="2898720" y="1996920"/>
            <a:ext cx="573120" cy="457200"/>
          </a:xfrm>
          <a:prstGeom prst="leftArrow">
            <a:avLst>
              <a:gd name="adj1" fmla="val 50000"/>
              <a:gd name="adj2" fmla="val 31339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AutoShape 19"/>
          <p:cNvSpPr/>
          <p:nvPr/>
        </p:nvSpPr>
        <p:spPr>
          <a:xfrm flipH="1">
            <a:off x="5759280" y="1996920"/>
            <a:ext cx="563760" cy="457200"/>
          </a:xfrm>
          <a:prstGeom prst="leftArrow">
            <a:avLst>
              <a:gd name="adj1" fmla="val 50000"/>
              <a:gd name="adj2" fmla="val 3082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3" name="Group 20"/>
          <p:cNvGrpSpPr/>
          <p:nvPr/>
        </p:nvGrpSpPr>
        <p:grpSpPr>
          <a:xfrm>
            <a:off x="3475080" y="3987720"/>
            <a:ext cx="2286000" cy="990720"/>
            <a:chOff x="3475080" y="3987720"/>
            <a:chExt cx="2286000" cy="990720"/>
          </a:xfrm>
        </p:grpSpPr>
        <p:sp>
          <p:nvSpPr>
            <p:cNvPr id="414" name="Rectangle 21"/>
            <p:cNvSpPr/>
            <p:nvPr/>
          </p:nvSpPr>
          <p:spPr>
            <a:xfrm>
              <a:off x="3475080" y="3987720"/>
              <a:ext cx="2286000" cy="9907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Text Box 22"/>
            <p:cNvSpPr/>
            <p:nvPr/>
          </p:nvSpPr>
          <p:spPr>
            <a:xfrm>
              <a:off x="3857040" y="4029120"/>
              <a:ext cx="1605600" cy="94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Receive Buff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ransmit Buff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ntrol Buff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Status Buff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Line 23"/>
            <p:cNvSpPr/>
            <p:nvPr/>
          </p:nvSpPr>
          <p:spPr>
            <a:xfrm>
              <a:off x="3476520" y="4275000"/>
              <a:ext cx="2281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Line 24"/>
            <p:cNvSpPr/>
            <p:nvPr/>
          </p:nvSpPr>
          <p:spPr>
            <a:xfrm>
              <a:off x="3478320" y="4492440"/>
              <a:ext cx="2280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Line 25"/>
            <p:cNvSpPr/>
            <p:nvPr/>
          </p:nvSpPr>
          <p:spPr>
            <a:xfrm>
              <a:off x="3479760" y="4716360"/>
              <a:ext cx="2281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9" name="Group 26"/>
          <p:cNvGrpSpPr/>
          <p:nvPr/>
        </p:nvGrpSpPr>
        <p:grpSpPr>
          <a:xfrm>
            <a:off x="3479760" y="5465880"/>
            <a:ext cx="3756600" cy="1317600"/>
            <a:chOff x="3479760" y="5465880"/>
            <a:chExt cx="3756600" cy="1317600"/>
          </a:xfrm>
        </p:grpSpPr>
        <p:sp>
          <p:nvSpPr>
            <p:cNvPr id="420" name="Rectangle 27"/>
            <p:cNvSpPr/>
            <p:nvPr/>
          </p:nvSpPr>
          <p:spPr>
            <a:xfrm>
              <a:off x="3479760" y="5465880"/>
              <a:ext cx="2286000" cy="6091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Text Box 28"/>
            <p:cNvSpPr/>
            <p:nvPr/>
          </p:nvSpPr>
          <p:spPr>
            <a:xfrm>
              <a:off x="3536640" y="5506920"/>
              <a:ext cx="2225880" cy="5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SN65HVD23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3.3-V CAN Transcei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Line 29"/>
            <p:cNvSpPr/>
            <p:nvPr/>
          </p:nvSpPr>
          <p:spPr>
            <a:xfrm>
              <a:off x="3784320" y="6329160"/>
              <a:ext cx="1689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Line 30"/>
            <p:cNvSpPr/>
            <p:nvPr/>
          </p:nvSpPr>
          <p:spPr>
            <a:xfrm>
              <a:off x="4381200" y="6608520"/>
              <a:ext cx="1689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Line 31"/>
            <p:cNvSpPr/>
            <p:nvPr/>
          </p:nvSpPr>
          <p:spPr>
            <a:xfrm>
              <a:off x="4089240" y="6075000"/>
              <a:ext cx="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Line 32"/>
            <p:cNvSpPr/>
            <p:nvPr/>
          </p:nvSpPr>
          <p:spPr>
            <a:xfrm>
              <a:off x="4927320" y="6075000"/>
              <a:ext cx="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Text Box 33"/>
            <p:cNvSpPr/>
            <p:nvPr/>
          </p:nvSpPr>
          <p:spPr>
            <a:xfrm>
              <a:off x="3938760" y="5922720"/>
              <a:ext cx="30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Text Box 34"/>
            <p:cNvSpPr/>
            <p:nvPr/>
          </p:nvSpPr>
          <p:spPr>
            <a:xfrm>
              <a:off x="4776840" y="6202080"/>
              <a:ext cx="30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Text Box 35"/>
            <p:cNvSpPr/>
            <p:nvPr/>
          </p:nvSpPr>
          <p:spPr>
            <a:xfrm>
              <a:off x="6136560" y="6233760"/>
              <a:ext cx="1099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CAN Bu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9" name="AutoShape 36"/>
          <p:cNvSpPr/>
          <p:nvPr/>
        </p:nvSpPr>
        <p:spPr>
          <a:xfrm rot="16200000">
            <a:off x="4292640" y="3327120"/>
            <a:ext cx="685800" cy="609480"/>
          </a:xfrm>
          <a:prstGeom prst="leftRightArrow">
            <a:avLst>
              <a:gd name="adj1" fmla="val 50000"/>
              <a:gd name="adj2" fmla="val 22400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37"/>
          <p:cNvSpPr/>
          <p:nvPr/>
        </p:nvSpPr>
        <p:spPr>
          <a:xfrm>
            <a:off x="4446720" y="3473280"/>
            <a:ext cx="409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Line 38"/>
          <p:cNvSpPr/>
          <p:nvPr/>
        </p:nvSpPr>
        <p:spPr>
          <a:xfrm>
            <a:off x="4038480" y="4978440"/>
            <a:ext cx="0" cy="488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Line 39"/>
          <p:cNvSpPr/>
          <p:nvPr/>
        </p:nvSpPr>
        <p:spPr>
          <a:xfrm>
            <a:off x="5251320" y="4978440"/>
            <a:ext cx="0" cy="488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AutoShape 40"/>
          <p:cNvSpPr/>
          <p:nvPr/>
        </p:nvSpPr>
        <p:spPr>
          <a:xfrm rot="16200000">
            <a:off x="4686120" y="1104840"/>
            <a:ext cx="990720" cy="609480"/>
          </a:xfrm>
          <a:prstGeom prst="leftRightArrow">
            <a:avLst>
              <a:gd name="adj1" fmla="val 50000"/>
              <a:gd name="adj2" fmla="val 32359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41"/>
          <p:cNvSpPr/>
          <p:nvPr/>
        </p:nvSpPr>
        <p:spPr>
          <a:xfrm>
            <a:off x="4992840" y="1282680"/>
            <a:ext cx="409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AutoShape 42"/>
          <p:cNvSpPr/>
          <p:nvPr/>
        </p:nvSpPr>
        <p:spPr>
          <a:xfrm>
            <a:off x="3962520" y="914400"/>
            <a:ext cx="609480" cy="990720"/>
          </a:xfrm>
          <a:prstGeom prst="downArrow">
            <a:avLst>
              <a:gd name="adj1" fmla="val 50000"/>
              <a:gd name="adj2" fmla="val 40638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Text Box 43"/>
          <p:cNvSpPr/>
          <p:nvPr/>
        </p:nvSpPr>
        <p:spPr>
          <a:xfrm>
            <a:off x="5488200" y="882720"/>
            <a:ext cx="650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Text Box 44"/>
          <p:cNvSpPr/>
          <p:nvPr/>
        </p:nvSpPr>
        <p:spPr>
          <a:xfrm>
            <a:off x="3164760" y="844560"/>
            <a:ext cx="979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d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Line 45"/>
          <p:cNvSpPr/>
          <p:nvPr/>
        </p:nvSpPr>
        <p:spPr>
          <a:xfrm flipV="1">
            <a:off x="685800" y="939600"/>
            <a:ext cx="0" cy="355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Line 46"/>
          <p:cNvSpPr/>
          <p:nvPr/>
        </p:nvSpPr>
        <p:spPr>
          <a:xfrm flipV="1">
            <a:off x="1828800" y="939600"/>
            <a:ext cx="0" cy="355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Text Box 47"/>
          <p:cNvSpPr/>
          <p:nvPr/>
        </p:nvSpPr>
        <p:spPr>
          <a:xfrm>
            <a:off x="675360" y="1041480"/>
            <a:ext cx="105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CAN0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48"/>
          <p:cNvSpPr/>
          <p:nvPr/>
        </p:nvSpPr>
        <p:spPr>
          <a:xfrm>
            <a:off x="1805760" y="1033560"/>
            <a:ext cx="105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CAN1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F2833x CAN Memory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925560" y="1200240"/>
            <a:ext cx="1776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1090440" y="1754280"/>
            <a:ext cx="1130400" cy="41799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Line 5"/>
          <p:cNvSpPr/>
          <p:nvPr/>
        </p:nvSpPr>
        <p:spPr>
          <a:xfrm>
            <a:off x="1084320" y="35784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Line 6"/>
          <p:cNvSpPr/>
          <p:nvPr/>
        </p:nvSpPr>
        <p:spPr>
          <a:xfrm>
            <a:off x="1084320" y="411156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1221840" y="363852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Rectangle 8"/>
          <p:cNvSpPr/>
          <p:nvPr/>
        </p:nvSpPr>
        <p:spPr>
          <a:xfrm>
            <a:off x="-2160" y="3357720"/>
            <a:ext cx="1052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x00 6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Rectangle 9"/>
          <p:cNvSpPr/>
          <p:nvPr/>
        </p:nvSpPr>
        <p:spPr>
          <a:xfrm>
            <a:off x="-2160" y="1628640"/>
            <a:ext cx="1052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x00 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-720" y="5661000"/>
            <a:ext cx="115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x 3F FF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Rectangle 11"/>
          <p:cNvSpPr/>
          <p:nvPr/>
        </p:nvSpPr>
        <p:spPr>
          <a:xfrm>
            <a:off x="-1800" y="3933720"/>
            <a:ext cx="1073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x00 61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Line 12"/>
          <p:cNvSpPr/>
          <p:nvPr/>
        </p:nvSpPr>
        <p:spPr>
          <a:xfrm flipV="1">
            <a:off x="2227320" y="1773360"/>
            <a:ext cx="3281400" cy="18050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Line 13"/>
          <p:cNvSpPr/>
          <p:nvPr/>
        </p:nvSpPr>
        <p:spPr>
          <a:xfrm>
            <a:off x="2268360" y="4149720"/>
            <a:ext cx="3167280" cy="16556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4" name="Gruppieren 34"/>
          <p:cNvGrpSpPr/>
          <p:nvPr/>
        </p:nvGrpSpPr>
        <p:grpSpPr>
          <a:xfrm>
            <a:off x="4916880" y="1773360"/>
            <a:ext cx="1960200" cy="4125600"/>
            <a:chOff x="4916880" y="1773360"/>
            <a:chExt cx="1960200" cy="4125600"/>
          </a:xfrm>
        </p:grpSpPr>
        <p:sp>
          <p:nvSpPr>
            <p:cNvPr id="455" name="Rectangle 51"/>
            <p:cNvSpPr/>
            <p:nvPr/>
          </p:nvSpPr>
          <p:spPr>
            <a:xfrm>
              <a:off x="4930560" y="3070440"/>
              <a:ext cx="593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608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Rectangle 52"/>
            <p:cNvSpPr/>
            <p:nvPr/>
          </p:nvSpPr>
          <p:spPr>
            <a:xfrm>
              <a:off x="4930560" y="2278080"/>
              <a:ext cx="593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604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Rectangle 53"/>
            <p:cNvSpPr/>
            <p:nvPr/>
          </p:nvSpPr>
          <p:spPr>
            <a:xfrm>
              <a:off x="4916880" y="5563080"/>
              <a:ext cx="614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61F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Rectangle 54"/>
            <p:cNvSpPr/>
            <p:nvPr/>
          </p:nvSpPr>
          <p:spPr>
            <a:xfrm>
              <a:off x="5508360" y="1773360"/>
              <a:ext cx="1368720" cy="402624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Line 55"/>
            <p:cNvSpPr/>
            <p:nvPr/>
          </p:nvSpPr>
          <p:spPr>
            <a:xfrm>
              <a:off x="5508360" y="2349360"/>
              <a:ext cx="1368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Line 56"/>
            <p:cNvSpPr/>
            <p:nvPr/>
          </p:nvSpPr>
          <p:spPr>
            <a:xfrm>
              <a:off x="5508360" y="3862440"/>
              <a:ext cx="1368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Rectangle 58"/>
            <p:cNvSpPr/>
            <p:nvPr/>
          </p:nvSpPr>
          <p:spPr>
            <a:xfrm>
              <a:off x="5414400" y="1844640"/>
              <a:ext cx="14425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Unicode MS"/>
                </a:rPr>
                <a:t>Control a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Unicode MS"/>
                </a:rPr>
                <a:t>Status Regist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Line 59"/>
            <p:cNvSpPr/>
            <p:nvPr/>
          </p:nvSpPr>
          <p:spPr>
            <a:xfrm>
              <a:off x="5508360" y="4581720"/>
              <a:ext cx="1368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Line 61"/>
            <p:cNvSpPr/>
            <p:nvPr/>
          </p:nvSpPr>
          <p:spPr>
            <a:xfrm>
              <a:off x="5508360" y="5158080"/>
              <a:ext cx="1368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Line 62"/>
            <p:cNvSpPr/>
            <p:nvPr/>
          </p:nvSpPr>
          <p:spPr>
            <a:xfrm>
              <a:off x="5508360" y="3070440"/>
              <a:ext cx="1368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Line 63"/>
            <p:cNvSpPr/>
            <p:nvPr/>
          </p:nvSpPr>
          <p:spPr>
            <a:xfrm>
              <a:off x="5508360" y="5518440"/>
              <a:ext cx="1368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Rectangle 64"/>
            <p:cNvSpPr/>
            <p:nvPr/>
          </p:nvSpPr>
          <p:spPr>
            <a:xfrm>
              <a:off x="5562000" y="3141720"/>
              <a:ext cx="12654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Unicode MS"/>
                </a:rPr>
                <a:t>Messag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Unicode MS"/>
                </a:rPr>
                <a:t>Object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Unicode MS"/>
                </a:rPr>
                <a:t>Time Stamp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Rectangle 66"/>
            <p:cNvSpPr/>
            <p:nvPr/>
          </p:nvSpPr>
          <p:spPr>
            <a:xfrm>
              <a:off x="5656320" y="4581720"/>
              <a:ext cx="1055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ilbox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Rectangle 67"/>
            <p:cNvSpPr/>
            <p:nvPr/>
          </p:nvSpPr>
          <p:spPr>
            <a:xfrm>
              <a:off x="5656320" y="4870800"/>
              <a:ext cx="1055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ilbox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Rectangle 69"/>
            <p:cNvSpPr/>
            <p:nvPr/>
          </p:nvSpPr>
          <p:spPr>
            <a:xfrm>
              <a:off x="5657040" y="5445360"/>
              <a:ext cx="1168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ilbox 3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Rectangle 70"/>
            <p:cNvSpPr/>
            <p:nvPr/>
          </p:nvSpPr>
          <p:spPr>
            <a:xfrm>
              <a:off x="5640480" y="2349360"/>
              <a:ext cx="11862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Unicode MS"/>
                </a:rPr>
                <a:t>Local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Unicode MS"/>
                </a:rPr>
                <a:t>Acceptanc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Unicode MS"/>
                </a:rPr>
                <a:t>Mask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Rectangle 87"/>
            <p:cNvSpPr/>
            <p:nvPr/>
          </p:nvSpPr>
          <p:spPr>
            <a:xfrm>
              <a:off x="5707440" y="3862440"/>
              <a:ext cx="9745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Unicode MS"/>
                </a:rPr>
                <a:t>Messag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Unicode MS"/>
                </a:rPr>
                <a:t>Object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Unicode MS"/>
                </a:rPr>
                <a:t>Time Ou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Rectangle 88"/>
            <p:cNvSpPr/>
            <p:nvPr/>
          </p:nvSpPr>
          <p:spPr>
            <a:xfrm>
              <a:off x="4930560" y="3862440"/>
              <a:ext cx="627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60C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Line 89"/>
            <p:cNvSpPr/>
            <p:nvPr/>
          </p:nvSpPr>
          <p:spPr>
            <a:xfrm>
              <a:off x="5508360" y="4870800"/>
              <a:ext cx="1368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Rectangle 90"/>
            <p:cNvSpPr/>
            <p:nvPr/>
          </p:nvSpPr>
          <p:spPr>
            <a:xfrm>
              <a:off x="4930560" y="4797720"/>
              <a:ext cx="593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610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Rectangle 91"/>
            <p:cNvSpPr/>
            <p:nvPr/>
          </p:nvSpPr>
          <p:spPr>
            <a:xfrm>
              <a:off x="4930560" y="4510440"/>
              <a:ext cx="593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61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CAN Control &amp; Status Register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77" name="Rectangle 88"/>
          <p:cNvSpPr/>
          <p:nvPr/>
        </p:nvSpPr>
        <p:spPr>
          <a:xfrm>
            <a:off x="322560" y="1268280"/>
            <a:ext cx="59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Rectangle 89"/>
          <p:cNvSpPr/>
          <p:nvPr/>
        </p:nvSpPr>
        <p:spPr>
          <a:xfrm>
            <a:off x="971640" y="1268280"/>
            <a:ext cx="2590560" cy="28764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Rectangle 90"/>
          <p:cNvSpPr/>
          <p:nvPr/>
        </p:nvSpPr>
        <p:spPr>
          <a:xfrm>
            <a:off x="971640" y="1557360"/>
            <a:ext cx="259056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M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Rectangle 91"/>
          <p:cNvSpPr/>
          <p:nvPr/>
        </p:nvSpPr>
        <p:spPr>
          <a:xfrm>
            <a:off x="322560" y="1557360"/>
            <a:ext cx="59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Rectangle 92"/>
          <p:cNvSpPr/>
          <p:nvPr/>
        </p:nvSpPr>
        <p:spPr>
          <a:xfrm>
            <a:off x="322560" y="1844640"/>
            <a:ext cx="59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0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Rectangle 93"/>
          <p:cNvSpPr/>
          <p:nvPr/>
        </p:nvSpPr>
        <p:spPr>
          <a:xfrm>
            <a:off x="971640" y="1844640"/>
            <a:ext cx="259056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T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Rectangle 94"/>
          <p:cNvSpPr/>
          <p:nvPr/>
        </p:nvSpPr>
        <p:spPr>
          <a:xfrm>
            <a:off x="971640" y="2133720"/>
            <a:ext cx="259056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TR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Rectangle 95"/>
          <p:cNvSpPr/>
          <p:nvPr/>
        </p:nvSpPr>
        <p:spPr>
          <a:xfrm>
            <a:off x="322560" y="2133720"/>
            <a:ext cx="59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0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Rectangle 96"/>
          <p:cNvSpPr/>
          <p:nvPr/>
        </p:nvSpPr>
        <p:spPr>
          <a:xfrm>
            <a:off x="322560" y="2421000"/>
            <a:ext cx="59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0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Rectangle 97"/>
          <p:cNvSpPr/>
          <p:nvPr/>
        </p:nvSpPr>
        <p:spPr>
          <a:xfrm>
            <a:off x="971640" y="2421000"/>
            <a:ext cx="259056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Rectangle 98"/>
          <p:cNvSpPr/>
          <p:nvPr/>
        </p:nvSpPr>
        <p:spPr>
          <a:xfrm>
            <a:off x="971640" y="2709720"/>
            <a:ext cx="2590560" cy="28764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A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Rectangle 99"/>
          <p:cNvSpPr/>
          <p:nvPr/>
        </p:nvSpPr>
        <p:spPr>
          <a:xfrm>
            <a:off x="322560" y="2709720"/>
            <a:ext cx="63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0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Rectangle 100"/>
          <p:cNvSpPr/>
          <p:nvPr/>
        </p:nvSpPr>
        <p:spPr>
          <a:xfrm>
            <a:off x="322560" y="2997360"/>
            <a:ext cx="627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0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Rectangle 101"/>
          <p:cNvSpPr/>
          <p:nvPr/>
        </p:nvSpPr>
        <p:spPr>
          <a:xfrm>
            <a:off x="971640" y="2997360"/>
            <a:ext cx="259056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RM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Rectangle 102"/>
          <p:cNvSpPr/>
          <p:nvPr/>
        </p:nvSpPr>
        <p:spPr>
          <a:xfrm>
            <a:off x="971640" y="3286080"/>
            <a:ext cx="259056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R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Rectangle 103"/>
          <p:cNvSpPr/>
          <p:nvPr/>
        </p:nvSpPr>
        <p:spPr>
          <a:xfrm>
            <a:off x="322920" y="3286080"/>
            <a:ext cx="614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0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Rectangle 104"/>
          <p:cNvSpPr/>
          <p:nvPr/>
        </p:nvSpPr>
        <p:spPr>
          <a:xfrm>
            <a:off x="322560" y="3573360"/>
            <a:ext cx="59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Rectangle 105"/>
          <p:cNvSpPr/>
          <p:nvPr/>
        </p:nvSpPr>
        <p:spPr>
          <a:xfrm>
            <a:off x="971640" y="3573360"/>
            <a:ext cx="259056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RF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Rectangle 106"/>
          <p:cNvSpPr/>
          <p:nvPr/>
        </p:nvSpPr>
        <p:spPr>
          <a:xfrm>
            <a:off x="971640" y="3862440"/>
            <a:ext cx="259056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G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Rectangle 107"/>
          <p:cNvSpPr/>
          <p:nvPr/>
        </p:nvSpPr>
        <p:spPr>
          <a:xfrm>
            <a:off x="322560" y="3862440"/>
            <a:ext cx="59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Rectangle 108"/>
          <p:cNvSpPr/>
          <p:nvPr/>
        </p:nvSpPr>
        <p:spPr>
          <a:xfrm>
            <a:off x="322560" y="4149720"/>
            <a:ext cx="59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Rectangle 109"/>
          <p:cNvSpPr/>
          <p:nvPr/>
        </p:nvSpPr>
        <p:spPr>
          <a:xfrm>
            <a:off x="971640" y="4149720"/>
            <a:ext cx="259056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M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Rectangle 110"/>
          <p:cNvSpPr/>
          <p:nvPr/>
        </p:nvSpPr>
        <p:spPr>
          <a:xfrm>
            <a:off x="971640" y="4438800"/>
            <a:ext cx="259056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BT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Rectangle 111"/>
          <p:cNvSpPr/>
          <p:nvPr/>
        </p:nvSpPr>
        <p:spPr>
          <a:xfrm>
            <a:off x="322560" y="4438800"/>
            <a:ext cx="59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1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Rectangle 112"/>
          <p:cNvSpPr/>
          <p:nvPr/>
        </p:nvSpPr>
        <p:spPr>
          <a:xfrm>
            <a:off x="322560" y="4726080"/>
            <a:ext cx="59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Rectangle 113"/>
          <p:cNvSpPr/>
          <p:nvPr/>
        </p:nvSpPr>
        <p:spPr>
          <a:xfrm>
            <a:off x="971640" y="4726080"/>
            <a:ext cx="259056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Rectangle 114"/>
          <p:cNvSpPr/>
          <p:nvPr/>
        </p:nvSpPr>
        <p:spPr>
          <a:xfrm>
            <a:off x="971640" y="5014800"/>
            <a:ext cx="259056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TE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Rectangle 115"/>
          <p:cNvSpPr/>
          <p:nvPr/>
        </p:nvSpPr>
        <p:spPr>
          <a:xfrm>
            <a:off x="322560" y="5014800"/>
            <a:ext cx="63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1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Rectangle 116"/>
          <p:cNvSpPr/>
          <p:nvPr/>
        </p:nvSpPr>
        <p:spPr>
          <a:xfrm>
            <a:off x="322560" y="5302080"/>
            <a:ext cx="627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1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Rectangle 117"/>
          <p:cNvSpPr/>
          <p:nvPr/>
        </p:nvSpPr>
        <p:spPr>
          <a:xfrm>
            <a:off x="971640" y="5302080"/>
            <a:ext cx="2590560" cy="28764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RE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Rectangle 142"/>
          <p:cNvSpPr/>
          <p:nvPr/>
        </p:nvSpPr>
        <p:spPr>
          <a:xfrm>
            <a:off x="4570560" y="1268280"/>
            <a:ext cx="59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Rectangle 143"/>
          <p:cNvSpPr/>
          <p:nvPr/>
        </p:nvSpPr>
        <p:spPr>
          <a:xfrm>
            <a:off x="5219640" y="1268280"/>
            <a:ext cx="2590920" cy="28764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GI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Rectangle 144"/>
          <p:cNvSpPr/>
          <p:nvPr/>
        </p:nvSpPr>
        <p:spPr>
          <a:xfrm>
            <a:off x="5219640" y="1557360"/>
            <a:ext cx="259092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GIF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Rectangle 145"/>
          <p:cNvSpPr/>
          <p:nvPr/>
        </p:nvSpPr>
        <p:spPr>
          <a:xfrm>
            <a:off x="4570560" y="1557360"/>
            <a:ext cx="59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2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Rectangle 146"/>
          <p:cNvSpPr/>
          <p:nvPr/>
        </p:nvSpPr>
        <p:spPr>
          <a:xfrm>
            <a:off x="4570560" y="1844640"/>
            <a:ext cx="59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2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Rectangle 147"/>
          <p:cNvSpPr/>
          <p:nvPr/>
        </p:nvSpPr>
        <p:spPr>
          <a:xfrm>
            <a:off x="5219640" y="1844640"/>
            <a:ext cx="259092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MI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Rectangle 148"/>
          <p:cNvSpPr/>
          <p:nvPr/>
        </p:nvSpPr>
        <p:spPr>
          <a:xfrm>
            <a:off x="5219640" y="2133720"/>
            <a:ext cx="259092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M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Rectangle 149"/>
          <p:cNvSpPr/>
          <p:nvPr/>
        </p:nvSpPr>
        <p:spPr>
          <a:xfrm>
            <a:off x="4570560" y="2133720"/>
            <a:ext cx="59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2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Rectangle 150"/>
          <p:cNvSpPr/>
          <p:nvPr/>
        </p:nvSpPr>
        <p:spPr>
          <a:xfrm>
            <a:off x="4570560" y="2421000"/>
            <a:ext cx="59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2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Rectangle 151"/>
          <p:cNvSpPr/>
          <p:nvPr/>
        </p:nvSpPr>
        <p:spPr>
          <a:xfrm>
            <a:off x="5219640" y="2421000"/>
            <a:ext cx="259092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OP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152"/>
          <p:cNvSpPr/>
          <p:nvPr/>
        </p:nvSpPr>
        <p:spPr>
          <a:xfrm>
            <a:off x="5219640" y="2709720"/>
            <a:ext cx="2590920" cy="28764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TIO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Rectangle 153"/>
          <p:cNvSpPr/>
          <p:nvPr/>
        </p:nvSpPr>
        <p:spPr>
          <a:xfrm>
            <a:off x="4570920" y="2709720"/>
            <a:ext cx="63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2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Rectangle 154"/>
          <p:cNvSpPr/>
          <p:nvPr/>
        </p:nvSpPr>
        <p:spPr>
          <a:xfrm>
            <a:off x="4570560" y="2997360"/>
            <a:ext cx="627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2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Rectangle 155"/>
          <p:cNvSpPr/>
          <p:nvPr/>
        </p:nvSpPr>
        <p:spPr>
          <a:xfrm>
            <a:off x="5219640" y="2997360"/>
            <a:ext cx="259092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RIO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Rectangle 156"/>
          <p:cNvSpPr/>
          <p:nvPr/>
        </p:nvSpPr>
        <p:spPr>
          <a:xfrm>
            <a:off x="4570920" y="3284640"/>
            <a:ext cx="614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2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157"/>
          <p:cNvSpPr/>
          <p:nvPr/>
        </p:nvSpPr>
        <p:spPr>
          <a:xfrm>
            <a:off x="5219640" y="3284640"/>
            <a:ext cx="259092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L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Rectangle 158"/>
          <p:cNvSpPr/>
          <p:nvPr/>
        </p:nvSpPr>
        <p:spPr>
          <a:xfrm>
            <a:off x="5219640" y="3573360"/>
            <a:ext cx="259092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TO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Rectangle 159"/>
          <p:cNvSpPr/>
          <p:nvPr/>
        </p:nvSpPr>
        <p:spPr>
          <a:xfrm>
            <a:off x="4570560" y="3573360"/>
            <a:ext cx="59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3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Rectangle 160"/>
          <p:cNvSpPr/>
          <p:nvPr/>
        </p:nvSpPr>
        <p:spPr>
          <a:xfrm>
            <a:off x="4570560" y="3860640"/>
            <a:ext cx="59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3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Rectangle 161"/>
          <p:cNvSpPr/>
          <p:nvPr/>
        </p:nvSpPr>
        <p:spPr>
          <a:xfrm>
            <a:off x="5219640" y="3860640"/>
            <a:ext cx="2590920" cy="28764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Rectangle 162"/>
          <p:cNvSpPr/>
          <p:nvPr/>
        </p:nvSpPr>
        <p:spPr>
          <a:xfrm>
            <a:off x="971640" y="5589720"/>
            <a:ext cx="259056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CANGIF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Rectangle 163"/>
          <p:cNvSpPr/>
          <p:nvPr/>
        </p:nvSpPr>
        <p:spPr>
          <a:xfrm>
            <a:off x="322920" y="5589720"/>
            <a:ext cx="614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1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Rectangle 164"/>
          <p:cNvSpPr/>
          <p:nvPr/>
        </p:nvSpPr>
        <p:spPr>
          <a:xfrm>
            <a:off x="899280" y="981000"/>
            <a:ext cx="3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Rectangle 165"/>
          <p:cNvSpPr/>
          <p:nvPr/>
        </p:nvSpPr>
        <p:spPr>
          <a:xfrm>
            <a:off x="3276000" y="98100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Rectangle 166"/>
          <p:cNvSpPr/>
          <p:nvPr/>
        </p:nvSpPr>
        <p:spPr>
          <a:xfrm>
            <a:off x="5076000" y="981000"/>
            <a:ext cx="38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Rectangle 167"/>
          <p:cNvSpPr/>
          <p:nvPr/>
        </p:nvSpPr>
        <p:spPr>
          <a:xfrm>
            <a:off x="7524000" y="98100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Rectangle 168"/>
          <p:cNvSpPr/>
          <p:nvPr/>
        </p:nvSpPr>
        <p:spPr>
          <a:xfrm>
            <a:off x="4570560" y="4149720"/>
            <a:ext cx="59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3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Rectangle 169"/>
          <p:cNvSpPr/>
          <p:nvPr/>
        </p:nvSpPr>
        <p:spPr>
          <a:xfrm>
            <a:off x="5219640" y="4149720"/>
            <a:ext cx="259092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reser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Rectangle 170"/>
          <p:cNvSpPr/>
          <p:nvPr/>
        </p:nvSpPr>
        <p:spPr>
          <a:xfrm>
            <a:off x="5219640" y="4438800"/>
            <a:ext cx="259092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reser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Rectangle 171"/>
          <p:cNvSpPr/>
          <p:nvPr/>
        </p:nvSpPr>
        <p:spPr>
          <a:xfrm>
            <a:off x="4570560" y="4438800"/>
            <a:ext cx="59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3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Rectangle 172"/>
          <p:cNvSpPr/>
          <p:nvPr/>
        </p:nvSpPr>
        <p:spPr>
          <a:xfrm>
            <a:off x="4570560" y="4726080"/>
            <a:ext cx="59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3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Rectangle 173"/>
          <p:cNvSpPr/>
          <p:nvPr/>
        </p:nvSpPr>
        <p:spPr>
          <a:xfrm>
            <a:off x="5219640" y="4726080"/>
            <a:ext cx="259092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reser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Rectangle 174"/>
          <p:cNvSpPr/>
          <p:nvPr/>
        </p:nvSpPr>
        <p:spPr>
          <a:xfrm>
            <a:off x="5219640" y="5014800"/>
            <a:ext cx="259092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reser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Rectangle 175"/>
          <p:cNvSpPr/>
          <p:nvPr/>
        </p:nvSpPr>
        <p:spPr>
          <a:xfrm>
            <a:off x="4570920" y="5014800"/>
            <a:ext cx="63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3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Rectangle 176"/>
          <p:cNvSpPr/>
          <p:nvPr/>
        </p:nvSpPr>
        <p:spPr>
          <a:xfrm>
            <a:off x="4570560" y="5302080"/>
            <a:ext cx="627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3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Rectangle 177"/>
          <p:cNvSpPr/>
          <p:nvPr/>
        </p:nvSpPr>
        <p:spPr>
          <a:xfrm>
            <a:off x="5219640" y="5302080"/>
            <a:ext cx="2590920" cy="28764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reser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Rectangle 178"/>
          <p:cNvSpPr/>
          <p:nvPr/>
        </p:nvSpPr>
        <p:spPr>
          <a:xfrm>
            <a:off x="5219640" y="5589720"/>
            <a:ext cx="2590920" cy="287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Unicode MS"/>
              </a:rPr>
              <a:t>reser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Rectangle 179"/>
          <p:cNvSpPr/>
          <p:nvPr/>
        </p:nvSpPr>
        <p:spPr>
          <a:xfrm>
            <a:off x="4570920" y="5589720"/>
            <a:ext cx="614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3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19"/>
          <p:cNvSpPr/>
          <p:nvPr/>
        </p:nvSpPr>
        <p:spPr>
          <a:xfrm>
            <a:off x="1154880" y="117360"/>
            <a:ext cx="7547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CAN Mailbox Enable Register (CANME) – 0x006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Text Box 42"/>
          <p:cNvSpPr/>
          <p:nvPr/>
        </p:nvSpPr>
        <p:spPr>
          <a:xfrm>
            <a:off x="972000" y="1268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Text Box 43"/>
          <p:cNvSpPr/>
          <p:nvPr/>
        </p:nvSpPr>
        <p:spPr>
          <a:xfrm>
            <a:off x="7812720" y="549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Text Box 44"/>
          <p:cNvSpPr/>
          <p:nvPr/>
        </p:nvSpPr>
        <p:spPr>
          <a:xfrm>
            <a:off x="972000" y="549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Rectangle 45"/>
          <p:cNvSpPr/>
          <p:nvPr/>
        </p:nvSpPr>
        <p:spPr>
          <a:xfrm>
            <a:off x="971640" y="155736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ME[15:0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Rectangle 46"/>
          <p:cNvSpPr/>
          <p:nvPr/>
        </p:nvSpPr>
        <p:spPr>
          <a:xfrm>
            <a:off x="971640" y="83664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ME[31:16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Text Box 47"/>
          <p:cNvSpPr/>
          <p:nvPr/>
        </p:nvSpPr>
        <p:spPr>
          <a:xfrm>
            <a:off x="7886160" y="126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Rectangle 48"/>
          <p:cNvSpPr/>
          <p:nvPr/>
        </p:nvSpPr>
        <p:spPr>
          <a:xfrm>
            <a:off x="1467000" y="2276640"/>
            <a:ext cx="6149520" cy="941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Mailbox Enable B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corresponding mailbox is dis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The corresponding mailbox is enabled. A mailbox must be disabled befor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writing to the contents of any mailbox identifier fiel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Rectangle 49"/>
          <p:cNvSpPr/>
          <p:nvPr/>
        </p:nvSpPr>
        <p:spPr>
          <a:xfrm>
            <a:off x="1157040" y="3430440"/>
            <a:ext cx="7886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CAN Mailbox Direction Register (CANMD) – 0x006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Text Box 50"/>
          <p:cNvSpPr/>
          <p:nvPr/>
        </p:nvSpPr>
        <p:spPr>
          <a:xfrm>
            <a:off x="972000" y="4581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Text Box 51"/>
          <p:cNvSpPr/>
          <p:nvPr/>
        </p:nvSpPr>
        <p:spPr>
          <a:xfrm>
            <a:off x="7812720" y="38624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Text Box 52"/>
          <p:cNvSpPr/>
          <p:nvPr/>
        </p:nvSpPr>
        <p:spPr>
          <a:xfrm>
            <a:off x="972000" y="38624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Rectangle 53"/>
          <p:cNvSpPr/>
          <p:nvPr/>
        </p:nvSpPr>
        <p:spPr>
          <a:xfrm>
            <a:off x="971640" y="487044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MD[15:0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Rectangle 54"/>
          <p:cNvSpPr/>
          <p:nvPr/>
        </p:nvSpPr>
        <p:spPr>
          <a:xfrm>
            <a:off x="971640" y="414972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MD[31:16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 Box 55"/>
          <p:cNvSpPr/>
          <p:nvPr/>
        </p:nvSpPr>
        <p:spPr>
          <a:xfrm>
            <a:off x="7886160" y="4581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Rectangle 56"/>
          <p:cNvSpPr/>
          <p:nvPr/>
        </p:nvSpPr>
        <p:spPr>
          <a:xfrm>
            <a:off x="1470600" y="5589720"/>
            <a:ext cx="493488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Mailbox Direction B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corresponding mailbox is defined as a transmit mailbox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corresponding mailbox is defined as a receive mailbox.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357840" y="179280"/>
            <a:ext cx="7809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CAN Transmission Request Set Register (CANTRS) – 0x0060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972000" y="1268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7812720" y="549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972000" y="549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Rectangle 6"/>
          <p:cNvSpPr/>
          <p:nvPr/>
        </p:nvSpPr>
        <p:spPr>
          <a:xfrm>
            <a:off x="971640" y="155736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TRS[15:0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Rectangle 7"/>
          <p:cNvSpPr/>
          <p:nvPr/>
        </p:nvSpPr>
        <p:spPr>
          <a:xfrm>
            <a:off x="971640" y="83664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TRS[31:16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7886160" y="126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Rectangle 9"/>
          <p:cNvSpPr/>
          <p:nvPr/>
        </p:nvSpPr>
        <p:spPr>
          <a:xfrm>
            <a:off x="980640" y="2286000"/>
            <a:ext cx="7487640" cy="941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Mailbox Transmission Request Set Bits (TR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no operation. NOTE: Bit will be cleared by CAN-Module logic after successful transmissi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Start of  transmission of  corresponding mailbox. Set to 1 by user software;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R  by CAN –logic in case of a Remote Transmit Reques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Rectangle 10"/>
          <p:cNvSpPr/>
          <p:nvPr/>
        </p:nvSpPr>
        <p:spPr>
          <a:xfrm>
            <a:off x="357840" y="3502080"/>
            <a:ext cx="8123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CAN Transmission Request Res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Register (CANTRR) – 0x006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Text Box 11"/>
          <p:cNvSpPr/>
          <p:nvPr/>
        </p:nvSpPr>
        <p:spPr>
          <a:xfrm>
            <a:off x="972000" y="4581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7812720" y="38624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Text Box 13"/>
          <p:cNvSpPr/>
          <p:nvPr/>
        </p:nvSpPr>
        <p:spPr>
          <a:xfrm>
            <a:off x="972000" y="38624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Rectangle 14"/>
          <p:cNvSpPr/>
          <p:nvPr/>
        </p:nvSpPr>
        <p:spPr>
          <a:xfrm>
            <a:off x="971640" y="487044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TRR[15:0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Rectangle 15"/>
          <p:cNvSpPr/>
          <p:nvPr/>
        </p:nvSpPr>
        <p:spPr>
          <a:xfrm>
            <a:off x="971640" y="414972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TRR[31:16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Text Box 16"/>
          <p:cNvSpPr/>
          <p:nvPr/>
        </p:nvSpPr>
        <p:spPr>
          <a:xfrm>
            <a:off x="7886160" y="4581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Rectangle 17"/>
          <p:cNvSpPr/>
          <p:nvPr/>
        </p:nvSpPr>
        <p:spPr>
          <a:xfrm>
            <a:off x="1485720" y="5589720"/>
            <a:ext cx="62028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Mailbox Transmission Reset Request Bits (TR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no operati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setting TRRn cancels a transmission request, if not already in progress.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379800" y="216000"/>
            <a:ext cx="7809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CAN Transmission Acknowledge Register (CANTA) – 0x006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Text Box 3"/>
          <p:cNvSpPr/>
          <p:nvPr/>
        </p:nvSpPr>
        <p:spPr>
          <a:xfrm>
            <a:off x="972000" y="1268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7812720" y="549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972000" y="549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Rectangle 6"/>
          <p:cNvSpPr/>
          <p:nvPr/>
        </p:nvSpPr>
        <p:spPr>
          <a:xfrm>
            <a:off x="971640" y="155736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TA[15:0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971640" y="83664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TA[31:16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Text Box 8"/>
          <p:cNvSpPr/>
          <p:nvPr/>
        </p:nvSpPr>
        <p:spPr>
          <a:xfrm>
            <a:off x="7886160" y="126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Rectangle 9"/>
          <p:cNvSpPr/>
          <p:nvPr/>
        </p:nvSpPr>
        <p:spPr>
          <a:xfrm>
            <a:off x="1483200" y="2276640"/>
            <a:ext cx="6355080" cy="941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Mailbox Transmission Acknowledge Bits (T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the message is not sen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if the message of mailbox n is sent successfully, the bit n of this register is set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ote:  To  reset  a TA bit by software:  write a ‘1’ into it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Rectangle 10"/>
          <p:cNvSpPr/>
          <p:nvPr/>
        </p:nvSpPr>
        <p:spPr>
          <a:xfrm>
            <a:off x="391680" y="3502080"/>
            <a:ext cx="7982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CAN Abort Acknowledge Request Register (CANAA) – 0x00600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Text Box 11"/>
          <p:cNvSpPr/>
          <p:nvPr/>
        </p:nvSpPr>
        <p:spPr>
          <a:xfrm>
            <a:off x="972000" y="4581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Text Box 12"/>
          <p:cNvSpPr/>
          <p:nvPr/>
        </p:nvSpPr>
        <p:spPr>
          <a:xfrm>
            <a:off x="7812720" y="38624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Text Box 13"/>
          <p:cNvSpPr/>
          <p:nvPr/>
        </p:nvSpPr>
        <p:spPr>
          <a:xfrm>
            <a:off x="972000" y="38624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Rectangle 14"/>
          <p:cNvSpPr/>
          <p:nvPr/>
        </p:nvSpPr>
        <p:spPr>
          <a:xfrm>
            <a:off x="971640" y="487044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AA[15:0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Rectangle 15"/>
          <p:cNvSpPr/>
          <p:nvPr/>
        </p:nvSpPr>
        <p:spPr>
          <a:xfrm>
            <a:off x="971640" y="414972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AA[31:16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Text Box 16"/>
          <p:cNvSpPr/>
          <p:nvPr/>
        </p:nvSpPr>
        <p:spPr>
          <a:xfrm>
            <a:off x="7886160" y="4581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Rectangle 17"/>
          <p:cNvSpPr/>
          <p:nvPr/>
        </p:nvSpPr>
        <p:spPr>
          <a:xfrm>
            <a:off x="1468800" y="5589720"/>
            <a:ext cx="4663440" cy="941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Mailbox Abort Acknowledge Bits (A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The transmission is not abor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The transmission of mailbox n is abor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ote:  To  reset  a AA bit by software:  write a ‘1’ into it.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2"/>
          <p:cNvSpPr/>
          <p:nvPr/>
        </p:nvSpPr>
        <p:spPr>
          <a:xfrm>
            <a:off x="657360" y="289080"/>
            <a:ext cx="7894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CAN Receive Message Pending Register (CANRMP) – 0x00600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Text Box 3"/>
          <p:cNvSpPr/>
          <p:nvPr/>
        </p:nvSpPr>
        <p:spPr>
          <a:xfrm>
            <a:off x="972000" y="1268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Text Box 4"/>
          <p:cNvSpPr/>
          <p:nvPr/>
        </p:nvSpPr>
        <p:spPr>
          <a:xfrm>
            <a:off x="7812720" y="549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972000" y="549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971640" y="155736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RMP[15:0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971640" y="83664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RMP[31:16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Text Box 8"/>
          <p:cNvSpPr/>
          <p:nvPr/>
        </p:nvSpPr>
        <p:spPr>
          <a:xfrm>
            <a:off x="7886160" y="126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Rectangle 9"/>
          <p:cNvSpPr/>
          <p:nvPr/>
        </p:nvSpPr>
        <p:spPr>
          <a:xfrm>
            <a:off x="1533960" y="2276640"/>
            <a:ext cx="4899600" cy="1154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Mailbox Receive Message Pending Bits (RMP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the mailbox does not contain a mess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the mailbox contains a valid message.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ote:  To  reset  a RMP bit by software:  write a ‘1’ into it.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Rectangle 10"/>
          <p:cNvSpPr/>
          <p:nvPr/>
        </p:nvSpPr>
        <p:spPr>
          <a:xfrm>
            <a:off x="635040" y="3505320"/>
            <a:ext cx="7400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CAN Receive Message Lost Register (CANRML) – 0x00600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Text Box 11"/>
          <p:cNvSpPr/>
          <p:nvPr/>
        </p:nvSpPr>
        <p:spPr>
          <a:xfrm>
            <a:off x="972000" y="4581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Text Box 12"/>
          <p:cNvSpPr/>
          <p:nvPr/>
        </p:nvSpPr>
        <p:spPr>
          <a:xfrm>
            <a:off x="7812720" y="38624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Text Box 13"/>
          <p:cNvSpPr/>
          <p:nvPr/>
        </p:nvSpPr>
        <p:spPr>
          <a:xfrm>
            <a:off x="972000" y="38624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Rectangle 14"/>
          <p:cNvSpPr/>
          <p:nvPr/>
        </p:nvSpPr>
        <p:spPr>
          <a:xfrm>
            <a:off x="971640" y="487044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RML[15:0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Rectangle 15"/>
          <p:cNvSpPr/>
          <p:nvPr/>
        </p:nvSpPr>
        <p:spPr>
          <a:xfrm>
            <a:off x="971640" y="414972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RML[31:16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 Box 16"/>
          <p:cNvSpPr/>
          <p:nvPr/>
        </p:nvSpPr>
        <p:spPr>
          <a:xfrm>
            <a:off x="7886160" y="4581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Rectangle 17"/>
          <p:cNvSpPr/>
          <p:nvPr/>
        </p:nvSpPr>
        <p:spPr>
          <a:xfrm>
            <a:off x="1468080" y="5589720"/>
            <a:ext cx="6117480" cy="941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Mailbox Receive Message Lost Bits (RM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no message was los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an old unread message has been overwritten by a new one in that mailbox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ote:  To  reset  a RML bit by software:  write a ‘1’ into i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875880" y="836640"/>
            <a:ext cx="745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CAN Remote Frame Pending Register (CANRFP) – 0x0060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943560" y="20397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Text Box 4"/>
          <p:cNvSpPr/>
          <p:nvPr/>
        </p:nvSpPr>
        <p:spPr>
          <a:xfrm>
            <a:off x="784908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Text Box 5"/>
          <p:cNvSpPr/>
          <p:nvPr/>
        </p:nvSpPr>
        <p:spPr>
          <a:xfrm>
            <a:off x="9147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942840" y="2328840"/>
            <a:ext cx="7201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RFP[15:0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942840" y="1608120"/>
            <a:ext cx="7201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RFP[31:16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Text Box 8"/>
          <p:cNvSpPr/>
          <p:nvPr/>
        </p:nvSpPr>
        <p:spPr>
          <a:xfrm>
            <a:off x="7857720" y="20397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1073880" y="3429000"/>
            <a:ext cx="6655320" cy="1154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Mailbox Remote Frame Pending Bits (RFP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no remote frame request was receiv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a remote frame request was received by the CAN module.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ote:  To  reset  a RFP bit by software:  write a ‘1’ into the corresponding TRR bit.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10"/>
          <p:cNvSpPr/>
          <p:nvPr/>
        </p:nvSpPr>
        <p:spPr>
          <a:xfrm>
            <a:off x="503280" y="544680"/>
            <a:ext cx="7697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CAN Global Acceptance Mask Register (CANGAM) – 0x0060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Text Box 11"/>
          <p:cNvSpPr/>
          <p:nvPr/>
        </p:nvSpPr>
        <p:spPr>
          <a:xfrm>
            <a:off x="743400" y="15336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Text Box 12"/>
          <p:cNvSpPr/>
          <p:nvPr/>
        </p:nvSpPr>
        <p:spPr>
          <a:xfrm>
            <a:off x="7620480" y="9144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Text Box 13"/>
          <p:cNvSpPr/>
          <p:nvPr/>
        </p:nvSpPr>
        <p:spPr>
          <a:xfrm>
            <a:off x="914760" y="9144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Rectangle 14"/>
          <p:cNvSpPr/>
          <p:nvPr/>
        </p:nvSpPr>
        <p:spPr>
          <a:xfrm>
            <a:off x="743040" y="182232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GAM[15:0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Rectangle 15"/>
          <p:cNvSpPr/>
          <p:nvPr/>
        </p:nvSpPr>
        <p:spPr>
          <a:xfrm>
            <a:off x="2209680" y="1143000"/>
            <a:ext cx="571500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GAM[28:16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Text Box 16"/>
          <p:cNvSpPr/>
          <p:nvPr/>
        </p:nvSpPr>
        <p:spPr>
          <a:xfrm>
            <a:off x="7657560" y="1533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Rectangle 17"/>
          <p:cNvSpPr/>
          <p:nvPr/>
        </p:nvSpPr>
        <p:spPr>
          <a:xfrm>
            <a:off x="272160" y="3648240"/>
            <a:ext cx="8694720" cy="1367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Acceptance Mask Identifier Bit (AMI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the identifier extension bit in the mailbox determines which messages shall be receiv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iltering is not applicable.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standard and extended frames can be received. In case of an extended frame all 29 bits of the identifi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nd all 29 bits of the GAM are used for the filter. In case of a standard frame only bits 28-18 of the identifi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nd the GAM are used for the filter.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Rectangle 18"/>
          <p:cNvSpPr/>
          <p:nvPr/>
        </p:nvSpPr>
        <p:spPr>
          <a:xfrm>
            <a:off x="762120" y="114300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M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Rectangle 19"/>
          <p:cNvSpPr/>
          <p:nvPr/>
        </p:nvSpPr>
        <p:spPr>
          <a:xfrm>
            <a:off x="1371600" y="11430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Text Box 20"/>
          <p:cNvSpPr/>
          <p:nvPr/>
        </p:nvSpPr>
        <p:spPr>
          <a:xfrm>
            <a:off x="1523520" y="914400"/>
            <a:ext cx="59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0-2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xt Box 21"/>
          <p:cNvSpPr/>
          <p:nvPr/>
        </p:nvSpPr>
        <p:spPr>
          <a:xfrm>
            <a:off x="2210400" y="9144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Text Box 22"/>
          <p:cNvSpPr/>
          <p:nvPr/>
        </p:nvSpPr>
        <p:spPr>
          <a:xfrm>
            <a:off x="338040" y="2514600"/>
            <a:ext cx="7986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Arial"/>
              </a:rPr>
              <a:t>Note : This Register is used in Standard Can Controller (SCC) mode only. It is hers a sing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Arial"/>
              </a:rPr>
              <a:t>input filter for mailboxes 6…15,  if the AME bit (MID.30) of the corresponding mailbox is set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Arial"/>
              </a:rPr>
              <a:t>CANGAM  is not used in extended eCAN – Mode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Rectangle 23"/>
          <p:cNvSpPr/>
          <p:nvPr/>
        </p:nvSpPr>
        <p:spPr>
          <a:xfrm>
            <a:off x="315720" y="5486400"/>
            <a:ext cx="57960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Global Acceptance Mask (GAM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bit position must match the corresponding bit in register  CANMIDn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bit position of the incoming identifier is a “don’t’ care”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2"/>
          <p:cNvSpPr/>
          <p:nvPr/>
        </p:nvSpPr>
        <p:spPr>
          <a:xfrm>
            <a:off x="878400" y="0"/>
            <a:ext cx="7496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CAN Master Control Register (CANMC) – 0x0060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457560" y="1447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8458560" y="5335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305280" y="5335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Rectangle 6"/>
          <p:cNvSpPr/>
          <p:nvPr/>
        </p:nvSpPr>
        <p:spPr>
          <a:xfrm>
            <a:off x="304920" y="838080"/>
            <a:ext cx="853416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8611560" y="144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Rectangle 10"/>
          <p:cNvSpPr/>
          <p:nvPr/>
        </p:nvSpPr>
        <p:spPr>
          <a:xfrm>
            <a:off x="30492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BC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Rectangle 11"/>
          <p:cNvSpPr/>
          <p:nvPr/>
        </p:nvSpPr>
        <p:spPr>
          <a:xfrm>
            <a:off x="7010280" y="1752480"/>
            <a:ext cx="182880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BN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Rectangle 15"/>
          <p:cNvSpPr/>
          <p:nvPr/>
        </p:nvSpPr>
        <p:spPr>
          <a:xfrm>
            <a:off x="292680" y="5715000"/>
            <a:ext cx="730296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Mailbox Timestamp counter clear  (MBCC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no operat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timestamp counter is reset to 0 after a successful transmission or reception of mailbox 16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Rectangle 16"/>
          <p:cNvSpPr/>
          <p:nvPr/>
        </p:nvSpPr>
        <p:spPr>
          <a:xfrm>
            <a:off x="5181480" y="1752480"/>
            <a:ext cx="6098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B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Rectangle 17"/>
          <p:cNvSpPr/>
          <p:nvPr/>
        </p:nvSpPr>
        <p:spPr>
          <a:xfrm>
            <a:off x="457200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D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Rectangle 18"/>
          <p:cNvSpPr/>
          <p:nvPr/>
        </p:nvSpPr>
        <p:spPr>
          <a:xfrm>
            <a:off x="396252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WUB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Rectangle 19"/>
          <p:cNvSpPr/>
          <p:nvPr/>
        </p:nvSpPr>
        <p:spPr>
          <a:xfrm>
            <a:off x="3352680" y="1752480"/>
            <a:ext cx="6098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B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Rectangle 20"/>
          <p:cNvSpPr/>
          <p:nvPr/>
        </p:nvSpPr>
        <p:spPr>
          <a:xfrm>
            <a:off x="274320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D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Rectangle 21"/>
          <p:cNvSpPr/>
          <p:nvPr/>
        </p:nvSpPr>
        <p:spPr>
          <a:xfrm>
            <a:off x="213372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C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Rectangle 22"/>
          <p:cNvSpPr/>
          <p:nvPr/>
        </p:nvSpPr>
        <p:spPr>
          <a:xfrm>
            <a:off x="1523880" y="1752480"/>
            <a:ext cx="6098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C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Rectangle 23"/>
          <p:cNvSpPr/>
          <p:nvPr/>
        </p:nvSpPr>
        <p:spPr>
          <a:xfrm>
            <a:off x="91440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C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Rectangle 24"/>
          <p:cNvSpPr/>
          <p:nvPr/>
        </p:nvSpPr>
        <p:spPr>
          <a:xfrm>
            <a:off x="640080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Rectangle 25"/>
          <p:cNvSpPr/>
          <p:nvPr/>
        </p:nvSpPr>
        <p:spPr>
          <a:xfrm>
            <a:off x="579132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T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Text Box 26"/>
          <p:cNvSpPr/>
          <p:nvPr/>
        </p:nvSpPr>
        <p:spPr>
          <a:xfrm>
            <a:off x="7011360" y="144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Text Box 27"/>
          <p:cNvSpPr/>
          <p:nvPr/>
        </p:nvSpPr>
        <p:spPr>
          <a:xfrm>
            <a:off x="1067400" y="1447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Text Box 28"/>
          <p:cNvSpPr/>
          <p:nvPr/>
        </p:nvSpPr>
        <p:spPr>
          <a:xfrm>
            <a:off x="1600560" y="1447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Text Box 29"/>
          <p:cNvSpPr/>
          <p:nvPr/>
        </p:nvSpPr>
        <p:spPr>
          <a:xfrm>
            <a:off x="2286360" y="1447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Text Box 30"/>
          <p:cNvSpPr/>
          <p:nvPr/>
        </p:nvSpPr>
        <p:spPr>
          <a:xfrm>
            <a:off x="2896200" y="1447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Text Box 31"/>
          <p:cNvSpPr/>
          <p:nvPr/>
        </p:nvSpPr>
        <p:spPr>
          <a:xfrm>
            <a:off x="3429360" y="1447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Text Box 32"/>
          <p:cNvSpPr/>
          <p:nvPr/>
        </p:nvSpPr>
        <p:spPr>
          <a:xfrm>
            <a:off x="4115880" y="144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Text Box 33"/>
          <p:cNvSpPr/>
          <p:nvPr/>
        </p:nvSpPr>
        <p:spPr>
          <a:xfrm>
            <a:off x="4725360" y="144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Text Box 34"/>
          <p:cNvSpPr/>
          <p:nvPr/>
        </p:nvSpPr>
        <p:spPr>
          <a:xfrm>
            <a:off x="5335200" y="144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Text Box 35"/>
          <p:cNvSpPr/>
          <p:nvPr/>
        </p:nvSpPr>
        <p:spPr>
          <a:xfrm>
            <a:off x="5944680" y="144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Text Box 36"/>
          <p:cNvSpPr/>
          <p:nvPr/>
        </p:nvSpPr>
        <p:spPr>
          <a:xfrm>
            <a:off x="6630480" y="144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Rectangle 37"/>
          <p:cNvSpPr/>
          <p:nvPr/>
        </p:nvSpPr>
        <p:spPr>
          <a:xfrm>
            <a:off x="734040" y="4572000"/>
            <a:ext cx="322776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Timestamp counter MSB clear  (TCC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no operat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timestamp counter MSB is reset to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Rectangle 38"/>
          <p:cNvSpPr/>
          <p:nvPr/>
        </p:nvSpPr>
        <p:spPr>
          <a:xfrm>
            <a:off x="1432080" y="3592440"/>
            <a:ext cx="268704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SCC Compatibility bit (SCB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0 = standard CAN mode (SCC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1 = high end CAN (HECC) m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Line 39"/>
          <p:cNvSpPr/>
          <p:nvPr/>
        </p:nvSpPr>
        <p:spPr>
          <a:xfrm>
            <a:off x="609480" y="2209680"/>
            <a:ext cx="0" cy="3505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Line 40"/>
          <p:cNvSpPr/>
          <p:nvPr/>
        </p:nvSpPr>
        <p:spPr>
          <a:xfrm>
            <a:off x="1219320" y="2209680"/>
            <a:ext cx="0" cy="2362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Line 41"/>
          <p:cNvSpPr/>
          <p:nvPr/>
        </p:nvSpPr>
        <p:spPr>
          <a:xfrm>
            <a:off x="1828800" y="2209680"/>
            <a:ext cx="0" cy="1382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Rectangle 42"/>
          <p:cNvSpPr/>
          <p:nvPr/>
        </p:nvSpPr>
        <p:spPr>
          <a:xfrm>
            <a:off x="2134440" y="2428920"/>
            <a:ext cx="6399360" cy="941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Change Configuration Request (CC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software requests normal operat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software requests write access to CANBTC, CANGAM, LAM[0] and LAM[3]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 request is granted by the CAN module with flag CCE ( CANES) = 1.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Line 43"/>
          <p:cNvSpPr/>
          <p:nvPr/>
        </p:nvSpPr>
        <p:spPr>
          <a:xfrm>
            <a:off x="2438280" y="2209680"/>
            <a:ext cx="0" cy="219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Rectangle 38"/>
          <p:cNvSpPr/>
          <p:nvPr/>
        </p:nvSpPr>
        <p:spPr>
          <a:xfrm>
            <a:off x="6189840" y="4449600"/>
            <a:ext cx="2693880" cy="1154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Standard CAN Mode SCC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Reduced functionality;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Mailboxes 0...15 on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3 acceptance masks on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No timestamp  featu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Rectangle 38"/>
          <p:cNvSpPr/>
          <p:nvPr/>
        </p:nvSpPr>
        <p:spPr>
          <a:xfrm>
            <a:off x="6189840" y="3486240"/>
            <a:ext cx="2693880" cy="941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High end CAN Mode HECC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Full functionality;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Mailboxes 0...31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32 acceptance mask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Gerade Verbindung 41"/>
          <p:cNvSpPr/>
          <p:nvPr/>
        </p:nvSpPr>
        <p:spPr>
          <a:xfrm>
            <a:off x="4122720" y="3962520"/>
            <a:ext cx="2067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Gerade Verbindung 48"/>
          <p:cNvSpPr/>
          <p:nvPr/>
        </p:nvSpPr>
        <p:spPr>
          <a:xfrm>
            <a:off x="4122720" y="3962520"/>
            <a:ext cx="2067120" cy="106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Why a car network like CAN?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83240" y="585720"/>
            <a:ext cx="912636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quirements of an in car networ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379440">
              <a:lnSpc>
                <a:spcPct val="100000"/>
              </a:lnSpc>
              <a:buClr>
                <a:srgbClr val="ffffff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ow cost sol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379440">
              <a:lnSpc>
                <a:spcPct val="100000"/>
              </a:lnSpc>
              <a:buClr>
                <a:srgbClr val="ffffff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good and high performance with few overhead transmi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379440">
              <a:lnSpc>
                <a:spcPct val="100000"/>
              </a:lnSpc>
              <a:buClr>
                <a:srgbClr val="ffffff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igh volume production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379440">
              <a:lnSpc>
                <a:spcPct val="100000"/>
              </a:lnSpc>
              <a:buClr>
                <a:srgbClr val="ffffff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igh reliability and electromagnetic compatibility (EM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379440">
              <a:lnSpc>
                <a:spcPct val="100000"/>
              </a:lnSpc>
              <a:buClr>
                <a:srgbClr val="ffffff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ata security due to a fail-safe data transmission protoc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379440">
              <a:lnSpc>
                <a:spcPct val="100000"/>
              </a:lnSpc>
              <a:buClr>
                <a:srgbClr val="ffffff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hort message length, only a few bytes per 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379440">
              <a:lnSpc>
                <a:spcPct val="100000"/>
              </a:lnSpc>
              <a:buClr>
                <a:srgbClr val="ffffff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here in a car is CAN us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379440">
              <a:lnSpc>
                <a:spcPct val="100000"/>
              </a:lnSpc>
              <a:buClr>
                <a:srgbClr val="ffffff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ommunication between electronic control un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379440">
              <a:lnSpc>
                <a:spcPct val="100000"/>
              </a:lnSpc>
              <a:buClr>
                <a:srgbClr val="ffffff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eparated CAN – sections at different speed f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17520" indent="-379440">
              <a:lnSpc>
                <a:spcPct val="100000"/>
              </a:lnSpc>
              <a:buClr>
                <a:srgbClr val="ffffff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uto - Body” electronic control units” (chassis,  light, central lock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17520" indent="-379440">
              <a:lnSpc>
                <a:spcPct val="100000"/>
              </a:lnSpc>
              <a:buClr>
                <a:srgbClr val="ffffff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ngine” control units and “Power train” modul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17520" indent="-379440">
              <a:lnSpc>
                <a:spcPct val="100000"/>
              </a:lnSpc>
              <a:buClr>
                <a:srgbClr val="ffffff"/>
              </a:buClr>
              <a:buSzPct val="9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omfort modul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Line 53"/>
          <p:cNvSpPr/>
          <p:nvPr/>
        </p:nvSpPr>
        <p:spPr>
          <a:xfrm flipH="1">
            <a:off x="5562360" y="1523880"/>
            <a:ext cx="1143000" cy="1676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Rectangle 2"/>
          <p:cNvSpPr/>
          <p:nvPr/>
        </p:nvSpPr>
        <p:spPr>
          <a:xfrm>
            <a:off x="929160" y="0"/>
            <a:ext cx="7581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CAN Master Control Register (CANMC) – 0x00601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4" name="Group 46"/>
          <p:cNvGrpSpPr/>
          <p:nvPr/>
        </p:nvGrpSpPr>
        <p:grpSpPr>
          <a:xfrm>
            <a:off x="304920" y="2895480"/>
            <a:ext cx="8577360" cy="762120"/>
            <a:chOff x="304920" y="2895480"/>
            <a:chExt cx="8577360" cy="762120"/>
          </a:xfrm>
        </p:grpSpPr>
        <p:sp>
          <p:nvSpPr>
            <p:cNvPr id="675" name="Text Box 3"/>
            <p:cNvSpPr/>
            <p:nvPr/>
          </p:nvSpPr>
          <p:spPr>
            <a:xfrm>
              <a:off x="457560" y="2895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Text Box 7"/>
            <p:cNvSpPr/>
            <p:nvPr/>
          </p:nvSpPr>
          <p:spPr>
            <a:xfrm>
              <a:off x="8611560" y="289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Rectangle 8"/>
            <p:cNvSpPr/>
            <p:nvPr/>
          </p:nvSpPr>
          <p:spPr>
            <a:xfrm>
              <a:off x="304920" y="320040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MBC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Rectangle 9"/>
            <p:cNvSpPr/>
            <p:nvPr/>
          </p:nvSpPr>
          <p:spPr>
            <a:xfrm>
              <a:off x="7010280" y="3200400"/>
              <a:ext cx="182880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MBN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Rectangle 11"/>
            <p:cNvSpPr/>
            <p:nvPr/>
          </p:nvSpPr>
          <p:spPr>
            <a:xfrm>
              <a:off x="5181480" y="3200400"/>
              <a:ext cx="6098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AB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Rectangle 12"/>
            <p:cNvSpPr/>
            <p:nvPr/>
          </p:nvSpPr>
          <p:spPr>
            <a:xfrm>
              <a:off x="4572000" y="320040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C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Rectangle 13"/>
            <p:cNvSpPr/>
            <p:nvPr/>
          </p:nvSpPr>
          <p:spPr>
            <a:xfrm>
              <a:off x="3962520" y="320040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WUB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Rectangle 14"/>
            <p:cNvSpPr/>
            <p:nvPr/>
          </p:nvSpPr>
          <p:spPr>
            <a:xfrm>
              <a:off x="3352680" y="3200400"/>
              <a:ext cx="6098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DB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Rectangle 15"/>
            <p:cNvSpPr/>
            <p:nvPr/>
          </p:nvSpPr>
          <p:spPr>
            <a:xfrm>
              <a:off x="2743200" y="320040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P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Rectangle 16"/>
            <p:cNvSpPr/>
            <p:nvPr/>
          </p:nvSpPr>
          <p:spPr>
            <a:xfrm>
              <a:off x="2133720" y="320040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CC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Rectangle 17"/>
            <p:cNvSpPr/>
            <p:nvPr/>
          </p:nvSpPr>
          <p:spPr>
            <a:xfrm>
              <a:off x="1523880" y="3200400"/>
              <a:ext cx="6098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SC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Rectangle 18"/>
            <p:cNvSpPr/>
            <p:nvPr/>
          </p:nvSpPr>
          <p:spPr>
            <a:xfrm>
              <a:off x="914400" y="320040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C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Rectangle 19"/>
            <p:cNvSpPr/>
            <p:nvPr/>
          </p:nvSpPr>
          <p:spPr>
            <a:xfrm>
              <a:off x="6400800" y="320040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SR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Rectangle 20"/>
            <p:cNvSpPr/>
            <p:nvPr/>
          </p:nvSpPr>
          <p:spPr>
            <a:xfrm>
              <a:off x="5791320" y="320040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ST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Text Box 21"/>
            <p:cNvSpPr/>
            <p:nvPr/>
          </p:nvSpPr>
          <p:spPr>
            <a:xfrm>
              <a:off x="7011360" y="289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Text Box 22"/>
            <p:cNvSpPr/>
            <p:nvPr/>
          </p:nvSpPr>
          <p:spPr>
            <a:xfrm>
              <a:off x="1067400" y="2895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Text Box 23"/>
            <p:cNvSpPr/>
            <p:nvPr/>
          </p:nvSpPr>
          <p:spPr>
            <a:xfrm>
              <a:off x="1600560" y="2895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Text Box 24"/>
            <p:cNvSpPr/>
            <p:nvPr/>
          </p:nvSpPr>
          <p:spPr>
            <a:xfrm>
              <a:off x="2286360" y="2895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Text Box 25"/>
            <p:cNvSpPr/>
            <p:nvPr/>
          </p:nvSpPr>
          <p:spPr>
            <a:xfrm>
              <a:off x="2896200" y="2895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Text Box 26"/>
            <p:cNvSpPr/>
            <p:nvPr/>
          </p:nvSpPr>
          <p:spPr>
            <a:xfrm>
              <a:off x="3429360" y="2895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Text Box 27"/>
            <p:cNvSpPr/>
            <p:nvPr/>
          </p:nvSpPr>
          <p:spPr>
            <a:xfrm>
              <a:off x="4115880" y="289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Text Box 28"/>
            <p:cNvSpPr/>
            <p:nvPr/>
          </p:nvSpPr>
          <p:spPr>
            <a:xfrm>
              <a:off x="4725360" y="289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Text Box 29"/>
            <p:cNvSpPr/>
            <p:nvPr/>
          </p:nvSpPr>
          <p:spPr>
            <a:xfrm>
              <a:off x="5335200" y="289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Text Box 30"/>
            <p:cNvSpPr/>
            <p:nvPr/>
          </p:nvSpPr>
          <p:spPr>
            <a:xfrm>
              <a:off x="5944680" y="289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Text Box 31"/>
            <p:cNvSpPr/>
            <p:nvPr/>
          </p:nvSpPr>
          <p:spPr>
            <a:xfrm>
              <a:off x="6630480" y="289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0" name="Rectangle 39"/>
          <p:cNvSpPr/>
          <p:nvPr/>
        </p:nvSpPr>
        <p:spPr>
          <a:xfrm>
            <a:off x="302040" y="4495680"/>
            <a:ext cx="4462200" cy="941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Data Byte Order (DBO) in Mailbox Regis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MDH[31:0] and MDL[31:0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MDH[31:0] : Byte 4,5,6,7 ; MDL[31:0] : Byte 0,1,2,3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MDH[31:0] : Byte 7,6,5,4 ; MDL[31:0] : Byte 3,2,1,0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Rectangle 40"/>
          <p:cNvSpPr/>
          <p:nvPr/>
        </p:nvSpPr>
        <p:spPr>
          <a:xfrm>
            <a:off x="2819520" y="1676520"/>
            <a:ext cx="2903400" cy="1154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Wake up on bus activity (WUB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Module leaves power down on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fter writing a 0 to PD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Module leaves power down 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ny bus activity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Rectangle 41"/>
          <p:cNvSpPr/>
          <p:nvPr/>
        </p:nvSpPr>
        <p:spPr>
          <a:xfrm>
            <a:off x="988920" y="5638680"/>
            <a:ext cx="4597920" cy="941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Change data field request (CD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normal operat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software requests access to the data field in 2MBNR”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OTE: software must clear this bit after access is done.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Rectangle 42"/>
          <p:cNvSpPr/>
          <p:nvPr/>
        </p:nvSpPr>
        <p:spPr>
          <a:xfrm>
            <a:off x="4875840" y="533520"/>
            <a:ext cx="4056840" cy="941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Auto bus on (ABO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“bus off’ state is permanent.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“bus off” state is left into “bus on”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fter 128*11 recessive bits have been received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Rectangle 43"/>
          <p:cNvSpPr/>
          <p:nvPr/>
        </p:nvSpPr>
        <p:spPr>
          <a:xfrm>
            <a:off x="5793120" y="5638680"/>
            <a:ext cx="288504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Self  Test Mode (STM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normal mode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Module generates its own ACK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Rectangle 44"/>
          <p:cNvSpPr/>
          <p:nvPr/>
        </p:nvSpPr>
        <p:spPr>
          <a:xfrm>
            <a:off x="6937560" y="1981080"/>
            <a:ext cx="18900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Software Reset(SRE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no effect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CAN Module res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Rectangle 45"/>
          <p:cNvSpPr/>
          <p:nvPr/>
        </p:nvSpPr>
        <p:spPr>
          <a:xfrm>
            <a:off x="6510600" y="4853160"/>
            <a:ext cx="21564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Mailbox Number(MBN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umber , used for CD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Line 47"/>
          <p:cNvSpPr/>
          <p:nvPr/>
        </p:nvSpPr>
        <p:spPr>
          <a:xfrm>
            <a:off x="3657600" y="3657600"/>
            <a:ext cx="0" cy="83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Line 48"/>
          <p:cNvSpPr/>
          <p:nvPr/>
        </p:nvSpPr>
        <p:spPr>
          <a:xfrm>
            <a:off x="4952880" y="3657600"/>
            <a:ext cx="0" cy="19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Line 49"/>
          <p:cNvSpPr/>
          <p:nvPr/>
        </p:nvSpPr>
        <p:spPr>
          <a:xfrm>
            <a:off x="6095880" y="3657600"/>
            <a:ext cx="0" cy="19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Line 50"/>
          <p:cNvSpPr/>
          <p:nvPr/>
        </p:nvSpPr>
        <p:spPr>
          <a:xfrm>
            <a:off x="7924680" y="3657600"/>
            <a:ext cx="6480" cy="1195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Line 51"/>
          <p:cNvSpPr/>
          <p:nvPr/>
        </p:nvSpPr>
        <p:spPr>
          <a:xfrm flipH="1">
            <a:off x="6629040" y="2362320"/>
            <a:ext cx="304920" cy="83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Line 52"/>
          <p:cNvSpPr/>
          <p:nvPr/>
        </p:nvSpPr>
        <p:spPr>
          <a:xfrm>
            <a:off x="1523880" y="1600200"/>
            <a:ext cx="1524240" cy="1600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Rectangle 37"/>
          <p:cNvSpPr/>
          <p:nvPr/>
        </p:nvSpPr>
        <p:spPr>
          <a:xfrm>
            <a:off x="227520" y="457200"/>
            <a:ext cx="2985480" cy="1154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Power Down Mode Request (PD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normal operat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power down mode is reques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OTE:   bit is automatically cleare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upon wakeup from power down!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Line 55"/>
          <p:cNvSpPr/>
          <p:nvPr/>
        </p:nvSpPr>
        <p:spPr>
          <a:xfrm flipH="1" flipV="1">
            <a:off x="4038480" y="2819520"/>
            <a:ext cx="15264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2"/>
          <p:cNvSpPr/>
          <p:nvPr/>
        </p:nvSpPr>
        <p:spPr>
          <a:xfrm>
            <a:off x="1554120" y="228600"/>
            <a:ext cx="6679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AN Bit-Timing Configu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Rectangle 17"/>
          <p:cNvSpPr/>
          <p:nvPr/>
        </p:nvSpPr>
        <p:spPr>
          <a:xfrm>
            <a:off x="304920" y="914400"/>
            <a:ext cx="8839080" cy="58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protocol specification splits the nominal bit time into four different time segment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NC_SE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285840">
              <a:lnSpc>
                <a:spcPct val="80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sed to synchronize no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285840">
              <a:lnSpc>
                <a:spcPct val="80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ngth : always 1 Time Quantum (TQ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P_S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285840">
              <a:lnSpc>
                <a:spcPct val="80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mpensation time for the physical delay times within the 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285840">
              <a:lnSpc>
                <a:spcPct val="80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wice the sum of the signal’s propagation time on the bus line, the input comparator delay and the output driver del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285840">
              <a:lnSpc>
                <a:spcPct val="80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ogrammable from 1 to 8 T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ASE_SEG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285840">
              <a:lnSpc>
                <a:spcPct val="80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mpensation for positive edge phase shi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285840">
              <a:lnSpc>
                <a:spcPct val="80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ogrammable from 1 to 8 T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ASE_SEG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285840">
              <a:lnSpc>
                <a:spcPct val="80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mpensation time for negative edge phase shi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285840">
              <a:lnSpc>
                <a:spcPct val="80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ogrammable from 2 to 8 T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hteck 43"/>
          <p:cNvSpPr/>
          <p:nvPr/>
        </p:nvSpPr>
        <p:spPr>
          <a:xfrm>
            <a:off x="1359000" y="5729400"/>
            <a:ext cx="4782960" cy="9064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78000" indent="-37800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CA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=  TQ + tseg1 + tseg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Rectangle 2"/>
          <p:cNvSpPr/>
          <p:nvPr/>
        </p:nvSpPr>
        <p:spPr>
          <a:xfrm>
            <a:off x="1554120" y="228600"/>
            <a:ext cx="6679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AN Bit-Timing Configu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Rectangle 3"/>
          <p:cNvSpPr/>
          <p:nvPr/>
        </p:nvSpPr>
        <p:spPr>
          <a:xfrm>
            <a:off x="304920" y="4419720"/>
            <a:ext cx="8839080" cy="17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378000" indent="-3780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seg1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_SEG + PHASE_SEG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seg2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ASE_SEG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Q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NCS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0" name="Group 43"/>
          <p:cNvGrpSpPr/>
          <p:nvPr/>
        </p:nvGrpSpPr>
        <p:grpSpPr>
          <a:xfrm>
            <a:off x="-4680" y="1069920"/>
            <a:ext cx="8462880" cy="3291480"/>
            <a:chOff x="-4680" y="1069920"/>
            <a:chExt cx="8462880" cy="3291480"/>
          </a:xfrm>
        </p:grpSpPr>
        <p:sp>
          <p:nvSpPr>
            <p:cNvPr id="721" name="Line 4"/>
            <p:cNvSpPr/>
            <p:nvPr/>
          </p:nvSpPr>
          <p:spPr>
            <a:xfrm>
              <a:off x="609480" y="1523880"/>
              <a:ext cx="0" cy="198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Line 5"/>
            <p:cNvSpPr/>
            <p:nvPr/>
          </p:nvSpPr>
          <p:spPr>
            <a:xfrm>
              <a:off x="8458200" y="1523880"/>
              <a:ext cx="0" cy="198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Line 6"/>
            <p:cNvSpPr/>
            <p:nvPr/>
          </p:nvSpPr>
          <p:spPr>
            <a:xfrm>
              <a:off x="609480" y="3124080"/>
              <a:ext cx="7848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Line 7"/>
            <p:cNvSpPr/>
            <p:nvPr/>
          </p:nvSpPr>
          <p:spPr>
            <a:xfrm>
              <a:off x="685800" y="114300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Text Box 8"/>
            <p:cNvSpPr/>
            <p:nvPr/>
          </p:nvSpPr>
          <p:spPr>
            <a:xfrm>
              <a:off x="3116520" y="1069920"/>
              <a:ext cx="334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Unicode MS"/>
                </a:rPr>
                <a:t>CAN Nominal Bit 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Line 9"/>
            <p:cNvSpPr/>
            <p:nvPr/>
          </p:nvSpPr>
          <p:spPr>
            <a:xfrm>
              <a:off x="1143000" y="2057400"/>
              <a:ext cx="0" cy="137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Line 10"/>
            <p:cNvSpPr/>
            <p:nvPr/>
          </p:nvSpPr>
          <p:spPr>
            <a:xfrm>
              <a:off x="1600200" y="2895480"/>
              <a:ext cx="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Line 11"/>
            <p:cNvSpPr/>
            <p:nvPr/>
          </p:nvSpPr>
          <p:spPr>
            <a:xfrm>
              <a:off x="2973240" y="2895480"/>
              <a:ext cx="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Line 12"/>
            <p:cNvSpPr/>
            <p:nvPr/>
          </p:nvSpPr>
          <p:spPr>
            <a:xfrm>
              <a:off x="2057400" y="2895480"/>
              <a:ext cx="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Line 13"/>
            <p:cNvSpPr/>
            <p:nvPr/>
          </p:nvSpPr>
          <p:spPr>
            <a:xfrm>
              <a:off x="2514600" y="289728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Line 14"/>
            <p:cNvSpPr/>
            <p:nvPr/>
          </p:nvSpPr>
          <p:spPr>
            <a:xfrm>
              <a:off x="3429000" y="2895480"/>
              <a:ext cx="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Line 15"/>
            <p:cNvSpPr/>
            <p:nvPr/>
          </p:nvSpPr>
          <p:spPr>
            <a:xfrm>
              <a:off x="3886200" y="2895480"/>
              <a:ext cx="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Line 16"/>
            <p:cNvSpPr/>
            <p:nvPr/>
          </p:nvSpPr>
          <p:spPr>
            <a:xfrm>
              <a:off x="4343400" y="2895480"/>
              <a:ext cx="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Line 17"/>
            <p:cNvSpPr/>
            <p:nvPr/>
          </p:nvSpPr>
          <p:spPr>
            <a:xfrm>
              <a:off x="4800600" y="2895480"/>
              <a:ext cx="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Line 18"/>
            <p:cNvSpPr/>
            <p:nvPr/>
          </p:nvSpPr>
          <p:spPr>
            <a:xfrm>
              <a:off x="5715000" y="2895480"/>
              <a:ext cx="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Line 19"/>
            <p:cNvSpPr/>
            <p:nvPr/>
          </p:nvSpPr>
          <p:spPr>
            <a:xfrm>
              <a:off x="5257800" y="2895480"/>
              <a:ext cx="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Line 20"/>
            <p:cNvSpPr/>
            <p:nvPr/>
          </p:nvSpPr>
          <p:spPr>
            <a:xfrm>
              <a:off x="7086600" y="2895480"/>
              <a:ext cx="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Line 21"/>
            <p:cNvSpPr/>
            <p:nvPr/>
          </p:nvSpPr>
          <p:spPr>
            <a:xfrm>
              <a:off x="6629400" y="1981080"/>
              <a:ext cx="0" cy="144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Line 22"/>
            <p:cNvSpPr/>
            <p:nvPr/>
          </p:nvSpPr>
          <p:spPr>
            <a:xfrm>
              <a:off x="6172200" y="2895480"/>
              <a:ext cx="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Line 23"/>
            <p:cNvSpPr/>
            <p:nvPr/>
          </p:nvSpPr>
          <p:spPr>
            <a:xfrm>
              <a:off x="8001000" y="2895480"/>
              <a:ext cx="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Line 24"/>
            <p:cNvSpPr/>
            <p:nvPr/>
          </p:nvSpPr>
          <p:spPr>
            <a:xfrm>
              <a:off x="7543800" y="2895480"/>
              <a:ext cx="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Line 25"/>
            <p:cNvSpPr/>
            <p:nvPr/>
          </p:nvSpPr>
          <p:spPr>
            <a:xfrm>
              <a:off x="609480" y="26668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Line 26"/>
            <p:cNvSpPr/>
            <p:nvPr/>
          </p:nvSpPr>
          <p:spPr>
            <a:xfrm>
              <a:off x="1143000" y="2666880"/>
              <a:ext cx="5486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Line 27"/>
            <p:cNvSpPr/>
            <p:nvPr/>
          </p:nvSpPr>
          <p:spPr>
            <a:xfrm>
              <a:off x="6629400" y="2666880"/>
              <a:ext cx="18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Line 28"/>
            <p:cNvSpPr/>
            <p:nvPr/>
          </p:nvSpPr>
          <p:spPr>
            <a:xfrm>
              <a:off x="1143000" y="2286000"/>
              <a:ext cx="76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Line 29"/>
            <p:cNvSpPr/>
            <p:nvPr/>
          </p:nvSpPr>
          <p:spPr>
            <a:xfrm flipH="1">
              <a:off x="7695720" y="2133720"/>
              <a:ext cx="76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Line 30"/>
            <p:cNvSpPr/>
            <p:nvPr/>
          </p:nvSpPr>
          <p:spPr>
            <a:xfrm>
              <a:off x="1905120" y="205740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Line 31"/>
            <p:cNvSpPr/>
            <p:nvPr/>
          </p:nvSpPr>
          <p:spPr>
            <a:xfrm>
              <a:off x="7696080" y="198108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Line 32"/>
            <p:cNvSpPr/>
            <p:nvPr/>
          </p:nvSpPr>
          <p:spPr>
            <a:xfrm>
              <a:off x="838080" y="190512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Text Box 33"/>
            <p:cNvSpPr/>
            <p:nvPr/>
          </p:nvSpPr>
          <p:spPr>
            <a:xfrm>
              <a:off x="666720" y="1600200"/>
              <a:ext cx="106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 Unicode MS"/>
                </a:rPr>
                <a:t>SYNCSE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Text Box 34"/>
            <p:cNvSpPr/>
            <p:nvPr/>
          </p:nvSpPr>
          <p:spPr>
            <a:xfrm>
              <a:off x="1280520" y="1981080"/>
              <a:ext cx="48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 Unicode MS"/>
                </a:rPr>
                <a:t>sjw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Text Box 35"/>
            <p:cNvSpPr/>
            <p:nvPr/>
          </p:nvSpPr>
          <p:spPr>
            <a:xfrm>
              <a:off x="7833960" y="1752480"/>
              <a:ext cx="48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 Unicode MS"/>
                </a:rPr>
                <a:t>sjw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Text Box 36"/>
            <p:cNvSpPr/>
            <p:nvPr/>
          </p:nvSpPr>
          <p:spPr>
            <a:xfrm>
              <a:off x="7196040" y="2286000"/>
              <a:ext cx="7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 Unicode MS"/>
                </a:rPr>
                <a:t>tseg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Text Box 37"/>
            <p:cNvSpPr/>
            <p:nvPr/>
          </p:nvSpPr>
          <p:spPr>
            <a:xfrm>
              <a:off x="3232080" y="2286000"/>
              <a:ext cx="7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 Unicode MS"/>
                </a:rPr>
                <a:t>tseg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Text Box 38"/>
            <p:cNvSpPr/>
            <p:nvPr/>
          </p:nvSpPr>
          <p:spPr>
            <a:xfrm>
              <a:off x="693000" y="3124080"/>
              <a:ext cx="45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 Unicode MS"/>
                </a:rPr>
                <a:t>T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Line 39"/>
            <p:cNvSpPr/>
            <p:nvPr/>
          </p:nvSpPr>
          <p:spPr>
            <a:xfrm flipV="1">
              <a:off x="609480" y="365724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Line 40"/>
            <p:cNvSpPr/>
            <p:nvPr/>
          </p:nvSpPr>
          <p:spPr>
            <a:xfrm flipV="1">
              <a:off x="6629400" y="365724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Text Box 41"/>
            <p:cNvSpPr/>
            <p:nvPr/>
          </p:nvSpPr>
          <p:spPr>
            <a:xfrm>
              <a:off x="5877360" y="3962520"/>
              <a:ext cx="175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Arial Unicode MS"/>
                </a:rPr>
                <a:t>Sample Poi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Text Box 42"/>
            <p:cNvSpPr/>
            <p:nvPr/>
          </p:nvSpPr>
          <p:spPr>
            <a:xfrm>
              <a:off x="-4680" y="3962520"/>
              <a:ext cx="193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Unicode MS"/>
                </a:rPr>
                <a:t>Transmit Poi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2"/>
          <p:cNvSpPr/>
          <p:nvPr/>
        </p:nvSpPr>
        <p:spPr>
          <a:xfrm>
            <a:off x="1554120" y="228600"/>
            <a:ext cx="6679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AN Bit-Timing Configu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Rectangle 3"/>
          <p:cNvSpPr/>
          <p:nvPr/>
        </p:nvSpPr>
        <p:spPr>
          <a:xfrm>
            <a:off x="592200" y="1457280"/>
            <a:ext cx="7954920" cy="29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378000" indent="-3780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ording to the CAN – Standard the following bit timing rules app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992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seg1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tseg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992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/BR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≤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tseg1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≤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16 T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992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/BR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≤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tseg2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≤   8 T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992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 TQ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≤ sjw     ≤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N[ 4*TQ , tseg2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992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RP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5, if three sample mode is 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3"/>
          <p:cNvSpPr/>
          <p:nvPr/>
        </p:nvSpPr>
        <p:spPr>
          <a:xfrm>
            <a:off x="908280" y="800280"/>
            <a:ext cx="7597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CAN Bit-Timing Configuration Register (CANBTC) – 0x0060</a:t>
            </a: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Rectangle 32"/>
          <p:cNvSpPr/>
          <p:nvPr/>
        </p:nvSpPr>
        <p:spPr>
          <a:xfrm>
            <a:off x="2209680" y="2895480"/>
            <a:ext cx="5027760" cy="1765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Baud Rate Prescaler (BRP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es the Time Quantum (TQ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4" name="Group 55"/>
          <p:cNvGrpSpPr/>
          <p:nvPr/>
        </p:nvGrpSpPr>
        <p:grpSpPr>
          <a:xfrm>
            <a:off x="380880" y="1295280"/>
            <a:ext cx="8490240" cy="838440"/>
            <a:chOff x="380880" y="1295280"/>
            <a:chExt cx="8490240" cy="838440"/>
          </a:xfrm>
        </p:grpSpPr>
        <p:sp>
          <p:nvSpPr>
            <p:cNvPr id="765" name="Text Box 5"/>
            <p:cNvSpPr/>
            <p:nvPr/>
          </p:nvSpPr>
          <p:spPr>
            <a:xfrm>
              <a:off x="381600" y="12952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Rectangle 7"/>
            <p:cNvSpPr/>
            <p:nvPr/>
          </p:nvSpPr>
          <p:spPr>
            <a:xfrm>
              <a:off x="380880" y="1676520"/>
              <a:ext cx="365760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Rectangle 9"/>
            <p:cNvSpPr/>
            <p:nvPr/>
          </p:nvSpPr>
          <p:spPr>
            <a:xfrm>
              <a:off x="7042320" y="167652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RP.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Rectangle 10"/>
            <p:cNvSpPr/>
            <p:nvPr/>
          </p:nvSpPr>
          <p:spPr>
            <a:xfrm>
              <a:off x="6432480" y="1676520"/>
              <a:ext cx="6098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RP.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Rectangle 11"/>
            <p:cNvSpPr/>
            <p:nvPr/>
          </p:nvSpPr>
          <p:spPr>
            <a:xfrm>
              <a:off x="5823000" y="167652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RP.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Rectangle 12"/>
            <p:cNvSpPr/>
            <p:nvPr/>
          </p:nvSpPr>
          <p:spPr>
            <a:xfrm>
              <a:off x="5213520" y="167652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RP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Rectangle 17"/>
            <p:cNvSpPr/>
            <p:nvPr/>
          </p:nvSpPr>
          <p:spPr>
            <a:xfrm>
              <a:off x="8261280" y="1676520"/>
              <a:ext cx="6098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RP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Rectangle 18"/>
            <p:cNvSpPr/>
            <p:nvPr/>
          </p:nvSpPr>
          <p:spPr>
            <a:xfrm>
              <a:off x="7651800" y="167652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RP.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Text Box 29"/>
            <p:cNvSpPr/>
            <p:nvPr/>
          </p:nvSpPr>
          <p:spPr>
            <a:xfrm>
              <a:off x="8490600" y="13716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Rectangle 45"/>
            <p:cNvSpPr/>
            <p:nvPr/>
          </p:nvSpPr>
          <p:spPr>
            <a:xfrm>
              <a:off x="4038480" y="1676520"/>
              <a:ext cx="6098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RP.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Rectangle 46"/>
            <p:cNvSpPr/>
            <p:nvPr/>
          </p:nvSpPr>
          <p:spPr>
            <a:xfrm>
              <a:off x="4648320" y="167652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RP.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Text Box 49"/>
            <p:cNvSpPr/>
            <p:nvPr/>
          </p:nvSpPr>
          <p:spPr>
            <a:xfrm>
              <a:off x="4191480" y="13716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Text Box 50"/>
            <p:cNvSpPr/>
            <p:nvPr/>
          </p:nvSpPr>
          <p:spPr>
            <a:xfrm>
              <a:off x="3657960" y="13716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8" name="Object 0"/>
              <p:cNvSpPr txBox="1"/>
              <p:nvPr/>
            </p:nvSpPr>
            <p:spPr>
              <a:xfrm>
                <a:off x="3332160" y="3830760"/>
                <a:ext cx="23986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RP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seCL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9" name="Text Box 54"/>
          <p:cNvSpPr/>
          <p:nvPr/>
        </p:nvSpPr>
        <p:spPr>
          <a:xfrm>
            <a:off x="597600" y="5145120"/>
            <a:ext cx="765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aseCLK = SYSCLK / 2 for 283xx, 2803x de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aseCLK = SYSCLK for 281x, 280x and 2801x de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30"/>
          <p:cNvSpPr/>
          <p:nvPr/>
        </p:nvSpPr>
        <p:spPr>
          <a:xfrm>
            <a:off x="609480" y="2209680"/>
            <a:ext cx="3581640" cy="1032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Synchronisation Jump Width (SJ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1" name="Object 0"/>
              <p:cNvSpPr txBox="1"/>
              <p:nvPr/>
            </p:nvSpPr>
            <p:spPr>
              <a:xfrm>
                <a:off x="838080" y="2590920"/>
                <a:ext cx="32511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j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Q</m:t>
                    </m:r>
                    <m:r>
                      <m:t xml:space="preserve">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JW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2" name="Rectangle 2"/>
          <p:cNvSpPr/>
          <p:nvPr/>
        </p:nvSpPr>
        <p:spPr>
          <a:xfrm>
            <a:off x="872280" y="544680"/>
            <a:ext cx="7624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CAN Bit-Timing Configuration Register (CANBTC) – 0x00601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Rectangle 3"/>
          <p:cNvSpPr/>
          <p:nvPr/>
        </p:nvSpPr>
        <p:spPr>
          <a:xfrm>
            <a:off x="4343400" y="1905120"/>
            <a:ext cx="4572000" cy="1399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Times New Roman"/>
              </a:rPr>
              <a:t>Time Segment 1( tseg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4" name="Object 1"/>
              <p:cNvSpPr txBox="1"/>
              <p:nvPr/>
            </p:nvSpPr>
            <p:spPr>
              <a:xfrm>
                <a:off x="4630680" y="2514600"/>
                <a:ext cx="39099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seg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Q</m:t>
                    </m:r>
                    <m:r>
                      <m:t xml:space="preserve">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TSEG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85" name="Group 28"/>
          <p:cNvGrpSpPr/>
          <p:nvPr/>
        </p:nvGrpSpPr>
        <p:grpSpPr>
          <a:xfrm>
            <a:off x="457200" y="990720"/>
            <a:ext cx="8501040" cy="761400"/>
            <a:chOff x="457200" y="990720"/>
            <a:chExt cx="8501040" cy="761400"/>
          </a:xfrm>
        </p:grpSpPr>
        <p:sp>
          <p:nvSpPr>
            <p:cNvPr id="786" name="Text Box 5"/>
            <p:cNvSpPr/>
            <p:nvPr/>
          </p:nvSpPr>
          <p:spPr>
            <a:xfrm>
              <a:off x="457560" y="9907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Rectangle 6"/>
            <p:cNvSpPr/>
            <p:nvPr/>
          </p:nvSpPr>
          <p:spPr>
            <a:xfrm>
              <a:off x="457200" y="1295280"/>
              <a:ext cx="1828440" cy="45684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Rectangle 8"/>
            <p:cNvSpPr/>
            <p:nvPr/>
          </p:nvSpPr>
          <p:spPr>
            <a:xfrm>
              <a:off x="4724280" y="1295280"/>
              <a:ext cx="2393640" cy="45684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SEG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Rectangle 10"/>
            <p:cNvSpPr/>
            <p:nvPr/>
          </p:nvSpPr>
          <p:spPr>
            <a:xfrm>
              <a:off x="2895480" y="1295280"/>
              <a:ext cx="1218600" cy="45684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SJ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Rectangle 11"/>
            <p:cNvSpPr/>
            <p:nvPr/>
          </p:nvSpPr>
          <p:spPr>
            <a:xfrm>
              <a:off x="7086240" y="1295280"/>
              <a:ext cx="1860480" cy="45684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SEG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Text Box 13"/>
            <p:cNvSpPr/>
            <p:nvPr/>
          </p:nvSpPr>
          <p:spPr>
            <a:xfrm>
              <a:off x="8687520" y="9907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Rectangle 14"/>
            <p:cNvSpPr/>
            <p:nvPr/>
          </p:nvSpPr>
          <p:spPr>
            <a:xfrm>
              <a:off x="4114440" y="1295280"/>
              <a:ext cx="609480" cy="45684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SA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Rectangle 15"/>
            <p:cNvSpPr/>
            <p:nvPr/>
          </p:nvSpPr>
          <p:spPr>
            <a:xfrm>
              <a:off x="2285640" y="1295280"/>
              <a:ext cx="609480" cy="45684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SB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Text Box 16"/>
            <p:cNvSpPr/>
            <p:nvPr/>
          </p:nvSpPr>
          <p:spPr>
            <a:xfrm>
              <a:off x="4267800" y="9907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Text Box 17"/>
            <p:cNvSpPr/>
            <p:nvPr/>
          </p:nvSpPr>
          <p:spPr>
            <a:xfrm>
              <a:off x="3886920" y="9907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Text Box 20"/>
            <p:cNvSpPr/>
            <p:nvPr/>
          </p:nvSpPr>
          <p:spPr>
            <a:xfrm>
              <a:off x="7087320" y="9907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Text Box 21"/>
            <p:cNvSpPr/>
            <p:nvPr/>
          </p:nvSpPr>
          <p:spPr>
            <a:xfrm>
              <a:off x="6782400" y="9907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Text Box 22"/>
            <p:cNvSpPr/>
            <p:nvPr/>
          </p:nvSpPr>
          <p:spPr>
            <a:xfrm>
              <a:off x="4725000" y="9907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Text Box 23"/>
            <p:cNvSpPr/>
            <p:nvPr/>
          </p:nvSpPr>
          <p:spPr>
            <a:xfrm>
              <a:off x="2896200" y="9907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Text Box 24"/>
            <p:cNvSpPr/>
            <p:nvPr/>
          </p:nvSpPr>
          <p:spPr>
            <a:xfrm>
              <a:off x="2438640" y="9907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Text Box 25"/>
            <p:cNvSpPr/>
            <p:nvPr/>
          </p:nvSpPr>
          <p:spPr>
            <a:xfrm>
              <a:off x="1981440" y="9907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2" name="Rectangle 26"/>
          <p:cNvSpPr/>
          <p:nvPr/>
        </p:nvSpPr>
        <p:spPr>
          <a:xfrm>
            <a:off x="4343400" y="3352680"/>
            <a:ext cx="4572000" cy="1399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Times New Roman"/>
              </a:rPr>
              <a:t>Time Segment 2( tseg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3" name="Object 2"/>
              <p:cNvSpPr txBox="1"/>
              <p:nvPr/>
            </p:nvSpPr>
            <p:spPr>
              <a:xfrm>
                <a:off x="4678200" y="3962520"/>
                <a:ext cx="39294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seg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Q</m:t>
                    </m:r>
                    <m:r>
                      <m:t xml:space="preserve">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TSEG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04" name="Rectangle 29"/>
          <p:cNvSpPr/>
          <p:nvPr/>
        </p:nvSpPr>
        <p:spPr>
          <a:xfrm>
            <a:off x="4338720" y="4952880"/>
            <a:ext cx="362556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Sample Points (SAM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0 = one sample at sample poin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1 = 3 samples at sample point – majority vo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Rectangle 34"/>
          <p:cNvSpPr/>
          <p:nvPr/>
        </p:nvSpPr>
        <p:spPr>
          <a:xfrm>
            <a:off x="528480" y="3657600"/>
            <a:ext cx="360288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Synchronisation Edge Select (SB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0 = </a:t>
            </a:r>
            <a:r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re synchronisation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 with falling edge onl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1 = re-sync. with rising &amp; falling</a:t>
            </a: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ed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2"/>
          <p:cNvSpPr/>
          <p:nvPr/>
        </p:nvSpPr>
        <p:spPr>
          <a:xfrm>
            <a:off x="1548360" y="228600"/>
            <a:ext cx="5820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AN Bit-Timing Examp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Rectangle 3"/>
          <p:cNvSpPr/>
          <p:nvPr/>
        </p:nvSpPr>
        <p:spPr>
          <a:xfrm>
            <a:off x="304920" y="838080"/>
            <a:ext cx="8839080" cy="57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378000" indent="-3780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t Configuration for BaseCLK = 75 MHz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mple Point at 80% of Bit Time 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00 kbit/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9920" indent="-3049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Q = (49+1)/ 75 MHz = 0.667 µ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9920" indent="-3049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seg1 = 0.667 µs (10 + 1) = 7.337  µs  </a:t>
            </a:r>
            <a:r>
              <a:rPr b="1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    t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CAN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= 10 µs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9920" indent="-3049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seg2 = 0.667 µs (2 + 1) = 2 µ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8" name=""/>
          <p:cNvGraphicFramePr/>
          <p:nvPr/>
        </p:nvGraphicFramePr>
        <p:xfrm>
          <a:off x="1523880" y="1752480"/>
          <a:ext cx="5334120" cy="3311640"/>
        </p:xfrm>
        <a:graphic>
          <a:graphicData uri="http://schemas.openxmlformats.org/drawingml/2006/table">
            <a:tbl>
              <a:tblPr/>
              <a:tblGrid>
                <a:gridCol w="1333800"/>
                <a:gridCol w="1333440"/>
                <a:gridCol w="1333440"/>
                <a:gridCol w="1333440"/>
              </a:tblGrid>
              <a:tr h="727920"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SEG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SEG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Mbit/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 kbit/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 kbit/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 kbit/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kbit/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 kbit/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904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2"/>
          <p:cNvSpPr/>
          <p:nvPr/>
        </p:nvSpPr>
        <p:spPr>
          <a:xfrm>
            <a:off x="1108080" y="228600"/>
            <a:ext cx="766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CAN Error and Status Register (CANES) – 0x0060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Rectangle 24"/>
          <p:cNvSpPr/>
          <p:nvPr/>
        </p:nvSpPr>
        <p:spPr>
          <a:xfrm>
            <a:off x="4874040" y="5562720"/>
            <a:ext cx="389844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e9b03"/>
                </a:solidFill>
                <a:latin typeface="Times New Roman"/>
              </a:rPr>
              <a:t>Warning Status (E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0 = values of both error counters are less than 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1 = one error counter has reached 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4879800" y="4648320"/>
            <a:ext cx="277668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Error Passive State (EP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0 = CAN is in Error Active M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1 = CAN is in Error Passive M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2" name="Group 54"/>
          <p:cNvGrpSpPr/>
          <p:nvPr/>
        </p:nvGrpSpPr>
        <p:grpSpPr>
          <a:xfrm>
            <a:off x="380880" y="762120"/>
            <a:ext cx="8490240" cy="838080"/>
            <a:chOff x="380880" y="762120"/>
            <a:chExt cx="8490240" cy="838080"/>
          </a:xfrm>
        </p:grpSpPr>
        <p:sp>
          <p:nvSpPr>
            <p:cNvPr id="813" name="Text Box 30"/>
            <p:cNvSpPr/>
            <p:nvPr/>
          </p:nvSpPr>
          <p:spPr>
            <a:xfrm>
              <a:off x="381600" y="7621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Rectangle 31"/>
            <p:cNvSpPr/>
            <p:nvPr/>
          </p:nvSpPr>
          <p:spPr>
            <a:xfrm>
              <a:off x="380880" y="1143000"/>
              <a:ext cx="297180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Rectangle 32"/>
            <p:cNvSpPr/>
            <p:nvPr/>
          </p:nvSpPr>
          <p:spPr>
            <a:xfrm>
              <a:off x="7042320" y="114300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Rectangle 33"/>
            <p:cNvSpPr/>
            <p:nvPr/>
          </p:nvSpPr>
          <p:spPr>
            <a:xfrm>
              <a:off x="6432480" y="1143000"/>
              <a:ext cx="6098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ACK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Rectangle 34"/>
            <p:cNvSpPr/>
            <p:nvPr/>
          </p:nvSpPr>
          <p:spPr>
            <a:xfrm>
              <a:off x="5823000" y="114300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Rectangle 35"/>
            <p:cNvSpPr/>
            <p:nvPr/>
          </p:nvSpPr>
          <p:spPr>
            <a:xfrm>
              <a:off x="5181480" y="1143000"/>
              <a:ext cx="64152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CRC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Rectangle 36"/>
            <p:cNvSpPr/>
            <p:nvPr/>
          </p:nvSpPr>
          <p:spPr>
            <a:xfrm>
              <a:off x="8261280" y="1143000"/>
              <a:ext cx="6098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E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Rectangle 37"/>
            <p:cNvSpPr/>
            <p:nvPr/>
          </p:nvSpPr>
          <p:spPr>
            <a:xfrm>
              <a:off x="7651800" y="114300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E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Text Box 38"/>
            <p:cNvSpPr/>
            <p:nvPr/>
          </p:nvSpPr>
          <p:spPr>
            <a:xfrm>
              <a:off x="8382600" y="8380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Rectangle 39"/>
            <p:cNvSpPr/>
            <p:nvPr/>
          </p:nvSpPr>
          <p:spPr>
            <a:xfrm>
              <a:off x="3962520" y="114300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Rectangle 40"/>
            <p:cNvSpPr/>
            <p:nvPr/>
          </p:nvSpPr>
          <p:spPr>
            <a:xfrm>
              <a:off x="4572000" y="114300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SA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Text Box 41"/>
            <p:cNvSpPr/>
            <p:nvPr/>
          </p:nvSpPr>
          <p:spPr>
            <a:xfrm>
              <a:off x="4039200" y="8380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Text Box 42"/>
            <p:cNvSpPr/>
            <p:nvPr/>
          </p:nvSpPr>
          <p:spPr>
            <a:xfrm>
              <a:off x="3505680" y="8380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Text Box 43"/>
            <p:cNvSpPr/>
            <p:nvPr/>
          </p:nvSpPr>
          <p:spPr>
            <a:xfrm>
              <a:off x="7772760" y="8380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Text Box 44"/>
            <p:cNvSpPr/>
            <p:nvPr/>
          </p:nvSpPr>
          <p:spPr>
            <a:xfrm>
              <a:off x="7163280" y="8380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Text Box 45"/>
            <p:cNvSpPr/>
            <p:nvPr/>
          </p:nvSpPr>
          <p:spPr>
            <a:xfrm>
              <a:off x="6553800" y="8380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Text Box 46"/>
            <p:cNvSpPr/>
            <p:nvPr/>
          </p:nvSpPr>
          <p:spPr>
            <a:xfrm>
              <a:off x="5943960" y="8380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Text Box 47"/>
            <p:cNvSpPr/>
            <p:nvPr/>
          </p:nvSpPr>
          <p:spPr>
            <a:xfrm>
              <a:off x="5334480" y="8380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Text Box 48"/>
            <p:cNvSpPr/>
            <p:nvPr/>
          </p:nvSpPr>
          <p:spPr>
            <a:xfrm>
              <a:off x="4725000" y="8380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Rectangle 49"/>
            <p:cNvSpPr/>
            <p:nvPr/>
          </p:nvSpPr>
          <p:spPr>
            <a:xfrm>
              <a:off x="3352680" y="1143000"/>
              <a:ext cx="6098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F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3" name="Rectangle 50"/>
          <p:cNvSpPr/>
          <p:nvPr/>
        </p:nvSpPr>
        <p:spPr>
          <a:xfrm>
            <a:off x="4876920" y="3581280"/>
            <a:ext cx="4029480" cy="941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Bus Off State (BO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0 = normal ope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1 = CANTEC has reached the limit of 256. Modu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has been switched of the bu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459000" y="5562720"/>
            <a:ext cx="30330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Stuff Bit Error (S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0 = normal ope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1 = a stuff bit error has occurred.</a:t>
            </a: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4878720" y="2666880"/>
            <a:ext cx="344736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Acknowledgement Error (ACK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0 = normal ope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1 = CAN module has not received an ACK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60080" y="4648320"/>
            <a:ext cx="33498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Cyclic Redundancy Check Error (CRC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0 = normal ope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1 = a wrong CRC was received.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Rectangle 55"/>
          <p:cNvSpPr/>
          <p:nvPr/>
        </p:nvSpPr>
        <p:spPr>
          <a:xfrm>
            <a:off x="458280" y="3733920"/>
            <a:ext cx="409824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Stuck at dominant Error (SA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0 = The CAN module detected a recessive b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1 = The CAN module never detected a recessive bi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Rectangle 56"/>
          <p:cNvSpPr/>
          <p:nvPr/>
        </p:nvSpPr>
        <p:spPr>
          <a:xfrm>
            <a:off x="453240" y="2666880"/>
            <a:ext cx="4003560" cy="941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Bit  Error (B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0 = no bit error detec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1 = a received bit does not match a transmitted b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(outside of the arbitration field).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Rectangle 57"/>
          <p:cNvSpPr/>
          <p:nvPr/>
        </p:nvSpPr>
        <p:spPr>
          <a:xfrm>
            <a:off x="453600" y="1828800"/>
            <a:ext cx="496836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Form Error (F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0 = normal ope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1 = one of the fixed form bit fields of a message was wrong.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2"/>
          <p:cNvSpPr/>
          <p:nvPr/>
        </p:nvSpPr>
        <p:spPr>
          <a:xfrm>
            <a:off x="1031760" y="228600"/>
            <a:ext cx="766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CAN Error and Status Register (CANES) – 0x0060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Rectangle 3"/>
          <p:cNvSpPr/>
          <p:nvPr/>
        </p:nvSpPr>
        <p:spPr>
          <a:xfrm>
            <a:off x="4511880" y="5638680"/>
            <a:ext cx="395028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e9b03"/>
                </a:solidFill>
                <a:latin typeface="Times New Roman"/>
              </a:rPr>
              <a:t>Transmit Mode (TM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0 = CAN controller is not transmitting a mess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1 = CAN controller is transmitting a mess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Rectangle 4"/>
          <p:cNvSpPr/>
          <p:nvPr/>
        </p:nvSpPr>
        <p:spPr>
          <a:xfrm>
            <a:off x="4859280" y="4524480"/>
            <a:ext cx="37368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Receive Mode (RM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0 = CAN controller  is not receiving a mess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1 = CAN controller is receiving a mess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3" name="Group 33"/>
          <p:cNvGrpSpPr/>
          <p:nvPr/>
        </p:nvGrpSpPr>
        <p:grpSpPr>
          <a:xfrm>
            <a:off x="228600" y="1523880"/>
            <a:ext cx="8489520" cy="762120"/>
            <a:chOff x="228600" y="1523880"/>
            <a:chExt cx="8489520" cy="762120"/>
          </a:xfrm>
        </p:grpSpPr>
        <p:sp>
          <p:nvSpPr>
            <p:cNvPr id="844" name="Text Box 6"/>
            <p:cNvSpPr/>
            <p:nvPr/>
          </p:nvSpPr>
          <p:spPr>
            <a:xfrm>
              <a:off x="228960" y="15238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Rectangle 7"/>
            <p:cNvSpPr/>
            <p:nvPr/>
          </p:nvSpPr>
          <p:spPr>
            <a:xfrm>
              <a:off x="228600" y="1828800"/>
              <a:ext cx="48002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Rectangle 8"/>
            <p:cNvSpPr/>
            <p:nvPr/>
          </p:nvSpPr>
          <p:spPr>
            <a:xfrm>
              <a:off x="6889680" y="1828800"/>
              <a:ext cx="60912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e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Rectangle 9"/>
            <p:cNvSpPr/>
            <p:nvPr/>
          </p:nvSpPr>
          <p:spPr>
            <a:xfrm>
              <a:off x="6279840" y="182880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PD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Rectangle 10"/>
            <p:cNvSpPr/>
            <p:nvPr/>
          </p:nvSpPr>
          <p:spPr>
            <a:xfrm>
              <a:off x="5670360" y="1828800"/>
              <a:ext cx="60912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CC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Rectangle 11"/>
            <p:cNvSpPr/>
            <p:nvPr/>
          </p:nvSpPr>
          <p:spPr>
            <a:xfrm>
              <a:off x="5028840" y="1828800"/>
              <a:ext cx="64116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SM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Rectangle 12"/>
            <p:cNvSpPr/>
            <p:nvPr/>
          </p:nvSpPr>
          <p:spPr>
            <a:xfrm>
              <a:off x="8108640" y="182880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Rectangle 13"/>
            <p:cNvSpPr/>
            <p:nvPr/>
          </p:nvSpPr>
          <p:spPr>
            <a:xfrm>
              <a:off x="7499160" y="1828800"/>
              <a:ext cx="60912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Text Box 14"/>
            <p:cNvSpPr/>
            <p:nvPr/>
          </p:nvSpPr>
          <p:spPr>
            <a:xfrm>
              <a:off x="8230320" y="1523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Text Box 19"/>
            <p:cNvSpPr/>
            <p:nvPr/>
          </p:nvSpPr>
          <p:spPr>
            <a:xfrm>
              <a:off x="7620480" y="1523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Text Box 20"/>
            <p:cNvSpPr/>
            <p:nvPr/>
          </p:nvSpPr>
          <p:spPr>
            <a:xfrm>
              <a:off x="7011000" y="1523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Text Box 21"/>
            <p:cNvSpPr/>
            <p:nvPr/>
          </p:nvSpPr>
          <p:spPr>
            <a:xfrm>
              <a:off x="6401520" y="1523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Text Box 22"/>
            <p:cNvSpPr/>
            <p:nvPr/>
          </p:nvSpPr>
          <p:spPr>
            <a:xfrm>
              <a:off x="5791680" y="1523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Text Box 23"/>
            <p:cNvSpPr/>
            <p:nvPr/>
          </p:nvSpPr>
          <p:spPr>
            <a:xfrm>
              <a:off x="5182200" y="1523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Text Box 24"/>
            <p:cNvSpPr/>
            <p:nvPr/>
          </p:nvSpPr>
          <p:spPr>
            <a:xfrm>
              <a:off x="4572720" y="1523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9" name="Rectangle 26"/>
          <p:cNvSpPr/>
          <p:nvPr/>
        </p:nvSpPr>
        <p:spPr>
          <a:xfrm>
            <a:off x="5011920" y="3319560"/>
            <a:ext cx="386208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Power Down Mode Acknowledge (PD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0 = normal ope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1 = CAN module has entered power down mod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Rectangle 28"/>
          <p:cNvSpPr/>
          <p:nvPr/>
        </p:nvSpPr>
        <p:spPr>
          <a:xfrm>
            <a:off x="257040" y="4816440"/>
            <a:ext cx="3013200" cy="1154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Change Configuration Enable (CC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0 = CPU cannot write int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configuration register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1 = CPU has write access int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configuration register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Rectangle 32"/>
          <p:cNvSpPr/>
          <p:nvPr/>
        </p:nvSpPr>
        <p:spPr>
          <a:xfrm>
            <a:off x="224280" y="3282840"/>
            <a:ext cx="3970080" cy="1154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Suspend Mode Acknowledge (SM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0 = normal ope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1 = CAN module has entered suspend mod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Note: Suspend mode is activated by the debugge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when the DSP is not in run mode.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2"/>
          <p:cNvSpPr/>
          <p:nvPr/>
        </p:nvSpPr>
        <p:spPr>
          <a:xfrm>
            <a:off x="830880" y="179280"/>
            <a:ext cx="7469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CAN Transmit Error Counter Register (CANTEC) – 0x00601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Rectangle 10"/>
          <p:cNvSpPr/>
          <p:nvPr/>
        </p:nvSpPr>
        <p:spPr>
          <a:xfrm>
            <a:off x="983160" y="3429000"/>
            <a:ext cx="7386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CAN Receive Error Counter Register (CANREC) – 0x00601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4" name="Group 21"/>
          <p:cNvGrpSpPr/>
          <p:nvPr/>
        </p:nvGrpSpPr>
        <p:grpSpPr>
          <a:xfrm>
            <a:off x="971640" y="549360"/>
            <a:ext cx="7224840" cy="2328120"/>
            <a:chOff x="971640" y="549360"/>
            <a:chExt cx="7224840" cy="2328120"/>
          </a:xfrm>
        </p:grpSpPr>
        <p:sp>
          <p:nvSpPr>
            <p:cNvPr id="865" name="Text Box 3"/>
            <p:cNvSpPr/>
            <p:nvPr/>
          </p:nvSpPr>
          <p:spPr>
            <a:xfrm>
              <a:off x="991080" y="13716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Text Box 4"/>
            <p:cNvSpPr/>
            <p:nvPr/>
          </p:nvSpPr>
          <p:spPr>
            <a:xfrm>
              <a:off x="7812720" y="5493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Text Box 5"/>
            <p:cNvSpPr/>
            <p:nvPr/>
          </p:nvSpPr>
          <p:spPr>
            <a:xfrm>
              <a:off x="972000" y="5493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Rectangle 6"/>
            <p:cNvSpPr/>
            <p:nvPr/>
          </p:nvSpPr>
          <p:spPr>
            <a:xfrm>
              <a:off x="4572000" y="1600200"/>
              <a:ext cx="360036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Rectangle 7"/>
            <p:cNvSpPr/>
            <p:nvPr/>
          </p:nvSpPr>
          <p:spPr>
            <a:xfrm>
              <a:off x="971640" y="836640"/>
              <a:ext cx="720072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Text Box 8"/>
            <p:cNvSpPr/>
            <p:nvPr/>
          </p:nvSpPr>
          <p:spPr>
            <a:xfrm>
              <a:off x="7925760" y="1371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Rectangle 9"/>
            <p:cNvSpPr/>
            <p:nvPr/>
          </p:nvSpPr>
          <p:spPr>
            <a:xfrm>
              <a:off x="1213200" y="2362320"/>
              <a:ext cx="6819840" cy="515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e9b03"/>
                  </a:solidFill>
                  <a:latin typeface="Times New Roman"/>
                </a:rPr>
                <a:t>Transmit Error Counter (TEC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Value TEC is incremented or decremented according to the CAN protocol specif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Rectangle 18"/>
            <p:cNvSpPr/>
            <p:nvPr/>
          </p:nvSpPr>
          <p:spPr>
            <a:xfrm>
              <a:off x="990720" y="1600200"/>
              <a:ext cx="360036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Text Box 19"/>
            <p:cNvSpPr/>
            <p:nvPr/>
          </p:nvSpPr>
          <p:spPr>
            <a:xfrm>
              <a:off x="2328480" y="168768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Text Box 20"/>
            <p:cNvSpPr/>
            <p:nvPr/>
          </p:nvSpPr>
          <p:spPr>
            <a:xfrm>
              <a:off x="6206040" y="16876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Times New Roman"/>
                </a:rPr>
                <a:t>TE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5" name="Group 22"/>
          <p:cNvGrpSpPr/>
          <p:nvPr/>
        </p:nvGrpSpPr>
        <p:grpSpPr>
          <a:xfrm>
            <a:off x="1066680" y="3886200"/>
            <a:ext cx="7224840" cy="2328120"/>
            <a:chOff x="1066680" y="3886200"/>
            <a:chExt cx="7224840" cy="2328120"/>
          </a:xfrm>
        </p:grpSpPr>
        <p:sp>
          <p:nvSpPr>
            <p:cNvPr id="876" name="Text Box 23"/>
            <p:cNvSpPr/>
            <p:nvPr/>
          </p:nvSpPr>
          <p:spPr>
            <a:xfrm>
              <a:off x="1086120" y="47084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Text Box 24"/>
            <p:cNvSpPr/>
            <p:nvPr/>
          </p:nvSpPr>
          <p:spPr>
            <a:xfrm>
              <a:off x="7907760" y="38862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Text Box 25"/>
            <p:cNvSpPr/>
            <p:nvPr/>
          </p:nvSpPr>
          <p:spPr>
            <a:xfrm>
              <a:off x="1067040" y="38862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Rectangle 26"/>
            <p:cNvSpPr/>
            <p:nvPr/>
          </p:nvSpPr>
          <p:spPr>
            <a:xfrm>
              <a:off x="4667040" y="4937040"/>
              <a:ext cx="360036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Rectangle 27"/>
            <p:cNvSpPr/>
            <p:nvPr/>
          </p:nvSpPr>
          <p:spPr>
            <a:xfrm>
              <a:off x="1066680" y="4173480"/>
              <a:ext cx="720072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Text Box 28"/>
            <p:cNvSpPr/>
            <p:nvPr/>
          </p:nvSpPr>
          <p:spPr>
            <a:xfrm>
              <a:off x="8020800" y="4708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Rectangle 29"/>
            <p:cNvSpPr/>
            <p:nvPr/>
          </p:nvSpPr>
          <p:spPr>
            <a:xfrm>
              <a:off x="1308240" y="5699160"/>
              <a:ext cx="6829200" cy="515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e9b03"/>
                  </a:solidFill>
                  <a:latin typeface="Times New Roman"/>
                </a:rPr>
                <a:t>Receive Error Counter (REC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Value REC is incremented or decremented according to the CAN protocol specif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Rectangle 30"/>
            <p:cNvSpPr/>
            <p:nvPr/>
          </p:nvSpPr>
          <p:spPr>
            <a:xfrm>
              <a:off x="1085760" y="4937040"/>
              <a:ext cx="360036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Text Box 31"/>
            <p:cNvSpPr/>
            <p:nvPr/>
          </p:nvSpPr>
          <p:spPr>
            <a:xfrm>
              <a:off x="2423520" y="502452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Text Box 32"/>
            <p:cNvSpPr/>
            <p:nvPr/>
          </p:nvSpPr>
          <p:spPr>
            <a:xfrm>
              <a:off x="6298200" y="5024520"/>
              <a:ext cx="5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Times New Roman"/>
                </a:rPr>
                <a:t>RE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Automotive network system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99800" y="585720"/>
            <a:ext cx="816660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ther automotive networks than CAN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379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LIN – “Local Interconnect Network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17520" indent="-379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Body Electronic; Door, Mirror, Seat, Dashboard, Ro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17520" indent="-379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20 Kbit/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17520" indent="-379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Master / Slave time triggered protoc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17520" indent="-379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Single wire system; 12 V signal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17520" indent="-379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ww.lin-subbus.or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17520" indent="-379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379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OST – “Media Oriented Systems Transpor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17520" indent="-379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Optical System for Multi – Media and infotainmen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17520" indent="-379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Audio, Video, Mobile Phone, G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17520" indent="-379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Fibre optical circular system at 25 Mbit/s or 150 Mbit/s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17520" indent="-379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Electrical layer at 50 Mbit/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17520" indent="-379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ww.mostcooperation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379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379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FlexRa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17520" indent="-379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ime Triggered Protocol  for fail safe application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17520" indent="-379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10 Mbit/s; dual channel redundancy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17520" indent="-379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ww.flexray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2"/>
          <p:cNvSpPr/>
          <p:nvPr/>
        </p:nvSpPr>
        <p:spPr>
          <a:xfrm>
            <a:off x="738360" y="142920"/>
            <a:ext cx="8183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CAN Global Interrupt Mask Register (CANGIM) – 0x0060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Rectangle 32"/>
          <p:cNvSpPr/>
          <p:nvPr/>
        </p:nvSpPr>
        <p:spPr>
          <a:xfrm>
            <a:off x="4574160" y="2514600"/>
            <a:ext cx="4224600" cy="941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Global Interrupt Level  (GI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or Interrupts TCOF,WDIF,WUIF,BOIF and WLI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mapped into HECC_INT_REQ[0] line – GIF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mapped into HECC_INT_REQ[1] line – GIF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Rectangle 33"/>
          <p:cNvSpPr/>
          <p:nvPr/>
        </p:nvSpPr>
        <p:spPr>
          <a:xfrm>
            <a:off x="306000" y="2438280"/>
            <a:ext cx="4050720" cy="328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Interrupt Mask Bit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MTOM  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Mailbox Timeout M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TCOM  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Timestamp Counter Overflow M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AAM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Abort Acknowledge Interrupt M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WDIM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Write Denied Interrupt M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WUIM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Wake-up Interrupt M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RMLIM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Receive message lost Interrupt M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BOIM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Bus Off Interrupt M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EPIM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Error Passive Interrupt M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WLIM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Warning level Interrupt M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Interrupt Mask Bit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0 = Interrupt dis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1 = Interrupt en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9" name="Group 43"/>
          <p:cNvGrpSpPr/>
          <p:nvPr/>
        </p:nvGrpSpPr>
        <p:grpSpPr>
          <a:xfrm>
            <a:off x="304920" y="533520"/>
            <a:ext cx="8534160" cy="1676160"/>
            <a:chOff x="304920" y="533520"/>
            <a:chExt cx="8534160" cy="1676160"/>
          </a:xfrm>
        </p:grpSpPr>
        <p:sp>
          <p:nvSpPr>
            <p:cNvPr id="890" name="Text Box 3"/>
            <p:cNvSpPr/>
            <p:nvPr/>
          </p:nvSpPr>
          <p:spPr>
            <a:xfrm>
              <a:off x="457560" y="1447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Text Box 4"/>
            <p:cNvSpPr/>
            <p:nvPr/>
          </p:nvSpPr>
          <p:spPr>
            <a:xfrm>
              <a:off x="8458560" y="5335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Text Box 5"/>
            <p:cNvSpPr/>
            <p:nvPr/>
          </p:nvSpPr>
          <p:spPr>
            <a:xfrm>
              <a:off x="305280" y="5335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Rectangle 6"/>
            <p:cNvSpPr/>
            <p:nvPr/>
          </p:nvSpPr>
          <p:spPr>
            <a:xfrm>
              <a:off x="304920" y="838080"/>
              <a:ext cx="731520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Text Box 7"/>
            <p:cNvSpPr/>
            <p:nvPr/>
          </p:nvSpPr>
          <p:spPr>
            <a:xfrm>
              <a:off x="8459280" y="1447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Rectangle 8"/>
            <p:cNvSpPr/>
            <p:nvPr/>
          </p:nvSpPr>
          <p:spPr>
            <a:xfrm>
              <a:off x="304920" y="175248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e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Rectangle 9"/>
            <p:cNvSpPr/>
            <p:nvPr/>
          </p:nvSpPr>
          <p:spPr>
            <a:xfrm>
              <a:off x="5181480" y="1752480"/>
              <a:ext cx="182880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Rectangle 11"/>
            <p:cNvSpPr/>
            <p:nvPr/>
          </p:nvSpPr>
          <p:spPr>
            <a:xfrm>
              <a:off x="7010280" y="1752480"/>
              <a:ext cx="6098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GI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Rectangle 12"/>
            <p:cNvSpPr/>
            <p:nvPr/>
          </p:nvSpPr>
          <p:spPr>
            <a:xfrm>
              <a:off x="4572000" y="175248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WLI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Rectangle 13"/>
            <p:cNvSpPr/>
            <p:nvPr/>
          </p:nvSpPr>
          <p:spPr>
            <a:xfrm>
              <a:off x="3962520" y="175248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EPI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Rectangle 14"/>
            <p:cNvSpPr/>
            <p:nvPr/>
          </p:nvSpPr>
          <p:spPr>
            <a:xfrm>
              <a:off x="3352680" y="1752480"/>
              <a:ext cx="6098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OI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Rectangle 15"/>
            <p:cNvSpPr/>
            <p:nvPr/>
          </p:nvSpPr>
          <p:spPr>
            <a:xfrm>
              <a:off x="2743200" y="175248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RMLI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Rectangle 16"/>
            <p:cNvSpPr/>
            <p:nvPr/>
          </p:nvSpPr>
          <p:spPr>
            <a:xfrm>
              <a:off x="2133720" y="175248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WUI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Rectangle 17"/>
            <p:cNvSpPr/>
            <p:nvPr/>
          </p:nvSpPr>
          <p:spPr>
            <a:xfrm>
              <a:off x="1523880" y="1752480"/>
              <a:ext cx="6098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WDI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Rectangle 18"/>
            <p:cNvSpPr/>
            <p:nvPr/>
          </p:nvSpPr>
          <p:spPr>
            <a:xfrm>
              <a:off x="914400" y="175248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AA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Rectangle 19"/>
            <p:cNvSpPr/>
            <p:nvPr/>
          </p:nvSpPr>
          <p:spPr>
            <a:xfrm>
              <a:off x="8229600" y="175248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I0E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Rectangle 20"/>
            <p:cNvSpPr/>
            <p:nvPr/>
          </p:nvSpPr>
          <p:spPr>
            <a:xfrm>
              <a:off x="7620120" y="175248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I1E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Text Box 21"/>
            <p:cNvSpPr/>
            <p:nvPr/>
          </p:nvSpPr>
          <p:spPr>
            <a:xfrm>
              <a:off x="7849800" y="1447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Text Box 22"/>
            <p:cNvSpPr/>
            <p:nvPr/>
          </p:nvSpPr>
          <p:spPr>
            <a:xfrm>
              <a:off x="1067400" y="1447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Text Box 23"/>
            <p:cNvSpPr/>
            <p:nvPr/>
          </p:nvSpPr>
          <p:spPr>
            <a:xfrm>
              <a:off x="1600560" y="1447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Text Box 24"/>
            <p:cNvSpPr/>
            <p:nvPr/>
          </p:nvSpPr>
          <p:spPr>
            <a:xfrm>
              <a:off x="2286360" y="1447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Text Box 25"/>
            <p:cNvSpPr/>
            <p:nvPr/>
          </p:nvSpPr>
          <p:spPr>
            <a:xfrm>
              <a:off x="2896200" y="1447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Text Box 26"/>
            <p:cNvSpPr/>
            <p:nvPr/>
          </p:nvSpPr>
          <p:spPr>
            <a:xfrm>
              <a:off x="3429360" y="1447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Text Box 27"/>
            <p:cNvSpPr/>
            <p:nvPr/>
          </p:nvSpPr>
          <p:spPr>
            <a:xfrm>
              <a:off x="4115880" y="1447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Text Box 28"/>
            <p:cNvSpPr/>
            <p:nvPr/>
          </p:nvSpPr>
          <p:spPr>
            <a:xfrm>
              <a:off x="4725360" y="1447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Text Box 29"/>
            <p:cNvSpPr/>
            <p:nvPr/>
          </p:nvSpPr>
          <p:spPr>
            <a:xfrm>
              <a:off x="5258880" y="1447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Text Box 30"/>
            <p:cNvSpPr/>
            <p:nvPr/>
          </p:nvSpPr>
          <p:spPr>
            <a:xfrm>
              <a:off x="6706800" y="1447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Text Box 31"/>
            <p:cNvSpPr/>
            <p:nvPr/>
          </p:nvSpPr>
          <p:spPr>
            <a:xfrm>
              <a:off x="7164000" y="1447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Rectangle 39"/>
            <p:cNvSpPr/>
            <p:nvPr/>
          </p:nvSpPr>
          <p:spPr>
            <a:xfrm>
              <a:off x="8229600" y="83808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CO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Rectangle 40"/>
            <p:cNvSpPr/>
            <p:nvPr/>
          </p:nvSpPr>
          <p:spPr>
            <a:xfrm>
              <a:off x="7620120" y="838080"/>
              <a:ext cx="6094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MTO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Text Box 41"/>
            <p:cNvSpPr/>
            <p:nvPr/>
          </p:nvSpPr>
          <p:spPr>
            <a:xfrm>
              <a:off x="7772760" y="5335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Text Box 42"/>
            <p:cNvSpPr/>
            <p:nvPr/>
          </p:nvSpPr>
          <p:spPr>
            <a:xfrm>
              <a:off x="7239600" y="5335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2" name="Rectangle 44"/>
          <p:cNvSpPr/>
          <p:nvPr/>
        </p:nvSpPr>
        <p:spPr>
          <a:xfrm>
            <a:off x="4572000" y="3657600"/>
            <a:ext cx="323568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Interrupt 1 Enable (I1E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HECC_INT_REQ[1] line is dis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HECC_INT_REQ[1] line is en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Rectangle 45"/>
          <p:cNvSpPr/>
          <p:nvPr/>
        </p:nvSpPr>
        <p:spPr>
          <a:xfrm>
            <a:off x="4572000" y="4648320"/>
            <a:ext cx="323568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Interrupt 0 Enable (I0E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HECC_INT_REQ[0] line is dis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HECC_INT_REQ[0] line is en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2"/>
          <p:cNvSpPr/>
          <p:nvPr/>
        </p:nvSpPr>
        <p:spPr>
          <a:xfrm>
            <a:off x="336600" y="216000"/>
            <a:ext cx="8564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CAN Global Interrupt Flag 0 Register (CANGIF0) – 0x00601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Rectangle 3"/>
          <p:cNvSpPr/>
          <p:nvPr/>
        </p:nvSpPr>
        <p:spPr>
          <a:xfrm>
            <a:off x="4492800" y="3733920"/>
            <a:ext cx="439524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Mailbox Interrupt Vector  (MIV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dicates the number of the message object that set th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global mailbox interrupt flag (GMIF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Rectangle 4"/>
          <p:cNvSpPr/>
          <p:nvPr/>
        </p:nvSpPr>
        <p:spPr>
          <a:xfrm>
            <a:off x="304920" y="2438280"/>
            <a:ext cx="3962520" cy="3498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Interrupt Flag Bit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MTOF0 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Mailbox Timeout Fl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TCOF0  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Timestamp Counter Overflow Fl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GMIF0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Global Mailbox Interrupt Fl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AAIF0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Abort Acknowledge Interrupt Fl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WDIF0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Write Denied Interrupt Fl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WUIF0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Wake-up Interrupt Fl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RMLIF0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Receive message lost Interrupt Fl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BOIF0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Bus Off Interrupt Fl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EPIF0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Error Passive Interrupt Fl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WLIF0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Warning level Interrupt Fl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Interrupt Flag Bit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0 = Interrupt has not occurr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1 = Interrupt  has occurre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Text Box 6"/>
          <p:cNvSpPr/>
          <p:nvPr/>
        </p:nvSpPr>
        <p:spPr>
          <a:xfrm>
            <a:off x="457560" y="1447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Text Box 7"/>
          <p:cNvSpPr/>
          <p:nvPr/>
        </p:nvSpPr>
        <p:spPr>
          <a:xfrm>
            <a:off x="8458560" y="5335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Text Box 8"/>
          <p:cNvSpPr/>
          <p:nvPr/>
        </p:nvSpPr>
        <p:spPr>
          <a:xfrm>
            <a:off x="305280" y="5335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Rectangle 9"/>
          <p:cNvSpPr/>
          <p:nvPr/>
        </p:nvSpPr>
        <p:spPr>
          <a:xfrm>
            <a:off x="304920" y="838080"/>
            <a:ext cx="731520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Text Box 10"/>
          <p:cNvSpPr/>
          <p:nvPr/>
        </p:nvSpPr>
        <p:spPr>
          <a:xfrm>
            <a:off x="8459280" y="144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Rectangle 11"/>
          <p:cNvSpPr/>
          <p:nvPr/>
        </p:nvSpPr>
        <p:spPr>
          <a:xfrm>
            <a:off x="30492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GMIF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Rectangle 12"/>
          <p:cNvSpPr/>
          <p:nvPr/>
        </p:nvSpPr>
        <p:spPr>
          <a:xfrm>
            <a:off x="5181480" y="1752480"/>
            <a:ext cx="6098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Rectangle 13"/>
          <p:cNvSpPr/>
          <p:nvPr/>
        </p:nvSpPr>
        <p:spPr>
          <a:xfrm>
            <a:off x="7010280" y="1752480"/>
            <a:ext cx="6098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IV0.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Rectangle 14"/>
          <p:cNvSpPr/>
          <p:nvPr/>
        </p:nvSpPr>
        <p:spPr>
          <a:xfrm>
            <a:off x="457200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WLIF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Rectangle 15"/>
          <p:cNvSpPr/>
          <p:nvPr/>
        </p:nvSpPr>
        <p:spPr>
          <a:xfrm>
            <a:off x="396252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PIF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Rectangle 16"/>
          <p:cNvSpPr/>
          <p:nvPr/>
        </p:nvSpPr>
        <p:spPr>
          <a:xfrm>
            <a:off x="3352680" y="1752480"/>
            <a:ext cx="6098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OIF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Rectangle 17"/>
          <p:cNvSpPr/>
          <p:nvPr/>
        </p:nvSpPr>
        <p:spPr>
          <a:xfrm>
            <a:off x="274320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MLIF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Rectangle 18"/>
          <p:cNvSpPr/>
          <p:nvPr/>
        </p:nvSpPr>
        <p:spPr>
          <a:xfrm>
            <a:off x="213372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WUIF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Rectangle 19"/>
          <p:cNvSpPr/>
          <p:nvPr/>
        </p:nvSpPr>
        <p:spPr>
          <a:xfrm>
            <a:off x="1523880" y="1752480"/>
            <a:ext cx="6098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WDIF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Rectangle 20"/>
          <p:cNvSpPr/>
          <p:nvPr/>
        </p:nvSpPr>
        <p:spPr>
          <a:xfrm>
            <a:off x="91440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AIF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Rectangle 21"/>
          <p:cNvSpPr/>
          <p:nvPr/>
        </p:nvSpPr>
        <p:spPr>
          <a:xfrm>
            <a:off x="822960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IV0.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Rectangle 22"/>
          <p:cNvSpPr/>
          <p:nvPr/>
        </p:nvSpPr>
        <p:spPr>
          <a:xfrm>
            <a:off x="762012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IV0.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Text Box 23"/>
          <p:cNvSpPr/>
          <p:nvPr/>
        </p:nvSpPr>
        <p:spPr>
          <a:xfrm>
            <a:off x="7849800" y="144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Text Box 24"/>
          <p:cNvSpPr/>
          <p:nvPr/>
        </p:nvSpPr>
        <p:spPr>
          <a:xfrm>
            <a:off x="1067400" y="1447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Text Box 25"/>
          <p:cNvSpPr/>
          <p:nvPr/>
        </p:nvSpPr>
        <p:spPr>
          <a:xfrm>
            <a:off x="1600560" y="1447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Text Box 26"/>
          <p:cNvSpPr/>
          <p:nvPr/>
        </p:nvSpPr>
        <p:spPr>
          <a:xfrm>
            <a:off x="2286360" y="1447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Text Box 27"/>
          <p:cNvSpPr/>
          <p:nvPr/>
        </p:nvSpPr>
        <p:spPr>
          <a:xfrm>
            <a:off x="2896200" y="1447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Text Box 28"/>
          <p:cNvSpPr/>
          <p:nvPr/>
        </p:nvSpPr>
        <p:spPr>
          <a:xfrm>
            <a:off x="3429360" y="1447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Text Box 29"/>
          <p:cNvSpPr/>
          <p:nvPr/>
        </p:nvSpPr>
        <p:spPr>
          <a:xfrm>
            <a:off x="4115880" y="144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Text Box 30"/>
          <p:cNvSpPr/>
          <p:nvPr/>
        </p:nvSpPr>
        <p:spPr>
          <a:xfrm>
            <a:off x="4725360" y="144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Text Box 31"/>
          <p:cNvSpPr/>
          <p:nvPr/>
        </p:nvSpPr>
        <p:spPr>
          <a:xfrm>
            <a:off x="5258160" y="1447920"/>
            <a:ext cx="4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7-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Text Box 32"/>
          <p:cNvSpPr/>
          <p:nvPr/>
        </p:nvSpPr>
        <p:spPr>
          <a:xfrm>
            <a:off x="6630480" y="144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Text Box 33"/>
          <p:cNvSpPr/>
          <p:nvPr/>
        </p:nvSpPr>
        <p:spPr>
          <a:xfrm>
            <a:off x="7164000" y="144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Rectangle 34"/>
          <p:cNvSpPr/>
          <p:nvPr/>
        </p:nvSpPr>
        <p:spPr>
          <a:xfrm>
            <a:off x="8229600" y="8380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COF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Rectangle 35"/>
          <p:cNvSpPr/>
          <p:nvPr/>
        </p:nvSpPr>
        <p:spPr>
          <a:xfrm>
            <a:off x="7620120" y="8380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TOF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Text Box 36"/>
          <p:cNvSpPr/>
          <p:nvPr/>
        </p:nvSpPr>
        <p:spPr>
          <a:xfrm>
            <a:off x="7772760" y="5335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Text Box 37"/>
          <p:cNvSpPr/>
          <p:nvPr/>
        </p:nvSpPr>
        <p:spPr>
          <a:xfrm>
            <a:off x="7239600" y="5335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Rectangle 40"/>
          <p:cNvSpPr/>
          <p:nvPr/>
        </p:nvSpPr>
        <p:spPr>
          <a:xfrm>
            <a:off x="579132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IV0.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Rectangle 41"/>
          <p:cNvSpPr/>
          <p:nvPr/>
        </p:nvSpPr>
        <p:spPr>
          <a:xfrm>
            <a:off x="640080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IV0.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Text Box 42"/>
          <p:cNvSpPr/>
          <p:nvPr/>
        </p:nvSpPr>
        <p:spPr>
          <a:xfrm>
            <a:off x="6021000" y="144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2"/>
          <p:cNvSpPr/>
          <p:nvPr/>
        </p:nvSpPr>
        <p:spPr>
          <a:xfrm>
            <a:off x="263520" y="179280"/>
            <a:ext cx="8564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CAN Global Interrupt Flag 1 Register (CANGIF1) – 0x00602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Rectangle 3"/>
          <p:cNvSpPr/>
          <p:nvPr/>
        </p:nvSpPr>
        <p:spPr>
          <a:xfrm>
            <a:off x="4492800" y="3733920"/>
            <a:ext cx="439524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Mailbox Interrupt Vector  (MIV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dicates the number of the message object that set th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global mailbox interrupt flag (GMIF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304920" y="2438280"/>
            <a:ext cx="3962520" cy="3498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Interrupt Flag Bit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MTOF</a:t>
            </a: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Mailbox Timeout Fl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TCOF</a:t>
            </a: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Timestamp Counter Overflow Fl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GMIF</a:t>
            </a: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Global Mailbox Interrupt Fl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AAIF</a:t>
            </a: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Abort Acknowledge Interrupt Fl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WDIF</a:t>
            </a: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Write Denied Interrupt Fl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WUIF</a:t>
            </a: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Wake-up Interrupt Fl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RMLIF</a:t>
            </a: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Receive message lost Interrupt Fl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BOIF</a:t>
            </a: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Bus Off Interrupt Fl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EPIF</a:t>
            </a: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Error Passive Interrupt Fl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WLIF</a:t>
            </a: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= Warning level Interrupt Fl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e9b03"/>
                </a:solidFill>
                <a:latin typeface="Times New Roman"/>
              </a:rPr>
              <a:t>Interrupt Flag Bit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0 = Interrupt has not occurr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1 = Interrupt  has occurre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Text Box 5"/>
          <p:cNvSpPr/>
          <p:nvPr/>
        </p:nvSpPr>
        <p:spPr>
          <a:xfrm>
            <a:off x="457560" y="1447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Text Box 6"/>
          <p:cNvSpPr/>
          <p:nvPr/>
        </p:nvSpPr>
        <p:spPr>
          <a:xfrm>
            <a:off x="8458560" y="5335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Text Box 7"/>
          <p:cNvSpPr/>
          <p:nvPr/>
        </p:nvSpPr>
        <p:spPr>
          <a:xfrm>
            <a:off x="305280" y="5335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Rectangle 8"/>
          <p:cNvSpPr/>
          <p:nvPr/>
        </p:nvSpPr>
        <p:spPr>
          <a:xfrm>
            <a:off x="304920" y="838080"/>
            <a:ext cx="731520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Text Box 9"/>
          <p:cNvSpPr/>
          <p:nvPr/>
        </p:nvSpPr>
        <p:spPr>
          <a:xfrm>
            <a:off x="8459280" y="144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Rectangle 10"/>
          <p:cNvSpPr/>
          <p:nvPr/>
        </p:nvSpPr>
        <p:spPr>
          <a:xfrm>
            <a:off x="30492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GMIF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Rectangle 11"/>
          <p:cNvSpPr/>
          <p:nvPr/>
        </p:nvSpPr>
        <p:spPr>
          <a:xfrm>
            <a:off x="5181480" y="1752480"/>
            <a:ext cx="6098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Rectangle 12"/>
          <p:cNvSpPr/>
          <p:nvPr/>
        </p:nvSpPr>
        <p:spPr>
          <a:xfrm>
            <a:off x="7010280" y="1752480"/>
            <a:ext cx="6098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IV1.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Rectangle 13"/>
          <p:cNvSpPr/>
          <p:nvPr/>
        </p:nvSpPr>
        <p:spPr>
          <a:xfrm>
            <a:off x="457200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WLIF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Rectangle 14"/>
          <p:cNvSpPr/>
          <p:nvPr/>
        </p:nvSpPr>
        <p:spPr>
          <a:xfrm>
            <a:off x="396252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PIF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Rectangle 15"/>
          <p:cNvSpPr/>
          <p:nvPr/>
        </p:nvSpPr>
        <p:spPr>
          <a:xfrm>
            <a:off x="3352680" y="1752480"/>
            <a:ext cx="6098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OIF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Rectangle 16"/>
          <p:cNvSpPr/>
          <p:nvPr/>
        </p:nvSpPr>
        <p:spPr>
          <a:xfrm>
            <a:off x="274320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MLIF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Rectangle 17"/>
          <p:cNvSpPr/>
          <p:nvPr/>
        </p:nvSpPr>
        <p:spPr>
          <a:xfrm>
            <a:off x="213372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WUIF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Rectangle 18"/>
          <p:cNvSpPr/>
          <p:nvPr/>
        </p:nvSpPr>
        <p:spPr>
          <a:xfrm>
            <a:off x="1523880" y="1752480"/>
            <a:ext cx="6098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WDIF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Rectangle 19"/>
          <p:cNvSpPr/>
          <p:nvPr/>
        </p:nvSpPr>
        <p:spPr>
          <a:xfrm>
            <a:off x="91440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AIF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Rectangle 20"/>
          <p:cNvSpPr/>
          <p:nvPr/>
        </p:nvSpPr>
        <p:spPr>
          <a:xfrm>
            <a:off x="822960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IV1.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Rectangle 21"/>
          <p:cNvSpPr/>
          <p:nvPr/>
        </p:nvSpPr>
        <p:spPr>
          <a:xfrm>
            <a:off x="762012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IV1.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Text Box 22"/>
          <p:cNvSpPr/>
          <p:nvPr/>
        </p:nvSpPr>
        <p:spPr>
          <a:xfrm>
            <a:off x="7849800" y="144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Text Box 23"/>
          <p:cNvSpPr/>
          <p:nvPr/>
        </p:nvSpPr>
        <p:spPr>
          <a:xfrm>
            <a:off x="1067400" y="1447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Text Box 24"/>
          <p:cNvSpPr/>
          <p:nvPr/>
        </p:nvSpPr>
        <p:spPr>
          <a:xfrm>
            <a:off x="1600560" y="1447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Text Box 25"/>
          <p:cNvSpPr/>
          <p:nvPr/>
        </p:nvSpPr>
        <p:spPr>
          <a:xfrm>
            <a:off x="2286360" y="1447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Text Box 26"/>
          <p:cNvSpPr/>
          <p:nvPr/>
        </p:nvSpPr>
        <p:spPr>
          <a:xfrm>
            <a:off x="2896200" y="1447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Text Box 27"/>
          <p:cNvSpPr/>
          <p:nvPr/>
        </p:nvSpPr>
        <p:spPr>
          <a:xfrm>
            <a:off x="3429360" y="1447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Text Box 28"/>
          <p:cNvSpPr/>
          <p:nvPr/>
        </p:nvSpPr>
        <p:spPr>
          <a:xfrm>
            <a:off x="4115880" y="144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Text Box 29"/>
          <p:cNvSpPr/>
          <p:nvPr/>
        </p:nvSpPr>
        <p:spPr>
          <a:xfrm>
            <a:off x="4725360" y="144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Text Box 30"/>
          <p:cNvSpPr/>
          <p:nvPr/>
        </p:nvSpPr>
        <p:spPr>
          <a:xfrm>
            <a:off x="5258160" y="1447920"/>
            <a:ext cx="4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7-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Text Box 31"/>
          <p:cNvSpPr/>
          <p:nvPr/>
        </p:nvSpPr>
        <p:spPr>
          <a:xfrm>
            <a:off x="6630480" y="144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Text Box 32"/>
          <p:cNvSpPr/>
          <p:nvPr/>
        </p:nvSpPr>
        <p:spPr>
          <a:xfrm>
            <a:off x="7164000" y="144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Rectangle 33"/>
          <p:cNvSpPr/>
          <p:nvPr/>
        </p:nvSpPr>
        <p:spPr>
          <a:xfrm>
            <a:off x="8229600" y="8380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COF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Rectangle 34"/>
          <p:cNvSpPr/>
          <p:nvPr/>
        </p:nvSpPr>
        <p:spPr>
          <a:xfrm>
            <a:off x="7620120" y="8380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TOF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Text Box 35"/>
          <p:cNvSpPr/>
          <p:nvPr/>
        </p:nvSpPr>
        <p:spPr>
          <a:xfrm>
            <a:off x="7772760" y="5335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Text Box 36"/>
          <p:cNvSpPr/>
          <p:nvPr/>
        </p:nvSpPr>
        <p:spPr>
          <a:xfrm>
            <a:off x="7239600" y="5335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Rectangle 37"/>
          <p:cNvSpPr/>
          <p:nvPr/>
        </p:nvSpPr>
        <p:spPr>
          <a:xfrm>
            <a:off x="579132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IV1.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Rectangle 38"/>
          <p:cNvSpPr/>
          <p:nvPr/>
        </p:nvSpPr>
        <p:spPr>
          <a:xfrm>
            <a:off x="6400800" y="1752480"/>
            <a:ext cx="6094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IV1.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Text Box 39"/>
          <p:cNvSpPr/>
          <p:nvPr/>
        </p:nvSpPr>
        <p:spPr>
          <a:xfrm>
            <a:off x="6021000" y="144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2"/>
          <p:cNvSpPr/>
          <p:nvPr/>
        </p:nvSpPr>
        <p:spPr>
          <a:xfrm>
            <a:off x="481320" y="0"/>
            <a:ext cx="7368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CAN Mailbox Interrupt Mask Register (CANMIM) – 0x00602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Text Box 3"/>
          <p:cNvSpPr/>
          <p:nvPr/>
        </p:nvSpPr>
        <p:spPr>
          <a:xfrm>
            <a:off x="972000" y="1268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Text Box 4"/>
          <p:cNvSpPr/>
          <p:nvPr/>
        </p:nvSpPr>
        <p:spPr>
          <a:xfrm>
            <a:off x="7812720" y="549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Text Box 5"/>
          <p:cNvSpPr/>
          <p:nvPr/>
        </p:nvSpPr>
        <p:spPr>
          <a:xfrm>
            <a:off x="972000" y="549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Rectangle 6"/>
          <p:cNvSpPr/>
          <p:nvPr/>
        </p:nvSpPr>
        <p:spPr>
          <a:xfrm>
            <a:off x="971640" y="155736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MIM[15:0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Rectangle 7"/>
          <p:cNvSpPr/>
          <p:nvPr/>
        </p:nvSpPr>
        <p:spPr>
          <a:xfrm>
            <a:off x="971640" y="83664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MIM[31:16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Text Box 8"/>
          <p:cNvSpPr/>
          <p:nvPr/>
        </p:nvSpPr>
        <p:spPr>
          <a:xfrm>
            <a:off x="7886160" y="126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Rectangle 9"/>
          <p:cNvSpPr/>
          <p:nvPr/>
        </p:nvSpPr>
        <p:spPr>
          <a:xfrm>
            <a:off x="1470240" y="2276640"/>
            <a:ext cx="4966920" cy="1154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Mailbox Interrupt Mask Bits (MIM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mailbox interrupt is disabl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mailbox interrupt is enabled. An Interrupt is generated if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essage has been transmitted successfully or if a message ha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een received without an error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Rectangle 10"/>
          <p:cNvSpPr/>
          <p:nvPr/>
        </p:nvSpPr>
        <p:spPr>
          <a:xfrm>
            <a:off x="405720" y="3505320"/>
            <a:ext cx="7326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CAN Mailbox Interrupt Level Register (CANMIL) – 0x00602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Text Box 11"/>
          <p:cNvSpPr/>
          <p:nvPr/>
        </p:nvSpPr>
        <p:spPr>
          <a:xfrm>
            <a:off x="972000" y="4581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Text Box 12"/>
          <p:cNvSpPr/>
          <p:nvPr/>
        </p:nvSpPr>
        <p:spPr>
          <a:xfrm>
            <a:off x="7812720" y="38624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Text Box 13"/>
          <p:cNvSpPr/>
          <p:nvPr/>
        </p:nvSpPr>
        <p:spPr>
          <a:xfrm>
            <a:off x="972000" y="38624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Rectangle 14"/>
          <p:cNvSpPr/>
          <p:nvPr/>
        </p:nvSpPr>
        <p:spPr>
          <a:xfrm>
            <a:off x="971640" y="487044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MIL[15:0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Rectangle 15"/>
          <p:cNvSpPr/>
          <p:nvPr/>
        </p:nvSpPr>
        <p:spPr>
          <a:xfrm>
            <a:off x="971640" y="414972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ANMIL[31:16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Text Box 16"/>
          <p:cNvSpPr/>
          <p:nvPr/>
        </p:nvSpPr>
        <p:spPr>
          <a:xfrm>
            <a:off x="7886160" y="4581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Rectangle 17"/>
          <p:cNvSpPr/>
          <p:nvPr/>
        </p:nvSpPr>
        <p:spPr>
          <a:xfrm>
            <a:off x="1471680" y="5589720"/>
            <a:ext cx="50400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Mailbox Interrupt Level Bits (MI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mailbox interrupt is generated on HECC_INT_REQ[0] lin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mailbox interrupt is generated on HECC_INT_REQ[1] lin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2"/>
          <p:cNvSpPr/>
          <p:nvPr/>
        </p:nvSpPr>
        <p:spPr>
          <a:xfrm>
            <a:off x="545400" y="690480"/>
            <a:ext cx="8135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CAN Overwrite Protection Control Register (CANOPC) – 0x00602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7" name="Group 18"/>
          <p:cNvGrpSpPr/>
          <p:nvPr/>
        </p:nvGrpSpPr>
        <p:grpSpPr>
          <a:xfrm>
            <a:off x="838080" y="1066680"/>
            <a:ext cx="7201800" cy="1465200"/>
            <a:chOff x="838080" y="1066680"/>
            <a:chExt cx="7201800" cy="1465200"/>
          </a:xfrm>
        </p:grpSpPr>
        <p:sp>
          <p:nvSpPr>
            <p:cNvPr id="1018" name="Text Box 3"/>
            <p:cNvSpPr/>
            <p:nvPr/>
          </p:nvSpPr>
          <p:spPr>
            <a:xfrm>
              <a:off x="838440" y="17856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Text Box 4"/>
            <p:cNvSpPr/>
            <p:nvPr/>
          </p:nvSpPr>
          <p:spPr>
            <a:xfrm>
              <a:off x="7679160" y="10666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Text Box 5"/>
            <p:cNvSpPr/>
            <p:nvPr/>
          </p:nvSpPr>
          <p:spPr>
            <a:xfrm>
              <a:off x="838440" y="10666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Rectangle 6"/>
            <p:cNvSpPr/>
            <p:nvPr/>
          </p:nvSpPr>
          <p:spPr>
            <a:xfrm>
              <a:off x="838080" y="2074680"/>
              <a:ext cx="720072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CANOPC[15:0]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Rectangle 7"/>
            <p:cNvSpPr/>
            <p:nvPr/>
          </p:nvSpPr>
          <p:spPr>
            <a:xfrm>
              <a:off x="838080" y="1353960"/>
              <a:ext cx="720072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CANOPC[31:16]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Text Box 8"/>
            <p:cNvSpPr/>
            <p:nvPr/>
          </p:nvSpPr>
          <p:spPr>
            <a:xfrm>
              <a:off x="7752600" y="1785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4" name="Rectangle 9"/>
          <p:cNvSpPr/>
          <p:nvPr/>
        </p:nvSpPr>
        <p:spPr>
          <a:xfrm>
            <a:off x="853200" y="3505320"/>
            <a:ext cx="7123320" cy="2009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Times New Roman"/>
              </a:rPr>
              <a:t>Overwrite Protection Control Bits (OPC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0 = the old message in mailbox N may be overwritten by a new on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his will be notified by the receive message lost bit RML[n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 = an old message in mailbox N is protected against being overwritt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y a new on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hus, the next mailboxes are checked for a matching ID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f no other mailbox is found, the new message is los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2"/>
          <p:cNvSpPr/>
          <p:nvPr/>
        </p:nvSpPr>
        <p:spPr>
          <a:xfrm>
            <a:off x="1101960" y="0"/>
            <a:ext cx="7227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CAN I/O Control Register (CANTIOC) – 0x00602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Rectangle 9"/>
          <p:cNvSpPr/>
          <p:nvPr/>
        </p:nvSpPr>
        <p:spPr>
          <a:xfrm>
            <a:off x="763200" y="2590920"/>
            <a:ext cx="384372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TXFUN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CANTX pin is a normal I/O pi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CANTX is used for CAN transmit func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7" name="Group 27"/>
          <p:cNvGrpSpPr/>
          <p:nvPr/>
        </p:nvGrpSpPr>
        <p:grpSpPr>
          <a:xfrm>
            <a:off x="762120" y="533520"/>
            <a:ext cx="7411320" cy="1600200"/>
            <a:chOff x="762120" y="533520"/>
            <a:chExt cx="7411320" cy="1600200"/>
          </a:xfrm>
        </p:grpSpPr>
        <p:sp>
          <p:nvSpPr>
            <p:cNvPr id="1028" name="Text Box 3"/>
            <p:cNvSpPr/>
            <p:nvPr/>
          </p:nvSpPr>
          <p:spPr>
            <a:xfrm>
              <a:off x="762120" y="1371600"/>
              <a:ext cx="36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Text Box 4"/>
            <p:cNvSpPr/>
            <p:nvPr/>
          </p:nvSpPr>
          <p:spPr>
            <a:xfrm>
              <a:off x="7812720" y="5493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Text Box 5"/>
            <p:cNvSpPr/>
            <p:nvPr/>
          </p:nvSpPr>
          <p:spPr>
            <a:xfrm>
              <a:off x="762480" y="5335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Rectangle 6"/>
            <p:cNvSpPr/>
            <p:nvPr/>
          </p:nvSpPr>
          <p:spPr>
            <a:xfrm>
              <a:off x="762120" y="1676520"/>
              <a:ext cx="434340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Rectangle 7"/>
            <p:cNvSpPr/>
            <p:nvPr/>
          </p:nvSpPr>
          <p:spPr>
            <a:xfrm>
              <a:off x="762120" y="838080"/>
              <a:ext cx="74102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Text Box 8"/>
            <p:cNvSpPr/>
            <p:nvPr/>
          </p:nvSpPr>
          <p:spPr>
            <a:xfrm>
              <a:off x="7621200" y="1371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Rectangle 19"/>
            <p:cNvSpPr/>
            <p:nvPr/>
          </p:nvSpPr>
          <p:spPr>
            <a:xfrm>
              <a:off x="7391520" y="1676520"/>
              <a:ext cx="76176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TXI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Rectangle 20"/>
            <p:cNvSpPr/>
            <p:nvPr/>
          </p:nvSpPr>
          <p:spPr>
            <a:xfrm>
              <a:off x="5105520" y="167652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TXFUN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Rectangle 21"/>
            <p:cNvSpPr/>
            <p:nvPr/>
          </p:nvSpPr>
          <p:spPr>
            <a:xfrm>
              <a:off x="5943600" y="1676520"/>
              <a:ext cx="76212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TXDI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Rectangle 22"/>
            <p:cNvSpPr/>
            <p:nvPr/>
          </p:nvSpPr>
          <p:spPr>
            <a:xfrm>
              <a:off x="6705720" y="1676520"/>
              <a:ext cx="68580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TXOU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Text Box 23"/>
            <p:cNvSpPr/>
            <p:nvPr/>
          </p:nvSpPr>
          <p:spPr>
            <a:xfrm>
              <a:off x="6173280" y="1371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Text Box 24"/>
            <p:cNvSpPr/>
            <p:nvPr/>
          </p:nvSpPr>
          <p:spPr>
            <a:xfrm>
              <a:off x="7924680" y="175248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Text Box 25"/>
            <p:cNvSpPr/>
            <p:nvPr/>
          </p:nvSpPr>
          <p:spPr>
            <a:xfrm>
              <a:off x="6935400" y="1371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Text Box 26"/>
            <p:cNvSpPr/>
            <p:nvPr/>
          </p:nvSpPr>
          <p:spPr>
            <a:xfrm>
              <a:off x="5411160" y="1371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2" name="Rectangle 28"/>
          <p:cNvSpPr/>
          <p:nvPr/>
        </p:nvSpPr>
        <p:spPr>
          <a:xfrm>
            <a:off x="756000" y="3429000"/>
            <a:ext cx="527148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TXD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CANTX pin is an input pin if configured as a  normal I/O pi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CANTX pin is an output pin if configured as a  normal I/O pi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Rectangle 29"/>
          <p:cNvSpPr/>
          <p:nvPr/>
        </p:nvSpPr>
        <p:spPr>
          <a:xfrm>
            <a:off x="755640" y="4267080"/>
            <a:ext cx="514368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TXO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utput value for CANTX pin, if configured as normal output p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Rectangle 30"/>
          <p:cNvSpPr/>
          <p:nvPr/>
        </p:nvSpPr>
        <p:spPr>
          <a:xfrm>
            <a:off x="764640" y="4952880"/>
            <a:ext cx="287892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TX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Logic 0 present on pin CANTX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Logic 1 present on pin CANTX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2"/>
          <p:cNvSpPr/>
          <p:nvPr/>
        </p:nvSpPr>
        <p:spPr>
          <a:xfrm>
            <a:off x="1103400" y="0"/>
            <a:ext cx="7260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CAN I/O Control Register (CANRIOC) – 0x00602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Rectangle 3"/>
          <p:cNvSpPr/>
          <p:nvPr/>
        </p:nvSpPr>
        <p:spPr>
          <a:xfrm>
            <a:off x="765000" y="2590920"/>
            <a:ext cx="373392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RXFUN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CANRX pin is a normal I/O pi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CANRX is used for CAN receive func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7" name="Group 4"/>
          <p:cNvGrpSpPr/>
          <p:nvPr/>
        </p:nvGrpSpPr>
        <p:grpSpPr>
          <a:xfrm>
            <a:off x="762120" y="533520"/>
            <a:ext cx="7411320" cy="1600200"/>
            <a:chOff x="762120" y="533520"/>
            <a:chExt cx="7411320" cy="1600200"/>
          </a:xfrm>
        </p:grpSpPr>
        <p:sp>
          <p:nvSpPr>
            <p:cNvPr id="1048" name="Text Box 5"/>
            <p:cNvSpPr/>
            <p:nvPr/>
          </p:nvSpPr>
          <p:spPr>
            <a:xfrm>
              <a:off x="762120" y="1371600"/>
              <a:ext cx="36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Text Box 6"/>
            <p:cNvSpPr/>
            <p:nvPr/>
          </p:nvSpPr>
          <p:spPr>
            <a:xfrm>
              <a:off x="7812720" y="5493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Text Box 7"/>
            <p:cNvSpPr/>
            <p:nvPr/>
          </p:nvSpPr>
          <p:spPr>
            <a:xfrm>
              <a:off x="762480" y="5335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Rectangle 8"/>
            <p:cNvSpPr/>
            <p:nvPr/>
          </p:nvSpPr>
          <p:spPr>
            <a:xfrm>
              <a:off x="762120" y="1676520"/>
              <a:ext cx="434340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Rectangle 9"/>
            <p:cNvSpPr/>
            <p:nvPr/>
          </p:nvSpPr>
          <p:spPr>
            <a:xfrm>
              <a:off x="762120" y="838080"/>
              <a:ext cx="74102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Text Box 10"/>
            <p:cNvSpPr/>
            <p:nvPr/>
          </p:nvSpPr>
          <p:spPr>
            <a:xfrm>
              <a:off x="7621200" y="1371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Rectangle 11"/>
            <p:cNvSpPr/>
            <p:nvPr/>
          </p:nvSpPr>
          <p:spPr>
            <a:xfrm>
              <a:off x="7391520" y="1676520"/>
              <a:ext cx="76176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RXI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Rectangle 12"/>
            <p:cNvSpPr/>
            <p:nvPr/>
          </p:nvSpPr>
          <p:spPr>
            <a:xfrm>
              <a:off x="5105520" y="167652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RXFUN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Rectangle 13"/>
            <p:cNvSpPr/>
            <p:nvPr/>
          </p:nvSpPr>
          <p:spPr>
            <a:xfrm>
              <a:off x="5943600" y="1676520"/>
              <a:ext cx="76212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RXDI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Rectangle 14"/>
            <p:cNvSpPr/>
            <p:nvPr/>
          </p:nvSpPr>
          <p:spPr>
            <a:xfrm>
              <a:off x="6705720" y="1676520"/>
              <a:ext cx="68580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RXOU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Text Box 15"/>
            <p:cNvSpPr/>
            <p:nvPr/>
          </p:nvSpPr>
          <p:spPr>
            <a:xfrm>
              <a:off x="6173280" y="1371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Text Box 16"/>
            <p:cNvSpPr/>
            <p:nvPr/>
          </p:nvSpPr>
          <p:spPr>
            <a:xfrm>
              <a:off x="7924680" y="175248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Text Box 17"/>
            <p:cNvSpPr/>
            <p:nvPr/>
          </p:nvSpPr>
          <p:spPr>
            <a:xfrm>
              <a:off x="6935400" y="1371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Text Box 18"/>
            <p:cNvSpPr/>
            <p:nvPr/>
          </p:nvSpPr>
          <p:spPr>
            <a:xfrm>
              <a:off x="5411160" y="1371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2" name="Rectangle 19"/>
          <p:cNvSpPr/>
          <p:nvPr/>
        </p:nvSpPr>
        <p:spPr>
          <a:xfrm>
            <a:off x="756360" y="3429000"/>
            <a:ext cx="528084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RXD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CANRX pin is an input pin if configured as a  normal I/O pi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CANRX pin is an output pin if configured as a  normal I/O pi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Rectangle 20"/>
          <p:cNvSpPr/>
          <p:nvPr/>
        </p:nvSpPr>
        <p:spPr>
          <a:xfrm>
            <a:off x="756000" y="4267080"/>
            <a:ext cx="515268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RXO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utput value for CANRX pin, if configured as normal output p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Rectangle 21"/>
          <p:cNvSpPr/>
          <p:nvPr/>
        </p:nvSpPr>
        <p:spPr>
          <a:xfrm>
            <a:off x="765000" y="4952880"/>
            <a:ext cx="288792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RX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Logic 0 present on pin CANRX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Logic 1 present on pin CANRX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2"/>
          <p:cNvSpPr/>
          <p:nvPr/>
        </p:nvSpPr>
        <p:spPr>
          <a:xfrm>
            <a:off x="487080" y="0"/>
            <a:ext cx="8376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CAN Local Network Time Register (CANLNT) – 0x00602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Text Box 5"/>
          <p:cNvSpPr/>
          <p:nvPr/>
        </p:nvSpPr>
        <p:spPr>
          <a:xfrm>
            <a:off x="762120" y="1371600"/>
            <a:ext cx="36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Text Box 6"/>
          <p:cNvSpPr/>
          <p:nvPr/>
        </p:nvSpPr>
        <p:spPr>
          <a:xfrm>
            <a:off x="7812720" y="549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Text Box 7"/>
          <p:cNvSpPr/>
          <p:nvPr/>
        </p:nvSpPr>
        <p:spPr>
          <a:xfrm>
            <a:off x="762480" y="5335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Rectangle 8"/>
          <p:cNvSpPr/>
          <p:nvPr/>
        </p:nvSpPr>
        <p:spPr>
          <a:xfrm>
            <a:off x="762120" y="1676520"/>
            <a:ext cx="739116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LNT[15:0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Rectangle 9"/>
          <p:cNvSpPr/>
          <p:nvPr/>
        </p:nvSpPr>
        <p:spPr>
          <a:xfrm>
            <a:off x="762120" y="838080"/>
            <a:ext cx="74102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LNT[31:16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Text Box 22"/>
          <p:cNvSpPr/>
          <p:nvPr/>
        </p:nvSpPr>
        <p:spPr>
          <a:xfrm>
            <a:off x="7848720" y="1371600"/>
            <a:ext cx="36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Rectangle 23"/>
          <p:cNvSpPr/>
          <p:nvPr/>
        </p:nvSpPr>
        <p:spPr>
          <a:xfrm>
            <a:off x="304920" y="2895480"/>
            <a:ext cx="8534160" cy="27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378000" indent="-3780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NT is a Free Running Counter, Clocked from the bit clock of the CAN mo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NT is written into the time stamp register (MOTS ) of the corresponding mailbox when a received message has been stored or a message has been transmit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NT is cleared when mailbox #16 is transmitted or received. Thus mailbox #16 can be used for a global network time synchronization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2"/>
          <p:cNvSpPr/>
          <p:nvPr/>
        </p:nvSpPr>
        <p:spPr>
          <a:xfrm>
            <a:off x="720000" y="0"/>
            <a:ext cx="800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CAN Time Out Control Register (CANTOC) – 0x0060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Text Box 3"/>
          <p:cNvSpPr/>
          <p:nvPr/>
        </p:nvSpPr>
        <p:spPr>
          <a:xfrm>
            <a:off x="762120" y="4038480"/>
            <a:ext cx="36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Text Box 4"/>
          <p:cNvSpPr/>
          <p:nvPr/>
        </p:nvSpPr>
        <p:spPr>
          <a:xfrm>
            <a:off x="7813080" y="549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Text Box 5"/>
          <p:cNvSpPr/>
          <p:nvPr/>
        </p:nvSpPr>
        <p:spPr>
          <a:xfrm>
            <a:off x="762480" y="5335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Rectangle 6"/>
          <p:cNvSpPr/>
          <p:nvPr/>
        </p:nvSpPr>
        <p:spPr>
          <a:xfrm>
            <a:off x="762120" y="4267080"/>
            <a:ext cx="739116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OS[31:0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Rectangle 7"/>
          <p:cNvSpPr/>
          <p:nvPr/>
        </p:nvSpPr>
        <p:spPr>
          <a:xfrm>
            <a:off x="762120" y="838080"/>
            <a:ext cx="74102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OC[31:0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Text Box 8"/>
          <p:cNvSpPr/>
          <p:nvPr/>
        </p:nvSpPr>
        <p:spPr>
          <a:xfrm>
            <a:off x="7848720" y="4038480"/>
            <a:ext cx="36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Rectangle 10"/>
          <p:cNvSpPr/>
          <p:nvPr/>
        </p:nvSpPr>
        <p:spPr>
          <a:xfrm>
            <a:off x="844560" y="1828800"/>
            <a:ext cx="7590960" cy="941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Time Out Control Bits (TOC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Time Out function is disabled for mailbox 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Time Out function is enabled for mailbox 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f  LNT is greater than the corresponding MOTO register, a time out event will be generate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Rectangle 11"/>
          <p:cNvSpPr/>
          <p:nvPr/>
        </p:nvSpPr>
        <p:spPr>
          <a:xfrm>
            <a:off x="795960" y="3429000"/>
            <a:ext cx="7836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CAN Time Out Status Register (CANTOS) – 0x0060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Rectangle 12"/>
          <p:cNvSpPr/>
          <p:nvPr/>
        </p:nvSpPr>
        <p:spPr>
          <a:xfrm>
            <a:off x="767520" y="5029200"/>
            <a:ext cx="708984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Time Out Status Flags (TO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No Time Out occurred  for mailbox 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The value in LNT is greater or equal to the value in the corresponding MOTO registe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Arial"/>
              </a:rPr>
              <a:t>CAN Local Acceptance Mask Register </a:t>
            </a:r>
            <a:br>
              <a:rPr sz="3200"/>
            </a:br>
            <a:r>
              <a:rPr b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0x00 6040 - 0x00 607F</a:t>
            </a:r>
            <a:endParaRPr b="1" lang="en-US" sz="18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084" name="Text Box 88"/>
          <p:cNvSpPr/>
          <p:nvPr/>
        </p:nvSpPr>
        <p:spPr>
          <a:xfrm>
            <a:off x="808200" y="641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Rectangle 93"/>
          <p:cNvSpPr/>
          <p:nvPr/>
        </p:nvSpPr>
        <p:spPr>
          <a:xfrm>
            <a:off x="1430280" y="249228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Text Box 103"/>
          <p:cNvSpPr/>
          <p:nvPr/>
        </p:nvSpPr>
        <p:spPr>
          <a:xfrm>
            <a:off x="576720" y="30639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Text Box 106"/>
          <p:cNvSpPr/>
          <p:nvPr/>
        </p:nvSpPr>
        <p:spPr>
          <a:xfrm>
            <a:off x="7129800" y="22003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Text Box 109"/>
          <p:cNvSpPr/>
          <p:nvPr/>
        </p:nvSpPr>
        <p:spPr>
          <a:xfrm>
            <a:off x="2574000" y="22176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Text Box 110"/>
          <p:cNvSpPr/>
          <p:nvPr/>
        </p:nvSpPr>
        <p:spPr>
          <a:xfrm>
            <a:off x="1583640" y="2200320"/>
            <a:ext cx="59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0-2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Text Box 111"/>
          <p:cNvSpPr/>
          <p:nvPr/>
        </p:nvSpPr>
        <p:spPr>
          <a:xfrm>
            <a:off x="897480" y="22176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Rectangle 119"/>
          <p:cNvSpPr/>
          <p:nvPr/>
        </p:nvSpPr>
        <p:spPr>
          <a:xfrm>
            <a:off x="592200" y="3328920"/>
            <a:ext cx="68245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AMn[15:0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Rectangle 121"/>
          <p:cNvSpPr/>
          <p:nvPr/>
        </p:nvSpPr>
        <p:spPr>
          <a:xfrm>
            <a:off x="2268360" y="2492280"/>
            <a:ext cx="514836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AMn[28:16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Rectangle 122"/>
          <p:cNvSpPr/>
          <p:nvPr/>
        </p:nvSpPr>
        <p:spPr>
          <a:xfrm>
            <a:off x="592200" y="249228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AM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Text Box 124"/>
          <p:cNvSpPr/>
          <p:nvPr/>
        </p:nvSpPr>
        <p:spPr>
          <a:xfrm>
            <a:off x="7130520" y="30639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Rectangle 125"/>
          <p:cNvSpPr/>
          <p:nvPr/>
        </p:nvSpPr>
        <p:spPr>
          <a:xfrm>
            <a:off x="594000" y="765000"/>
            <a:ext cx="62258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IDE bit of mailbox determines which message shall be recei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extended or standard frames can be receiv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xtended:  all 29 bit of LAM are used for filter against all 29 bit of mailbox 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tandard:  only first eleven bits of mailbox and LAM [28-18]  are us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Line 126"/>
          <p:cNvSpPr/>
          <p:nvPr/>
        </p:nvSpPr>
        <p:spPr>
          <a:xfrm>
            <a:off x="1042920" y="1700280"/>
            <a:ext cx="0" cy="57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Rectangle 127"/>
          <p:cNvSpPr/>
          <p:nvPr/>
        </p:nvSpPr>
        <p:spPr>
          <a:xfrm>
            <a:off x="621720" y="4076640"/>
            <a:ext cx="671652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LAMn[28-0]: Masking of identifier bits of incoming messag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don’t care  ( accept 1 or 0 for this bit position ) of incoming identifier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received identifier bit must match the corresponding message identifier bit (MID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Rectangle 128"/>
          <p:cNvSpPr/>
          <p:nvPr/>
        </p:nvSpPr>
        <p:spPr>
          <a:xfrm>
            <a:off x="594360" y="5157720"/>
            <a:ext cx="788544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ote: There are two operating modes of the CAN module :  “HECC” and “SCC”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 “SCC” (default after reset ) LAM0 is used for mailboxes 0 to 2, LAM3 is used for mailboxes 3 to 5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nd the global acceptance mask (CANGAM) is used for mailboxes 6 to 15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 “HECC” ( CANMC:13 = 1) each mailbox has its own mask register LAM0 to LAM3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Line 129"/>
          <p:cNvSpPr/>
          <p:nvPr/>
        </p:nvSpPr>
        <p:spPr>
          <a:xfrm>
            <a:off x="3780000" y="3789360"/>
            <a:ext cx="0" cy="360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Implementation / Classification of CAN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42920" y="785880"/>
            <a:ext cx="876312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mplementation:  amount of functionality in CAN- Silic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n’t get confused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munication is standardized and identical for all implementations of CAN. However, there are two types of hardware implementation and two versions of data forma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6" name="Object 5"/>
          <p:cNvGraphicFramePr/>
          <p:nvPr/>
        </p:nvGraphicFramePr>
        <p:xfrm>
          <a:off x="914400" y="1447920"/>
          <a:ext cx="843120" cy="47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84312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Rahmen 11"/>
          <p:cNvSpPr/>
          <p:nvPr/>
        </p:nvSpPr>
        <p:spPr>
          <a:xfrm>
            <a:off x="785880" y="4071960"/>
            <a:ext cx="2714400" cy="857160"/>
          </a:xfrm>
          <a:prstGeom prst="bevel">
            <a:avLst>
              <a:gd name="adj" fmla="val 12500"/>
            </a:avLst>
          </a:prstGeom>
          <a:solidFill>
            <a:srgbClr val="fe9b0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ahmen 12"/>
          <p:cNvSpPr/>
          <p:nvPr/>
        </p:nvSpPr>
        <p:spPr>
          <a:xfrm>
            <a:off x="5072040" y="4071960"/>
            <a:ext cx="2714760" cy="857160"/>
          </a:xfrm>
          <a:prstGeom prst="bevel">
            <a:avLst>
              <a:gd name="adj" fmla="val 12500"/>
            </a:avLst>
          </a:prstGeom>
          <a:solidFill>
            <a:srgbClr val="fe9b0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ahmen 13"/>
          <p:cNvSpPr/>
          <p:nvPr/>
        </p:nvSpPr>
        <p:spPr>
          <a:xfrm>
            <a:off x="214200" y="5572080"/>
            <a:ext cx="2000520" cy="857160"/>
          </a:xfrm>
          <a:prstGeom prst="bevel">
            <a:avLst>
              <a:gd name="adj" fmla="val 12500"/>
            </a:avLst>
          </a:prstGeom>
          <a:solidFill>
            <a:srgbClr val="fe9b0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- 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ahmen 14"/>
          <p:cNvSpPr/>
          <p:nvPr/>
        </p:nvSpPr>
        <p:spPr>
          <a:xfrm>
            <a:off x="2428920" y="5572080"/>
            <a:ext cx="2000160" cy="857160"/>
          </a:xfrm>
          <a:prstGeom prst="bevel">
            <a:avLst>
              <a:gd name="adj" fmla="val 12500"/>
            </a:avLst>
          </a:prstGeom>
          <a:solidFill>
            <a:srgbClr val="fe9b0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ahmen 15"/>
          <p:cNvSpPr/>
          <p:nvPr/>
        </p:nvSpPr>
        <p:spPr>
          <a:xfrm>
            <a:off x="4714920" y="5572080"/>
            <a:ext cx="2071800" cy="857160"/>
          </a:xfrm>
          <a:prstGeom prst="bevel">
            <a:avLst>
              <a:gd name="adj" fmla="val 12500"/>
            </a:avLst>
          </a:prstGeom>
          <a:solidFill>
            <a:srgbClr val="fe9b0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ahmen 16"/>
          <p:cNvSpPr/>
          <p:nvPr/>
        </p:nvSpPr>
        <p:spPr>
          <a:xfrm>
            <a:off x="6929280" y="5572080"/>
            <a:ext cx="2071800" cy="857160"/>
          </a:xfrm>
          <a:prstGeom prst="bevel">
            <a:avLst>
              <a:gd name="adj" fmla="val 12500"/>
            </a:avLst>
          </a:prstGeom>
          <a:solidFill>
            <a:srgbClr val="fe9b0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n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4" name="Gerade Verbindung mit Pfeil 20"/>
          <p:cNvCxnSpPr>
            <a:stCxn id="88" idx="0"/>
            <a:endCxn id="91" idx="0"/>
          </p:cNvCxnSpPr>
          <p:nvPr/>
        </p:nvCxnSpPr>
        <p:spPr>
          <a:xfrm>
            <a:off x="2143080" y="4929120"/>
            <a:ext cx="1286640" cy="643320"/>
          </a:xfrm>
          <a:prstGeom prst="straightConnector1">
            <a:avLst/>
          </a:prstGeom>
          <a:ln w="255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95" name="Gerade Verbindung mit Pfeil 23"/>
          <p:cNvCxnSpPr>
            <a:stCxn id="88" idx="1"/>
            <a:endCxn id="90" idx="0"/>
          </p:cNvCxnSpPr>
          <p:nvPr/>
        </p:nvCxnSpPr>
        <p:spPr>
          <a:xfrm flipH="1">
            <a:off x="1213920" y="4929120"/>
            <a:ext cx="929520" cy="643320"/>
          </a:xfrm>
          <a:prstGeom prst="straightConnector1">
            <a:avLst/>
          </a:prstGeom>
          <a:ln w="255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96" name="Gerade Verbindung mit Pfeil 26"/>
          <p:cNvCxnSpPr>
            <a:stCxn id="89" idx="0"/>
            <a:endCxn id="93" idx="0"/>
          </p:cNvCxnSpPr>
          <p:nvPr/>
        </p:nvCxnSpPr>
        <p:spPr>
          <a:xfrm>
            <a:off x="6428160" y="4929120"/>
            <a:ext cx="1537560" cy="643320"/>
          </a:xfrm>
          <a:prstGeom prst="straightConnector1">
            <a:avLst/>
          </a:prstGeom>
          <a:ln w="255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97" name="Gerade Verbindung mit Pfeil 29"/>
          <p:cNvCxnSpPr>
            <a:stCxn id="89" idx="1"/>
          </p:cNvCxnSpPr>
          <p:nvPr/>
        </p:nvCxnSpPr>
        <p:spPr>
          <a:xfrm flipH="1">
            <a:off x="5643360" y="4929120"/>
            <a:ext cx="786240" cy="643320"/>
          </a:xfrm>
          <a:prstGeom prst="straightConnector1">
            <a:avLst/>
          </a:prstGeom>
          <a:ln w="25560">
            <a:solidFill>
              <a:srgbClr val="ffc000"/>
            </a:solidFill>
            <a:miter/>
            <a:tailEnd len="med" type="arrow" w="med"/>
          </a:ln>
        </p:spPr>
      </p:cxnSp>
    </p:spTree>
  </p:cSld>
  <p:transition>
    <p:zoom dir="ou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Arial"/>
              </a:rPr>
              <a:t>CAN Message Object Time Stamp </a:t>
            </a:r>
            <a:br>
              <a:rPr sz="2400"/>
            </a:br>
            <a:r>
              <a:rPr b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0x00 6080 - 0x00 60BF</a:t>
            </a:r>
            <a:endParaRPr b="1" lang="en-US" sz="18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101" name="Text Box 5"/>
          <p:cNvSpPr/>
          <p:nvPr/>
        </p:nvSpPr>
        <p:spPr>
          <a:xfrm>
            <a:off x="972000" y="1700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Text Box 6"/>
          <p:cNvSpPr/>
          <p:nvPr/>
        </p:nvSpPr>
        <p:spPr>
          <a:xfrm>
            <a:off x="7812720" y="98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Text Box 9"/>
          <p:cNvSpPr/>
          <p:nvPr/>
        </p:nvSpPr>
        <p:spPr>
          <a:xfrm>
            <a:off x="972000" y="98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Rectangle 10"/>
          <p:cNvSpPr/>
          <p:nvPr/>
        </p:nvSpPr>
        <p:spPr>
          <a:xfrm>
            <a:off x="971640" y="198900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OTSn[15:0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Rectangle 11"/>
          <p:cNvSpPr/>
          <p:nvPr/>
        </p:nvSpPr>
        <p:spPr>
          <a:xfrm>
            <a:off x="971640" y="126828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OTSn[31:16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Text Box 13"/>
          <p:cNvSpPr/>
          <p:nvPr/>
        </p:nvSpPr>
        <p:spPr>
          <a:xfrm>
            <a:off x="7886160" y="1700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Rectangle 14"/>
          <p:cNvSpPr/>
          <p:nvPr/>
        </p:nvSpPr>
        <p:spPr>
          <a:xfrm>
            <a:off x="395280" y="2708280"/>
            <a:ext cx="8521560" cy="28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free running counter (register CANLNT) is used to get a stamp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 the time of reception or transmission of a messag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LNT is a 32 bit timer that is clocked by the CAN – bit – time uni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urrent content of CANLNT is written into MOTSn when a received message has been stored or a message has been transmitted successfull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Arial"/>
              </a:rPr>
              <a:t>CAN Message Object Time-Out </a:t>
            </a:r>
            <a:br>
              <a:rPr sz="2400"/>
            </a:br>
            <a:r>
              <a:rPr b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0x00 60C0 - 0x00 60FF</a:t>
            </a:r>
            <a:endParaRPr b="1" lang="en-US" sz="18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109" name="Text Box 3"/>
          <p:cNvSpPr/>
          <p:nvPr/>
        </p:nvSpPr>
        <p:spPr>
          <a:xfrm>
            <a:off x="972000" y="1700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Text Box 4"/>
          <p:cNvSpPr/>
          <p:nvPr/>
        </p:nvSpPr>
        <p:spPr>
          <a:xfrm>
            <a:off x="7812720" y="98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Text Box 5"/>
          <p:cNvSpPr/>
          <p:nvPr/>
        </p:nvSpPr>
        <p:spPr>
          <a:xfrm>
            <a:off x="972000" y="98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Rectangle 6"/>
          <p:cNvSpPr/>
          <p:nvPr/>
        </p:nvSpPr>
        <p:spPr>
          <a:xfrm>
            <a:off x="971640" y="198900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OTOn[15:0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Rectangle 7"/>
          <p:cNvSpPr/>
          <p:nvPr/>
        </p:nvSpPr>
        <p:spPr>
          <a:xfrm>
            <a:off x="971640" y="1268280"/>
            <a:ext cx="720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OTOn[31:16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Text Box 8"/>
          <p:cNvSpPr/>
          <p:nvPr/>
        </p:nvSpPr>
        <p:spPr>
          <a:xfrm>
            <a:off x="7886160" y="1700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Rectangle 9"/>
          <p:cNvSpPr/>
          <p:nvPr/>
        </p:nvSpPr>
        <p:spPr>
          <a:xfrm>
            <a:off x="395280" y="2708280"/>
            <a:ext cx="8156520" cy="22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value in CANLNT is equal or greater than the value in MOTOn, the appropriate bit in register CANTOS will be set , assuming this feature was allowed in CANTOC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so, an Interrupt Service can be triggered from such an even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Arial"/>
              </a:rPr>
              <a:t>CAN Mailbox Memory</a:t>
            </a:r>
            <a:br>
              <a:rPr sz="3200"/>
            </a:br>
            <a:r>
              <a:rPr b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0x00 6100 - 0x00 61FF</a:t>
            </a:r>
            <a:endParaRPr b="1" lang="en-US" sz="18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117" name="Rectangle 3"/>
          <p:cNvSpPr/>
          <p:nvPr/>
        </p:nvSpPr>
        <p:spPr>
          <a:xfrm>
            <a:off x="1116000" y="126828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Text Box 4"/>
          <p:cNvSpPr/>
          <p:nvPr/>
        </p:nvSpPr>
        <p:spPr>
          <a:xfrm>
            <a:off x="4572360" y="98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Text Box 5"/>
          <p:cNvSpPr/>
          <p:nvPr/>
        </p:nvSpPr>
        <p:spPr>
          <a:xfrm>
            <a:off x="4285080" y="98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Text Box 6"/>
          <p:cNvSpPr/>
          <p:nvPr/>
        </p:nvSpPr>
        <p:spPr>
          <a:xfrm>
            <a:off x="2196000" y="98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Text Box 7"/>
          <p:cNvSpPr/>
          <p:nvPr/>
        </p:nvSpPr>
        <p:spPr>
          <a:xfrm>
            <a:off x="1259280" y="98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Text Box 8"/>
          <p:cNvSpPr/>
          <p:nvPr/>
        </p:nvSpPr>
        <p:spPr>
          <a:xfrm>
            <a:off x="540360" y="98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Rectangle 9"/>
          <p:cNvSpPr/>
          <p:nvPr/>
        </p:nvSpPr>
        <p:spPr>
          <a:xfrm>
            <a:off x="4572000" y="1268280"/>
            <a:ext cx="43196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IDn[15:0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Rectangle 10"/>
          <p:cNvSpPr/>
          <p:nvPr/>
        </p:nvSpPr>
        <p:spPr>
          <a:xfrm>
            <a:off x="2771640" y="1268280"/>
            <a:ext cx="180036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IDn[28:16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Rectangle 11"/>
          <p:cNvSpPr/>
          <p:nvPr/>
        </p:nvSpPr>
        <p:spPr>
          <a:xfrm>
            <a:off x="250920" y="1268280"/>
            <a:ext cx="865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Text Box 12"/>
          <p:cNvSpPr/>
          <p:nvPr/>
        </p:nvSpPr>
        <p:spPr>
          <a:xfrm>
            <a:off x="8605440" y="981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Rectangle 13"/>
          <p:cNvSpPr/>
          <p:nvPr/>
        </p:nvSpPr>
        <p:spPr>
          <a:xfrm>
            <a:off x="1908000" y="1268280"/>
            <a:ext cx="8636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Text Box 14"/>
          <p:cNvSpPr/>
          <p:nvPr/>
        </p:nvSpPr>
        <p:spPr>
          <a:xfrm>
            <a:off x="2772360" y="98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Text Box 15"/>
          <p:cNvSpPr/>
          <p:nvPr/>
        </p:nvSpPr>
        <p:spPr>
          <a:xfrm>
            <a:off x="64080" y="692280"/>
            <a:ext cx="497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e9b03"/>
                </a:solidFill>
                <a:latin typeface="Arial"/>
              </a:rPr>
              <a:t>Message Identifier Register  (MID) Mailbox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Rectangle 16"/>
          <p:cNvSpPr/>
          <p:nvPr/>
        </p:nvSpPr>
        <p:spPr>
          <a:xfrm>
            <a:off x="244080" y="5084640"/>
            <a:ext cx="264132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Identifier Extension B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Standard Identifier (11 Bit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Extended Identifier (29 Bit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Line 17"/>
          <p:cNvSpPr/>
          <p:nvPr/>
        </p:nvSpPr>
        <p:spPr>
          <a:xfrm>
            <a:off x="684360" y="1700280"/>
            <a:ext cx="0" cy="3384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Rectangle 18"/>
          <p:cNvSpPr/>
          <p:nvPr/>
        </p:nvSpPr>
        <p:spPr>
          <a:xfrm>
            <a:off x="905760" y="4149720"/>
            <a:ext cx="648612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Acceptance Mask Enable Bit ( receiver onl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no Acceptance Mask used. All identifier bits must match to receive the messa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the corresponding Mailbox Acceptance Mask is us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Line 19"/>
          <p:cNvSpPr/>
          <p:nvPr/>
        </p:nvSpPr>
        <p:spPr>
          <a:xfrm>
            <a:off x="1547640" y="1700280"/>
            <a:ext cx="0" cy="2520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Rectangle 20"/>
          <p:cNvSpPr/>
          <p:nvPr/>
        </p:nvSpPr>
        <p:spPr>
          <a:xfrm>
            <a:off x="1892520" y="3429000"/>
            <a:ext cx="67208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Auto Answer Mode Bit ( transmitter onl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mailbox does not reply to remote request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if a matching Remote Request is received, the contents of this mailbox will be sen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Line 21"/>
          <p:cNvSpPr/>
          <p:nvPr/>
        </p:nvSpPr>
        <p:spPr>
          <a:xfrm>
            <a:off x="2411280" y="1700280"/>
            <a:ext cx="0" cy="1728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Rectangle 22"/>
          <p:cNvSpPr/>
          <p:nvPr/>
        </p:nvSpPr>
        <p:spPr>
          <a:xfrm>
            <a:off x="2922120" y="2637000"/>
            <a:ext cx="31820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Message Identifi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tandard Frames : IDn[28:18] are us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xtended Frames : IDn[28:0]  are us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Line 23"/>
          <p:cNvSpPr/>
          <p:nvPr/>
        </p:nvSpPr>
        <p:spPr>
          <a:xfrm flipH="1">
            <a:off x="3924000" y="1773360"/>
            <a:ext cx="2663640" cy="863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Line 25"/>
          <p:cNvSpPr/>
          <p:nvPr/>
        </p:nvSpPr>
        <p:spPr>
          <a:xfrm>
            <a:off x="3851280" y="1700280"/>
            <a:ext cx="0" cy="936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9" name=""/>
          <p:cNvGraphicFramePr/>
          <p:nvPr/>
        </p:nvGraphicFramePr>
        <p:xfrm>
          <a:off x="3367080" y="4889520"/>
          <a:ext cx="5367240" cy="1854360"/>
        </p:xfrm>
        <a:graphic>
          <a:graphicData uri="http://schemas.openxmlformats.org/drawingml/2006/table">
            <a:tbl>
              <a:tblPr/>
              <a:tblGrid>
                <a:gridCol w="1441440"/>
                <a:gridCol w="3925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r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9b0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9b0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6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GID Mailbox 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61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GCTRL Mailbox 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61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MDL  Mailbox 0; 4 lower data by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61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MDH Mailbox 0; 4 upper data by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8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Arial"/>
              </a:rPr>
              <a:t>CAN Mailbox Memory </a:t>
            </a:r>
            <a:br>
              <a:rPr sz="3200"/>
            </a:br>
            <a:r>
              <a:rPr b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0x00 6100 - 0x00 61FF</a:t>
            </a:r>
            <a:endParaRPr b="1" lang="en-US" sz="18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141" name="Rectangle 4"/>
          <p:cNvSpPr/>
          <p:nvPr/>
        </p:nvSpPr>
        <p:spPr>
          <a:xfrm>
            <a:off x="7093080" y="1268280"/>
            <a:ext cx="6476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T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Text Box 5"/>
          <p:cNvSpPr/>
          <p:nvPr/>
        </p:nvSpPr>
        <p:spPr>
          <a:xfrm>
            <a:off x="3780360" y="98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Text Box 6"/>
          <p:cNvSpPr/>
          <p:nvPr/>
        </p:nvSpPr>
        <p:spPr>
          <a:xfrm>
            <a:off x="3493080" y="98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Text Box 7"/>
          <p:cNvSpPr/>
          <p:nvPr/>
        </p:nvSpPr>
        <p:spPr>
          <a:xfrm>
            <a:off x="7237080" y="981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Text Box 8"/>
          <p:cNvSpPr/>
          <p:nvPr/>
        </p:nvSpPr>
        <p:spPr>
          <a:xfrm>
            <a:off x="4572360" y="98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Text Box 9"/>
          <p:cNvSpPr/>
          <p:nvPr/>
        </p:nvSpPr>
        <p:spPr>
          <a:xfrm>
            <a:off x="180000" y="98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Rectangle 10"/>
          <p:cNvSpPr/>
          <p:nvPr/>
        </p:nvSpPr>
        <p:spPr>
          <a:xfrm>
            <a:off x="250920" y="1268280"/>
            <a:ext cx="360036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Rectangle 11"/>
          <p:cNvSpPr/>
          <p:nvPr/>
        </p:nvSpPr>
        <p:spPr>
          <a:xfrm>
            <a:off x="3851280" y="1268280"/>
            <a:ext cx="10796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Text Box 13"/>
          <p:cNvSpPr/>
          <p:nvPr/>
        </p:nvSpPr>
        <p:spPr>
          <a:xfrm>
            <a:off x="8676720" y="981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Rectangle 24"/>
          <p:cNvSpPr/>
          <p:nvPr/>
        </p:nvSpPr>
        <p:spPr>
          <a:xfrm>
            <a:off x="7740720" y="1268280"/>
            <a:ext cx="115236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L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Text Box 25"/>
          <p:cNvSpPr/>
          <p:nvPr/>
        </p:nvSpPr>
        <p:spPr>
          <a:xfrm>
            <a:off x="7741800" y="981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Text Box 26"/>
          <p:cNvSpPr/>
          <p:nvPr/>
        </p:nvSpPr>
        <p:spPr>
          <a:xfrm>
            <a:off x="289440" y="727200"/>
            <a:ext cx="54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e9b03"/>
                </a:solidFill>
                <a:latin typeface="Arial"/>
              </a:rPr>
              <a:t>Message Control Field Register (MCF) Mailbox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Rectangle 29"/>
          <p:cNvSpPr/>
          <p:nvPr/>
        </p:nvSpPr>
        <p:spPr>
          <a:xfrm>
            <a:off x="961560" y="2781360"/>
            <a:ext cx="36014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Transmit Priority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iority compared to the other 31 mailbox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Highest number has highest priority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Rectangle 31"/>
          <p:cNvSpPr/>
          <p:nvPr/>
        </p:nvSpPr>
        <p:spPr>
          <a:xfrm>
            <a:off x="6800040" y="2924280"/>
            <a:ext cx="220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Data Length C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Valid numbers are 0 to 8.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Line 32"/>
          <p:cNvSpPr/>
          <p:nvPr/>
        </p:nvSpPr>
        <p:spPr>
          <a:xfrm flipH="1">
            <a:off x="1619280" y="1773360"/>
            <a:ext cx="3744720" cy="93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Rectangle 33"/>
          <p:cNvSpPr/>
          <p:nvPr/>
        </p:nvSpPr>
        <p:spPr>
          <a:xfrm>
            <a:off x="2328120" y="4076640"/>
            <a:ext cx="647568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Times New Roman"/>
              </a:rPr>
              <a:t>Remote Transmission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no RTR reques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for receiver mailboxe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f TRS bit  is set, a remote frame is transmitted and the corresponding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ata frame will be received in the same mailbox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for transmit mailboxe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f TRS bit is set, a remote frame is transmitted but the correspond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ata frame has to be received in another mailbox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Line 34"/>
          <p:cNvSpPr/>
          <p:nvPr/>
        </p:nvSpPr>
        <p:spPr>
          <a:xfrm>
            <a:off x="8172360" y="1700280"/>
            <a:ext cx="0" cy="1224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Line 36"/>
          <p:cNvSpPr/>
          <p:nvPr/>
        </p:nvSpPr>
        <p:spPr>
          <a:xfrm flipH="1">
            <a:off x="4284360" y="1700280"/>
            <a:ext cx="3166920" cy="237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Rectangle 38"/>
          <p:cNvSpPr/>
          <p:nvPr/>
        </p:nvSpPr>
        <p:spPr>
          <a:xfrm>
            <a:off x="4932360" y="1268280"/>
            <a:ext cx="10796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P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Rectangle 39"/>
          <p:cNvSpPr/>
          <p:nvPr/>
        </p:nvSpPr>
        <p:spPr>
          <a:xfrm>
            <a:off x="6012000" y="1268280"/>
            <a:ext cx="10792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Text Box 40"/>
          <p:cNvSpPr/>
          <p:nvPr/>
        </p:nvSpPr>
        <p:spPr>
          <a:xfrm>
            <a:off x="4860000" y="98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Text Box 41"/>
          <p:cNvSpPr/>
          <p:nvPr/>
        </p:nvSpPr>
        <p:spPr>
          <a:xfrm>
            <a:off x="5797080" y="981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Text Box 42"/>
          <p:cNvSpPr/>
          <p:nvPr/>
        </p:nvSpPr>
        <p:spPr>
          <a:xfrm>
            <a:off x="6013080" y="981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Text Box 43"/>
          <p:cNvSpPr/>
          <p:nvPr/>
        </p:nvSpPr>
        <p:spPr>
          <a:xfrm>
            <a:off x="6805080" y="981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Arial"/>
              </a:rPr>
              <a:t>CAN Mailbox Memory </a:t>
            </a:r>
            <a:br>
              <a:rPr sz="3200"/>
            </a:br>
            <a:r>
              <a:rPr b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0x00 6100 - 0x00 61FF</a:t>
            </a:r>
            <a:endParaRPr b="1" lang="en-US" sz="18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166" name="Text Box 4"/>
          <p:cNvSpPr/>
          <p:nvPr/>
        </p:nvSpPr>
        <p:spPr>
          <a:xfrm>
            <a:off x="2485080" y="242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Text Box 5"/>
          <p:cNvSpPr/>
          <p:nvPr/>
        </p:nvSpPr>
        <p:spPr>
          <a:xfrm>
            <a:off x="2124720" y="242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Text Box 7"/>
          <p:cNvSpPr/>
          <p:nvPr/>
        </p:nvSpPr>
        <p:spPr>
          <a:xfrm>
            <a:off x="4645440" y="242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Text Box 8"/>
          <p:cNvSpPr/>
          <p:nvPr/>
        </p:nvSpPr>
        <p:spPr>
          <a:xfrm>
            <a:off x="252360" y="2419200"/>
            <a:ext cx="3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Rectangle 9"/>
          <p:cNvSpPr/>
          <p:nvPr/>
        </p:nvSpPr>
        <p:spPr>
          <a:xfrm>
            <a:off x="324000" y="2708280"/>
            <a:ext cx="216036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ata Byte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Text Box 11"/>
          <p:cNvSpPr/>
          <p:nvPr/>
        </p:nvSpPr>
        <p:spPr>
          <a:xfrm>
            <a:off x="8749800" y="2421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Text Box 14"/>
          <p:cNvSpPr/>
          <p:nvPr/>
        </p:nvSpPr>
        <p:spPr>
          <a:xfrm>
            <a:off x="256680" y="1916280"/>
            <a:ext cx="65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e9b03"/>
                </a:solidFill>
                <a:latin typeface="Arial"/>
              </a:rPr>
              <a:t>Message Data Low (MDL) Register with DBO = 0 Mailbox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Text Box 24"/>
          <p:cNvSpPr/>
          <p:nvPr/>
        </p:nvSpPr>
        <p:spPr>
          <a:xfrm>
            <a:off x="4285080" y="242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Text Box 25"/>
          <p:cNvSpPr/>
          <p:nvPr/>
        </p:nvSpPr>
        <p:spPr>
          <a:xfrm>
            <a:off x="6517800" y="2421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Text Box 26"/>
          <p:cNvSpPr/>
          <p:nvPr/>
        </p:nvSpPr>
        <p:spPr>
          <a:xfrm>
            <a:off x="6878160" y="2421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Rectangle 28"/>
          <p:cNvSpPr/>
          <p:nvPr/>
        </p:nvSpPr>
        <p:spPr>
          <a:xfrm>
            <a:off x="2484360" y="2708280"/>
            <a:ext cx="216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ata Byte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Rectangle 29"/>
          <p:cNvSpPr/>
          <p:nvPr/>
        </p:nvSpPr>
        <p:spPr>
          <a:xfrm>
            <a:off x="6805440" y="2708280"/>
            <a:ext cx="216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ata Byte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Rectangle 30"/>
          <p:cNvSpPr/>
          <p:nvPr/>
        </p:nvSpPr>
        <p:spPr>
          <a:xfrm>
            <a:off x="4645080" y="2708280"/>
            <a:ext cx="216036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ata Byte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Text Box 31"/>
          <p:cNvSpPr/>
          <p:nvPr/>
        </p:nvSpPr>
        <p:spPr>
          <a:xfrm>
            <a:off x="2485080" y="4005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Text Box 32"/>
          <p:cNvSpPr/>
          <p:nvPr/>
        </p:nvSpPr>
        <p:spPr>
          <a:xfrm>
            <a:off x="2124720" y="4005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Text Box 33"/>
          <p:cNvSpPr/>
          <p:nvPr/>
        </p:nvSpPr>
        <p:spPr>
          <a:xfrm>
            <a:off x="4645440" y="4005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Text Box 34"/>
          <p:cNvSpPr/>
          <p:nvPr/>
        </p:nvSpPr>
        <p:spPr>
          <a:xfrm>
            <a:off x="252360" y="4003560"/>
            <a:ext cx="3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Rectangle 35"/>
          <p:cNvSpPr/>
          <p:nvPr/>
        </p:nvSpPr>
        <p:spPr>
          <a:xfrm>
            <a:off x="324000" y="4292640"/>
            <a:ext cx="216036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ata Byte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Text Box 36"/>
          <p:cNvSpPr/>
          <p:nvPr/>
        </p:nvSpPr>
        <p:spPr>
          <a:xfrm>
            <a:off x="8749800" y="4005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Text Box 37"/>
          <p:cNvSpPr/>
          <p:nvPr/>
        </p:nvSpPr>
        <p:spPr>
          <a:xfrm>
            <a:off x="256680" y="3500280"/>
            <a:ext cx="65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e9b03"/>
                </a:solidFill>
                <a:latin typeface="Arial"/>
              </a:rPr>
              <a:t>Message Data Low (MDL) Register with DBO = 1 Mailbox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Text Box 38"/>
          <p:cNvSpPr/>
          <p:nvPr/>
        </p:nvSpPr>
        <p:spPr>
          <a:xfrm>
            <a:off x="4285080" y="4005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Text Box 39"/>
          <p:cNvSpPr/>
          <p:nvPr/>
        </p:nvSpPr>
        <p:spPr>
          <a:xfrm>
            <a:off x="6517800" y="4005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Text Box 40"/>
          <p:cNvSpPr/>
          <p:nvPr/>
        </p:nvSpPr>
        <p:spPr>
          <a:xfrm>
            <a:off x="6878160" y="4005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Rectangle 41"/>
          <p:cNvSpPr/>
          <p:nvPr/>
        </p:nvSpPr>
        <p:spPr>
          <a:xfrm>
            <a:off x="2484360" y="4292640"/>
            <a:ext cx="216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ata Byte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Rectangle 42"/>
          <p:cNvSpPr/>
          <p:nvPr/>
        </p:nvSpPr>
        <p:spPr>
          <a:xfrm>
            <a:off x="6805440" y="4292640"/>
            <a:ext cx="216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ata Byte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Rectangle 43"/>
          <p:cNvSpPr/>
          <p:nvPr/>
        </p:nvSpPr>
        <p:spPr>
          <a:xfrm>
            <a:off x="4645080" y="4292640"/>
            <a:ext cx="216036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ata Byte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Arial"/>
              </a:rPr>
              <a:t>CAN Mailbox Memory </a:t>
            </a:r>
            <a:br>
              <a:rPr sz="3200"/>
            </a:br>
            <a:r>
              <a:rPr b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0x00 6100 - 0x00 61FF</a:t>
            </a:r>
            <a:endParaRPr b="1" lang="en-US" sz="18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193" name="Text Box 1027"/>
          <p:cNvSpPr/>
          <p:nvPr/>
        </p:nvSpPr>
        <p:spPr>
          <a:xfrm>
            <a:off x="2485080" y="242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Text Box 1028"/>
          <p:cNvSpPr/>
          <p:nvPr/>
        </p:nvSpPr>
        <p:spPr>
          <a:xfrm>
            <a:off x="2124720" y="242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Text Box 1029"/>
          <p:cNvSpPr/>
          <p:nvPr/>
        </p:nvSpPr>
        <p:spPr>
          <a:xfrm>
            <a:off x="4645440" y="242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Text Box 1030"/>
          <p:cNvSpPr/>
          <p:nvPr/>
        </p:nvSpPr>
        <p:spPr>
          <a:xfrm>
            <a:off x="252360" y="2419200"/>
            <a:ext cx="3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Rectangle 1031"/>
          <p:cNvSpPr/>
          <p:nvPr/>
        </p:nvSpPr>
        <p:spPr>
          <a:xfrm>
            <a:off x="324000" y="2708280"/>
            <a:ext cx="216036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ata Byte 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Text Box 1032"/>
          <p:cNvSpPr/>
          <p:nvPr/>
        </p:nvSpPr>
        <p:spPr>
          <a:xfrm>
            <a:off x="8749800" y="2421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Text Box 1033"/>
          <p:cNvSpPr/>
          <p:nvPr/>
        </p:nvSpPr>
        <p:spPr>
          <a:xfrm>
            <a:off x="219240" y="1916280"/>
            <a:ext cx="65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e9b03"/>
                </a:solidFill>
                <a:latin typeface="Arial"/>
              </a:rPr>
              <a:t>Message Data High (MDH) Register with DBO = 0 Mailbox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Text Box 1035"/>
          <p:cNvSpPr/>
          <p:nvPr/>
        </p:nvSpPr>
        <p:spPr>
          <a:xfrm>
            <a:off x="4285080" y="24210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Text Box 1036"/>
          <p:cNvSpPr/>
          <p:nvPr/>
        </p:nvSpPr>
        <p:spPr>
          <a:xfrm>
            <a:off x="6517800" y="2421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Text Box 1037"/>
          <p:cNvSpPr/>
          <p:nvPr/>
        </p:nvSpPr>
        <p:spPr>
          <a:xfrm>
            <a:off x="6878160" y="2421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Rectangle 1038"/>
          <p:cNvSpPr/>
          <p:nvPr/>
        </p:nvSpPr>
        <p:spPr>
          <a:xfrm>
            <a:off x="2484360" y="2708280"/>
            <a:ext cx="216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ata Byte 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Rectangle 1039"/>
          <p:cNvSpPr/>
          <p:nvPr/>
        </p:nvSpPr>
        <p:spPr>
          <a:xfrm>
            <a:off x="6805440" y="2708280"/>
            <a:ext cx="216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ata Byte 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Rectangle 1040"/>
          <p:cNvSpPr/>
          <p:nvPr/>
        </p:nvSpPr>
        <p:spPr>
          <a:xfrm>
            <a:off x="4645080" y="2708280"/>
            <a:ext cx="216036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ata Byte 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Text Box 1041"/>
          <p:cNvSpPr/>
          <p:nvPr/>
        </p:nvSpPr>
        <p:spPr>
          <a:xfrm>
            <a:off x="2485080" y="4005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Text Box 1042"/>
          <p:cNvSpPr/>
          <p:nvPr/>
        </p:nvSpPr>
        <p:spPr>
          <a:xfrm>
            <a:off x="2124720" y="4005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Text Box 1043"/>
          <p:cNvSpPr/>
          <p:nvPr/>
        </p:nvSpPr>
        <p:spPr>
          <a:xfrm>
            <a:off x="4645440" y="4005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Text Box 1044"/>
          <p:cNvSpPr/>
          <p:nvPr/>
        </p:nvSpPr>
        <p:spPr>
          <a:xfrm>
            <a:off x="252360" y="4003560"/>
            <a:ext cx="3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Rectangle 1045"/>
          <p:cNvSpPr/>
          <p:nvPr/>
        </p:nvSpPr>
        <p:spPr>
          <a:xfrm>
            <a:off x="324000" y="4292640"/>
            <a:ext cx="216036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ata Byte 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Text Box 1046"/>
          <p:cNvSpPr/>
          <p:nvPr/>
        </p:nvSpPr>
        <p:spPr>
          <a:xfrm>
            <a:off x="8749800" y="4005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Text Box 1047"/>
          <p:cNvSpPr/>
          <p:nvPr/>
        </p:nvSpPr>
        <p:spPr>
          <a:xfrm>
            <a:off x="219240" y="3500280"/>
            <a:ext cx="65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e9b03"/>
                </a:solidFill>
                <a:latin typeface="Arial"/>
              </a:rPr>
              <a:t>Message Data High (MDH) Register with DBO = 1 Mailbox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Text Box 1048"/>
          <p:cNvSpPr/>
          <p:nvPr/>
        </p:nvSpPr>
        <p:spPr>
          <a:xfrm>
            <a:off x="4285080" y="4005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Text Box 1049"/>
          <p:cNvSpPr/>
          <p:nvPr/>
        </p:nvSpPr>
        <p:spPr>
          <a:xfrm>
            <a:off x="6517800" y="4005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Text Box 1050"/>
          <p:cNvSpPr/>
          <p:nvPr/>
        </p:nvSpPr>
        <p:spPr>
          <a:xfrm>
            <a:off x="6878160" y="4005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Rectangle 1051"/>
          <p:cNvSpPr/>
          <p:nvPr/>
        </p:nvSpPr>
        <p:spPr>
          <a:xfrm>
            <a:off x="2484360" y="4292640"/>
            <a:ext cx="216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ata Byte 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Rectangle 1052"/>
          <p:cNvSpPr/>
          <p:nvPr/>
        </p:nvSpPr>
        <p:spPr>
          <a:xfrm>
            <a:off x="6805440" y="4292640"/>
            <a:ext cx="216072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ata Byte 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Rectangle 1053"/>
          <p:cNvSpPr/>
          <p:nvPr/>
        </p:nvSpPr>
        <p:spPr>
          <a:xfrm>
            <a:off x="4645080" y="4292640"/>
            <a:ext cx="216036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Data Byte 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2"/>
          <p:cNvSpPr/>
          <p:nvPr/>
        </p:nvSpPr>
        <p:spPr>
          <a:xfrm>
            <a:off x="7632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AN Example :   transmit a fra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Rectangle 3"/>
          <p:cNvSpPr/>
          <p:nvPr/>
        </p:nvSpPr>
        <p:spPr>
          <a:xfrm>
            <a:off x="179280" y="765000"/>
            <a:ext cx="88106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noAutofit/>
          </a:bodyPr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b 11_1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nsmit a CAN messag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N baud rate: 100 kbit/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ansmit a one byte message every seco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ssage Identifier 0x 1000 0000 (extended fra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Mailbox #5 as transmit mailbo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ssage content: current value of a binary cou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ansceiver SN65HVD230 is 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nect CAN at header J4 of Peripheral Explor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4288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4-1: CAN_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4288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4-2: CAN_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1" name="Picture 4" descr="support_can_pin_assignment"/>
          <p:cNvPicPr/>
          <p:nvPr/>
        </p:nvPicPr>
        <p:blipFill>
          <a:blip r:embed="rId1"/>
          <a:stretch/>
        </p:blipFill>
        <p:spPr>
          <a:xfrm>
            <a:off x="2052720" y="5327640"/>
            <a:ext cx="4600440" cy="1324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2"/>
          <p:cNvSpPr/>
          <p:nvPr/>
        </p:nvSpPr>
        <p:spPr>
          <a:xfrm>
            <a:off x="7632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6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AN Example :   receive a fra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Rectangle 3"/>
          <p:cNvSpPr/>
          <p:nvPr/>
        </p:nvSpPr>
        <p:spPr>
          <a:xfrm>
            <a:off x="179280" y="765000"/>
            <a:ext cx="85694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noAutofit/>
          </a:bodyPr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b 11_2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eive  a CAN messag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N baud rate : 100 kbit/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ssage Identifier 0x 1000 0000 ( extended fra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Mailbox #1 as receive mailbo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splay the binary counter at LEDs LD1 to LD4 (GPIO9, GPIO11, GPIO34  and GPIO49)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4" name="Picture 4" descr="support_can_pin_assignment"/>
          <p:cNvPicPr/>
          <p:nvPr/>
        </p:nvPicPr>
        <p:blipFill>
          <a:blip r:embed="rId1"/>
          <a:stretch/>
        </p:blipFill>
        <p:spPr>
          <a:xfrm>
            <a:off x="2125800" y="3355920"/>
            <a:ext cx="4600440" cy="132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5" name=""/>
          <p:cNvGraphicFramePr/>
          <p:nvPr/>
        </p:nvGraphicFramePr>
        <p:xfrm>
          <a:off x="1322280" y="4802040"/>
          <a:ext cx="6132600" cy="1913040"/>
        </p:xfrm>
        <a:graphic>
          <a:graphicData uri="http://schemas.openxmlformats.org/drawingml/2006/table">
            <a:tbl>
              <a:tblPr/>
              <a:tblGrid>
                <a:gridCol w="2044800"/>
                <a:gridCol w="2043000"/>
                <a:gridCol w="2044800"/>
              </a:tblGrid>
              <a:tr h="192240"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in Nr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gna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190440"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erved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192240"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N_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N Bus Signal (dominant low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190440"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N_GND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N ground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191880"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erved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190800"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N_SHLD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tional shield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191880"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ND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tional CAN ground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190440"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N_H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N Bus Signal (dominant high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192240"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erved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190440"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N_V+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28440" rIns="28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tional external voltage supply Vcc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21552"/>
            </a:gs>
            <a:gs pos="50000">
              <a:srgbClr val="042aa4"/>
            </a:gs>
            <a:gs pos="100000">
              <a:srgbClr val="02155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Group 2"/>
          <p:cNvGrpSpPr/>
          <p:nvPr/>
        </p:nvGrpSpPr>
        <p:grpSpPr>
          <a:xfrm>
            <a:off x="2247840" y="1574640"/>
            <a:ext cx="4214880" cy="4113360"/>
            <a:chOff x="2247840" y="1574640"/>
            <a:chExt cx="4214880" cy="4113360"/>
          </a:xfrm>
        </p:grpSpPr>
        <p:sp>
          <p:nvSpPr>
            <p:cNvPr id="1227" name="Freeform 3"/>
            <p:cNvSpPr/>
            <p:nvPr/>
          </p:nvSpPr>
          <p:spPr>
            <a:xfrm>
              <a:off x="4797360" y="2103480"/>
              <a:ext cx="455760" cy="41904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7" h="264">
                  <a:moveTo>
                    <a:pt x="286" y="132"/>
                  </a:moveTo>
                  <a:lnTo>
                    <a:pt x="286" y="90"/>
                  </a:lnTo>
                  <a:lnTo>
                    <a:pt x="272" y="90"/>
                  </a:lnTo>
                  <a:lnTo>
                    <a:pt x="272" y="69"/>
                  </a:lnTo>
                  <a:lnTo>
                    <a:pt x="272" y="55"/>
                  </a:lnTo>
                  <a:lnTo>
                    <a:pt x="258" y="55"/>
                  </a:lnTo>
                  <a:lnTo>
                    <a:pt x="258" y="42"/>
                  </a:lnTo>
                  <a:lnTo>
                    <a:pt x="244" y="42"/>
                  </a:lnTo>
                  <a:lnTo>
                    <a:pt x="244" y="28"/>
                  </a:lnTo>
                  <a:lnTo>
                    <a:pt x="230" y="28"/>
                  </a:lnTo>
                  <a:lnTo>
                    <a:pt x="216" y="28"/>
                  </a:lnTo>
                  <a:lnTo>
                    <a:pt x="216" y="14"/>
                  </a:lnTo>
                  <a:lnTo>
                    <a:pt x="188" y="14"/>
                  </a:lnTo>
                  <a:lnTo>
                    <a:pt x="188" y="0"/>
                  </a:lnTo>
                  <a:lnTo>
                    <a:pt x="98" y="0"/>
                  </a:lnTo>
                  <a:lnTo>
                    <a:pt x="98" y="14"/>
                  </a:lnTo>
                  <a:lnTo>
                    <a:pt x="70" y="14"/>
                  </a:lnTo>
                  <a:lnTo>
                    <a:pt x="70" y="28"/>
                  </a:lnTo>
                  <a:lnTo>
                    <a:pt x="56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28" y="42"/>
                  </a:lnTo>
                  <a:lnTo>
                    <a:pt x="28" y="55"/>
                  </a:lnTo>
                  <a:lnTo>
                    <a:pt x="14" y="55"/>
                  </a:lnTo>
                  <a:lnTo>
                    <a:pt x="14" y="69"/>
                  </a:lnTo>
                  <a:lnTo>
                    <a:pt x="14" y="90"/>
                  </a:lnTo>
                  <a:lnTo>
                    <a:pt x="0" y="90"/>
                  </a:lnTo>
                  <a:lnTo>
                    <a:pt x="0" y="132"/>
                  </a:lnTo>
                  <a:lnTo>
                    <a:pt x="0" y="173"/>
                  </a:lnTo>
                  <a:lnTo>
                    <a:pt x="14" y="173"/>
                  </a:lnTo>
                  <a:lnTo>
                    <a:pt x="14" y="201"/>
                  </a:lnTo>
                  <a:lnTo>
                    <a:pt x="14" y="215"/>
                  </a:lnTo>
                  <a:lnTo>
                    <a:pt x="28" y="215"/>
                  </a:lnTo>
                  <a:lnTo>
                    <a:pt x="28" y="228"/>
                  </a:lnTo>
                  <a:lnTo>
                    <a:pt x="42" y="228"/>
                  </a:lnTo>
                  <a:lnTo>
                    <a:pt x="42" y="235"/>
                  </a:lnTo>
                  <a:lnTo>
                    <a:pt x="56" y="235"/>
                  </a:lnTo>
                  <a:lnTo>
                    <a:pt x="70" y="235"/>
                  </a:lnTo>
                  <a:lnTo>
                    <a:pt x="70" y="249"/>
                  </a:lnTo>
                  <a:lnTo>
                    <a:pt x="98" y="249"/>
                  </a:lnTo>
                  <a:lnTo>
                    <a:pt x="98" y="263"/>
                  </a:lnTo>
                  <a:lnTo>
                    <a:pt x="188" y="263"/>
                  </a:lnTo>
                  <a:lnTo>
                    <a:pt x="188" y="249"/>
                  </a:lnTo>
                  <a:lnTo>
                    <a:pt x="216" y="249"/>
                  </a:lnTo>
                  <a:lnTo>
                    <a:pt x="216" y="235"/>
                  </a:lnTo>
                  <a:lnTo>
                    <a:pt x="230" y="235"/>
                  </a:lnTo>
                  <a:lnTo>
                    <a:pt x="244" y="235"/>
                  </a:lnTo>
                  <a:lnTo>
                    <a:pt x="244" y="228"/>
                  </a:lnTo>
                  <a:lnTo>
                    <a:pt x="258" y="228"/>
                  </a:lnTo>
                  <a:lnTo>
                    <a:pt x="258" y="215"/>
                  </a:lnTo>
                  <a:lnTo>
                    <a:pt x="272" y="215"/>
                  </a:lnTo>
                  <a:lnTo>
                    <a:pt x="272" y="201"/>
                  </a:lnTo>
                  <a:lnTo>
                    <a:pt x="272" y="173"/>
                  </a:lnTo>
                  <a:lnTo>
                    <a:pt x="286" y="173"/>
                  </a:lnTo>
                  <a:lnTo>
                    <a:pt x="286" y="132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Freeform 4"/>
            <p:cNvSpPr/>
            <p:nvPr/>
          </p:nvSpPr>
          <p:spPr>
            <a:xfrm>
              <a:off x="4506840" y="2684520"/>
              <a:ext cx="655560" cy="14158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1415880"/>
                <a:gd name="textAreaBottom" fmla="*/ 1415880 h 1415880"/>
              </a:gdLst>
              <a:ahLst/>
              <a:rect l="textAreaLeft" t="textAreaTop" r="textAreaRight" b="textAreaBottom"/>
              <a:pathLst>
                <a:path w="413" h="892">
                  <a:moveTo>
                    <a:pt x="164" y="0"/>
                  </a:moveTo>
                  <a:lnTo>
                    <a:pt x="164" y="40"/>
                  </a:lnTo>
                  <a:lnTo>
                    <a:pt x="152" y="40"/>
                  </a:lnTo>
                  <a:lnTo>
                    <a:pt x="152" y="100"/>
                  </a:lnTo>
                  <a:lnTo>
                    <a:pt x="141" y="100"/>
                  </a:lnTo>
                  <a:lnTo>
                    <a:pt x="141" y="153"/>
                  </a:lnTo>
                  <a:lnTo>
                    <a:pt x="130" y="153"/>
                  </a:lnTo>
                  <a:lnTo>
                    <a:pt x="130" y="219"/>
                  </a:lnTo>
                  <a:lnTo>
                    <a:pt x="119" y="219"/>
                  </a:lnTo>
                  <a:lnTo>
                    <a:pt x="119" y="279"/>
                  </a:lnTo>
                  <a:lnTo>
                    <a:pt x="107" y="279"/>
                  </a:lnTo>
                  <a:lnTo>
                    <a:pt x="107" y="332"/>
                  </a:lnTo>
                  <a:lnTo>
                    <a:pt x="96" y="332"/>
                  </a:lnTo>
                  <a:lnTo>
                    <a:pt x="96" y="392"/>
                  </a:lnTo>
                  <a:lnTo>
                    <a:pt x="85" y="392"/>
                  </a:lnTo>
                  <a:lnTo>
                    <a:pt x="85" y="459"/>
                  </a:lnTo>
                  <a:lnTo>
                    <a:pt x="73" y="459"/>
                  </a:lnTo>
                  <a:lnTo>
                    <a:pt x="73" y="512"/>
                  </a:lnTo>
                  <a:lnTo>
                    <a:pt x="62" y="512"/>
                  </a:lnTo>
                  <a:lnTo>
                    <a:pt x="62" y="572"/>
                  </a:lnTo>
                  <a:lnTo>
                    <a:pt x="51" y="572"/>
                  </a:lnTo>
                  <a:lnTo>
                    <a:pt x="51" y="638"/>
                  </a:lnTo>
                  <a:lnTo>
                    <a:pt x="45" y="638"/>
                  </a:lnTo>
                  <a:lnTo>
                    <a:pt x="45" y="692"/>
                  </a:lnTo>
                  <a:lnTo>
                    <a:pt x="34" y="692"/>
                  </a:lnTo>
                  <a:lnTo>
                    <a:pt x="34" y="751"/>
                  </a:lnTo>
                  <a:lnTo>
                    <a:pt x="23" y="751"/>
                  </a:lnTo>
                  <a:lnTo>
                    <a:pt x="23" y="818"/>
                  </a:lnTo>
                  <a:lnTo>
                    <a:pt x="11" y="818"/>
                  </a:lnTo>
                  <a:lnTo>
                    <a:pt x="11" y="864"/>
                  </a:lnTo>
                  <a:lnTo>
                    <a:pt x="0" y="864"/>
                  </a:lnTo>
                  <a:lnTo>
                    <a:pt x="0" y="891"/>
                  </a:lnTo>
                  <a:lnTo>
                    <a:pt x="248" y="891"/>
                  </a:lnTo>
                  <a:lnTo>
                    <a:pt x="248" y="864"/>
                  </a:lnTo>
                  <a:lnTo>
                    <a:pt x="260" y="864"/>
                  </a:lnTo>
                  <a:lnTo>
                    <a:pt x="260" y="805"/>
                  </a:lnTo>
                  <a:lnTo>
                    <a:pt x="271" y="805"/>
                  </a:lnTo>
                  <a:lnTo>
                    <a:pt x="271" y="751"/>
                  </a:lnTo>
                  <a:lnTo>
                    <a:pt x="282" y="751"/>
                  </a:lnTo>
                  <a:lnTo>
                    <a:pt x="282" y="692"/>
                  </a:lnTo>
                  <a:lnTo>
                    <a:pt x="293" y="692"/>
                  </a:lnTo>
                  <a:lnTo>
                    <a:pt x="293" y="625"/>
                  </a:lnTo>
                  <a:lnTo>
                    <a:pt x="305" y="625"/>
                  </a:lnTo>
                  <a:lnTo>
                    <a:pt x="305" y="572"/>
                  </a:lnTo>
                  <a:lnTo>
                    <a:pt x="316" y="572"/>
                  </a:lnTo>
                  <a:lnTo>
                    <a:pt x="316" y="512"/>
                  </a:lnTo>
                  <a:lnTo>
                    <a:pt x="327" y="512"/>
                  </a:lnTo>
                  <a:lnTo>
                    <a:pt x="327" y="446"/>
                  </a:lnTo>
                  <a:lnTo>
                    <a:pt x="333" y="446"/>
                  </a:lnTo>
                  <a:lnTo>
                    <a:pt x="333" y="392"/>
                  </a:lnTo>
                  <a:lnTo>
                    <a:pt x="344" y="392"/>
                  </a:lnTo>
                  <a:lnTo>
                    <a:pt x="344" y="332"/>
                  </a:lnTo>
                  <a:lnTo>
                    <a:pt x="356" y="332"/>
                  </a:lnTo>
                  <a:lnTo>
                    <a:pt x="356" y="266"/>
                  </a:lnTo>
                  <a:lnTo>
                    <a:pt x="367" y="266"/>
                  </a:lnTo>
                  <a:lnTo>
                    <a:pt x="367" y="219"/>
                  </a:lnTo>
                  <a:lnTo>
                    <a:pt x="378" y="219"/>
                  </a:lnTo>
                  <a:lnTo>
                    <a:pt x="378" y="153"/>
                  </a:lnTo>
                  <a:lnTo>
                    <a:pt x="389" y="153"/>
                  </a:lnTo>
                  <a:lnTo>
                    <a:pt x="389" y="86"/>
                  </a:lnTo>
                  <a:lnTo>
                    <a:pt x="401" y="86"/>
                  </a:lnTo>
                  <a:lnTo>
                    <a:pt x="401" y="40"/>
                  </a:lnTo>
                  <a:lnTo>
                    <a:pt x="412" y="40"/>
                  </a:lnTo>
                  <a:lnTo>
                    <a:pt x="412" y="0"/>
                  </a:lnTo>
                  <a:lnTo>
                    <a:pt x="164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Freeform 5"/>
            <p:cNvSpPr/>
            <p:nvPr/>
          </p:nvSpPr>
          <p:spPr>
            <a:xfrm>
              <a:off x="2247840" y="1574640"/>
              <a:ext cx="4214880" cy="4113360"/>
            </a:xfrm>
            <a:custGeom>
              <a:avLst/>
              <a:gdLst>
                <a:gd name="textAreaLeft" fmla="*/ 0 w 4214880"/>
                <a:gd name="textAreaRight" fmla="*/ 4215240 w 4214880"/>
                <a:gd name="textAreaTop" fmla="*/ 0 h 4113360"/>
                <a:gd name="textAreaBottom" fmla="*/ 4113720 h 4113360"/>
              </a:gdLst>
              <a:ahLst/>
              <a:rect l="textAreaLeft" t="textAreaTop" r="textAreaRight" b="textAreaBottom"/>
              <a:pathLst>
                <a:path w="2655" h="2591">
                  <a:moveTo>
                    <a:pt x="131" y="1309"/>
                  </a:moveTo>
                  <a:lnTo>
                    <a:pt x="117" y="1295"/>
                  </a:lnTo>
                  <a:lnTo>
                    <a:pt x="103" y="1295"/>
                  </a:lnTo>
                  <a:lnTo>
                    <a:pt x="103" y="1281"/>
                  </a:lnTo>
                  <a:lnTo>
                    <a:pt x="103" y="1267"/>
                  </a:lnTo>
                  <a:lnTo>
                    <a:pt x="89" y="1267"/>
                  </a:lnTo>
                  <a:lnTo>
                    <a:pt x="89" y="1253"/>
                  </a:lnTo>
                  <a:lnTo>
                    <a:pt x="76" y="1253"/>
                  </a:lnTo>
                  <a:lnTo>
                    <a:pt x="76" y="1239"/>
                  </a:lnTo>
                  <a:lnTo>
                    <a:pt x="69" y="1239"/>
                  </a:lnTo>
                  <a:lnTo>
                    <a:pt x="69" y="1232"/>
                  </a:lnTo>
                  <a:lnTo>
                    <a:pt x="69" y="1218"/>
                  </a:lnTo>
                  <a:lnTo>
                    <a:pt x="55" y="1204"/>
                  </a:lnTo>
                  <a:lnTo>
                    <a:pt x="41" y="1204"/>
                  </a:lnTo>
                  <a:lnTo>
                    <a:pt x="41" y="1177"/>
                  </a:lnTo>
                  <a:lnTo>
                    <a:pt x="28" y="1177"/>
                  </a:lnTo>
                  <a:lnTo>
                    <a:pt x="28" y="1163"/>
                  </a:lnTo>
                  <a:lnTo>
                    <a:pt x="28" y="1121"/>
                  </a:lnTo>
                  <a:lnTo>
                    <a:pt x="14" y="1121"/>
                  </a:lnTo>
                  <a:lnTo>
                    <a:pt x="14" y="1093"/>
                  </a:lnTo>
                  <a:lnTo>
                    <a:pt x="0" y="1079"/>
                  </a:lnTo>
                  <a:lnTo>
                    <a:pt x="0" y="1030"/>
                  </a:lnTo>
                  <a:lnTo>
                    <a:pt x="674" y="1030"/>
                  </a:lnTo>
                  <a:lnTo>
                    <a:pt x="688" y="1030"/>
                  </a:lnTo>
                  <a:lnTo>
                    <a:pt x="688" y="0"/>
                  </a:lnTo>
                  <a:lnTo>
                    <a:pt x="1348" y="0"/>
                  </a:lnTo>
                  <a:lnTo>
                    <a:pt x="1348" y="425"/>
                  </a:lnTo>
                  <a:lnTo>
                    <a:pt x="1348" y="439"/>
                  </a:lnTo>
                  <a:lnTo>
                    <a:pt x="1361" y="439"/>
                  </a:lnTo>
                  <a:lnTo>
                    <a:pt x="1361" y="453"/>
                  </a:lnTo>
                  <a:lnTo>
                    <a:pt x="1375" y="453"/>
                  </a:lnTo>
                  <a:lnTo>
                    <a:pt x="1375" y="466"/>
                  </a:lnTo>
                  <a:lnTo>
                    <a:pt x="1375" y="480"/>
                  </a:lnTo>
                  <a:lnTo>
                    <a:pt x="1403" y="480"/>
                  </a:lnTo>
                  <a:lnTo>
                    <a:pt x="1416" y="480"/>
                  </a:lnTo>
                  <a:lnTo>
                    <a:pt x="1416" y="494"/>
                  </a:lnTo>
                  <a:lnTo>
                    <a:pt x="1437" y="494"/>
                  </a:lnTo>
                  <a:lnTo>
                    <a:pt x="1437" y="508"/>
                  </a:lnTo>
                  <a:lnTo>
                    <a:pt x="1451" y="508"/>
                  </a:lnTo>
                  <a:lnTo>
                    <a:pt x="1465" y="522"/>
                  </a:lnTo>
                  <a:lnTo>
                    <a:pt x="1492" y="522"/>
                  </a:lnTo>
                  <a:lnTo>
                    <a:pt x="1492" y="536"/>
                  </a:lnTo>
                  <a:lnTo>
                    <a:pt x="1506" y="536"/>
                  </a:lnTo>
                  <a:lnTo>
                    <a:pt x="1451" y="856"/>
                  </a:lnTo>
                  <a:lnTo>
                    <a:pt x="1203" y="856"/>
                  </a:lnTo>
                  <a:lnTo>
                    <a:pt x="1148" y="1135"/>
                  </a:lnTo>
                  <a:lnTo>
                    <a:pt x="1389" y="1135"/>
                  </a:lnTo>
                  <a:lnTo>
                    <a:pt x="1389" y="1149"/>
                  </a:lnTo>
                  <a:lnTo>
                    <a:pt x="1389" y="1191"/>
                  </a:lnTo>
                  <a:lnTo>
                    <a:pt x="1375" y="1204"/>
                  </a:lnTo>
                  <a:lnTo>
                    <a:pt x="1375" y="1253"/>
                  </a:lnTo>
                  <a:lnTo>
                    <a:pt x="1361" y="1267"/>
                  </a:lnTo>
                  <a:lnTo>
                    <a:pt x="1361" y="1323"/>
                  </a:lnTo>
                  <a:lnTo>
                    <a:pt x="1348" y="1337"/>
                  </a:lnTo>
                  <a:lnTo>
                    <a:pt x="1348" y="1379"/>
                  </a:lnTo>
                  <a:lnTo>
                    <a:pt x="1334" y="1392"/>
                  </a:lnTo>
                  <a:lnTo>
                    <a:pt x="1334" y="1427"/>
                  </a:lnTo>
                  <a:lnTo>
                    <a:pt x="1320" y="1441"/>
                  </a:lnTo>
                  <a:lnTo>
                    <a:pt x="1320" y="1469"/>
                  </a:lnTo>
                  <a:lnTo>
                    <a:pt x="1306" y="1483"/>
                  </a:lnTo>
                  <a:lnTo>
                    <a:pt x="1306" y="1539"/>
                  </a:lnTo>
                  <a:lnTo>
                    <a:pt x="1293" y="1539"/>
                  </a:lnTo>
                  <a:lnTo>
                    <a:pt x="1293" y="1587"/>
                  </a:lnTo>
                  <a:lnTo>
                    <a:pt x="1279" y="1601"/>
                  </a:lnTo>
                  <a:lnTo>
                    <a:pt x="1279" y="1727"/>
                  </a:lnTo>
                  <a:lnTo>
                    <a:pt x="1293" y="1734"/>
                  </a:lnTo>
                  <a:lnTo>
                    <a:pt x="1293" y="1761"/>
                  </a:lnTo>
                  <a:lnTo>
                    <a:pt x="1306" y="1761"/>
                  </a:lnTo>
                  <a:lnTo>
                    <a:pt x="1306" y="1775"/>
                  </a:lnTo>
                  <a:lnTo>
                    <a:pt x="1320" y="1789"/>
                  </a:lnTo>
                  <a:lnTo>
                    <a:pt x="1320" y="1803"/>
                  </a:lnTo>
                  <a:lnTo>
                    <a:pt x="1334" y="1803"/>
                  </a:lnTo>
                  <a:lnTo>
                    <a:pt x="1334" y="1817"/>
                  </a:lnTo>
                  <a:lnTo>
                    <a:pt x="1361" y="1845"/>
                  </a:lnTo>
                  <a:lnTo>
                    <a:pt x="1361" y="1859"/>
                  </a:lnTo>
                  <a:lnTo>
                    <a:pt x="1375" y="1859"/>
                  </a:lnTo>
                  <a:lnTo>
                    <a:pt x="1403" y="1887"/>
                  </a:lnTo>
                  <a:lnTo>
                    <a:pt x="1416" y="1887"/>
                  </a:lnTo>
                  <a:lnTo>
                    <a:pt x="1430" y="1901"/>
                  </a:lnTo>
                  <a:lnTo>
                    <a:pt x="1451" y="1901"/>
                  </a:lnTo>
                  <a:lnTo>
                    <a:pt x="1451" y="1908"/>
                  </a:lnTo>
                  <a:lnTo>
                    <a:pt x="1492" y="1908"/>
                  </a:lnTo>
                  <a:lnTo>
                    <a:pt x="1506" y="1922"/>
                  </a:lnTo>
                  <a:lnTo>
                    <a:pt x="1588" y="1922"/>
                  </a:lnTo>
                  <a:lnTo>
                    <a:pt x="1691" y="1922"/>
                  </a:lnTo>
                  <a:lnTo>
                    <a:pt x="1733" y="1922"/>
                  </a:lnTo>
                  <a:lnTo>
                    <a:pt x="1733" y="1908"/>
                  </a:lnTo>
                  <a:lnTo>
                    <a:pt x="1760" y="1908"/>
                  </a:lnTo>
                  <a:lnTo>
                    <a:pt x="1760" y="1901"/>
                  </a:lnTo>
                  <a:lnTo>
                    <a:pt x="1781" y="1901"/>
                  </a:lnTo>
                  <a:lnTo>
                    <a:pt x="1795" y="1887"/>
                  </a:lnTo>
                  <a:lnTo>
                    <a:pt x="1808" y="1887"/>
                  </a:lnTo>
                  <a:lnTo>
                    <a:pt x="1836" y="1887"/>
                  </a:lnTo>
                  <a:lnTo>
                    <a:pt x="1836" y="1873"/>
                  </a:lnTo>
                  <a:lnTo>
                    <a:pt x="1850" y="1873"/>
                  </a:lnTo>
                  <a:lnTo>
                    <a:pt x="1850" y="1859"/>
                  </a:lnTo>
                  <a:lnTo>
                    <a:pt x="1863" y="1859"/>
                  </a:lnTo>
                  <a:lnTo>
                    <a:pt x="1905" y="1671"/>
                  </a:lnTo>
                  <a:lnTo>
                    <a:pt x="1891" y="1671"/>
                  </a:lnTo>
                  <a:lnTo>
                    <a:pt x="1877" y="1671"/>
                  </a:lnTo>
                  <a:lnTo>
                    <a:pt x="1877" y="1685"/>
                  </a:lnTo>
                  <a:lnTo>
                    <a:pt x="1850" y="1685"/>
                  </a:lnTo>
                  <a:lnTo>
                    <a:pt x="1850" y="1699"/>
                  </a:lnTo>
                  <a:lnTo>
                    <a:pt x="1781" y="1699"/>
                  </a:lnTo>
                  <a:lnTo>
                    <a:pt x="1781" y="1685"/>
                  </a:lnTo>
                  <a:lnTo>
                    <a:pt x="1774" y="1685"/>
                  </a:lnTo>
                  <a:lnTo>
                    <a:pt x="1774" y="1671"/>
                  </a:lnTo>
                  <a:lnTo>
                    <a:pt x="1760" y="1671"/>
                  </a:lnTo>
                  <a:lnTo>
                    <a:pt x="1760" y="1643"/>
                  </a:lnTo>
                  <a:lnTo>
                    <a:pt x="1760" y="1629"/>
                  </a:lnTo>
                  <a:lnTo>
                    <a:pt x="1850" y="1149"/>
                  </a:lnTo>
                  <a:lnTo>
                    <a:pt x="2049" y="1149"/>
                  </a:lnTo>
                  <a:lnTo>
                    <a:pt x="2111" y="870"/>
                  </a:lnTo>
                  <a:lnTo>
                    <a:pt x="1918" y="870"/>
                  </a:lnTo>
                  <a:lnTo>
                    <a:pt x="1966" y="571"/>
                  </a:lnTo>
                  <a:lnTo>
                    <a:pt x="1980" y="571"/>
                  </a:lnTo>
                  <a:lnTo>
                    <a:pt x="2008" y="571"/>
                  </a:lnTo>
                  <a:lnTo>
                    <a:pt x="2008" y="564"/>
                  </a:lnTo>
                  <a:lnTo>
                    <a:pt x="2090" y="564"/>
                  </a:lnTo>
                  <a:lnTo>
                    <a:pt x="2104" y="550"/>
                  </a:lnTo>
                  <a:lnTo>
                    <a:pt x="2152" y="550"/>
                  </a:lnTo>
                  <a:lnTo>
                    <a:pt x="2152" y="564"/>
                  </a:lnTo>
                  <a:lnTo>
                    <a:pt x="2262" y="564"/>
                  </a:lnTo>
                  <a:lnTo>
                    <a:pt x="2262" y="571"/>
                  </a:lnTo>
                  <a:lnTo>
                    <a:pt x="2310" y="571"/>
                  </a:lnTo>
                  <a:lnTo>
                    <a:pt x="2324" y="571"/>
                  </a:lnTo>
                  <a:lnTo>
                    <a:pt x="2365" y="571"/>
                  </a:lnTo>
                  <a:lnTo>
                    <a:pt x="2365" y="585"/>
                  </a:lnTo>
                  <a:lnTo>
                    <a:pt x="2406" y="585"/>
                  </a:lnTo>
                  <a:lnTo>
                    <a:pt x="2420" y="599"/>
                  </a:lnTo>
                  <a:lnTo>
                    <a:pt x="2434" y="599"/>
                  </a:lnTo>
                  <a:lnTo>
                    <a:pt x="2448" y="613"/>
                  </a:lnTo>
                  <a:lnTo>
                    <a:pt x="2468" y="613"/>
                  </a:lnTo>
                  <a:lnTo>
                    <a:pt x="2510" y="613"/>
                  </a:lnTo>
                  <a:lnTo>
                    <a:pt x="2510" y="627"/>
                  </a:lnTo>
                  <a:lnTo>
                    <a:pt x="2523" y="627"/>
                  </a:lnTo>
                  <a:lnTo>
                    <a:pt x="2523" y="696"/>
                  </a:lnTo>
                  <a:lnTo>
                    <a:pt x="2510" y="710"/>
                  </a:lnTo>
                  <a:lnTo>
                    <a:pt x="2510" y="975"/>
                  </a:lnTo>
                  <a:lnTo>
                    <a:pt x="2523" y="989"/>
                  </a:lnTo>
                  <a:lnTo>
                    <a:pt x="2523" y="1003"/>
                  </a:lnTo>
                  <a:lnTo>
                    <a:pt x="2537" y="1017"/>
                  </a:lnTo>
                  <a:lnTo>
                    <a:pt x="2537" y="1030"/>
                  </a:lnTo>
                  <a:lnTo>
                    <a:pt x="2551" y="1044"/>
                  </a:lnTo>
                  <a:lnTo>
                    <a:pt x="2551" y="1058"/>
                  </a:lnTo>
                  <a:lnTo>
                    <a:pt x="2565" y="1065"/>
                  </a:lnTo>
                  <a:lnTo>
                    <a:pt x="2565" y="1079"/>
                  </a:lnTo>
                  <a:lnTo>
                    <a:pt x="2578" y="1079"/>
                  </a:lnTo>
                  <a:lnTo>
                    <a:pt x="2578" y="1093"/>
                  </a:lnTo>
                  <a:lnTo>
                    <a:pt x="2606" y="1121"/>
                  </a:lnTo>
                  <a:lnTo>
                    <a:pt x="2620" y="1121"/>
                  </a:lnTo>
                  <a:lnTo>
                    <a:pt x="2620" y="1135"/>
                  </a:lnTo>
                  <a:lnTo>
                    <a:pt x="2626" y="1135"/>
                  </a:lnTo>
                  <a:lnTo>
                    <a:pt x="2626" y="1163"/>
                  </a:lnTo>
                  <a:lnTo>
                    <a:pt x="2640" y="1177"/>
                  </a:lnTo>
                  <a:lnTo>
                    <a:pt x="2640" y="1239"/>
                  </a:lnTo>
                  <a:lnTo>
                    <a:pt x="2654" y="1239"/>
                  </a:lnTo>
                  <a:lnTo>
                    <a:pt x="2654" y="1427"/>
                  </a:lnTo>
                  <a:lnTo>
                    <a:pt x="2640" y="1441"/>
                  </a:lnTo>
                  <a:lnTo>
                    <a:pt x="2640" y="1497"/>
                  </a:lnTo>
                  <a:lnTo>
                    <a:pt x="2626" y="1525"/>
                  </a:lnTo>
                  <a:lnTo>
                    <a:pt x="2626" y="1573"/>
                  </a:lnTo>
                  <a:lnTo>
                    <a:pt x="2620" y="1587"/>
                  </a:lnTo>
                  <a:lnTo>
                    <a:pt x="2620" y="1601"/>
                  </a:lnTo>
                  <a:lnTo>
                    <a:pt x="2606" y="1615"/>
                  </a:lnTo>
                  <a:lnTo>
                    <a:pt x="2606" y="1629"/>
                  </a:lnTo>
                  <a:lnTo>
                    <a:pt x="2592" y="1643"/>
                  </a:lnTo>
                  <a:lnTo>
                    <a:pt x="2592" y="1657"/>
                  </a:lnTo>
                  <a:lnTo>
                    <a:pt x="2578" y="1671"/>
                  </a:lnTo>
                  <a:lnTo>
                    <a:pt x="2578" y="1685"/>
                  </a:lnTo>
                  <a:lnTo>
                    <a:pt x="2565" y="1685"/>
                  </a:lnTo>
                  <a:lnTo>
                    <a:pt x="2551" y="1699"/>
                  </a:lnTo>
                  <a:lnTo>
                    <a:pt x="2537" y="1699"/>
                  </a:lnTo>
                  <a:lnTo>
                    <a:pt x="2523" y="1713"/>
                  </a:lnTo>
                  <a:lnTo>
                    <a:pt x="2496" y="1713"/>
                  </a:lnTo>
                  <a:lnTo>
                    <a:pt x="2482" y="1727"/>
                  </a:lnTo>
                  <a:lnTo>
                    <a:pt x="2455" y="1727"/>
                  </a:lnTo>
                  <a:lnTo>
                    <a:pt x="2448" y="1734"/>
                  </a:lnTo>
                  <a:lnTo>
                    <a:pt x="2434" y="1734"/>
                  </a:lnTo>
                  <a:lnTo>
                    <a:pt x="2420" y="1748"/>
                  </a:lnTo>
                  <a:lnTo>
                    <a:pt x="2406" y="1748"/>
                  </a:lnTo>
                  <a:lnTo>
                    <a:pt x="2393" y="1761"/>
                  </a:lnTo>
                  <a:lnTo>
                    <a:pt x="2365" y="1761"/>
                  </a:lnTo>
                  <a:lnTo>
                    <a:pt x="2351" y="1775"/>
                  </a:lnTo>
                  <a:lnTo>
                    <a:pt x="2338" y="1775"/>
                  </a:lnTo>
                  <a:lnTo>
                    <a:pt x="2324" y="1789"/>
                  </a:lnTo>
                  <a:lnTo>
                    <a:pt x="2310" y="1789"/>
                  </a:lnTo>
                  <a:lnTo>
                    <a:pt x="2296" y="1803"/>
                  </a:lnTo>
                  <a:lnTo>
                    <a:pt x="2283" y="1803"/>
                  </a:lnTo>
                  <a:lnTo>
                    <a:pt x="2276" y="1817"/>
                  </a:lnTo>
                  <a:lnTo>
                    <a:pt x="2262" y="1817"/>
                  </a:lnTo>
                  <a:lnTo>
                    <a:pt x="2248" y="1831"/>
                  </a:lnTo>
                  <a:lnTo>
                    <a:pt x="2235" y="1831"/>
                  </a:lnTo>
                  <a:lnTo>
                    <a:pt x="2235" y="1845"/>
                  </a:lnTo>
                  <a:lnTo>
                    <a:pt x="2207" y="1845"/>
                  </a:lnTo>
                  <a:lnTo>
                    <a:pt x="2180" y="1873"/>
                  </a:lnTo>
                  <a:lnTo>
                    <a:pt x="2166" y="1873"/>
                  </a:lnTo>
                  <a:lnTo>
                    <a:pt x="2152" y="1887"/>
                  </a:lnTo>
                  <a:lnTo>
                    <a:pt x="2138" y="1887"/>
                  </a:lnTo>
                  <a:lnTo>
                    <a:pt x="2138" y="1901"/>
                  </a:lnTo>
                  <a:lnTo>
                    <a:pt x="2125" y="1901"/>
                  </a:lnTo>
                  <a:lnTo>
                    <a:pt x="2111" y="1908"/>
                  </a:lnTo>
                  <a:lnTo>
                    <a:pt x="2104" y="1908"/>
                  </a:lnTo>
                  <a:lnTo>
                    <a:pt x="2104" y="1922"/>
                  </a:lnTo>
                  <a:lnTo>
                    <a:pt x="2090" y="1922"/>
                  </a:lnTo>
                  <a:lnTo>
                    <a:pt x="2021" y="1991"/>
                  </a:lnTo>
                  <a:lnTo>
                    <a:pt x="2008" y="1991"/>
                  </a:lnTo>
                  <a:lnTo>
                    <a:pt x="2008" y="2005"/>
                  </a:lnTo>
                  <a:lnTo>
                    <a:pt x="1994" y="2005"/>
                  </a:lnTo>
                  <a:lnTo>
                    <a:pt x="1994" y="2019"/>
                  </a:lnTo>
                  <a:lnTo>
                    <a:pt x="1980" y="2019"/>
                  </a:lnTo>
                  <a:lnTo>
                    <a:pt x="1980" y="2033"/>
                  </a:lnTo>
                  <a:lnTo>
                    <a:pt x="1966" y="2033"/>
                  </a:lnTo>
                  <a:lnTo>
                    <a:pt x="1966" y="2061"/>
                  </a:lnTo>
                  <a:lnTo>
                    <a:pt x="1953" y="2061"/>
                  </a:lnTo>
                  <a:lnTo>
                    <a:pt x="1953" y="2068"/>
                  </a:lnTo>
                  <a:lnTo>
                    <a:pt x="1946" y="2082"/>
                  </a:lnTo>
                  <a:lnTo>
                    <a:pt x="1946" y="2096"/>
                  </a:lnTo>
                  <a:lnTo>
                    <a:pt x="1932" y="2110"/>
                  </a:lnTo>
                  <a:lnTo>
                    <a:pt x="1932" y="2137"/>
                  </a:lnTo>
                  <a:lnTo>
                    <a:pt x="1918" y="2137"/>
                  </a:lnTo>
                  <a:lnTo>
                    <a:pt x="1918" y="2179"/>
                  </a:lnTo>
                  <a:lnTo>
                    <a:pt x="1905" y="2193"/>
                  </a:lnTo>
                  <a:lnTo>
                    <a:pt x="1905" y="2381"/>
                  </a:lnTo>
                  <a:lnTo>
                    <a:pt x="1918" y="2381"/>
                  </a:lnTo>
                  <a:lnTo>
                    <a:pt x="1918" y="2430"/>
                  </a:lnTo>
                  <a:lnTo>
                    <a:pt x="1932" y="2430"/>
                  </a:lnTo>
                  <a:lnTo>
                    <a:pt x="1932" y="2472"/>
                  </a:lnTo>
                  <a:lnTo>
                    <a:pt x="1946" y="2486"/>
                  </a:lnTo>
                  <a:lnTo>
                    <a:pt x="1946" y="2513"/>
                  </a:lnTo>
                  <a:lnTo>
                    <a:pt x="1953" y="2513"/>
                  </a:lnTo>
                  <a:lnTo>
                    <a:pt x="1953" y="2541"/>
                  </a:lnTo>
                  <a:lnTo>
                    <a:pt x="1966" y="2541"/>
                  </a:lnTo>
                  <a:lnTo>
                    <a:pt x="1966" y="2555"/>
                  </a:lnTo>
                  <a:lnTo>
                    <a:pt x="1953" y="2555"/>
                  </a:lnTo>
                  <a:lnTo>
                    <a:pt x="1953" y="2562"/>
                  </a:lnTo>
                  <a:lnTo>
                    <a:pt x="1946" y="2562"/>
                  </a:lnTo>
                  <a:lnTo>
                    <a:pt x="1932" y="2576"/>
                  </a:lnTo>
                  <a:lnTo>
                    <a:pt x="1891" y="2576"/>
                  </a:lnTo>
                  <a:lnTo>
                    <a:pt x="1891" y="2590"/>
                  </a:lnTo>
                  <a:lnTo>
                    <a:pt x="1746" y="2590"/>
                  </a:lnTo>
                  <a:lnTo>
                    <a:pt x="1746" y="2576"/>
                  </a:lnTo>
                  <a:lnTo>
                    <a:pt x="1678" y="2576"/>
                  </a:lnTo>
                  <a:lnTo>
                    <a:pt x="1678" y="2562"/>
                  </a:lnTo>
                  <a:lnTo>
                    <a:pt x="1636" y="2562"/>
                  </a:lnTo>
                  <a:lnTo>
                    <a:pt x="1623" y="2555"/>
                  </a:lnTo>
                  <a:lnTo>
                    <a:pt x="1602" y="2555"/>
                  </a:lnTo>
                  <a:lnTo>
                    <a:pt x="1602" y="2541"/>
                  </a:lnTo>
                  <a:lnTo>
                    <a:pt x="1588" y="2541"/>
                  </a:lnTo>
                  <a:lnTo>
                    <a:pt x="1575" y="2527"/>
                  </a:lnTo>
                  <a:lnTo>
                    <a:pt x="1561" y="2527"/>
                  </a:lnTo>
                  <a:lnTo>
                    <a:pt x="1547" y="2513"/>
                  </a:lnTo>
                  <a:lnTo>
                    <a:pt x="1533" y="2513"/>
                  </a:lnTo>
                  <a:lnTo>
                    <a:pt x="1533" y="2499"/>
                  </a:lnTo>
                  <a:lnTo>
                    <a:pt x="1520" y="2499"/>
                  </a:lnTo>
                  <a:lnTo>
                    <a:pt x="1492" y="2472"/>
                  </a:lnTo>
                  <a:lnTo>
                    <a:pt x="1478" y="2472"/>
                  </a:lnTo>
                  <a:lnTo>
                    <a:pt x="1478" y="2458"/>
                  </a:lnTo>
                  <a:lnTo>
                    <a:pt x="1465" y="2458"/>
                  </a:lnTo>
                  <a:lnTo>
                    <a:pt x="1465" y="2444"/>
                  </a:lnTo>
                  <a:lnTo>
                    <a:pt x="1451" y="2444"/>
                  </a:lnTo>
                  <a:lnTo>
                    <a:pt x="1451" y="2430"/>
                  </a:lnTo>
                  <a:lnTo>
                    <a:pt x="1437" y="2430"/>
                  </a:lnTo>
                  <a:lnTo>
                    <a:pt x="1430" y="2416"/>
                  </a:lnTo>
                  <a:lnTo>
                    <a:pt x="1430" y="2402"/>
                  </a:lnTo>
                  <a:lnTo>
                    <a:pt x="1416" y="2402"/>
                  </a:lnTo>
                  <a:lnTo>
                    <a:pt x="1416" y="2395"/>
                  </a:lnTo>
                  <a:lnTo>
                    <a:pt x="1403" y="2395"/>
                  </a:lnTo>
                  <a:lnTo>
                    <a:pt x="1403" y="2381"/>
                  </a:lnTo>
                  <a:lnTo>
                    <a:pt x="1389" y="2367"/>
                  </a:lnTo>
                  <a:lnTo>
                    <a:pt x="1375" y="2367"/>
                  </a:lnTo>
                  <a:lnTo>
                    <a:pt x="1375" y="2353"/>
                  </a:lnTo>
                  <a:lnTo>
                    <a:pt x="1348" y="2325"/>
                  </a:lnTo>
                  <a:lnTo>
                    <a:pt x="1348" y="2312"/>
                  </a:lnTo>
                  <a:lnTo>
                    <a:pt x="1306" y="2270"/>
                  </a:lnTo>
                  <a:lnTo>
                    <a:pt x="1306" y="2256"/>
                  </a:lnTo>
                  <a:lnTo>
                    <a:pt x="1293" y="2242"/>
                  </a:lnTo>
                  <a:lnTo>
                    <a:pt x="1293" y="2228"/>
                  </a:lnTo>
                  <a:lnTo>
                    <a:pt x="1279" y="2221"/>
                  </a:lnTo>
                  <a:lnTo>
                    <a:pt x="1265" y="2221"/>
                  </a:lnTo>
                  <a:lnTo>
                    <a:pt x="1265" y="2207"/>
                  </a:lnTo>
                  <a:lnTo>
                    <a:pt x="1258" y="2193"/>
                  </a:lnTo>
                  <a:lnTo>
                    <a:pt x="1258" y="2179"/>
                  </a:lnTo>
                  <a:lnTo>
                    <a:pt x="1244" y="2165"/>
                  </a:lnTo>
                  <a:lnTo>
                    <a:pt x="1244" y="2151"/>
                  </a:lnTo>
                  <a:lnTo>
                    <a:pt x="1231" y="2137"/>
                  </a:lnTo>
                  <a:lnTo>
                    <a:pt x="1231" y="2124"/>
                  </a:lnTo>
                  <a:lnTo>
                    <a:pt x="1203" y="2096"/>
                  </a:lnTo>
                  <a:lnTo>
                    <a:pt x="1203" y="2082"/>
                  </a:lnTo>
                  <a:lnTo>
                    <a:pt x="1189" y="2068"/>
                  </a:lnTo>
                  <a:lnTo>
                    <a:pt x="1189" y="2061"/>
                  </a:lnTo>
                  <a:lnTo>
                    <a:pt x="1176" y="2047"/>
                  </a:lnTo>
                  <a:lnTo>
                    <a:pt x="1176" y="2033"/>
                  </a:lnTo>
                  <a:lnTo>
                    <a:pt x="1162" y="2019"/>
                  </a:lnTo>
                  <a:lnTo>
                    <a:pt x="1162" y="2005"/>
                  </a:lnTo>
                  <a:lnTo>
                    <a:pt x="1148" y="1991"/>
                  </a:lnTo>
                  <a:lnTo>
                    <a:pt x="1148" y="1977"/>
                  </a:lnTo>
                  <a:lnTo>
                    <a:pt x="1121" y="1949"/>
                  </a:lnTo>
                  <a:lnTo>
                    <a:pt x="1121" y="1922"/>
                  </a:lnTo>
                  <a:lnTo>
                    <a:pt x="1107" y="1908"/>
                  </a:lnTo>
                  <a:lnTo>
                    <a:pt x="1107" y="1901"/>
                  </a:lnTo>
                  <a:lnTo>
                    <a:pt x="1093" y="1887"/>
                  </a:lnTo>
                  <a:lnTo>
                    <a:pt x="1093" y="1873"/>
                  </a:lnTo>
                  <a:lnTo>
                    <a:pt x="1086" y="1859"/>
                  </a:lnTo>
                  <a:lnTo>
                    <a:pt x="1086" y="1845"/>
                  </a:lnTo>
                  <a:lnTo>
                    <a:pt x="1073" y="1817"/>
                  </a:lnTo>
                  <a:lnTo>
                    <a:pt x="1073" y="1803"/>
                  </a:lnTo>
                  <a:lnTo>
                    <a:pt x="1059" y="1789"/>
                  </a:lnTo>
                  <a:lnTo>
                    <a:pt x="1059" y="1775"/>
                  </a:lnTo>
                  <a:lnTo>
                    <a:pt x="1045" y="1761"/>
                  </a:lnTo>
                  <a:lnTo>
                    <a:pt x="1045" y="1734"/>
                  </a:lnTo>
                  <a:lnTo>
                    <a:pt x="1031" y="1727"/>
                  </a:lnTo>
                  <a:lnTo>
                    <a:pt x="1031" y="1713"/>
                  </a:lnTo>
                  <a:lnTo>
                    <a:pt x="1018" y="1713"/>
                  </a:lnTo>
                  <a:lnTo>
                    <a:pt x="1018" y="1699"/>
                  </a:lnTo>
                  <a:lnTo>
                    <a:pt x="976" y="1699"/>
                  </a:lnTo>
                  <a:lnTo>
                    <a:pt x="976" y="1685"/>
                  </a:lnTo>
                  <a:lnTo>
                    <a:pt x="914" y="1685"/>
                  </a:lnTo>
                  <a:lnTo>
                    <a:pt x="914" y="1671"/>
                  </a:lnTo>
                  <a:lnTo>
                    <a:pt x="859" y="1671"/>
                  </a:lnTo>
                  <a:lnTo>
                    <a:pt x="859" y="1685"/>
                  </a:lnTo>
                  <a:lnTo>
                    <a:pt x="832" y="1685"/>
                  </a:lnTo>
                  <a:lnTo>
                    <a:pt x="832" y="1699"/>
                  </a:lnTo>
                  <a:lnTo>
                    <a:pt x="818" y="1699"/>
                  </a:lnTo>
                  <a:lnTo>
                    <a:pt x="818" y="1713"/>
                  </a:lnTo>
                  <a:lnTo>
                    <a:pt x="804" y="1713"/>
                  </a:lnTo>
                  <a:lnTo>
                    <a:pt x="791" y="1713"/>
                  </a:lnTo>
                  <a:lnTo>
                    <a:pt x="791" y="1727"/>
                  </a:lnTo>
                  <a:lnTo>
                    <a:pt x="777" y="1727"/>
                  </a:lnTo>
                  <a:lnTo>
                    <a:pt x="763" y="1748"/>
                  </a:lnTo>
                  <a:lnTo>
                    <a:pt x="749" y="1748"/>
                  </a:lnTo>
                  <a:lnTo>
                    <a:pt x="749" y="1761"/>
                  </a:lnTo>
                  <a:lnTo>
                    <a:pt x="743" y="1761"/>
                  </a:lnTo>
                  <a:lnTo>
                    <a:pt x="743" y="1775"/>
                  </a:lnTo>
                  <a:lnTo>
                    <a:pt x="743" y="1789"/>
                  </a:lnTo>
                  <a:lnTo>
                    <a:pt x="729" y="1789"/>
                  </a:lnTo>
                  <a:lnTo>
                    <a:pt x="729" y="1817"/>
                  </a:lnTo>
                  <a:lnTo>
                    <a:pt x="715" y="1817"/>
                  </a:lnTo>
                  <a:lnTo>
                    <a:pt x="715" y="1831"/>
                  </a:lnTo>
                  <a:lnTo>
                    <a:pt x="591" y="1831"/>
                  </a:lnTo>
                  <a:lnTo>
                    <a:pt x="591" y="1817"/>
                  </a:lnTo>
                  <a:lnTo>
                    <a:pt x="571" y="1817"/>
                  </a:lnTo>
                  <a:lnTo>
                    <a:pt x="557" y="1803"/>
                  </a:lnTo>
                  <a:lnTo>
                    <a:pt x="529" y="1803"/>
                  </a:lnTo>
                  <a:lnTo>
                    <a:pt x="529" y="1789"/>
                  </a:lnTo>
                  <a:lnTo>
                    <a:pt x="516" y="1789"/>
                  </a:lnTo>
                  <a:lnTo>
                    <a:pt x="502" y="1789"/>
                  </a:lnTo>
                  <a:lnTo>
                    <a:pt x="502" y="1775"/>
                  </a:lnTo>
                  <a:lnTo>
                    <a:pt x="488" y="1775"/>
                  </a:lnTo>
                  <a:lnTo>
                    <a:pt x="488" y="1761"/>
                  </a:lnTo>
                  <a:lnTo>
                    <a:pt x="474" y="1761"/>
                  </a:lnTo>
                  <a:lnTo>
                    <a:pt x="474" y="1748"/>
                  </a:lnTo>
                  <a:lnTo>
                    <a:pt x="461" y="1748"/>
                  </a:lnTo>
                  <a:lnTo>
                    <a:pt x="447" y="1748"/>
                  </a:lnTo>
                  <a:lnTo>
                    <a:pt x="447" y="1734"/>
                  </a:lnTo>
                  <a:lnTo>
                    <a:pt x="447" y="1727"/>
                  </a:lnTo>
                  <a:lnTo>
                    <a:pt x="433" y="1713"/>
                  </a:lnTo>
                  <a:lnTo>
                    <a:pt x="419" y="1713"/>
                  </a:lnTo>
                  <a:lnTo>
                    <a:pt x="419" y="1699"/>
                  </a:lnTo>
                  <a:lnTo>
                    <a:pt x="413" y="1699"/>
                  </a:lnTo>
                  <a:lnTo>
                    <a:pt x="413" y="1671"/>
                  </a:lnTo>
                  <a:lnTo>
                    <a:pt x="399" y="1671"/>
                  </a:lnTo>
                  <a:lnTo>
                    <a:pt x="399" y="1657"/>
                  </a:lnTo>
                  <a:lnTo>
                    <a:pt x="399" y="1629"/>
                  </a:lnTo>
                  <a:lnTo>
                    <a:pt x="385" y="1629"/>
                  </a:lnTo>
                  <a:lnTo>
                    <a:pt x="385" y="1615"/>
                  </a:lnTo>
                  <a:lnTo>
                    <a:pt x="371" y="1601"/>
                  </a:lnTo>
                  <a:lnTo>
                    <a:pt x="371" y="1587"/>
                  </a:lnTo>
                  <a:lnTo>
                    <a:pt x="358" y="1573"/>
                  </a:lnTo>
                  <a:lnTo>
                    <a:pt x="358" y="1567"/>
                  </a:lnTo>
                  <a:lnTo>
                    <a:pt x="358" y="1553"/>
                  </a:lnTo>
                  <a:lnTo>
                    <a:pt x="344" y="1553"/>
                  </a:lnTo>
                  <a:lnTo>
                    <a:pt x="344" y="1525"/>
                  </a:lnTo>
                  <a:lnTo>
                    <a:pt x="330" y="1525"/>
                  </a:lnTo>
                  <a:lnTo>
                    <a:pt x="330" y="1511"/>
                  </a:lnTo>
                  <a:lnTo>
                    <a:pt x="316" y="1497"/>
                  </a:lnTo>
                  <a:lnTo>
                    <a:pt x="316" y="1483"/>
                  </a:lnTo>
                  <a:lnTo>
                    <a:pt x="289" y="1455"/>
                  </a:lnTo>
                  <a:lnTo>
                    <a:pt x="289" y="1441"/>
                  </a:lnTo>
                  <a:lnTo>
                    <a:pt x="199" y="1351"/>
                  </a:lnTo>
                  <a:lnTo>
                    <a:pt x="186" y="1351"/>
                  </a:lnTo>
                  <a:lnTo>
                    <a:pt x="186" y="1337"/>
                  </a:lnTo>
                  <a:lnTo>
                    <a:pt x="172" y="1323"/>
                  </a:lnTo>
                  <a:lnTo>
                    <a:pt x="158" y="1323"/>
                  </a:lnTo>
                  <a:lnTo>
                    <a:pt x="131" y="1295"/>
                  </a:lnTo>
                  <a:lnTo>
                    <a:pt x="131" y="1309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Basic- and Full-CAN communication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41360" y="876240"/>
            <a:ext cx="855036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39920" indent="-361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lose coupled MCU-core  and C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39920" indent="-361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only one transmit buf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39920" indent="-361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only two receive buf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39920" indent="-361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only one filter for incoming mess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39920" indent="-361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oftware routines are needed to select between incoming mess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39920" indent="-36180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39920" indent="-3618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39920" indent="-361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ovide a message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39920" indent="-361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xtensive acceptance filtering on incoming mess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39920" indent="-361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r configurable mailbox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39920" indent="-361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ailbox memory area , size of mailbox areas depends on manufactur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39920" indent="-361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dvanced error recogni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39920" indent="-361800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ahmen 6"/>
          <p:cNvSpPr/>
          <p:nvPr/>
        </p:nvSpPr>
        <p:spPr>
          <a:xfrm>
            <a:off x="642960" y="4143240"/>
            <a:ext cx="2000160" cy="857520"/>
          </a:xfrm>
          <a:prstGeom prst="bevel">
            <a:avLst>
              <a:gd name="adj" fmla="val 12500"/>
            </a:avLst>
          </a:prstGeom>
          <a:solidFill>
            <a:srgbClr val="fe9b0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- 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ahmen 9"/>
          <p:cNvSpPr/>
          <p:nvPr/>
        </p:nvSpPr>
        <p:spPr>
          <a:xfrm>
            <a:off x="571680" y="1285920"/>
            <a:ext cx="2000160" cy="857160"/>
          </a:xfrm>
          <a:prstGeom prst="bevel">
            <a:avLst>
              <a:gd name="adj" fmla="val 12500"/>
            </a:avLst>
          </a:prstGeom>
          <a:solidFill>
            <a:srgbClr val="fe9b0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e9b03"/>
                </a:solidFill>
                <a:latin typeface="Arial"/>
                <a:ea typeface="Arial"/>
              </a:rPr>
              <a:t>The Data Format of CAN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441360" y="876240"/>
            <a:ext cx="8550360" cy="66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586320" indent="79524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CAN-Version 2.0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586320" indent="79524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essages with 11-bit -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identif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586320" indent="79524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CAN-Version 2.0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586320" indent="79524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essages with 29-bit-identif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==&gt;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itably configured, each implementation ( BASIC or FULL) can handle both  standard and extended data forma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ahmen 6"/>
          <p:cNvSpPr/>
          <p:nvPr/>
        </p:nvSpPr>
        <p:spPr>
          <a:xfrm>
            <a:off x="1285920" y="1857240"/>
            <a:ext cx="2071800" cy="857520"/>
          </a:xfrm>
          <a:prstGeom prst="bevel">
            <a:avLst>
              <a:gd name="adj" fmla="val 12500"/>
            </a:avLst>
          </a:prstGeom>
          <a:solidFill>
            <a:srgbClr val="fe9b0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ahmen 7"/>
          <p:cNvSpPr/>
          <p:nvPr/>
        </p:nvSpPr>
        <p:spPr>
          <a:xfrm>
            <a:off x="1285920" y="3929040"/>
            <a:ext cx="2071800" cy="857160"/>
          </a:xfrm>
          <a:prstGeom prst="bevel">
            <a:avLst>
              <a:gd name="adj" fmla="val 12500"/>
            </a:avLst>
          </a:prstGeom>
          <a:solidFill>
            <a:srgbClr val="fe9b0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n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e9b03"/>
                </a:solidFill>
                <a:latin typeface="Arial"/>
                <a:ea typeface="Arial"/>
              </a:rPr>
              <a:t>The CAN Data Frame  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04920" y="609480"/>
            <a:ext cx="8702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990720" y="990720"/>
          <a:ext cx="6819840" cy="192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990720"/>
                    <a:ext cx="6819840" cy="19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990720" y="3657600"/>
          <a:ext cx="6972120" cy="2120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657600"/>
                    <a:ext cx="6972120" cy="21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7"/>
          <p:cNvSpPr/>
          <p:nvPr/>
        </p:nvSpPr>
        <p:spPr>
          <a:xfrm>
            <a:off x="1450080" y="2971800"/>
            <a:ext cx="600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9b03"/>
                </a:solidFill>
                <a:latin typeface="Arial"/>
              </a:rPr>
              <a:t>DATA-Frame CAN 2.0A (11-bit-identifi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463760" y="5791320"/>
            <a:ext cx="600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9b03"/>
                </a:solidFill>
                <a:latin typeface="Arial"/>
              </a:rPr>
              <a:t>DATA-Frame CAN 2.0B (29-bit-identifi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2T08:02:44Z</dcterms:created>
  <dc:creator>Frank Bormann</dc:creator>
  <dc:description/>
  <cp:keywords>11</cp:keywords>
  <dc:language>en-US</dc:language>
  <cp:lastModifiedBy>Windows-Benutzer</cp:lastModifiedBy>
  <dcterms:modified xsi:type="dcterms:W3CDTF">2010-04-06T07:15:14Z</dcterms:modified>
  <cp:revision>143</cp:revision>
  <dc:subject/>
  <dc:title>Module 11 Controller Area Network</dc:title>
</cp:coreProperties>
</file>