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3.wmf" ContentType="image/x-wmf"/>
  <Override PartName="/ppt/media/image27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2F80-AA77-421A-A61B-9DE7899DBD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8FDE-252A-4ACB-A76F-6B7EDCFD709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3 - </a:t>
            </a:r>
            <a:fld id="{6FE8E531-A9ED-4719-B8B2-86F3161622AE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7160" y="61272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14400" y="857160"/>
            <a:ext cx="7453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418600" y="801720"/>
            <a:ext cx="75384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873720" y="22392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Module 13: Multichannel Buffered Serial Port F2833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- Cloc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324000" y="762120"/>
            <a:ext cx="8515080" cy="1598400"/>
          </a:xfrm>
          <a:prstGeom prst="rect">
            <a:avLst/>
          </a:prstGeom>
          <a:ln w="0">
            <a:noFill/>
          </a:ln>
        </p:spPr>
      </p:pic>
      <p:sp>
        <p:nvSpPr>
          <p:cNvPr id="354" name="Rechteck 6"/>
          <p:cNvSpPr/>
          <p:nvPr/>
        </p:nvSpPr>
        <p:spPr>
          <a:xfrm>
            <a:off x="324000" y="2360520"/>
            <a:ext cx="851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is shifted one bit at a ti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00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om the DR pin to the RSR(s)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00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om the XSR(s) to the DX p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ceive clock signal (CLKR) controls bit transfers from the DR pin to the RSR(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nsmit clock signal (CLKX) controls bit transfers from the XSR(s) to the DX p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Frame Ph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hteck 6"/>
          <p:cNvSpPr/>
          <p:nvPr/>
        </p:nvSpPr>
        <p:spPr>
          <a:xfrm>
            <a:off x="152280" y="5467320"/>
            <a:ext cx="85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 1: 2 words of 12 bits e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 2: 3 words of 8 bit e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285840" y="1224000"/>
            <a:ext cx="8781840" cy="13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152280" y="3429000"/>
            <a:ext cx="8915400" cy="1876320"/>
          </a:xfrm>
          <a:prstGeom prst="rect">
            <a:avLst/>
          </a:prstGeom>
          <a:ln w="0">
            <a:noFill/>
          </a:ln>
        </p:spPr>
      </p:pic>
      <p:sp>
        <p:nvSpPr>
          <p:cNvPr id="359" name="Rechteck 7"/>
          <p:cNvSpPr/>
          <p:nvPr/>
        </p:nvSpPr>
        <p:spPr>
          <a:xfrm>
            <a:off x="159840" y="76212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Single Phase Frame, 8 bits per 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hteck 8"/>
          <p:cNvSpPr/>
          <p:nvPr/>
        </p:nvSpPr>
        <p:spPr>
          <a:xfrm>
            <a:off x="168480" y="294336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Dual Phase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Rece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hteck 6"/>
          <p:cNvSpPr/>
          <p:nvPr/>
        </p:nvSpPr>
        <p:spPr>
          <a:xfrm>
            <a:off x="152280" y="5467320"/>
            <a:ext cx="85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R = Data Receive 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RDY = status bit “Receiver Read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hteck 7"/>
          <p:cNvSpPr/>
          <p:nvPr/>
        </p:nvSpPr>
        <p:spPr>
          <a:xfrm>
            <a:off x="183240" y="90000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Reception physical data p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hteck 8"/>
          <p:cNvSpPr/>
          <p:nvPr/>
        </p:nvSpPr>
        <p:spPr>
          <a:xfrm>
            <a:off x="285120" y="29433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Reception signal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62000" y="1362240"/>
            <a:ext cx="8905680" cy="10666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266760" y="3405240"/>
            <a:ext cx="8670960" cy="186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Transm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hteck 6"/>
          <p:cNvSpPr/>
          <p:nvPr/>
        </p:nvSpPr>
        <p:spPr>
          <a:xfrm>
            <a:off x="152280" y="5467320"/>
            <a:ext cx="85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XR = Data Transmit 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RDY = status bit “Transmitter Read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hteck 7"/>
          <p:cNvSpPr/>
          <p:nvPr/>
        </p:nvSpPr>
        <p:spPr>
          <a:xfrm>
            <a:off x="108720" y="90000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Transmission physical data p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hteck 8"/>
          <p:cNvSpPr/>
          <p:nvPr/>
        </p:nvSpPr>
        <p:spPr>
          <a:xfrm>
            <a:off x="30600" y="294336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Transmission signal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66760" y="1362240"/>
            <a:ext cx="7810560" cy="1056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152280" y="3405240"/>
            <a:ext cx="8944200" cy="194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Interrupts and D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hteck 7"/>
          <p:cNvSpPr/>
          <p:nvPr/>
        </p:nvSpPr>
        <p:spPr>
          <a:xfrm>
            <a:off x="753840" y="90000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Internal Signals from McBSP to CPU or D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92200" y="1592280"/>
          <a:ext cx="7839000" cy="3479760"/>
        </p:xfrm>
        <a:graphic>
          <a:graphicData uri="http://schemas.openxmlformats.org/drawingml/2006/table">
            <a:tbl>
              <a:tblPr/>
              <a:tblGrid>
                <a:gridCol w="2436840"/>
                <a:gridCol w="5402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2aa4"/>
                          </a:solidFill>
                          <a:latin typeface="Arial"/>
                        </a:rPr>
                        <a:t>Internal Sig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d5d5d5"/>
                      </a:solidFill>
                    </a:lnL>
                    <a:lnR>
                      <a:noFill/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2aa4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5d5d5"/>
                      </a:solidFill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d5d5d5"/>
                      </a:solidFill>
                    </a:lnL>
                    <a:lnR>
                      <a:noFill/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iver Interrupt from McBSP to CPU; based on a selected condition in the receiv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5d5d5"/>
                      </a:solidFill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d5d5d5"/>
                      </a:solidFill>
                    </a:lnL>
                    <a:lnR>
                      <a:noFill/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mitter Interrupt from McBSP to CPU; based on a selected condition in the transmi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5d5d5"/>
                      </a:solidFill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d5d5d5"/>
                      </a:solidFill>
                    </a:lnL>
                    <a:lnR>
                      <a:noFill/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ive synchronization event from McBSP to DMA; triggered when data has been received in DR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5d5d5"/>
                      </a:solidFill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EV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d5d5d5"/>
                      </a:solidFill>
                    </a:lnL>
                    <a:lnR>
                      <a:noFill/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mit synchronization event from McBSP to DMA; triggered when DXR is ready to accept new dat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5d5d5"/>
                      </a:solidFill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Register 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hteck 7"/>
          <p:cNvSpPr/>
          <p:nvPr/>
        </p:nvSpPr>
        <p:spPr>
          <a:xfrm>
            <a:off x="1191600" y="75708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McBSP Control &amp; Data Regist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219320" y="1219320"/>
          <a:ext cx="6095880" cy="4821120"/>
        </p:xfrm>
        <a:graphic>
          <a:graphicData uri="http://schemas.openxmlformats.org/drawingml/2006/table">
            <a:tbl>
              <a:tblPr/>
              <a:tblGrid>
                <a:gridCol w="1361880"/>
                <a:gridCol w="4734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eceive Register 2 (hig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eceive Register 1 (lo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X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Transmit Register 2 (hig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X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eceive Register 1 (lo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C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al Port Control Registe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C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al Port Control Registe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Control Registe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Control Registe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 Control Registe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 Control Registe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G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Rate Generator Registe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G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Rate Generator Registe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Register 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hteck 7"/>
          <p:cNvSpPr/>
          <p:nvPr/>
        </p:nvSpPr>
        <p:spPr>
          <a:xfrm>
            <a:off x="550440" y="762120"/>
            <a:ext cx="60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McBSP Multi Channel Control Regist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82760" y="1228680"/>
          <a:ext cx="6956280" cy="3292560"/>
        </p:xfrm>
        <a:graphic>
          <a:graphicData uri="http://schemas.openxmlformats.org/drawingml/2006/table">
            <a:tbl>
              <a:tblPr/>
              <a:tblGrid>
                <a:gridCol w="1554120"/>
                <a:gridCol w="5402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channel Control Registe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channel Control Registe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ER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Channel Enable Register Partition 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ER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 Channel Enable Register Partition 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 Control Regi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ER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 Channel Enable Register Partition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 Control Regi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F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 Enable Regi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</a:tbl>
          </a:graphicData>
        </a:graphic>
      </p:graphicFrame>
      <p:sp>
        <p:nvSpPr>
          <p:cNvPr id="382" name="Rechteck 5"/>
          <p:cNvSpPr/>
          <p:nvPr/>
        </p:nvSpPr>
        <p:spPr>
          <a:xfrm>
            <a:off x="480240" y="474336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x = Partition A, B, C, D, E, F, G, 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772240" y="3886200"/>
          <a:ext cx="2409840" cy="2743200"/>
        </p:xfrm>
        <a:graphic>
          <a:graphicData uri="http://schemas.openxmlformats.org/drawingml/2006/table">
            <a:tbl>
              <a:tblPr/>
              <a:tblGrid>
                <a:gridCol w="1204920"/>
                <a:gridCol w="12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f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ne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f4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- 1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– 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– 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– 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 – 1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- 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Data Regis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hteck 7"/>
          <p:cNvSpPr/>
          <p:nvPr/>
        </p:nvSpPr>
        <p:spPr>
          <a:xfrm>
            <a:off x="286560" y="762120"/>
            <a:ext cx="72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McBSP Data Receive Register (DRR2 and DRR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47680" y="1224000"/>
            <a:ext cx="8629560" cy="1711440"/>
          </a:xfrm>
          <a:prstGeom prst="rect">
            <a:avLst/>
          </a:prstGeom>
          <a:ln w="0">
            <a:noFill/>
          </a:ln>
        </p:spPr>
      </p:pic>
      <p:sp>
        <p:nvSpPr>
          <p:cNvPr id="387" name="Rechteck 11"/>
          <p:cNvSpPr/>
          <p:nvPr/>
        </p:nvSpPr>
        <p:spPr>
          <a:xfrm>
            <a:off x="275400" y="361476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McBSP Data Transmit Register (DXR2 and DXR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247680" y="4076640"/>
            <a:ext cx="8629560" cy="1708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Serial Port Control Register (SPCR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hteck 11"/>
          <p:cNvSpPr/>
          <p:nvPr/>
        </p:nvSpPr>
        <p:spPr>
          <a:xfrm>
            <a:off x="253440" y="2141640"/>
            <a:ext cx="8610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LB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 Loopback Mod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disabled;  1 = en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JUST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Justification Mode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Right justify data and zero fill MS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Right justify data and sign – extend MS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Left justify data and zero fill LS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KSTP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ock Stop Mod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and 1  = dis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enabled, without clock delay (SPI –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enabled, with half-cycle clock delay (SPI –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XENA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X Delay Enab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ON; extra delay for turn – ON - ti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INTM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r Interrupt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INT when RRDY =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INT after 16 channels (multichannel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INT of frame sync pu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INT on Receive Frame Sync Err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YNCERR: Receive Frame Sync Error 0 = no error; 1 = err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ULL: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r Full Status b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Receiver Full condition (RSR, RBR and DRR ful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RDY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r Ready Status b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Receiver Ready; new data in DR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RST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r Reset Control B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Reset Receiver; 1 = release Receiver from 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62000" y="762120"/>
            <a:ext cx="8934480" cy="137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Serial Port Control Register (SPCR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hteck 11"/>
          <p:cNvSpPr/>
          <p:nvPr/>
        </p:nvSpPr>
        <p:spPr>
          <a:xfrm>
            <a:off x="162000" y="2343240"/>
            <a:ext cx="8905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e Run JTAG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Stop at breakpoint;  1 = Free R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 Stop JTAG Mode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if FREE = 0, stop immediately in case of breakpo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if FREE = 0, stop at end of 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ST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me Sync Logic Res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Reset;  1 = release Frame Logic from 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ST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le Rate Generator Reset 0 = Reset; 1 = release SRG from 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INTM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Interrupt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INT when XRDY =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INT after 16 channels (multichannel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INT of frame sync pu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INT on Transmit Frame Sync Err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SYNCERR: Receive Frame Sync Error 0 = no error; 1 = err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EMPTY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ter Empty Status b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Transmitter empty (DXR1); 1 = not emp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RDY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ter Ready Status b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Transmitter ready (DXR1,2) to accept new data XRST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ter Reset Control B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=Reset Transmitter; 1=release Transmitter from 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62000" y="658800"/>
            <a:ext cx="8696160" cy="148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ult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hannel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uffer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rial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ort (McBSP)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52280" y="685800"/>
            <a:ext cx="876312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Introduct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High – Speed multichannel synchronous serial ports (McBSP-A and McBSP-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data rate: 2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McBSP consists of a data - flow – path and a control - pa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 Pins per 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DX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transm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DR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recei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CLKX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ansmit c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CLKR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eive c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FSX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ame sync transm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FSR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ame sync 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99"/>
          <p:cNvSpPr/>
          <p:nvPr/>
        </p:nvSpPr>
        <p:spPr>
          <a:xfrm>
            <a:off x="5575320" y="5283360"/>
            <a:ext cx="38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Receive Control Register  1 (RCR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hteck 11"/>
          <p:cNvSpPr/>
          <p:nvPr/>
        </p:nvSpPr>
        <p:spPr>
          <a:xfrm>
            <a:off x="162000" y="2343240"/>
            <a:ext cx="8905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RLEN1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Frame Length1(0…0x7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Words in a frame (1…12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Words in frame – phase 1 (1...12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WDLEN1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Word Length1 (0…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Bits in a W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Bits in a Word of frame - phase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8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12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16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20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= 24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 = 32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and 7: 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162000" y="762120"/>
            <a:ext cx="8910720" cy="138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Receive Control Register  2 (RCR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hteck 11"/>
          <p:cNvSpPr/>
          <p:nvPr/>
        </p:nvSpPr>
        <p:spPr>
          <a:xfrm>
            <a:off x="162000" y="2030400"/>
            <a:ext cx="89056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PHAS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Phase Numb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Single Phase 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Dual Phase 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RLEN2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Frame Length 2 (0…0x7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Words in frame – phase 2 (1...12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WDLEN2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Word Length 2 (0…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Bits in a Word of frame - phase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8 Bit, 1 = 12 Bit, 2 = 16 Bit, 3 = 20 Bit, 4 = 24 Bit, 5 = 32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COMPAND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Companding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no companding, MSB received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no companding, 8-bit-data, LSB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µ-law; 8-bit-data, MSB received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A-law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8-bit-data, MSB received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IG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Frame Sync Igno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unexpected Frame Sync igno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DATDLY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Data Del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0 clock cycles delay after frame Syn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1 cycle; 2 = 2 cycles; 3 =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162000" y="698400"/>
            <a:ext cx="8648640" cy="13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Transmit Control Register  1 (XCR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hteck 11"/>
          <p:cNvSpPr/>
          <p:nvPr/>
        </p:nvSpPr>
        <p:spPr>
          <a:xfrm>
            <a:off x="162000" y="2257560"/>
            <a:ext cx="8905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FRLEN1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Frame Length1(0…0x7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Words in a frame (1…12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Words in frame – phase 1 (1...12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WDLEN1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Word Length1 (0…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Bits in a W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Bits in a Word of frame - phase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8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12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16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20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= 24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 = 32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and 7: 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62000" y="762120"/>
            <a:ext cx="8637480" cy="133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Transmit Control Register  2 (XCR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hteck 11"/>
          <p:cNvSpPr/>
          <p:nvPr/>
        </p:nvSpPr>
        <p:spPr>
          <a:xfrm>
            <a:off x="162000" y="2257560"/>
            <a:ext cx="8905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PHAS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Phase Numb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Single Phase 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Dual Phase 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FRLEN2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Frame Length 2 (0…0x7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Words in frame – phase 2 (1...12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WDLEN2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Word Length 2 (0…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Bits in a Word of frame - phase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8 Bit, 1 = 12 Bit, 2 = 16 Bit, 3 = 20 Bit, 4 = 24 Bit, 5 = 32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COMPAND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Companding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no companding, MSB transmitted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no companding, 8-bit-data, LSB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µ-law; 8-bit-data, MSB transmitted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A-law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8-bit-data, MSB transmitted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FIG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Frame Sync Igno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unexpected Frame Sync igno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DATDLY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Data Del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0 clock cycles delay after frame Syn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1 cycle; 2 = 2 cycles; 3 =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62000" y="625320"/>
            <a:ext cx="8591400" cy="136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Sample Rate Generator (SRGR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hteck 11"/>
          <p:cNvSpPr/>
          <p:nvPr/>
        </p:nvSpPr>
        <p:spPr>
          <a:xfrm>
            <a:off x="162000" y="2257560"/>
            <a:ext cx="8905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WID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me Sync Pulse Width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…2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se Width of Frame Sync Signal in McBSP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ock cyc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KGDV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vide Down Value for Clock-Genera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…2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KG frequency = (Input clock frequency)/ (CLKGDV + 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input clock is selected by the SCLKME (Register PCR) and CLKS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egister SRGR) bi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62000" y="639720"/>
            <a:ext cx="8648640" cy="13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0" name=""/>
          <p:cNvGraphicFramePr/>
          <p:nvPr/>
        </p:nvGraphicFramePr>
        <p:xfrm>
          <a:off x="1838160" y="4686480"/>
          <a:ext cx="6096240" cy="1854000"/>
        </p:xfrm>
        <a:graphic>
          <a:graphicData uri="http://schemas.openxmlformats.org/drawingml/2006/table">
            <a:tbl>
              <a:tblPr/>
              <a:tblGrid>
                <a:gridCol w="1390680"/>
                <a:gridCol w="1333800"/>
                <a:gridCol w="33717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LK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K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put Clock Sour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PCL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 on pin MCLK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 on pin MCLK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Sample Rate Generator (SRGR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hteck 11"/>
          <p:cNvSpPr/>
          <p:nvPr/>
        </p:nvSpPr>
        <p:spPr>
          <a:xfrm>
            <a:off x="162000" y="2257560"/>
            <a:ext cx="89056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SYNC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ock Sync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used, if clock source is exter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Clock Synchronization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KG is adjusted to MCLKR / MCLK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no clock sync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KG free running, FSG every FPER-cyc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KSM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le Clock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SGM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me Sync Mode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me Pulse from pin FSX (if FSXM = 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FSXM = 1, generate frame pulse when DXR is copied into XS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FSXM = 1, generate frame pulse based on FPER and FW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PER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me Sync Period  (1…4096); Number of CLKG cycles between fram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009880" y="3905280"/>
          <a:ext cx="6095880" cy="1523880"/>
        </p:xfrm>
        <a:graphic>
          <a:graphicData uri="http://schemas.openxmlformats.org/drawingml/2006/table">
            <a:tbl>
              <a:tblPr/>
              <a:tblGrid>
                <a:gridCol w="1390680"/>
                <a:gridCol w="1333440"/>
                <a:gridCol w="3371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LK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KS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put Clock Sour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PC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 on pin MCLK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 on pin MCLK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</a:tbl>
          </a:graphicData>
        </a:graphic>
      </p:graphicFrame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162000" y="797040"/>
            <a:ext cx="8820000" cy="143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Pin Control Register (PC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hteck 11"/>
          <p:cNvSpPr/>
          <p:nvPr/>
        </p:nvSpPr>
        <p:spPr>
          <a:xfrm>
            <a:off x="162000" y="1981080"/>
            <a:ext cx="89056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SXM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nsmit Frame Sync Mo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0 = Frame Pulse is supplied externally via pin FS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 = Frame Pulse generated internally by Sample Rate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    Generator (bit FSGM of register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RGR2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SRM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ceive Frame Sync Mo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0 = Frame Pulse is supplied externally via pin FS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 = Frame Pulse generated internally by Sample Rate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    Generator (bit FSGM of register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RGR2)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LKXM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nsmit Clock Mo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f CLKSTP = 0 or 1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0 = external transmit clock from pin MCLK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 = internal transmit clock; MCLKX is out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f CLKSTP = 2 or 3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0 = McBSP is slave in SPI – Protocol; MCLKX is in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 = McBSP is master in SPI – Mode; MCLKX is out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CLKME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ample Rate Generator Input Mode  (see CLKSM in Register SRGR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XSTAT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X pin Status Bi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 = drive DX pin high; 0 = DX pin low (GPIO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RSTAT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R pin Status Bi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 = drive DR pin high; 0 = DR pin low (GPIO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SXP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nsmit Frame Sync Polarit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0 = active high; 1 = active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SRP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ceive Frame Sync Polarit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0 = active high; 1 = active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LKXP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nsmit Clock Polarit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ata valid on rising (0) or falling (1) edge of CLK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LKRP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ceive Clock Polarit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ata sampled on rising (1) or falling (0) ed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247680" y="531720"/>
            <a:ext cx="8782200" cy="14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Interrupt Enable Register (MFFI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hteck 11"/>
          <p:cNvSpPr/>
          <p:nvPr/>
        </p:nvSpPr>
        <p:spPr>
          <a:xfrm>
            <a:off x="162000" y="1981080"/>
            <a:ext cx="890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INT ENA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disable McBSP Receive Interru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enable McBSP Receive Interrup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4280" y="563400"/>
            <a:ext cx="8601120" cy="1316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162000" y="2565360"/>
            <a:ext cx="5281560" cy="1724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3"/>
          <a:stretch/>
        </p:blipFill>
        <p:spPr>
          <a:xfrm>
            <a:off x="2801880" y="4873680"/>
            <a:ext cx="5281560" cy="1735200"/>
          </a:xfrm>
          <a:prstGeom prst="rect">
            <a:avLst/>
          </a:prstGeom>
          <a:ln w="0">
            <a:noFill/>
          </a:ln>
        </p:spPr>
      </p:pic>
      <p:sp>
        <p:nvSpPr>
          <p:cNvPr id="423" name="Rechteck 7"/>
          <p:cNvSpPr/>
          <p:nvPr/>
        </p:nvSpPr>
        <p:spPr>
          <a:xfrm>
            <a:off x="2801880" y="4289400"/>
            <a:ext cx="744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INT ENA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disable McBSP Transmit Interru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enable McBSP Transmit Interrup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25" name="Rechteck 37"/>
          <p:cNvSpPr/>
          <p:nvPr/>
        </p:nvSpPr>
        <p:spPr>
          <a:xfrm>
            <a:off x="590400" y="76212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in Featur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90dB SNR Multibit Sigma-Delta AD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0-dB SNR Multibit Sigma-Delta DA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8 kHz …96 kHz Sampling-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I- Interface for Control Channel Compatible Serial-Port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 - Phase Audio - Data Input/Output via McB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d I2S, MSB, or LSB Justified-Data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6/20/24/32-Bit Audio Data Word 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lume Control With Mute on Input and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C Multiplexed Input for Stereo-Line Inputs and Microph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y Efficient Linear Headphone Amplifier (30 mW into 32 Ohm from a 3.3-V Analogue Supply Vol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27" name="Rechteck 37"/>
          <p:cNvSpPr/>
          <p:nvPr/>
        </p:nvSpPr>
        <p:spPr>
          <a:xfrm>
            <a:off x="219240" y="762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al Bloc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r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4048200" y="587520"/>
            <a:ext cx="4829040" cy="5887800"/>
          </a:xfrm>
          <a:prstGeom prst="rect">
            <a:avLst/>
          </a:prstGeom>
          <a:ln w="0">
            <a:noFill/>
          </a:ln>
        </p:spPr>
      </p:pic>
      <p:sp>
        <p:nvSpPr>
          <p:cNvPr id="429" name="Rechteck 4"/>
          <p:cNvSpPr/>
          <p:nvPr/>
        </p:nvSpPr>
        <p:spPr>
          <a:xfrm>
            <a:off x="219240" y="19620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POUT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headphone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HPOUT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headphone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hteck 5"/>
          <p:cNvSpPr/>
          <p:nvPr/>
        </p:nvSpPr>
        <p:spPr>
          <a:xfrm>
            <a:off x="144000" y="5572080"/>
            <a:ext cx="308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 Document  Number : SLWS106H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ge 1-3 (www.ti.com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cBSP Block Diagram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75" name="Group 108"/>
          <p:cNvGrpSpPr/>
          <p:nvPr/>
        </p:nvGrpSpPr>
        <p:grpSpPr>
          <a:xfrm>
            <a:off x="533520" y="838080"/>
            <a:ext cx="8288280" cy="5715000"/>
            <a:chOff x="533520" y="838080"/>
            <a:chExt cx="8288280" cy="5715000"/>
          </a:xfrm>
        </p:grpSpPr>
        <p:sp>
          <p:nvSpPr>
            <p:cNvPr id="76" name="Rectangle 5"/>
            <p:cNvSpPr/>
            <p:nvPr/>
          </p:nvSpPr>
          <p:spPr>
            <a:xfrm>
              <a:off x="533520" y="838080"/>
              <a:ext cx="6553080" cy="57150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AutoShape 6"/>
            <p:cNvSpPr/>
            <p:nvPr/>
          </p:nvSpPr>
          <p:spPr>
            <a:xfrm flipH="1" rot="16200000">
              <a:off x="2842920" y="234216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856960" y="23036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16"/>
            <p:cNvSpPr/>
            <p:nvPr/>
          </p:nvSpPr>
          <p:spPr>
            <a:xfrm>
              <a:off x="2070000" y="2014560"/>
              <a:ext cx="1968480" cy="303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2344320" y="2070000"/>
              <a:ext cx="14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XR2 TX Buf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2070000" y="2714760"/>
              <a:ext cx="1968480" cy="303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Text Box 19"/>
            <p:cNvSpPr/>
            <p:nvPr/>
          </p:nvSpPr>
          <p:spPr>
            <a:xfrm>
              <a:off x="2738520" y="2770200"/>
              <a:ext cx="64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SR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0"/>
            <p:cNvSpPr/>
            <p:nvPr/>
          </p:nvSpPr>
          <p:spPr>
            <a:xfrm flipH="1" rot="16200000">
              <a:off x="5509800" y="234216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21"/>
            <p:cNvSpPr/>
            <p:nvPr/>
          </p:nvSpPr>
          <p:spPr>
            <a:xfrm>
              <a:off x="5523840" y="23036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30"/>
            <p:cNvSpPr/>
            <p:nvPr/>
          </p:nvSpPr>
          <p:spPr>
            <a:xfrm>
              <a:off x="4737240" y="2014560"/>
              <a:ext cx="1968480" cy="303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Text Box 31"/>
            <p:cNvSpPr/>
            <p:nvPr/>
          </p:nvSpPr>
          <p:spPr>
            <a:xfrm>
              <a:off x="5011200" y="2070000"/>
              <a:ext cx="14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XR1 TX Buf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4737240" y="2714760"/>
              <a:ext cx="1968480" cy="303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33"/>
            <p:cNvSpPr/>
            <p:nvPr/>
          </p:nvSpPr>
          <p:spPr>
            <a:xfrm>
              <a:off x="5405760" y="2770200"/>
              <a:ext cx="64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SR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 flipH="1" rot="16200000">
              <a:off x="2842920" y="471384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35"/>
            <p:cNvSpPr/>
            <p:nvPr/>
          </p:nvSpPr>
          <p:spPr>
            <a:xfrm>
              <a:off x="2856960" y="46753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44"/>
            <p:cNvSpPr/>
            <p:nvPr/>
          </p:nvSpPr>
          <p:spPr>
            <a:xfrm>
              <a:off x="2070000" y="5089680"/>
              <a:ext cx="1968480" cy="303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Text Box 45"/>
            <p:cNvSpPr/>
            <p:nvPr/>
          </p:nvSpPr>
          <p:spPr>
            <a:xfrm>
              <a:off x="2345040" y="51451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RR2 RX Buf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46"/>
            <p:cNvSpPr/>
            <p:nvPr/>
          </p:nvSpPr>
          <p:spPr>
            <a:xfrm>
              <a:off x="2070000" y="4352760"/>
              <a:ext cx="1968480" cy="30348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47"/>
            <p:cNvSpPr/>
            <p:nvPr/>
          </p:nvSpPr>
          <p:spPr>
            <a:xfrm>
              <a:off x="2441880" y="4408560"/>
              <a:ext cx="136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BR2 Regis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AutoShape 48"/>
            <p:cNvSpPr/>
            <p:nvPr/>
          </p:nvSpPr>
          <p:spPr>
            <a:xfrm flipH="1" rot="16200000">
              <a:off x="5509800" y="471384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49"/>
            <p:cNvSpPr/>
            <p:nvPr/>
          </p:nvSpPr>
          <p:spPr>
            <a:xfrm>
              <a:off x="5523840" y="46753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58"/>
            <p:cNvSpPr/>
            <p:nvPr/>
          </p:nvSpPr>
          <p:spPr>
            <a:xfrm>
              <a:off x="4737240" y="5089680"/>
              <a:ext cx="1968480" cy="303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59"/>
            <p:cNvSpPr/>
            <p:nvPr/>
          </p:nvSpPr>
          <p:spPr>
            <a:xfrm>
              <a:off x="5011920" y="51451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RR1 RX Buf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Rectangle 60"/>
            <p:cNvSpPr/>
            <p:nvPr/>
          </p:nvSpPr>
          <p:spPr>
            <a:xfrm>
              <a:off x="4737240" y="4352760"/>
              <a:ext cx="1968480" cy="30348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Text Box 61"/>
            <p:cNvSpPr/>
            <p:nvPr/>
          </p:nvSpPr>
          <p:spPr>
            <a:xfrm>
              <a:off x="5108760" y="4408560"/>
              <a:ext cx="136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BR1 Regis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AutoShape 62"/>
            <p:cNvSpPr/>
            <p:nvPr/>
          </p:nvSpPr>
          <p:spPr>
            <a:xfrm flipH="1" rot="16200000">
              <a:off x="2842920" y="397728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2856960" y="39387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64"/>
            <p:cNvSpPr/>
            <p:nvPr/>
          </p:nvSpPr>
          <p:spPr>
            <a:xfrm>
              <a:off x="2070000" y="3616200"/>
              <a:ext cx="1968480" cy="303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65"/>
            <p:cNvSpPr/>
            <p:nvPr/>
          </p:nvSpPr>
          <p:spPr>
            <a:xfrm>
              <a:off x="2738520" y="367200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SR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AutoShape 66"/>
            <p:cNvSpPr/>
            <p:nvPr/>
          </p:nvSpPr>
          <p:spPr>
            <a:xfrm flipH="1" rot="16200000">
              <a:off x="5509800" y="397728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67"/>
            <p:cNvSpPr/>
            <p:nvPr/>
          </p:nvSpPr>
          <p:spPr>
            <a:xfrm>
              <a:off x="5523840" y="39387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68"/>
            <p:cNvSpPr/>
            <p:nvPr/>
          </p:nvSpPr>
          <p:spPr>
            <a:xfrm>
              <a:off x="4737240" y="3616200"/>
              <a:ext cx="1968480" cy="303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69"/>
            <p:cNvSpPr/>
            <p:nvPr/>
          </p:nvSpPr>
          <p:spPr>
            <a:xfrm>
              <a:off x="5405760" y="367200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SR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70"/>
            <p:cNvSpPr/>
            <p:nvPr/>
          </p:nvSpPr>
          <p:spPr>
            <a:xfrm>
              <a:off x="4035600" y="2857680"/>
              <a:ext cx="699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71"/>
            <p:cNvSpPr/>
            <p:nvPr/>
          </p:nvSpPr>
          <p:spPr>
            <a:xfrm>
              <a:off x="4035600" y="3765600"/>
              <a:ext cx="699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72"/>
            <p:cNvSpPr/>
            <p:nvPr/>
          </p:nvSpPr>
          <p:spPr>
            <a:xfrm>
              <a:off x="6703920" y="2857680"/>
              <a:ext cx="1241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Line 73"/>
            <p:cNvSpPr/>
            <p:nvPr/>
          </p:nvSpPr>
          <p:spPr>
            <a:xfrm>
              <a:off x="6703920" y="3772080"/>
              <a:ext cx="1241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74"/>
            <p:cNvSpPr/>
            <p:nvPr/>
          </p:nvSpPr>
          <p:spPr>
            <a:xfrm>
              <a:off x="7089840" y="1390680"/>
              <a:ext cx="601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75"/>
            <p:cNvSpPr/>
            <p:nvPr/>
          </p:nvSpPr>
          <p:spPr>
            <a:xfrm>
              <a:off x="7086600" y="1905120"/>
              <a:ext cx="601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76"/>
            <p:cNvSpPr/>
            <p:nvPr/>
          </p:nvSpPr>
          <p:spPr>
            <a:xfrm>
              <a:off x="7089840" y="5257800"/>
              <a:ext cx="601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77"/>
            <p:cNvSpPr/>
            <p:nvPr/>
          </p:nvSpPr>
          <p:spPr>
            <a:xfrm>
              <a:off x="7086600" y="5772240"/>
              <a:ext cx="601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78"/>
            <p:cNvSpPr/>
            <p:nvPr/>
          </p:nvSpPr>
          <p:spPr>
            <a:xfrm>
              <a:off x="7932960" y="26827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DX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79"/>
            <p:cNvSpPr/>
            <p:nvPr/>
          </p:nvSpPr>
          <p:spPr>
            <a:xfrm>
              <a:off x="7932240" y="36100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DR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80"/>
            <p:cNvSpPr/>
            <p:nvPr/>
          </p:nvSpPr>
          <p:spPr>
            <a:xfrm>
              <a:off x="7666560" y="12492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FSX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81"/>
            <p:cNvSpPr/>
            <p:nvPr/>
          </p:nvSpPr>
          <p:spPr>
            <a:xfrm>
              <a:off x="7652520" y="563724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FSR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82"/>
            <p:cNvSpPr/>
            <p:nvPr/>
          </p:nvSpPr>
          <p:spPr>
            <a:xfrm>
              <a:off x="7666560" y="17575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CLKX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83"/>
            <p:cNvSpPr/>
            <p:nvPr/>
          </p:nvSpPr>
          <p:spPr>
            <a:xfrm>
              <a:off x="7679520" y="511020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CLKR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AutoShape 86"/>
            <p:cNvSpPr/>
            <p:nvPr/>
          </p:nvSpPr>
          <p:spPr>
            <a:xfrm>
              <a:off x="1447920" y="1182600"/>
              <a:ext cx="5486400" cy="519120"/>
            </a:xfrm>
            <a:prstGeom prst="rightArrow">
              <a:avLst>
                <a:gd name="adj1" fmla="val 58796"/>
                <a:gd name="adj2" fmla="val 151582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ripheral / DMA B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AutoShape 87"/>
            <p:cNvSpPr/>
            <p:nvPr/>
          </p:nvSpPr>
          <p:spPr>
            <a:xfrm flipH="1">
              <a:off x="1447920" y="5715000"/>
              <a:ext cx="5486400" cy="533520"/>
            </a:xfrm>
            <a:prstGeom prst="rightArrow">
              <a:avLst>
                <a:gd name="adj1" fmla="val 58796"/>
                <a:gd name="adj2" fmla="val 14749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ripheral / DMA B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90"/>
            <p:cNvSpPr/>
            <p:nvPr/>
          </p:nvSpPr>
          <p:spPr>
            <a:xfrm>
              <a:off x="1433520" y="1100160"/>
              <a:ext cx="0" cy="5334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AutoShape 93"/>
            <p:cNvSpPr/>
            <p:nvPr/>
          </p:nvSpPr>
          <p:spPr>
            <a:xfrm flipH="1" rot="16200000">
              <a:off x="2842920" y="165636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Rectangle 94"/>
            <p:cNvSpPr/>
            <p:nvPr/>
          </p:nvSpPr>
          <p:spPr>
            <a:xfrm>
              <a:off x="2856960" y="16178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AutoShape 95"/>
            <p:cNvSpPr/>
            <p:nvPr/>
          </p:nvSpPr>
          <p:spPr>
            <a:xfrm flipH="1" rot="16200000">
              <a:off x="2845800" y="5447520"/>
              <a:ext cx="419400" cy="306360"/>
            </a:xfrm>
            <a:prstGeom prst="rightArrow">
              <a:avLst>
                <a:gd name="adj1" fmla="val 75000"/>
                <a:gd name="adj2" fmla="val 26974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96"/>
            <p:cNvSpPr/>
            <p:nvPr/>
          </p:nvSpPr>
          <p:spPr>
            <a:xfrm>
              <a:off x="2859840" y="54086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AutoShape 99"/>
            <p:cNvSpPr/>
            <p:nvPr/>
          </p:nvSpPr>
          <p:spPr>
            <a:xfrm flipH="1" rot="16200000">
              <a:off x="5509800" y="165636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00"/>
            <p:cNvSpPr/>
            <p:nvPr/>
          </p:nvSpPr>
          <p:spPr>
            <a:xfrm>
              <a:off x="5523840" y="16178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AutoShape 101"/>
            <p:cNvSpPr/>
            <p:nvPr/>
          </p:nvSpPr>
          <p:spPr>
            <a:xfrm flipH="1" rot="16200000">
              <a:off x="5513040" y="545688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102"/>
            <p:cNvSpPr/>
            <p:nvPr/>
          </p:nvSpPr>
          <p:spPr>
            <a:xfrm>
              <a:off x="5527080" y="541800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5"/>
            <p:cNvSpPr/>
            <p:nvPr/>
          </p:nvSpPr>
          <p:spPr>
            <a:xfrm>
              <a:off x="685800" y="3352680"/>
              <a:ext cx="685800" cy="609840"/>
            </a:xfrm>
            <a:prstGeom prst="leftRightArrow">
              <a:avLst>
                <a:gd name="adj1" fmla="val 50000"/>
                <a:gd name="adj2" fmla="val 2238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57360" y="762120"/>
          <a:ext cx="8076960" cy="5776920"/>
        </p:xfrm>
        <a:graphic>
          <a:graphicData uri="http://schemas.openxmlformats.org/drawingml/2006/table">
            <a:tbl>
              <a:tblPr/>
              <a:tblGrid>
                <a:gridCol w="1763640"/>
                <a:gridCol w="2465280"/>
                <a:gridCol w="2121120"/>
                <a:gridCol w="1726920"/>
              </a:tblGrid>
              <a:tr h="712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 -M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2833x – Fun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C23–sig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6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20 =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cBSPA – MDX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dio data o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21 =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cBSPA – MD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dio data 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22 =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cBSPA – MCLKX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nsmit clo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C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23 =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cBSPA – MFSX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nsmit frame syn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R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58 =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cBSPA – MCLK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ceive Clo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C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59 =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cBSPA – MF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ceive frame syn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RCO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16 =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PIA – SPISI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data o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D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18 =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PIA – SPIC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data clo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19 =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PIA – SPI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lave trans. en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326880" y="1235160"/>
            <a:ext cx="8445600" cy="1155600"/>
          </a:xfrm>
          <a:prstGeom prst="rect">
            <a:avLst/>
          </a:prstGeom>
          <a:ln w="0">
            <a:noFill/>
          </a:ln>
        </p:spPr>
      </p:pic>
      <p:sp>
        <p:nvSpPr>
          <p:cNvPr id="435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t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hteck 6"/>
          <p:cNvSpPr/>
          <p:nvPr/>
        </p:nvSpPr>
        <p:spPr>
          <a:xfrm>
            <a:off x="371520" y="255276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 Down Control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371520" y="3014640"/>
            <a:ext cx="8445600" cy="1176480"/>
          </a:xfrm>
          <a:prstGeom prst="rect">
            <a:avLst/>
          </a:prstGeom>
          <a:ln w="0">
            <a:noFill/>
          </a:ln>
        </p:spPr>
      </p:pic>
      <p:sp>
        <p:nvSpPr>
          <p:cNvPr id="438" name="Rechteck 7"/>
          <p:cNvSpPr/>
          <p:nvPr/>
        </p:nvSpPr>
        <p:spPr>
          <a:xfrm>
            <a:off x="447840" y="41911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 = Line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  =  Microphone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C = Internal AD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C = Internal D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 = Output Sign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C = Oscill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K = 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 = Device Pow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hteck 8"/>
          <p:cNvSpPr/>
          <p:nvPr/>
        </p:nvSpPr>
        <p:spPr>
          <a:xfrm>
            <a:off x="4580640" y="509580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 = ON; 1 =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Geschweifte Klammer rechts 9"/>
          <p:cNvSpPr/>
          <p:nvPr/>
        </p:nvSpPr>
        <p:spPr>
          <a:xfrm>
            <a:off x="3505320" y="4314960"/>
            <a:ext cx="914400" cy="2184120"/>
          </a:xfrm>
          <a:custGeom>
            <a:avLst/>
            <a:gdLst>
              <a:gd name="textAreaLeft" fmla="*/ 0 w 914400"/>
              <a:gd name="textAreaRight" fmla="*/ 330120 w 914400"/>
              <a:gd name="textAreaTop" fmla="*/ 23760 h 2184120"/>
              <a:gd name="textAreaBottom" fmla="*/ 2160360 h 21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7"/>
                  <a:pt x="10800" y="753"/>
                </a:cubicBezTo>
                <a:lnTo>
                  <a:pt x="10800" y="10047"/>
                </a:lnTo>
                <a:cubicBezTo>
                  <a:pt x="10800" y="10424"/>
                  <a:pt x="16200" y="10800"/>
                  <a:pt x="21600" y="10800"/>
                </a:cubicBezTo>
                <a:cubicBezTo>
                  <a:pt x="16200" y="10800"/>
                  <a:pt x="10800" y="11177"/>
                  <a:pt x="10800" y="11553"/>
                </a:cubicBezTo>
                <a:lnTo>
                  <a:pt x="10800" y="20847"/>
                </a:lnTo>
                <a:cubicBezTo>
                  <a:pt x="10800" y="2122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42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Channel Headphone Volume Control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hteck 6"/>
          <p:cNvSpPr/>
          <p:nvPr/>
        </p:nvSpPr>
        <p:spPr>
          <a:xfrm>
            <a:off x="219240" y="3657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Channel Headphone Volume Control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219240" y="1224000"/>
            <a:ext cx="8705520" cy="1054080"/>
          </a:xfrm>
          <a:prstGeom prst="rect">
            <a:avLst/>
          </a:prstGeom>
          <a:ln w="0">
            <a:noFill/>
          </a:ln>
        </p:spPr>
      </p:pic>
      <p:sp>
        <p:nvSpPr>
          <p:cNvPr id="445" name="Rechteck 10"/>
          <p:cNvSpPr/>
          <p:nvPr/>
        </p:nvSpPr>
        <p:spPr>
          <a:xfrm>
            <a:off x="304920" y="23223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RS = Left / Right simultaneous update volume ( 0 = OFF, 1 = 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ZC = Left channel zero cross (0 = OFF, 1 = ON). If ON, volume updates only at zero cross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HV = Left Headphone Volum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x7F = +6dB; 0x79 = 0dB; 0x30 = -73dB (mu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2"/>
          <a:stretch/>
        </p:blipFill>
        <p:spPr>
          <a:xfrm>
            <a:off x="304920" y="4119480"/>
            <a:ext cx="8705880" cy="9795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4"/>
          <p:cNvSpPr/>
          <p:nvPr/>
        </p:nvSpPr>
        <p:spPr>
          <a:xfrm>
            <a:off x="304920" y="5238720"/>
            <a:ext cx="86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LS = Right / Left simultaneous update volume ( 0 = OFF, 1 = 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ZC = Right channel zero cross (0 = OFF, 1 = ON). If ON, volume updates only at zero cross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HV = Right Headphone Volum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x7F = +6dB; 0x79 = 0dB; 0x30 = -73dB (mu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49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ogue Audio Path Control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hteck 10"/>
          <p:cNvSpPr/>
          <p:nvPr/>
        </p:nvSpPr>
        <p:spPr>
          <a:xfrm>
            <a:off x="304920" y="2322360"/>
            <a:ext cx="8629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B = Microphone boost (0 = 0dB; 1 = 20d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M = Microphone mute (0 = normal; 1 = mu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EL = Input Select for Audio (0 = line; 1 = Micropho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P  = Bypass (0 = disabled; 1 = enabled (line in to line out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C = DAC select ( 0 = DAC OFF; 1 = DAC 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 = Added Side Tone  (  0 = OFF; 1 = 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 = Side Tone Volume 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STE = ON, MIC is routed both to headphone &amp; line out 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42920" y="1224000"/>
            <a:ext cx="8924760" cy="1012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1395360" y="4354560"/>
            <a:ext cx="5553000" cy="2314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54" name="Rechteck 10"/>
          <p:cNvSpPr/>
          <p:nvPr/>
        </p:nvSpPr>
        <p:spPr>
          <a:xfrm>
            <a:off x="219240" y="2322360"/>
            <a:ext cx="86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CHP = ADC High Pass Filter (0 = enabled; 1 = disab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EMP = De-emphasis control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 = disabled, 1 = 32kHz, 2 = 44.1kHz, 3 = 48kHz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CM  = DAC soft mute (0 = disabled; 1 = enab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219240" y="1224000"/>
            <a:ext cx="8715240" cy="1098360"/>
          </a:xfrm>
          <a:prstGeom prst="rect">
            <a:avLst/>
          </a:prstGeom>
          <a:ln w="0">
            <a:noFill/>
          </a:ln>
        </p:spPr>
      </p:pic>
      <p:sp>
        <p:nvSpPr>
          <p:cNvPr id="456" name="Rechteck 7"/>
          <p:cNvSpPr/>
          <p:nvPr/>
        </p:nvSpPr>
        <p:spPr>
          <a:xfrm>
            <a:off x="219240" y="6476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Audio Path Control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58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Audio Interface Format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hteck 10"/>
          <p:cNvSpPr/>
          <p:nvPr/>
        </p:nvSpPr>
        <p:spPr>
          <a:xfrm>
            <a:off x="219240" y="2505240"/>
            <a:ext cx="8629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 = Data Forma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MSB first, right alig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MSB first, left alig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= I2S – Format, MSB first, left -1 alig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= DSP – Format; Frame sync followed by 2 wo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WL = Input word leng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16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20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= 24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= 32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RP = DAC left /right phas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right channel on and LRCIN =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right channel on and LRCIN  = 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RSWAP = DAC left / right swap (0 = NO, 1 = Y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S = Master Mode ( 0 = Slave; 1 = Mas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19240" y="1224000"/>
            <a:ext cx="8629560" cy="112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62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Rate Control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hteck 10"/>
          <p:cNvSpPr/>
          <p:nvPr/>
        </p:nvSpPr>
        <p:spPr>
          <a:xfrm>
            <a:off x="219240" y="2286000"/>
            <a:ext cx="8629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B  = Clock Mode Select  (0 = Normal, 1 = US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SR = Base Oversampling R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B – Mode: 0 = 250fs, 1 = 272f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rmal – Mode: 0 = 256fs; 1 = 384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 = Sampling Ra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KIN = Clock Input Divider (0 = MCLK; 1 = MCLK/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KOUT = Clock Output Divider (0 = MCLK; 1 = MCLK/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219240" y="1224000"/>
            <a:ext cx="8629560" cy="1062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"/>
          <p:cNvPicPr/>
          <p:nvPr/>
        </p:nvPicPr>
        <p:blipFill>
          <a:blip r:embed="rId2"/>
          <a:stretch/>
        </p:blipFill>
        <p:spPr>
          <a:xfrm>
            <a:off x="2571840" y="3467160"/>
            <a:ext cx="6495840" cy="266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67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Interface Activation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hteck 10"/>
          <p:cNvSpPr/>
          <p:nvPr/>
        </p:nvSpPr>
        <p:spPr>
          <a:xfrm>
            <a:off x="219240" y="2654280"/>
            <a:ext cx="86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  = Activate Interface (0 = NO, 1 = Y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219240" y="1400040"/>
            <a:ext cx="8848440" cy="109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IC23B Exercises: 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71" name="Rechteck 4"/>
          <p:cNvSpPr/>
          <p:nvPr/>
        </p:nvSpPr>
        <p:spPr>
          <a:xfrm>
            <a:off x="219240" y="76212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13_1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ize SPI-A as control channel for AIC23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ize McBSP-A as data channel for AIC23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C23B is master and sends the 12MHz base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C23B sends a 44.1 kHz frame sync signal to McB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sinusoidal signal, based on the BOOT-ROM look-up table  to the DAC of the AIC23B; sample rate is 44.1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13_2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wo different signals to left and right audio chann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volume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13_3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ment of Lab13_2; reduce Interrupt Service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 Exercise: 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73" name="Rechteck 4"/>
          <p:cNvSpPr/>
          <p:nvPr/>
        </p:nvSpPr>
        <p:spPr>
          <a:xfrm>
            <a:off x="219240" y="7621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13_4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ize McBSP-B in SPI-Mode for AT252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data to EEPROM, if button PB1 (GPIO17) is pushed. Read the current value from Hex-Encoder (GPIO12…15) and store it into EEPROM-address 0x0040, bits 3…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data from EEPROM-address 0x0040, when button PB2 (GPIO48) is pushed and display bits 2…0 at LEDs LD4 (GPOI49), LD3 (GPIO34) and LD1 (GPIO9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Grafik 3" descr=""/>
          <p:cNvPicPr/>
          <p:nvPr/>
        </p:nvPicPr>
        <p:blipFill>
          <a:blip r:embed="rId1"/>
          <a:stretch/>
        </p:blipFill>
        <p:spPr>
          <a:xfrm>
            <a:off x="1984320" y="4246560"/>
            <a:ext cx="4759560" cy="2354400"/>
          </a:xfrm>
          <a:prstGeom prst="rect">
            <a:avLst/>
          </a:prstGeom>
          <a:ln w="9360">
            <a:solidFill>
              <a:srgbClr val="000f40"/>
            </a:solidFill>
            <a:miter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Features of McBSP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52280" y="685800"/>
            <a:ext cx="8763120" cy="56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ll - duplex commun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buffered transmission and triple-buffered reception, allowing a continuous data str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ependent clocking and framing for reception and 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interrupts to the CPU and send DMA events to the DMA -  controll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8 channels for transmission and re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channel selection modes that enable or disable block transfers in each of the chann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 interface to industry-standard CODECs, analog interface chips (AICs), and other serially connected A/D and D/A de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 for external generation of clock signals and frame -synchronization signa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ogrammable sample rate generator for internal generation and control of clock signals and frame - synchronization sign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76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Diagra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219240" y="1862280"/>
            <a:ext cx="8600760" cy="340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79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Status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18"/>
          <p:cNvSpPr/>
          <p:nvPr/>
        </p:nvSpPr>
        <p:spPr>
          <a:xfrm rot="5400000">
            <a:off x="4800600" y="1981440"/>
            <a:ext cx="457200" cy="1218960"/>
          </a:xfrm>
          <a:custGeom>
            <a:avLst/>
            <a:gdLst>
              <a:gd name="textAreaLeft" fmla="*/ 0 w 457200"/>
              <a:gd name="textAreaRight" fmla="*/ 164880 w 4572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2472840" y="3267720"/>
            <a:ext cx="37454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0 = no 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1 = 0x6000 – 0x7FFF prote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 = 0x4000 – 0x7FFF prote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1 = 0x0000 – 0x7FFF protect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1531080" y="5479560"/>
            <a:ext cx="26146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Write Protect En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no write acc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6491160" y="3041640"/>
            <a:ext cx="265608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Write in prog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no write cy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write in prog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Freeform 22"/>
          <p:cNvSpPr/>
          <p:nvPr/>
        </p:nvSpPr>
        <p:spPr>
          <a:xfrm>
            <a:off x="1295280" y="2438280"/>
            <a:ext cx="190800" cy="3429000"/>
          </a:xfrm>
          <a:custGeom>
            <a:avLst/>
            <a:gdLst>
              <a:gd name="textAreaLeft" fmla="*/ 0 w 190800"/>
              <a:gd name="textAreaRight" fmla="*/ 191160 w 1908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44" h="2304">
                <a:moveTo>
                  <a:pt x="0" y="0"/>
                </a:moveTo>
                <a:lnTo>
                  <a:pt x="0" y="2304"/>
                </a:lnTo>
                <a:lnTo>
                  <a:pt x="144" y="2304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Group 32"/>
          <p:cNvGrpSpPr/>
          <p:nvPr/>
        </p:nvGrpSpPr>
        <p:grpSpPr>
          <a:xfrm>
            <a:off x="762120" y="1905120"/>
            <a:ext cx="6705360" cy="457200"/>
            <a:chOff x="762120" y="1905120"/>
            <a:chExt cx="6705360" cy="457200"/>
          </a:xfrm>
        </p:grpSpPr>
        <p:sp>
          <p:nvSpPr>
            <p:cNvPr id="486" name="Rectangle 3"/>
            <p:cNvSpPr/>
            <p:nvPr/>
          </p:nvSpPr>
          <p:spPr>
            <a:xfrm>
              <a:off x="762120" y="19051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Rectangle 4"/>
            <p:cNvSpPr/>
            <p:nvPr/>
          </p:nvSpPr>
          <p:spPr>
            <a:xfrm>
              <a:off x="1600200" y="19051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Rectangle 6"/>
            <p:cNvSpPr/>
            <p:nvPr/>
          </p:nvSpPr>
          <p:spPr>
            <a:xfrm>
              <a:off x="3276720" y="19051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Rectangle 7"/>
            <p:cNvSpPr/>
            <p:nvPr/>
          </p:nvSpPr>
          <p:spPr>
            <a:xfrm>
              <a:off x="4114800" y="19051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Rectangle 10"/>
            <p:cNvSpPr/>
            <p:nvPr/>
          </p:nvSpPr>
          <p:spPr>
            <a:xfrm>
              <a:off x="4952880" y="190512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Rectangle 26"/>
            <p:cNvSpPr/>
            <p:nvPr/>
          </p:nvSpPr>
          <p:spPr>
            <a:xfrm>
              <a:off x="2438280" y="190512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Rectangle 30"/>
            <p:cNvSpPr/>
            <p:nvPr/>
          </p:nvSpPr>
          <p:spPr>
            <a:xfrm>
              <a:off x="5791320" y="19051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Rectangle 31"/>
            <p:cNvSpPr/>
            <p:nvPr/>
          </p:nvSpPr>
          <p:spPr>
            <a:xfrm>
              <a:off x="6629400" y="19051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Group 36"/>
          <p:cNvGrpSpPr/>
          <p:nvPr/>
        </p:nvGrpSpPr>
        <p:grpSpPr>
          <a:xfrm>
            <a:off x="1144440" y="1600200"/>
            <a:ext cx="5933880" cy="313200"/>
            <a:chOff x="1144440" y="1600200"/>
            <a:chExt cx="5933880" cy="313200"/>
          </a:xfrm>
        </p:grpSpPr>
        <p:sp>
          <p:nvSpPr>
            <p:cNvPr id="495" name="Text Box 9"/>
            <p:cNvSpPr/>
            <p:nvPr/>
          </p:nvSpPr>
          <p:spPr>
            <a:xfrm>
              <a:off x="678312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602136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Text Box 12"/>
            <p:cNvSpPr/>
            <p:nvPr/>
          </p:nvSpPr>
          <p:spPr>
            <a:xfrm>
              <a:off x="525924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13"/>
            <p:cNvSpPr/>
            <p:nvPr/>
          </p:nvSpPr>
          <p:spPr>
            <a:xfrm>
              <a:off x="114444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Text Box 14"/>
            <p:cNvSpPr/>
            <p:nvPr/>
          </p:nvSpPr>
          <p:spPr>
            <a:xfrm>
              <a:off x="190656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Text Box 15"/>
            <p:cNvSpPr/>
            <p:nvPr/>
          </p:nvSpPr>
          <p:spPr>
            <a:xfrm>
              <a:off x="276372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Text Box 27"/>
            <p:cNvSpPr/>
            <p:nvPr/>
          </p:nvSpPr>
          <p:spPr>
            <a:xfrm>
              <a:off x="442116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Text Box 33"/>
            <p:cNvSpPr/>
            <p:nvPr/>
          </p:nvSpPr>
          <p:spPr>
            <a:xfrm>
              <a:off x="358272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3" name="Group 49"/>
          <p:cNvGrpSpPr/>
          <p:nvPr/>
        </p:nvGrpSpPr>
        <p:grpSpPr>
          <a:xfrm>
            <a:off x="5486400" y="5257080"/>
            <a:ext cx="2984400" cy="786600"/>
            <a:chOff x="5486400" y="5257080"/>
            <a:chExt cx="2984400" cy="786600"/>
          </a:xfrm>
        </p:grpSpPr>
        <p:sp>
          <p:nvSpPr>
            <p:cNvPr id="504" name="Text Box 17"/>
            <p:cNvSpPr/>
            <p:nvPr/>
          </p:nvSpPr>
          <p:spPr>
            <a:xfrm>
              <a:off x="5486400" y="5257080"/>
              <a:ext cx="29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Write Enable Lat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Rectangle 35"/>
            <p:cNvSpPr/>
            <p:nvPr/>
          </p:nvSpPr>
          <p:spPr>
            <a:xfrm>
              <a:off x="6017760" y="5486400"/>
              <a:ext cx="2116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0 = write disabl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1 = write enabl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Group 37"/>
          <p:cNvGrpSpPr/>
          <p:nvPr/>
        </p:nvGrpSpPr>
        <p:grpSpPr>
          <a:xfrm>
            <a:off x="768960" y="1981080"/>
            <a:ext cx="6603120" cy="313200"/>
            <a:chOff x="768960" y="1981080"/>
            <a:chExt cx="6603120" cy="313200"/>
          </a:xfrm>
        </p:grpSpPr>
        <p:sp>
          <p:nvSpPr>
            <p:cNvPr id="507" name="Text Box 38"/>
            <p:cNvSpPr/>
            <p:nvPr/>
          </p:nvSpPr>
          <p:spPr>
            <a:xfrm>
              <a:off x="6633720" y="1981080"/>
              <a:ext cx="7383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/R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Text Box 39"/>
            <p:cNvSpPr/>
            <p:nvPr/>
          </p:nvSpPr>
          <p:spPr>
            <a:xfrm>
              <a:off x="5856120" y="1981080"/>
              <a:ext cx="7264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Text Box 40"/>
            <p:cNvSpPr/>
            <p:nvPr/>
          </p:nvSpPr>
          <p:spPr>
            <a:xfrm>
              <a:off x="5140440" y="1981080"/>
              <a:ext cx="5875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P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Text Box 41"/>
            <p:cNvSpPr/>
            <p:nvPr/>
          </p:nvSpPr>
          <p:spPr>
            <a:xfrm>
              <a:off x="768960" y="1981080"/>
              <a:ext cx="8665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P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Text Box 42"/>
            <p:cNvSpPr/>
            <p:nvPr/>
          </p:nvSpPr>
          <p:spPr>
            <a:xfrm>
              <a:off x="1836720" y="198108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Text Box 43"/>
            <p:cNvSpPr/>
            <p:nvPr/>
          </p:nvSpPr>
          <p:spPr>
            <a:xfrm>
              <a:off x="2720520" y="198108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Text Box 44"/>
            <p:cNvSpPr/>
            <p:nvPr/>
          </p:nvSpPr>
          <p:spPr>
            <a:xfrm>
              <a:off x="4277880" y="1981080"/>
              <a:ext cx="5875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P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Text Box 45"/>
            <p:cNvSpPr/>
            <p:nvPr/>
          </p:nvSpPr>
          <p:spPr>
            <a:xfrm>
              <a:off x="3562200" y="198108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Line 46"/>
          <p:cNvSpPr/>
          <p:nvPr/>
        </p:nvSpPr>
        <p:spPr>
          <a:xfrm>
            <a:off x="7086600" y="23623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47"/>
          <p:cNvSpPr/>
          <p:nvPr/>
        </p:nvSpPr>
        <p:spPr>
          <a:xfrm>
            <a:off x="6248520" y="2362320"/>
            <a:ext cx="380880" cy="2819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48"/>
          <p:cNvSpPr/>
          <p:nvPr/>
        </p:nvSpPr>
        <p:spPr>
          <a:xfrm>
            <a:off x="3048120" y="3047400"/>
            <a:ext cx="29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Block protect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19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523880" y="1397160"/>
          <a:ext cx="6096240" cy="40669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stru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 En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00 01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D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 Dis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00 0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DS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 Status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00 0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DS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 Status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00 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 D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00 0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 D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00 0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22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– Enable (WREN) Tim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219240" y="1347840"/>
            <a:ext cx="8678520" cy="28432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7"/>
          <p:cNvSpPr/>
          <p:nvPr/>
        </p:nvSpPr>
        <p:spPr>
          <a:xfrm>
            <a:off x="1085760" y="419112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© Atmel Corporation; Datasheet  AT25256 (doc0872.pdf)  – 2005; Page 10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26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Status Register (RDSR) Tim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933480" y="489600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© Atmel Corporation; Datasheet  AT25256 (doc0872.pdf)  – 2005; Page 10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219240" y="1224000"/>
            <a:ext cx="8278560" cy="367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30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(READ) Tim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933480" y="541512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© Atmel Corporation; Datasheet  AT25256 (doc0872.pdf)  – 2005; Page 11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219240" y="1623960"/>
            <a:ext cx="882936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34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(WRITE) Tim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933480" y="541512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© Atmel Corporation; Datasheet  AT25256 (doc0872.pdf)  – 2005; Page 11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42920" y="1471680"/>
            <a:ext cx="8858160" cy="391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538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Features of McBSP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685800"/>
            <a:ext cx="8763120" cy="60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rect interfac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1/E1 fra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OM-2 compliant dev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97-compliant devices with multiphase frame cap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2S compliant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PI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riable data sizes: 8, 12, 16, 20, 24, and 32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-law (Europe) and µ-law (US &amp; Japan) hardware compression / exp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Definition: Word and Fram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679040" y="4375080"/>
            <a:ext cx="599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” - contains one or multiple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words per frame: 1-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3276720" y="2651040"/>
            <a:ext cx="4876560" cy="457200"/>
            <a:chOff x="3276720" y="2651040"/>
            <a:chExt cx="4876560" cy="457200"/>
          </a:xfrm>
        </p:grpSpPr>
        <p:sp>
          <p:nvSpPr>
            <p:cNvPr id="142" name="AutoShape 5"/>
            <p:cNvSpPr/>
            <p:nvPr/>
          </p:nvSpPr>
          <p:spPr>
            <a:xfrm>
              <a:off x="3276720" y="2651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3886200" y="2651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4495680" y="2651040"/>
              <a:ext cx="609840" cy="457200"/>
            </a:xfrm>
            <a:prstGeom prst="hexagon">
              <a:avLst>
                <a:gd name="adj" fmla="val 33346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AutoShape 8"/>
            <p:cNvSpPr/>
            <p:nvPr/>
          </p:nvSpPr>
          <p:spPr>
            <a:xfrm>
              <a:off x="5105520" y="2651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AutoShape 9"/>
            <p:cNvSpPr/>
            <p:nvPr/>
          </p:nvSpPr>
          <p:spPr>
            <a:xfrm>
              <a:off x="5715000" y="2651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10"/>
            <p:cNvSpPr/>
            <p:nvPr/>
          </p:nvSpPr>
          <p:spPr>
            <a:xfrm>
              <a:off x="6324480" y="2651040"/>
              <a:ext cx="609840" cy="457200"/>
            </a:xfrm>
            <a:prstGeom prst="hexagon">
              <a:avLst>
                <a:gd name="adj" fmla="val 33346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11"/>
            <p:cNvSpPr/>
            <p:nvPr/>
          </p:nvSpPr>
          <p:spPr>
            <a:xfrm>
              <a:off x="6934320" y="2651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12"/>
            <p:cNvSpPr/>
            <p:nvPr/>
          </p:nvSpPr>
          <p:spPr>
            <a:xfrm>
              <a:off x="7543800" y="2651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Group 13"/>
          <p:cNvGrpSpPr/>
          <p:nvPr/>
        </p:nvGrpSpPr>
        <p:grpSpPr>
          <a:xfrm>
            <a:off x="3276720" y="3300480"/>
            <a:ext cx="4876560" cy="459720"/>
            <a:chOff x="3276720" y="3300480"/>
            <a:chExt cx="4876560" cy="459720"/>
          </a:xfrm>
        </p:grpSpPr>
        <p:sp>
          <p:nvSpPr>
            <p:cNvPr id="151" name="Text Box 14"/>
            <p:cNvSpPr/>
            <p:nvPr/>
          </p:nvSpPr>
          <p:spPr>
            <a:xfrm>
              <a:off x="5189400" y="330048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>
              <a:off x="6400800" y="3465360"/>
              <a:ext cx="17524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 flipH="1">
              <a:off x="3276720" y="3465360"/>
              <a:ext cx="17524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838080" y="1447920"/>
            <a:ext cx="7925040" cy="2437920"/>
            <a:chOff x="838080" y="1447920"/>
            <a:chExt cx="7925040" cy="2437920"/>
          </a:xfrm>
        </p:grpSpPr>
        <p:sp>
          <p:nvSpPr>
            <p:cNvPr id="155" name="Line 18"/>
            <p:cNvSpPr/>
            <p:nvPr/>
          </p:nvSpPr>
          <p:spPr>
            <a:xfrm>
              <a:off x="838080" y="1447920"/>
              <a:ext cx="0" cy="243792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19"/>
            <p:cNvSpPr/>
            <p:nvPr/>
          </p:nvSpPr>
          <p:spPr>
            <a:xfrm>
              <a:off x="1447920" y="1447920"/>
              <a:ext cx="0" cy="21128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2057400" y="1447920"/>
              <a:ext cx="0" cy="21128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>
              <a:off x="2666880" y="1447920"/>
              <a:ext cx="0" cy="243792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22"/>
            <p:cNvSpPr/>
            <p:nvPr/>
          </p:nvSpPr>
          <p:spPr>
            <a:xfrm>
              <a:off x="3276720" y="1447920"/>
              <a:ext cx="0" cy="243792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" name="Group 23"/>
            <p:cNvGrpSpPr/>
            <p:nvPr/>
          </p:nvGrpSpPr>
          <p:grpSpPr>
            <a:xfrm>
              <a:off x="3886200" y="1447920"/>
              <a:ext cx="3657600" cy="1869120"/>
              <a:chOff x="3886200" y="1447920"/>
              <a:chExt cx="3657600" cy="1869120"/>
            </a:xfrm>
          </p:grpSpPr>
          <p:sp>
            <p:nvSpPr>
              <p:cNvPr id="161" name="Line 24"/>
              <p:cNvSpPr/>
              <p:nvPr/>
            </p:nvSpPr>
            <p:spPr>
              <a:xfrm>
                <a:off x="388620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Line 25"/>
              <p:cNvSpPr/>
              <p:nvPr/>
            </p:nvSpPr>
            <p:spPr>
              <a:xfrm>
                <a:off x="449568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Line 26"/>
              <p:cNvSpPr/>
              <p:nvPr/>
            </p:nvSpPr>
            <p:spPr>
              <a:xfrm>
                <a:off x="510552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Line 27"/>
              <p:cNvSpPr/>
              <p:nvPr/>
            </p:nvSpPr>
            <p:spPr>
              <a:xfrm>
                <a:off x="571500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Line 28"/>
              <p:cNvSpPr/>
              <p:nvPr/>
            </p:nvSpPr>
            <p:spPr>
              <a:xfrm>
                <a:off x="632448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29"/>
              <p:cNvSpPr/>
              <p:nvPr/>
            </p:nvSpPr>
            <p:spPr>
              <a:xfrm>
                <a:off x="693432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Line 30"/>
              <p:cNvSpPr/>
              <p:nvPr/>
            </p:nvSpPr>
            <p:spPr>
              <a:xfrm>
                <a:off x="754380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8" name="Line 31"/>
            <p:cNvSpPr/>
            <p:nvPr/>
          </p:nvSpPr>
          <p:spPr>
            <a:xfrm>
              <a:off x="8153280" y="1447920"/>
              <a:ext cx="0" cy="243792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32"/>
            <p:cNvSpPr/>
            <p:nvPr/>
          </p:nvSpPr>
          <p:spPr>
            <a:xfrm>
              <a:off x="8763120" y="1447920"/>
              <a:ext cx="0" cy="243792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Group 33"/>
          <p:cNvGrpSpPr/>
          <p:nvPr/>
        </p:nvGrpSpPr>
        <p:grpSpPr>
          <a:xfrm>
            <a:off x="1296360" y="3456000"/>
            <a:ext cx="909360" cy="650880"/>
            <a:chOff x="1296360" y="3456000"/>
            <a:chExt cx="909360" cy="650880"/>
          </a:xfrm>
        </p:grpSpPr>
        <p:sp>
          <p:nvSpPr>
            <p:cNvPr id="171" name="Line 34"/>
            <p:cNvSpPr/>
            <p:nvPr/>
          </p:nvSpPr>
          <p:spPr>
            <a:xfrm flipH="1">
              <a:off x="1447560" y="3456000"/>
              <a:ext cx="6094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Text Box 35"/>
            <p:cNvSpPr/>
            <p:nvPr/>
          </p:nvSpPr>
          <p:spPr>
            <a:xfrm>
              <a:off x="1296360" y="364716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36"/>
          <p:cNvGrpSpPr/>
          <p:nvPr/>
        </p:nvGrpSpPr>
        <p:grpSpPr>
          <a:xfrm>
            <a:off x="367200" y="2660760"/>
            <a:ext cx="1690200" cy="502200"/>
            <a:chOff x="367200" y="2660760"/>
            <a:chExt cx="1690200" cy="502200"/>
          </a:xfrm>
        </p:grpSpPr>
        <p:grpSp>
          <p:nvGrpSpPr>
            <p:cNvPr id="174" name="Group 37"/>
            <p:cNvGrpSpPr/>
            <p:nvPr/>
          </p:nvGrpSpPr>
          <p:grpSpPr>
            <a:xfrm>
              <a:off x="838080" y="2660760"/>
              <a:ext cx="1219320" cy="453960"/>
              <a:chOff x="838080" y="2660760"/>
              <a:chExt cx="1219320" cy="453960"/>
            </a:xfrm>
          </p:grpSpPr>
          <p:sp>
            <p:nvSpPr>
              <p:cNvPr id="175" name="AutoShape 38"/>
              <p:cNvSpPr/>
              <p:nvPr/>
            </p:nvSpPr>
            <p:spPr>
              <a:xfrm>
                <a:off x="838080" y="2660760"/>
                <a:ext cx="609840" cy="453960"/>
              </a:xfrm>
              <a:prstGeom prst="hexagon">
                <a:avLst>
                  <a:gd name="adj" fmla="val 33584"/>
                  <a:gd name="vf" fmla="val 115470"/>
                </a:avLst>
              </a:prstGeom>
              <a:solidFill>
                <a:srgbClr val="000f4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w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AutoShape 39"/>
              <p:cNvSpPr/>
              <p:nvPr/>
            </p:nvSpPr>
            <p:spPr>
              <a:xfrm>
                <a:off x="1447920" y="2660760"/>
                <a:ext cx="609480" cy="453960"/>
              </a:xfrm>
              <a:prstGeom prst="hexagon">
                <a:avLst>
                  <a:gd name="adj" fmla="val 33565"/>
                  <a:gd name="vf" fmla="val 115470"/>
                </a:avLst>
              </a:prstGeom>
              <a:solidFill>
                <a:srgbClr val="000f4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w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Text Box 40"/>
            <p:cNvSpPr/>
            <p:nvPr/>
          </p:nvSpPr>
          <p:spPr>
            <a:xfrm>
              <a:off x="367200" y="270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41"/>
          <p:cNvGrpSpPr/>
          <p:nvPr/>
        </p:nvGrpSpPr>
        <p:grpSpPr>
          <a:xfrm>
            <a:off x="154080" y="1805040"/>
            <a:ext cx="8810640" cy="549720"/>
            <a:chOff x="154080" y="1805040"/>
            <a:chExt cx="8810640" cy="549720"/>
          </a:xfrm>
        </p:grpSpPr>
        <p:sp>
          <p:nvSpPr>
            <p:cNvPr id="179" name="Text Box 42"/>
            <p:cNvSpPr/>
            <p:nvPr/>
          </p:nvSpPr>
          <p:spPr>
            <a:xfrm>
              <a:off x="154080" y="189504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43"/>
            <p:cNvSpPr/>
            <p:nvPr/>
          </p:nvSpPr>
          <p:spPr>
            <a:xfrm>
              <a:off x="523800" y="1805040"/>
              <a:ext cx="8440920" cy="461880"/>
            </a:xfrm>
            <a:custGeom>
              <a:avLst/>
              <a:gdLst>
                <a:gd name="textAreaLeft" fmla="*/ 0 w 8440920"/>
                <a:gd name="textAreaRight" fmla="*/ 8441280 w 844092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5317" h="293">
                  <a:moveTo>
                    <a:pt x="0" y="293"/>
                  </a:moveTo>
                  <a:lnTo>
                    <a:pt x="1644" y="293"/>
                  </a:lnTo>
                  <a:lnTo>
                    <a:pt x="1644" y="10"/>
                  </a:lnTo>
                  <a:lnTo>
                    <a:pt x="1734" y="10"/>
                  </a:lnTo>
                  <a:lnTo>
                    <a:pt x="1734" y="292"/>
                  </a:lnTo>
                  <a:lnTo>
                    <a:pt x="5118" y="293"/>
                  </a:lnTo>
                  <a:lnTo>
                    <a:pt x="5118" y="0"/>
                  </a:lnTo>
                  <a:lnTo>
                    <a:pt x="5194" y="0"/>
                  </a:lnTo>
                  <a:lnTo>
                    <a:pt x="5194" y="293"/>
                  </a:lnTo>
                  <a:lnTo>
                    <a:pt x="5317" y="29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Definition: Bit and Word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44640" y="1447920"/>
            <a:ext cx="9060840" cy="515520"/>
            <a:chOff x="44640" y="1447920"/>
            <a:chExt cx="9060840" cy="515520"/>
          </a:xfrm>
        </p:grpSpPr>
        <p:grpSp>
          <p:nvGrpSpPr>
            <p:cNvPr id="183" name="Group 4"/>
            <p:cNvGrpSpPr/>
            <p:nvPr/>
          </p:nvGrpSpPr>
          <p:grpSpPr>
            <a:xfrm>
              <a:off x="571320" y="1447920"/>
              <a:ext cx="8534160" cy="457200"/>
              <a:chOff x="571320" y="1447920"/>
              <a:chExt cx="8534160" cy="457200"/>
            </a:xfrm>
          </p:grpSpPr>
          <p:sp>
            <p:nvSpPr>
              <p:cNvPr id="184" name="Line 5"/>
              <p:cNvSpPr/>
              <p:nvPr/>
            </p:nvSpPr>
            <p:spPr>
              <a:xfrm>
                <a:off x="875880" y="14479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Line 6"/>
              <p:cNvSpPr/>
              <p:nvPr/>
            </p:nvSpPr>
            <p:spPr>
              <a:xfrm>
                <a:off x="118080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Line 7"/>
              <p:cNvSpPr/>
              <p:nvPr/>
            </p:nvSpPr>
            <p:spPr>
              <a:xfrm>
                <a:off x="1180800" y="19051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Line 8"/>
              <p:cNvSpPr/>
              <p:nvPr/>
            </p:nvSpPr>
            <p:spPr>
              <a:xfrm>
                <a:off x="148572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Line 9"/>
              <p:cNvSpPr/>
              <p:nvPr/>
            </p:nvSpPr>
            <p:spPr>
              <a:xfrm>
                <a:off x="1485720" y="1447920"/>
                <a:ext cx="304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Line 10"/>
              <p:cNvSpPr/>
              <p:nvPr/>
            </p:nvSpPr>
            <p:spPr>
              <a:xfrm>
                <a:off x="179028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Line 11"/>
              <p:cNvSpPr/>
              <p:nvPr/>
            </p:nvSpPr>
            <p:spPr>
              <a:xfrm>
                <a:off x="1790280" y="19051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Line 12"/>
              <p:cNvSpPr/>
              <p:nvPr/>
            </p:nvSpPr>
            <p:spPr>
              <a:xfrm>
                <a:off x="209520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2" name="Group 13"/>
              <p:cNvGrpSpPr/>
              <p:nvPr/>
            </p:nvGrpSpPr>
            <p:grpSpPr>
              <a:xfrm>
                <a:off x="2095200" y="1447920"/>
                <a:ext cx="609480" cy="457200"/>
                <a:chOff x="2095200" y="1447920"/>
                <a:chExt cx="609480" cy="457200"/>
              </a:xfrm>
            </p:grpSpPr>
            <p:sp>
              <p:nvSpPr>
                <p:cNvPr id="193" name="Line 14"/>
                <p:cNvSpPr/>
                <p:nvPr/>
              </p:nvSpPr>
              <p:spPr>
                <a:xfrm>
                  <a:off x="209520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15"/>
                <p:cNvSpPr/>
                <p:nvPr/>
              </p:nvSpPr>
              <p:spPr>
                <a:xfrm>
                  <a:off x="240012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16"/>
                <p:cNvSpPr/>
                <p:nvPr/>
              </p:nvSpPr>
              <p:spPr>
                <a:xfrm>
                  <a:off x="240012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17"/>
                <p:cNvSpPr/>
                <p:nvPr/>
              </p:nvSpPr>
              <p:spPr>
                <a:xfrm>
                  <a:off x="270468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Line 18"/>
              <p:cNvSpPr/>
              <p:nvPr/>
            </p:nvSpPr>
            <p:spPr>
              <a:xfrm>
                <a:off x="2704680" y="14479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Line 19"/>
              <p:cNvSpPr/>
              <p:nvPr/>
            </p:nvSpPr>
            <p:spPr>
              <a:xfrm>
                <a:off x="300960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20"/>
              <p:cNvSpPr/>
              <p:nvPr/>
            </p:nvSpPr>
            <p:spPr>
              <a:xfrm>
                <a:off x="3009600" y="19051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21"/>
              <p:cNvSpPr/>
              <p:nvPr/>
            </p:nvSpPr>
            <p:spPr>
              <a:xfrm>
                <a:off x="331452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1" name="Group 22"/>
              <p:cNvGrpSpPr/>
              <p:nvPr/>
            </p:nvGrpSpPr>
            <p:grpSpPr>
              <a:xfrm>
                <a:off x="3314520" y="1447920"/>
                <a:ext cx="609480" cy="457200"/>
                <a:chOff x="3314520" y="1447920"/>
                <a:chExt cx="609480" cy="457200"/>
              </a:xfrm>
            </p:grpSpPr>
            <p:sp>
              <p:nvSpPr>
                <p:cNvPr id="202" name="Line 23"/>
                <p:cNvSpPr/>
                <p:nvPr/>
              </p:nvSpPr>
              <p:spPr>
                <a:xfrm>
                  <a:off x="331452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24"/>
                <p:cNvSpPr/>
                <p:nvPr/>
              </p:nvSpPr>
              <p:spPr>
                <a:xfrm>
                  <a:off x="361944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25"/>
                <p:cNvSpPr/>
                <p:nvPr/>
              </p:nvSpPr>
              <p:spPr>
                <a:xfrm>
                  <a:off x="361944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26"/>
                <p:cNvSpPr/>
                <p:nvPr/>
              </p:nvSpPr>
              <p:spPr>
                <a:xfrm>
                  <a:off x="392400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27"/>
              <p:cNvGrpSpPr/>
              <p:nvPr/>
            </p:nvGrpSpPr>
            <p:grpSpPr>
              <a:xfrm>
                <a:off x="3924000" y="1447920"/>
                <a:ext cx="609480" cy="457200"/>
                <a:chOff x="3924000" y="1447920"/>
                <a:chExt cx="609480" cy="457200"/>
              </a:xfrm>
            </p:grpSpPr>
            <p:sp>
              <p:nvSpPr>
                <p:cNvPr id="207" name="Line 28"/>
                <p:cNvSpPr/>
                <p:nvPr/>
              </p:nvSpPr>
              <p:spPr>
                <a:xfrm>
                  <a:off x="392400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29"/>
                <p:cNvSpPr/>
                <p:nvPr/>
              </p:nvSpPr>
              <p:spPr>
                <a:xfrm>
                  <a:off x="422892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30"/>
                <p:cNvSpPr/>
                <p:nvPr/>
              </p:nvSpPr>
              <p:spPr>
                <a:xfrm>
                  <a:off x="422892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Line 31"/>
                <p:cNvSpPr/>
                <p:nvPr/>
              </p:nvSpPr>
              <p:spPr>
                <a:xfrm>
                  <a:off x="453348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Group 32"/>
              <p:cNvGrpSpPr/>
              <p:nvPr/>
            </p:nvGrpSpPr>
            <p:grpSpPr>
              <a:xfrm>
                <a:off x="4533480" y="1447920"/>
                <a:ext cx="609480" cy="457200"/>
                <a:chOff x="4533480" y="1447920"/>
                <a:chExt cx="609480" cy="457200"/>
              </a:xfrm>
            </p:grpSpPr>
            <p:sp>
              <p:nvSpPr>
                <p:cNvPr id="212" name="Line 33"/>
                <p:cNvSpPr/>
                <p:nvPr/>
              </p:nvSpPr>
              <p:spPr>
                <a:xfrm>
                  <a:off x="453348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34"/>
                <p:cNvSpPr/>
                <p:nvPr/>
              </p:nvSpPr>
              <p:spPr>
                <a:xfrm>
                  <a:off x="483840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35"/>
                <p:cNvSpPr/>
                <p:nvPr/>
              </p:nvSpPr>
              <p:spPr>
                <a:xfrm>
                  <a:off x="483840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Line 36"/>
                <p:cNvSpPr/>
                <p:nvPr/>
              </p:nvSpPr>
              <p:spPr>
                <a:xfrm>
                  <a:off x="514296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37"/>
              <p:cNvGrpSpPr/>
              <p:nvPr/>
            </p:nvGrpSpPr>
            <p:grpSpPr>
              <a:xfrm>
                <a:off x="5143320" y="1447920"/>
                <a:ext cx="609480" cy="457200"/>
                <a:chOff x="5143320" y="1447920"/>
                <a:chExt cx="609480" cy="457200"/>
              </a:xfrm>
            </p:grpSpPr>
            <p:sp>
              <p:nvSpPr>
                <p:cNvPr id="217" name="Line 38"/>
                <p:cNvSpPr/>
                <p:nvPr/>
              </p:nvSpPr>
              <p:spPr>
                <a:xfrm>
                  <a:off x="514332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Line 39"/>
                <p:cNvSpPr/>
                <p:nvPr/>
              </p:nvSpPr>
              <p:spPr>
                <a:xfrm>
                  <a:off x="544824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40"/>
                <p:cNvSpPr/>
                <p:nvPr/>
              </p:nvSpPr>
              <p:spPr>
                <a:xfrm>
                  <a:off x="544824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Line 41"/>
                <p:cNvSpPr/>
                <p:nvPr/>
              </p:nvSpPr>
              <p:spPr>
                <a:xfrm>
                  <a:off x="575280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Group 42"/>
              <p:cNvGrpSpPr/>
              <p:nvPr/>
            </p:nvGrpSpPr>
            <p:grpSpPr>
              <a:xfrm>
                <a:off x="5752800" y="1447920"/>
                <a:ext cx="609480" cy="457200"/>
                <a:chOff x="5752800" y="1447920"/>
                <a:chExt cx="609480" cy="457200"/>
              </a:xfrm>
            </p:grpSpPr>
            <p:sp>
              <p:nvSpPr>
                <p:cNvPr id="222" name="Line 43"/>
                <p:cNvSpPr/>
                <p:nvPr/>
              </p:nvSpPr>
              <p:spPr>
                <a:xfrm>
                  <a:off x="575280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44"/>
                <p:cNvSpPr/>
                <p:nvPr/>
              </p:nvSpPr>
              <p:spPr>
                <a:xfrm>
                  <a:off x="605772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45"/>
                <p:cNvSpPr/>
                <p:nvPr/>
              </p:nvSpPr>
              <p:spPr>
                <a:xfrm>
                  <a:off x="605772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46"/>
                <p:cNvSpPr/>
                <p:nvPr/>
              </p:nvSpPr>
              <p:spPr>
                <a:xfrm>
                  <a:off x="636228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47"/>
              <p:cNvGrpSpPr/>
              <p:nvPr/>
            </p:nvGrpSpPr>
            <p:grpSpPr>
              <a:xfrm>
                <a:off x="6362280" y="1447920"/>
                <a:ext cx="609480" cy="457200"/>
                <a:chOff x="6362280" y="1447920"/>
                <a:chExt cx="609480" cy="457200"/>
              </a:xfrm>
            </p:grpSpPr>
            <p:sp>
              <p:nvSpPr>
                <p:cNvPr id="227" name="Line 48"/>
                <p:cNvSpPr/>
                <p:nvPr/>
              </p:nvSpPr>
              <p:spPr>
                <a:xfrm>
                  <a:off x="636228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Line 49"/>
                <p:cNvSpPr/>
                <p:nvPr/>
              </p:nvSpPr>
              <p:spPr>
                <a:xfrm>
                  <a:off x="666720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Line 50"/>
                <p:cNvSpPr/>
                <p:nvPr/>
              </p:nvSpPr>
              <p:spPr>
                <a:xfrm>
                  <a:off x="666720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Line 51"/>
                <p:cNvSpPr/>
                <p:nvPr/>
              </p:nvSpPr>
              <p:spPr>
                <a:xfrm>
                  <a:off x="697176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Group 52"/>
              <p:cNvGrpSpPr/>
              <p:nvPr/>
            </p:nvGrpSpPr>
            <p:grpSpPr>
              <a:xfrm>
                <a:off x="6972120" y="1447920"/>
                <a:ext cx="609480" cy="457200"/>
                <a:chOff x="6972120" y="1447920"/>
                <a:chExt cx="609480" cy="457200"/>
              </a:xfrm>
            </p:grpSpPr>
            <p:sp>
              <p:nvSpPr>
                <p:cNvPr id="232" name="Line 53"/>
                <p:cNvSpPr/>
                <p:nvPr/>
              </p:nvSpPr>
              <p:spPr>
                <a:xfrm>
                  <a:off x="697212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Line 54"/>
                <p:cNvSpPr/>
                <p:nvPr/>
              </p:nvSpPr>
              <p:spPr>
                <a:xfrm>
                  <a:off x="727704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Line 55"/>
                <p:cNvSpPr/>
                <p:nvPr/>
              </p:nvSpPr>
              <p:spPr>
                <a:xfrm>
                  <a:off x="727704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Line 56"/>
                <p:cNvSpPr/>
                <p:nvPr/>
              </p:nvSpPr>
              <p:spPr>
                <a:xfrm>
                  <a:off x="758160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57"/>
              <p:cNvGrpSpPr/>
              <p:nvPr/>
            </p:nvGrpSpPr>
            <p:grpSpPr>
              <a:xfrm>
                <a:off x="7581600" y="1447920"/>
                <a:ext cx="609480" cy="457200"/>
                <a:chOff x="7581600" y="1447920"/>
                <a:chExt cx="609480" cy="457200"/>
              </a:xfrm>
            </p:grpSpPr>
            <p:sp>
              <p:nvSpPr>
                <p:cNvPr id="237" name="Line 58"/>
                <p:cNvSpPr/>
                <p:nvPr/>
              </p:nvSpPr>
              <p:spPr>
                <a:xfrm>
                  <a:off x="758160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59"/>
                <p:cNvSpPr/>
                <p:nvPr/>
              </p:nvSpPr>
              <p:spPr>
                <a:xfrm>
                  <a:off x="788652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Line 60"/>
                <p:cNvSpPr/>
                <p:nvPr/>
              </p:nvSpPr>
              <p:spPr>
                <a:xfrm>
                  <a:off x="788652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Line 61"/>
                <p:cNvSpPr/>
                <p:nvPr/>
              </p:nvSpPr>
              <p:spPr>
                <a:xfrm>
                  <a:off x="819108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Line 62"/>
              <p:cNvSpPr/>
              <p:nvPr/>
            </p:nvSpPr>
            <p:spPr>
              <a:xfrm>
                <a:off x="8191080" y="14479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Line 63"/>
              <p:cNvSpPr/>
              <p:nvPr/>
            </p:nvSpPr>
            <p:spPr>
              <a:xfrm>
                <a:off x="849600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Line 64"/>
              <p:cNvSpPr/>
              <p:nvPr/>
            </p:nvSpPr>
            <p:spPr>
              <a:xfrm>
                <a:off x="8496000" y="19051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Line 65"/>
              <p:cNvSpPr/>
              <p:nvPr/>
            </p:nvSpPr>
            <p:spPr>
              <a:xfrm>
                <a:off x="87588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66"/>
              <p:cNvSpPr/>
              <p:nvPr/>
            </p:nvSpPr>
            <p:spPr>
              <a:xfrm>
                <a:off x="571320" y="1905120"/>
                <a:ext cx="304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Line 67"/>
              <p:cNvSpPr/>
              <p:nvPr/>
            </p:nvSpPr>
            <p:spPr>
              <a:xfrm>
                <a:off x="880092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Line 68"/>
              <p:cNvSpPr/>
              <p:nvPr/>
            </p:nvSpPr>
            <p:spPr>
              <a:xfrm>
                <a:off x="8800920" y="1447920"/>
                <a:ext cx="304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Text Box 69"/>
            <p:cNvSpPr/>
            <p:nvPr/>
          </p:nvSpPr>
          <p:spPr>
            <a:xfrm>
              <a:off x="44640" y="150372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Group 70"/>
          <p:cNvGrpSpPr/>
          <p:nvPr/>
        </p:nvGrpSpPr>
        <p:grpSpPr>
          <a:xfrm>
            <a:off x="876240" y="1981080"/>
            <a:ext cx="7924680" cy="2286000"/>
            <a:chOff x="876240" y="1981080"/>
            <a:chExt cx="7924680" cy="2286000"/>
          </a:xfrm>
        </p:grpSpPr>
        <p:sp>
          <p:nvSpPr>
            <p:cNvPr id="250" name="Line 71"/>
            <p:cNvSpPr/>
            <p:nvPr/>
          </p:nvSpPr>
          <p:spPr>
            <a:xfrm>
              <a:off x="87624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72"/>
            <p:cNvSpPr/>
            <p:nvPr/>
          </p:nvSpPr>
          <p:spPr>
            <a:xfrm>
              <a:off x="148572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73"/>
            <p:cNvSpPr/>
            <p:nvPr/>
          </p:nvSpPr>
          <p:spPr>
            <a:xfrm>
              <a:off x="209520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270504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331452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5" name="Group 76"/>
            <p:cNvGrpSpPr/>
            <p:nvPr/>
          </p:nvGrpSpPr>
          <p:grpSpPr>
            <a:xfrm>
              <a:off x="3924000" y="1981080"/>
              <a:ext cx="3657600" cy="1752480"/>
              <a:chOff x="3924000" y="1981080"/>
              <a:chExt cx="3657600" cy="1752480"/>
            </a:xfrm>
          </p:grpSpPr>
          <p:sp>
            <p:nvSpPr>
              <p:cNvPr id="256" name="Line 77"/>
              <p:cNvSpPr/>
              <p:nvPr/>
            </p:nvSpPr>
            <p:spPr>
              <a:xfrm>
                <a:off x="392400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Line 78"/>
              <p:cNvSpPr/>
              <p:nvPr/>
            </p:nvSpPr>
            <p:spPr>
              <a:xfrm>
                <a:off x="453348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Line 79"/>
              <p:cNvSpPr/>
              <p:nvPr/>
            </p:nvSpPr>
            <p:spPr>
              <a:xfrm>
                <a:off x="514332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Line 80"/>
              <p:cNvSpPr/>
              <p:nvPr/>
            </p:nvSpPr>
            <p:spPr>
              <a:xfrm>
                <a:off x="575280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Line 81"/>
              <p:cNvSpPr/>
              <p:nvPr/>
            </p:nvSpPr>
            <p:spPr>
              <a:xfrm>
                <a:off x="636228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Line 82"/>
              <p:cNvSpPr/>
              <p:nvPr/>
            </p:nvSpPr>
            <p:spPr>
              <a:xfrm>
                <a:off x="697212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Line 83"/>
              <p:cNvSpPr/>
              <p:nvPr/>
            </p:nvSpPr>
            <p:spPr>
              <a:xfrm>
                <a:off x="758160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" name="Line 84"/>
            <p:cNvSpPr/>
            <p:nvPr/>
          </p:nvSpPr>
          <p:spPr>
            <a:xfrm>
              <a:off x="819144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85"/>
            <p:cNvSpPr/>
            <p:nvPr/>
          </p:nvSpPr>
          <p:spPr>
            <a:xfrm>
              <a:off x="880092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Group 86"/>
          <p:cNvGrpSpPr/>
          <p:nvPr/>
        </p:nvGrpSpPr>
        <p:grpSpPr>
          <a:xfrm>
            <a:off x="192240" y="2209680"/>
            <a:ext cx="8913240" cy="1947240"/>
            <a:chOff x="192240" y="2209680"/>
            <a:chExt cx="8913240" cy="1947240"/>
          </a:xfrm>
        </p:grpSpPr>
        <p:grpSp>
          <p:nvGrpSpPr>
            <p:cNvPr id="266" name="Group 87"/>
            <p:cNvGrpSpPr/>
            <p:nvPr/>
          </p:nvGrpSpPr>
          <p:grpSpPr>
            <a:xfrm>
              <a:off x="3314520" y="3047760"/>
              <a:ext cx="4876920" cy="1109160"/>
              <a:chOff x="3314520" y="3047760"/>
              <a:chExt cx="4876920" cy="1109160"/>
            </a:xfrm>
          </p:grpSpPr>
          <p:grpSp>
            <p:nvGrpSpPr>
              <p:cNvPr id="267" name="Group 88"/>
              <p:cNvGrpSpPr/>
              <p:nvPr/>
            </p:nvGrpSpPr>
            <p:grpSpPr>
              <a:xfrm>
                <a:off x="3314520" y="3047760"/>
                <a:ext cx="4876920" cy="457200"/>
                <a:chOff x="3314520" y="3047760"/>
                <a:chExt cx="4876920" cy="457200"/>
              </a:xfrm>
            </p:grpSpPr>
            <p:sp>
              <p:nvSpPr>
                <p:cNvPr id="268" name="AutoShape 89"/>
                <p:cNvSpPr/>
                <p:nvPr/>
              </p:nvSpPr>
              <p:spPr>
                <a:xfrm>
                  <a:off x="3314520" y="3047760"/>
                  <a:ext cx="609480" cy="457200"/>
                </a:xfrm>
                <a:prstGeom prst="hexagon">
                  <a:avLst>
                    <a:gd name="adj" fmla="val 33327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AutoShape 90"/>
                <p:cNvSpPr/>
                <p:nvPr/>
              </p:nvSpPr>
              <p:spPr>
                <a:xfrm>
                  <a:off x="3924000" y="3047760"/>
                  <a:ext cx="609840" cy="457200"/>
                </a:xfrm>
                <a:prstGeom prst="hexagon">
                  <a:avLst>
                    <a:gd name="adj" fmla="val 33346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AutoShape 91"/>
                <p:cNvSpPr/>
                <p:nvPr/>
              </p:nvSpPr>
              <p:spPr>
                <a:xfrm>
                  <a:off x="4533840" y="3047760"/>
                  <a:ext cx="609480" cy="457200"/>
                </a:xfrm>
                <a:prstGeom prst="hexagon">
                  <a:avLst>
                    <a:gd name="adj" fmla="val 33327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AutoShape 92"/>
                <p:cNvSpPr/>
                <p:nvPr/>
              </p:nvSpPr>
              <p:spPr>
                <a:xfrm>
                  <a:off x="5143320" y="3047760"/>
                  <a:ext cx="609480" cy="457200"/>
                </a:xfrm>
                <a:prstGeom prst="hexagon">
                  <a:avLst>
                    <a:gd name="adj" fmla="val 33327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AutoShape 93"/>
                <p:cNvSpPr/>
                <p:nvPr/>
              </p:nvSpPr>
              <p:spPr>
                <a:xfrm>
                  <a:off x="5752800" y="3047760"/>
                  <a:ext cx="609840" cy="457200"/>
                </a:xfrm>
                <a:prstGeom prst="hexagon">
                  <a:avLst>
                    <a:gd name="adj" fmla="val 33346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AutoShape 94"/>
                <p:cNvSpPr/>
                <p:nvPr/>
              </p:nvSpPr>
              <p:spPr>
                <a:xfrm>
                  <a:off x="6362640" y="3047760"/>
                  <a:ext cx="609480" cy="457200"/>
                </a:xfrm>
                <a:prstGeom prst="hexagon">
                  <a:avLst>
                    <a:gd name="adj" fmla="val 33327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AutoShape 95"/>
                <p:cNvSpPr/>
                <p:nvPr/>
              </p:nvSpPr>
              <p:spPr>
                <a:xfrm>
                  <a:off x="6972120" y="3047760"/>
                  <a:ext cx="609480" cy="457200"/>
                </a:xfrm>
                <a:prstGeom prst="hexagon">
                  <a:avLst>
                    <a:gd name="adj" fmla="val 33327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AutoShape 96"/>
                <p:cNvSpPr/>
                <p:nvPr/>
              </p:nvSpPr>
              <p:spPr>
                <a:xfrm>
                  <a:off x="7581600" y="3047760"/>
                  <a:ext cx="609840" cy="457200"/>
                </a:xfrm>
                <a:prstGeom prst="hexagon">
                  <a:avLst>
                    <a:gd name="adj" fmla="val 33346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Group 97"/>
              <p:cNvGrpSpPr/>
              <p:nvPr/>
            </p:nvGrpSpPr>
            <p:grpSpPr>
              <a:xfrm>
                <a:off x="3314520" y="3697200"/>
                <a:ext cx="4876920" cy="459720"/>
                <a:chOff x="3314520" y="3697200"/>
                <a:chExt cx="4876920" cy="459720"/>
              </a:xfrm>
            </p:grpSpPr>
            <p:sp>
              <p:nvSpPr>
                <p:cNvPr id="277" name="Text Box 98"/>
                <p:cNvSpPr/>
                <p:nvPr/>
              </p:nvSpPr>
              <p:spPr>
                <a:xfrm>
                  <a:off x="5301360" y="3697200"/>
                  <a:ext cx="90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Word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99"/>
                <p:cNvSpPr/>
                <p:nvPr/>
              </p:nvSpPr>
              <p:spPr>
                <a:xfrm>
                  <a:off x="6286320" y="3862080"/>
                  <a:ext cx="19051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00"/>
                <p:cNvSpPr/>
                <p:nvPr/>
              </p:nvSpPr>
              <p:spPr>
                <a:xfrm flipH="1">
                  <a:off x="3314520" y="3862080"/>
                  <a:ext cx="19051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101"/>
            <p:cNvGrpSpPr/>
            <p:nvPr/>
          </p:nvGrpSpPr>
          <p:grpSpPr>
            <a:xfrm>
              <a:off x="192240" y="2209680"/>
              <a:ext cx="8913240" cy="528120"/>
              <a:chOff x="192240" y="2209680"/>
              <a:chExt cx="8913240" cy="528120"/>
            </a:xfrm>
          </p:grpSpPr>
          <p:grpSp>
            <p:nvGrpSpPr>
              <p:cNvPr id="281" name="Group 102"/>
              <p:cNvGrpSpPr/>
              <p:nvPr/>
            </p:nvGrpSpPr>
            <p:grpSpPr>
              <a:xfrm>
                <a:off x="571320" y="2209680"/>
                <a:ext cx="8534160" cy="457200"/>
                <a:chOff x="571320" y="2209680"/>
                <a:chExt cx="8534160" cy="457200"/>
              </a:xfrm>
            </p:grpSpPr>
            <p:sp>
              <p:nvSpPr>
                <p:cNvPr id="282" name="Line 103"/>
                <p:cNvSpPr/>
                <p:nvPr/>
              </p:nvSpPr>
              <p:spPr>
                <a:xfrm>
                  <a:off x="2704680" y="2209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104"/>
                <p:cNvSpPr/>
                <p:nvPr/>
              </p:nvSpPr>
              <p:spPr>
                <a:xfrm>
                  <a:off x="3314520" y="2209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Line 105"/>
                <p:cNvSpPr/>
                <p:nvPr/>
              </p:nvSpPr>
              <p:spPr>
                <a:xfrm>
                  <a:off x="2704680" y="2209680"/>
                  <a:ext cx="6098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106"/>
                <p:cNvSpPr/>
                <p:nvPr/>
              </p:nvSpPr>
              <p:spPr>
                <a:xfrm flipH="1">
                  <a:off x="571320" y="2666880"/>
                  <a:ext cx="21333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107"/>
                <p:cNvSpPr/>
                <p:nvPr/>
              </p:nvSpPr>
              <p:spPr>
                <a:xfrm flipH="1">
                  <a:off x="3314520" y="2666880"/>
                  <a:ext cx="54864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108"/>
                <p:cNvSpPr/>
                <p:nvPr/>
              </p:nvSpPr>
              <p:spPr>
                <a:xfrm>
                  <a:off x="8800920" y="2209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109"/>
                <p:cNvSpPr/>
                <p:nvPr/>
              </p:nvSpPr>
              <p:spPr>
                <a:xfrm>
                  <a:off x="8800920" y="2209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Text Box 110"/>
              <p:cNvSpPr/>
              <p:nvPr/>
            </p:nvSpPr>
            <p:spPr>
              <a:xfrm>
                <a:off x="192240" y="227808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F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Group 111"/>
          <p:cNvGrpSpPr/>
          <p:nvPr/>
        </p:nvGrpSpPr>
        <p:grpSpPr>
          <a:xfrm>
            <a:off x="405360" y="3048120"/>
            <a:ext cx="1689840" cy="1452960"/>
            <a:chOff x="405360" y="3048120"/>
            <a:chExt cx="1689840" cy="1452960"/>
          </a:xfrm>
        </p:grpSpPr>
        <p:grpSp>
          <p:nvGrpSpPr>
            <p:cNvPr id="291" name="Group 112"/>
            <p:cNvGrpSpPr/>
            <p:nvPr/>
          </p:nvGrpSpPr>
          <p:grpSpPr>
            <a:xfrm>
              <a:off x="876240" y="3048120"/>
              <a:ext cx="1218960" cy="456840"/>
              <a:chOff x="876240" y="3048120"/>
              <a:chExt cx="1218960" cy="456840"/>
            </a:xfrm>
          </p:grpSpPr>
          <p:sp>
            <p:nvSpPr>
              <p:cNvPr id="292" name="AutoShape 113"/>
              <p:cNvSpPr/>
              <p:nvPr/>
            </p:nvSpPr>
            <p:spPr>
              <a:xfrm>
                <a:off x="876240" y="3048120"/>
                <a:ext cx="609480" cy="456840"/>
              </a:xfrm>
              <a:prstGeom prst="hexagon">
                <a:avLst>
                  <a:gd name="adj" fmla="val 33353"/>
                  <a:gd name="vf" fmla="val 115470"/>
                </a:avLst>
              </a:prstGeom>
              <a:solidFill>
                <a:srgbClr val="000f4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114"/>
              <p:cNvSpPr/>
              <p:nvPr/>
            </p:nvSpPr>
            <p:spPr>
              <a:xfrm>
                <a:off x="1485720" y="3048120"/>
                <a:ext cx="609480" cy="456840"/>
              </a:xfrm>
              <a:prstGeom prst="hexagon">
                <a:avLst>
                  <a:gd name="adj" fmla="val 33353"/>
                  <a:gd name="vf" fmla="val 115470"/>
                </a:avLst>
              </a:prstGeom>
              <a:solidFill>
                <a:srgbClr val="000f4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115"/>
            <p:cNvGrpSpPr/>
            <p:nvPr/>
          </p:nvGrpSpPr>
          <p:grpSpPr>
            <a:xfrm>
              <a:off x="1485360" y="3849480"/>
              <a:ext cx="609480" cy="651600"/>
              <a:chOff x="1485360" y="3849480"/>
              <a:chExt cx="609480" cy="651600"/>
            </a:xfrm>
          </p:grpSpPr>
          <p:sp>
            <p:nvSpPr>
              <p:cNvPr id="295" name="Line 116"/>
              <p:cNvSpPr/>
              <p:nvPr/>
            </p:nvSpPr>
            <p:spPr>
              <a:xfrm flipH="1">
                <a:off x="1485360" y="3849480"/>
                <a:ext cx="6094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Text Box 117"/>
              <p:cNvSpPr/>
              <p:nvPr/>
            </p:nvSpPr>
            <p:spPr>
              <a:xfrm>
                <a:off x="1519560" y="404136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Bi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7" name="Text Box 118"/>
            <p:cNvSpPr/>
            <p:nvPr/>
          </p:nvSpPr>
          <p:spPr>
            <a:xfrm>
              <a:off x="405360" y="309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Text Box 119"/>
          <p:cNvSpPr/>
          <p:nvPr/>
        </p:nvSpPr>
        <p:spPr>
          <a:xfrm>
            <a:off x="1054080" y="5302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” or “channel” contains number of bits (8, 12, 16, 20, 24, 3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20"/>
          <p:cNvSpPr/>
          <p:nvPr/>
        </p:nvSpPr>
        <p:spPr>
          <a:xfrm>
            <a:off x="1829520" y="4805280"/>
            <a:ext cx="60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” - one data bit per serial clock perio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ulti-Channel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7543800" y="609480"/>
            <a:ext cx="1066680" cy="2502000"/>
            <a:chOff x="7543800" y="609480"/>
            <a:chExt cx="1066680" cy="2502000"/>
          </a:xfrm>
        </p:grpSpPr>
        <p:sp>
          <p:nvSpPr>
            <p:cNvPr id="302" name="Rectangle 4"/>
            <p:cNvSpPr/>
            <p:nvPr/>
          </p:nvSpPr>
          <p:spPr>
            <a:xfrm>
              <a:off x="7543800" y="609480"/>
              <a:ext cx="1066680" cy="3366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0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7543800" y="946080"/>
              <a:ext cx="1066680" cy="3366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0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7543800" y="1523880"/>
              <a:ext cx="1066680" cy="3366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5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7"/>
            <p:cNvSpPr/>
            <p:nvPr/>
          </p:nvSpPr>
          <p:spPr>
            <a:xfrm>
              <a:off x="7543800" y="1860480"/>
              <a:ext cx="1066680" cy="3366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5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7543800" y="2438280"/>
              <a:ext cx="1066680" cy="3366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27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9"/>
            <p:cNvSpPr/>
            <p:nvPr/>
          </p:nvSpPr>
          <p:spPr>
            <a:xfrm>
              <a:off x="7543800" y="2774880"/>
              <a:ext cx="1066680" cy="3366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27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Text Box 10"/>
          <p:cNvSpPr/>
          <p:nvPr/>
        </p:nvSpPr>
        <p:spPr>
          <a:xfrm>
            <a:off x="349920" y="465120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-channel mode controlled primarily via two regist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11"/>
          <p:cNvGrpSpPr/>
          <p:nvPr/>
        </p:nvGrpSpPr>
        <p:grpSpPr>
          <a:xfrm>
            <a:off x="1527840" y="5105520"/>
            <a:ext cx="6014880" cy="1015200"/>
            <a:chOff x="1527840" y="5105520"/>
            <a:chExt cx="6014880" cy="1015200"/>
          </a:xfrm>
        </p:grpSpPr>
        <p:sp>
          <p:nvSpPr>
            <p:cNvPr id="310" name="Rectangle 12"/>
            <p:cNvSpPr/>
            <p:nvPr/>
          </p:nvSpPr>
          <p:spPr>
            <a:xfrm>
              <a:off x="1528560" y="5378400"/>
              <a:ext cx="2514600" cy="3812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C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Text Box 13"/>
            <p:cNvSpPr/>
            <p:nvPr/>
          </p:nvSpPr>
          <p:spPr>
            <a:xfrm>
              <a:off x="1527840" y="5105520"/>
              <a:ext cx="252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ulti-channel Control Re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Text Box 14"/>
            <p:cNvSpPr/>
            <p:nvPr/>
          </p:nvSpPr>
          <p:spPr>
            <a:xfrm>
              <a:off x="1806480" y="5783400"/>
              <a:ext cx="19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enables Mc-mod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4765680" y="5378400"/>
              <a:ext cx="2514600" cy="3812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/XCER (A-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4551840" y="5110200"/>
              <a:ext cx="299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c/Xmt Channel Enable Reg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4779720" y="5783400"/>
              <a:ext cx="24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enable/disable channel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Text Box 18"/>
          <p:cNvSpPr/>
          <p:nvPr/>
        </p:nvSpPr>
        <p:spPr>
          <a:xfrm>
            <a:off x="222840" y="6141960"/>
            <a:ext cx="50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 to 128 channels can be enabled/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19"/>
          <p:cNvGrpSpPr/>
          <p:nvPr/>
        </p:nvGrpSpPr>
        <p:grpSpPr>
          <a:xfrm>
            <a:off x="380880" y="743040"/>
            <a:ext cx="7010640" cy="2076480"/>
            <a:chOff x="380880" y="743040"/>
            <a:chExt cx="7010640" cy="2076480"/>
          </a:xfrm>
        </p:grpSpPr>
        <p:grpSp>
          <p:nvGrpSpPr>
            <p:cNvPr id="318" name="Group 20"/>
            <p:cNvGrpSpPr/>
            <p:nvPr/>
          </p:nvGrpSpPr>
          <p:grpSpPr>
            <a:xfrm>
              <a:off x="380880" y="900000"/>
              <a:ext cx="4648320" cy="1843200"/>
              <a:chOff x="380880" y="900000"/>
              <a:chExt cx="4648320" cy="1843200"/>
            </a:xfrm>
          </p:grpSpPr>
          <p:sp>
            <p:nvSpPr>
              <p:cNvPr id="319" name="Rectangle 21"/>
              <p:cNvSpPr/>
              <p:nvPr/>
            </p:nvSpPr>
            <p:spPr>
              <a:xfrm>
                <a:off x="380880" y="1295280"/>
                <a:ext cx="457200" cy="1447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C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O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D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E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22"/>
              <p:cNvSpPr/>
              <p:nvPr/>
            </p:nvSpPr>
            <p:spPr>
              <a:xfrm>
                <a:off x="4495680" y="1143000"/>
                <a:ext cx="533520" cy="15271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M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c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S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1" name="Group 23"/>
              <p:cNvGrpSpPr/>
              <p:nvPr/>
            </p:nvGrpSpPr>
            <p:grpSpPr>
              <a:xfrm>
                <a:off x="776520" y="900000"/>
                <a:ext cx="2974680" cy="368280"/>
                <a:chOff x="776520" y="900000"/>
                <a:chExt cx="2974680" cy="368280"/>
              </a:xfrm>
            </p:grpSpPr>
            <p:sp>
              <p:nvSpPr>
                <p:cNvPr id="322" name="Text Box 24"/>
                <p:cNvSpPr/>
                <p:nvPr/>
              </p:nvSpPr>
              <p:spPr>
                <a:xfrm>
                  <a:off x="776520" y="900000"/>
                  <a:ext cx="840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rPr>
                    <a:t>Fram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1944360" y="900000"/>
                  <a:ext cx="1806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DM Bit Strea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Group 26"/>
              <p:cNvGrpSpPr/>
              <p:nvPr/>
            </p:nvGrpSpPr>
            <p:grpSpPr>
              <a:xfrm>
                <a:off x="1599840" y="1216080"/>
                <a:ext cx="2438280" cy="460440"/>
                <a:chOff x="1599840" y="1216080"/>
                <a:chExt cx="2438280" cy="460440"/>
              </a:xfrm>
            </p:grpSpPr>
            <p:sp>
              <p:nvSpPr>
                <p:cNvPr id="325" name="Rectangle 27"/>
                <p:cNvSpPr/>
                <p:nvPr/>
              </p:nvSpPr>
              <p:spPr>
                <a:xfrm flipH="1">
                  <a:off x="3351960" y="1295280"/>
                  <a:ext cx="685800" cy="38124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h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28"/>
                <p:cNvSpPr/>
                <p:nvPr/>
              </p:nvSpPr>
              <p:spPr>
                <a:xfrm flipH="1">
                  <a:off x="2666160" y="1295280"/>
                  <a:ext cx="685800" cy="38124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h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29"/>
                <p:cNvSpPr/>
                <p:nvPr/>
              </p:nvSpPr>
              <p:spPr>
                <a:xfrm flipH="1">
                  <a:off x="1599480" y="1295280"/>
                  <a:ext cx="685800" cy="38124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h3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Text Box 30"/>
                <p:cNvSpPr/>
                <p:nvPr/>
              </p:nvSpPr>
              <p:spPr>
                <a:xfrm flipH="1">
                  <a:off x="2275920" y="1216080"/>
                  <a:ext cx="40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Text Box 31"/>
              <p:cNvSpPr/>
              <p:nvPr/>
            </p:nvSpPr>
            <p:spPr>
              <a:xfrm>
                <a:off x="1068840" y="1357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Line 32"/>
              <p:cNvSpPr/>
              <p:nvPr/>
            </p:nvSpPr>
            <p:spPr>
              <a:xfrm>
                <a:off x="838080" y="1490760"/>
                <a:ext cx="22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Line 33"/>
              <p:cNvSpPr/>
              <p:nvPr/>
            </p:nvSpPr>
            <p:spPr>
              <a:xfrm>
                <a:off x="1371600" y="1490760"/>
                <a:ext cx="22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Line 34"/>
              <p:cNvSpPr/>
              <p:nvPr/>
            </p:nvSpPr>
            <p:spPr>
              <a:xfrm>
                <a:off x="4038480" y="1490760"/>
                <a:ext cx="457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3" name="Group 35"/>
              <p:cNvGrpSpPr/>
              <p:nvPr/>
            </p:nvGrpSpPr>
            <p:grpSpPr>
              <a:xfrm>
                <a:off x="1599840" y="1752480"/>
                <a:ext cx="2438280" cy="460440"/>
                <a:chOff x="1599840" y="1752480"/>
                <a:chExt cx="2438280" cy="460440"/>
              </a:xfrm>
            </p:grpSpPr>
            <p:sp>
              <p:nvSpPr>
                <p:cNvPr id="334" name="Rectangle 36"/>
                <p:cNvSpPr/>
                <p:nvPr/>
              </p:nvSpPr>
              <p:spPr>
                <a:xfrm flipH="1">
                  <a:off x="3351960" y="1832040"/>
                  <a:ext cx="685800" cy="38088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h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37"/>
                <p:cNvSpPr/>
                <p:nvPr/>
              </p:nvSpPr>
              <p:spPr>
                <a:xfrm flipH="1">
                  <a:off x="2666160" y="1832040"/>
                  <a:ext cx="685800" cy="38088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h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38"/>
                <p:cNvSpPr/>
                <p:nvPr/>
              </p:nvSpPr>
              <p:spPr>
                <a:xfrm flipH="1">
                  <a:off x="1599480" y="1832040"/>
                  <a:ext cx="685800" cy="38088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h3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Text Box 39"/>
                <p:cNvSpPr/>
                <p:nvPr/>
              </p:nvSpPr>
              <p:spPr>
                <a:xfrm flipH="1">
                  <a:off x="2275920" y="1752480"/>
                  <a:ext cx="40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Group 40"/>
              <p:cNvGrpSpPr/>
              <p:nvPr/>
            </p:nvGrpSpPr>
            <p:grpSpPr>
              <a:xfrm>
                <a:off x="838080" y="1849320"/>
                <a:ext cx="3657600" cy="368280"/>
                <a:chOff x="838080" y="1849320"/>
                <a:chExt cx="3657600" cy="368280"/>
              </a:xfrm>
            </p:grpSpPr>
            <p:sp>
              <p:nvSpPr>
                <p:cNvPr id="339" name="Text Box 41"/>
                <p:cNvSpPr/>
                <p:nvPr/>
              </p:nvSpPr>
              <p:spPr>
                <a:xfrm>
                  <a:off x="1068840" y="18493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42"/>
                <p:cNvSpPr/>
                <p:nvPr/>
              </p:nvSpPr>
              <p:spPr>
                <a:xfrm>
                  <a:off x="838080" y="199224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Line 43"/>
                <p:cNvSpPr/>
                <p:nvPr/>
              </p:nvSpPr>
              <p:spPr>
                <a:xfrm>
                  <a:off x="1371600" y="199224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Line 44"/>
                <p:cNvSpPr/>
                <p:nvPr/>
              </p:nvSpPr>
              <p:spPr>
                <a:xfrm>
                  <a:off x="4038480" y="1992240"/>
                  <a:ext cx="45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" name="Group 45"/>
            <p:cNvGrpSpPr/>
            <p:nvPr/>
          </p:nvGrpSpPr>
          <p:grpSpPr>
            <a:xfrm>
              <a:off x="5026680" y="743040"/>
              <a:ext cx="2364840" cy="2076480"/>
              <a:chOff x="5026680" y="743040"/>
              <a:chExt cx="2364840" cy="2076480"/>
            </a:xfrm>
          </p:grpSpPr>
          <p:sp>
            <p:nvSpPr>
              <p:cNvPr id="344" name="AutoShape 46"/>
              <p:cNvSpPr/>
              <p:nvPr/>
            </p:nvSpPr>
            <p:spPr>
              <a:xfrm>
                <a:off x="5029200" y="1054080"/>
                <a:ext cx="2362320" cy="1765440"/>
              </a:xfrm>
              <a:prstGeom prst="rightArrowCallout">
                <a:avLst>
                  <a:gd name="adj1" fmla="val 25002"/>
                  <a:gd name="adj2" fmla="val 22394"/>
                  <a:gd name="adj3" fmla="val 30553"/>
                  <a:gd name="adj4" fmla="val 66667"/>
                </a:avLst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Transmi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Rece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only </a:t>
                </a:r>
                <a:r>
                  <a:rPr b="0" i="1" lang="en-US" sz="1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electe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hannel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Text Box 47"/>
              <p:cNvSpPr/>
              <p:nvPr/>
            </p:nvSpPr>
            <p:spPr>
              <a:xfrm>
                <a:off x="5026680" y="743040"/>
                <a:ext cx="153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ulti-chann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" name="Text Box 48"/>
          <p:cNvSpPr/>
          <p:nvPr/>
        </p:nvSpPr>
        <p:spPr>
          <a:xfrm>
            <a:off x="362160" y="3228840"/>
            <a:ext cx="8108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multiple channels (words) to b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ndependent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ed for transmi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receive (e.g. only enable Ch0, 5, 27 for receive, then process via CP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49"/>
          <p:cNvSpPr/>
          <p:nvPr/>
        </p:nvSpPr>
        <p:spPr>
          <a:xfrm>
            <a:off x="436680" y="3951360"/>
            <a:ext cx="7921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cBSP keeps time sync with all channels, but only “listens” or “talks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specific channel is enabled (reduces processing/bus overhea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Compression &amp; Expanding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266760" y="1179360"/>
            <a:ext cx="8229600" cy="1459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871560" y="3333600"/>
            <a:ext cx="7400880" cy="100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3"/>
          <a:stretch/>
        </p:blipFill>
        <p:spPr>
          <a:xfrm>
            <a:off x="871560" y="4829040"/>
            <a:ext cx="7400880" cy="11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12</cp:keywords>
  <dc:language>en-US</dc:language>
  <cp:lastModifiedBy>Windows-Benutzer</cp:lastModifiedBy>
  <dcterms:modified xsi:type="dcterms:W3CDTF">2010-04-06T07:29:54Z</dcterms:modified>
  <cp:revision>280</cp:revision>
  <dc:subject/>
  <dc:title>Module 13 Multichannel Buffered Serial Port</dc:title>
</cp:coreProperties>
</file>