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067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2a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oter box"/>
          <p:cNvSpPr/>
          <p:nvPr/>
        </p:nvSpPr>
        <p:spPr>
          <a:xfrm>
            <a:off x="6248520" y="64771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9b03"/>
                </a:solidFill>
                <a:latin typeface="Arial"/>
              </a:rPr>
              <a:t>14 - </a:t>
            </a:r>
            <a:fld id="{6BA63B74-3336-41C6-B1F5-3CA844BCA6C8}" type="slidenum">
              <a:rPr b="0" lang="en-US" sz="1200" spc="-1" strike="noStrike">
                <a:solidFill>
                  <a:srgbClr val="fe9b0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546840" indent="-54684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61920" indent="-30168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57560" indent="-28296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3560" indent="-28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168640" indent="-30132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Oval 3"/>
          <p:cNvSpPr/>
          <p:nvPr/>
        </p:nvSpPr>
        <p:spPr>
          <a:xfrm>
            <a:off x="720720" y="1120680"/>
            <a:ext cx="7773840" cy="4302360"/>
          </a:xfrm>
          <a:prstGeom prst="ellipse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a2c1f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914400" y="3124080"/>
            <a:ext cx="7337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xas Instruments Incorpor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uropean Customer Training Cent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versity of Applied Sciences Zwicka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Line 11"/>
          <p:cNvSpPr/>
          <p:nvPr/>
        </p:nvSpPr>
        <p:spPr>
          <a:xfrm>
            <a:off x="227160" y="6411960"/>
            <a:ext cx="746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0" y="6291360"/>
            <a:ext cx="7550280" cy="5666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Picture 13" descr=""/>
          <p:cNvPicPr/>
          <p:nvPr/>
        </p:nvPicPr>
        <p:blipFill>
          <a:blip r:embed="rId1"/>
          <a:stretch/>
        </p:blipFill>
        <p:spPr>
          <a:xfrm>
            <a:off x="514440" y="6510240"/>
            <a:ext cx="6448320" cy="255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4"/>
          <p:cNvSpPr/>
          <p:nvPr/>
        </p:nvSpPr>
        <p:spPr>
          <a:xfrm>
            <a:off x="7531200" y="6291360"/>
            <a:ext cx="1612800" cy="56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Picture 15" descr=""/>
          <p:cNvPicPr/>
          <p:nvPr/>
        </p:nvPicPr>
        <p:blipFill>
          <a:blip r:embed="rId2"/>
          <a:stretch/>
        </p:blipFill>
        <p:spPr>
          <a:xfrm>
            <a:off x="7924680" y="6427800"/>
            <a:ext cx="870120" cy="430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"/>
          <p:cNvPicPr/>
          <p:nvPr/>
        </p:nvPicPr>
        <p:blipFill>
          <a:blip r:embed="rId3"/>
          <a:stretch/>
        </p:blipFill>
        <p:spPr>
          <a:xfrm>
            <a:off x="228600" y="457200"/>
            <a:ext cx="765000" cy="755640"/>
          </a:xfrm>
          <a:prstGeom prst="rect">
            <a:avLst/>
          </a:prstGeom>
          <a:ln w="0">
            <a:noFill/>
          </a:ln>
        </p:spPr>
      </p:pic>
      <p:sp>
        <p:nvSpPr>
          <p:cNvPr id="53" name="Line 17"/>
          <p:cNvSpPr/>
          <p:nvPr/>
        </p:nvSpPr>
        <p:spPr>
          <a:xfrm>
            <a:off x="928800" y="838080"/>
            <a:ext cx="7453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Rectangle 18"/>
          <p:cNvSpPr/>
          <p:nvPr/>
        </p:nvSpPr>
        <p:spPr>
          <a:xfrm>
            <a:off x="8389800" y="457200"/>
            <a:ext cx="754200" cy="755640"/>
          </a:xfrm>
          <a:prstGeom prst="rect">
            <a:avLst/>
          </a:prstGeom>
          <a:solidFill>
            <a:srgbClr val="042a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19"/>
          <p:cNvSpPr/>
          <p:nvPr/>
        </p:nvSpPr>
        <p:spPr>
          <a:xfrm>
            <a:off x="8418600" y="485640"/>
            <a:ext cx="687240" cy="347760"/>
          </a:xfrm>
          <a:custGeom>
            <a:avLst/>
            <a:gdLst>
              <a:gd name="textAreaLeft" fmla="*/ 0 w 687240"/>
              <a:gd name="textAreaRight" fmla="*/ 687600 w 68724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1298" h="659">
                <a:moveTo>
                  <a:pt x="1290" y="659"/>
                </a:moveTo>
                <a:lnTo>
                  <a:pt x="1298" y="651"/>
                </a:lnTo>
                <a:lnTo>
                  <a:pt x="654" y="0"/>
                </a:lnTo>
                <a:lnTo>
                  <a:pt x="0" y="659"/>
                </a:lnTo>
                <a:lnTo>
                  <a:pt x="15" y="659"/>
                </a:lnTo>
                <a:lnTo>
                  <a:pt x="652" y="17"/>
                </a:lnTo>
                <a:lnTo>
                  <a:pt x="1290" y="65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20"/>
          <p:cNvSpPr/>
          <p:nvPr/>
        </p:nvSpPr>
        <p:spPr>
          <a:xfrm>
            <a:off x="8418600" y="833400"/>
            <a:ext cx="347400" cy="345960"/>
          </a:xfrm>
          <a:custGeom>
            <a:avLst/>
            <a:gdLst>
              <a:gd name="textAreaLeft" fmla="*/ 0 w 347400"/>
              <a:gd name="textAreaRight" fmla="*/ 347760 w 3474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656" h="653">
                <a:moveTo>
                  <a:pt x="0" y="0"/>
                </a:moveTo>
                <a:lnTo>
                  <a:pt x="648" y="653"/>
                </a:lnTo>
                <a:lnTo>
                  <a:pt x="656" y="645"/>
                </a:lnTo>
                <a:lnTo>
                  <a:pt x="1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21"/>
          <p:cNvSpPr/>
          <p:nvPr/>
        </p:nvSpPr>
        <p:spPr>
          <a:xfrm>
            <a:off x="8751960" y="819000"/>
            <a:ext cx="358560" cy="360360"/>
          </a:xfrm>
          <a:custGeom>
            <a:avLst/>
            <a:gdLst>
              <a:gd name="textAreaLeft" fmla="*/ 0 w 358560"/>
              <a:gd name="textAreaRight" fmla="*/ 358560 w 3585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679" h="681">
                <a:moveTo>
                  <a:pt x="0" y="651"/>
                </a:moveTo>
                <a:lnTo>
                  <a:pt x="31" y="681"/>
                </a:lnTo>
                <a:lnTo>
                  <a:pt x="679" y="31"/>
                </a:lnTo>
                <a:lnTo>
                  <a:pt x="649" y="0"/>
                </a:lnTo>
                <a:lnTo>
                  <a:pt x="0" y="65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22"/>
          <p:cNvSpPr/>
          <p:nvPr/>
        </p:nvSpPr>
        <p:spPr>
          <a:xfrm>
            <a:off x="8599320" y="633240"/>
            <a:ext cx="314640" cy="385920"/>
          </a:xfrm>
          <a:custGeom>
            <a:avLst/>
            <a:gdLst>
              <a:gd name="textAreaLeft" fmla="*/ 0 w 314640"/>
              <a:gd name="textAreaRight" fmla="*/ 315000 w 31464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592" h="730">
                <a:moveTo>
                  <a:pt x="592" y="13"/>
                </a:moveTo>
                <a:lnTo>
                  <a:pt x="576" y="0"/>
                </a:lnTo>
                <a:lnTo>
                  <a:pt x="0" y="717"/>
                </a:lnTo>
                <a:lnTo>
                  <a:pt x="16" y="730"/>
                </a:lnTo>
                <a:lnTo>
                  <a:pt x="592" y="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Freeform 23"/>
          <p:cNvSpPr/>
          <p:nvPr/>
        </p:nvSpPr>
        <p:spPr>
          <a:xfrm>
            <a:off x="8618400" y="631800"/>
            <a:ext cx="285840" cy="7920"/>
          </a:xfrm>
          <a:custGeom>
            <a:avLst/>
            <a:gdLst>
              <a:gd name="textAreaLeft" fmla="*/ 0 w 285840"/>
              <a:gd name="textAreaRight" fmla="*/ 286200 w 28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42" h="13">
                <a:moveTo>
                  <a:pt x="0" y="2"/>
                </a:moveTo>
                <a:lnTo>
                  <a:pt x="0" y="13"/>
                </a:lnTo>
                <a:lnTo>
                  <a:pt x="542" y="9"/>
                </a:lnTo>
                <a:lnTo>
                  <a:pt x="54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Line 24"/>
          <p:cNvSpPr/>
          <p:nvPr/>
        </p:nvSpPr>
        <p:spPr>
          <a:xfrm>
            <a:off x="8610480" y="990720"/>
            <a:ext cx="30492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25"/>
          <p:cNvSpPr/>
          <p:nvPr/>
        </p:nvSpPr>
        <p:spPr>
          <a:xfrm>
            <a:off x="1054080" y="228600"/>
            <a:ext cx="67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e9b03"/>
                </a:solidFill>
                <a:latin typeface="Arial"/>
              </a:rPr>
              <a:t>Module 14: Flash Programming F2833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838080" y="1905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2-Bit-Digital Signal Control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MS320F2833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Code Composer Studio Flash Plug-In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pic>
        <p:nvPicPr>
          <p:cNvPr id="384" name="Picture 5" descr=""/>
          <p:cNvPicPr/>
          <p:nvPr/>
        </p:nvPicPr>
        <p:blipFill>
          <a:blip r:embed="rId1"/>
          <a:stretch/>
        </p:blipFill>
        <p:spPr>
          <a:xfrm>
            <a:off x="473040" y="905040"/>
            <a:ext cx="8325000" cy="5321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Code Security Module (CSM)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2160" y="5075280"/>
            <a:ext cx="8980560" cy="174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552600" indent="-5526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ata reads and writes from restricted memory are only allowed for code running from restricted memor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 other data read/write accesses are blocked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JTAG emulator/debugger, ROM boot loader, code running in external memory or unrestricted internal memory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Rectangle 62"/>
          <p:cNvSpPr/>
          <p:nvPr/>
        </p:nvSpPr>
        <p:spPr>
          <a:xfrm>
            <a:off x="71280" y="685800"/>
            <a:ext cx="8980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marL="552600" indent="-552600" algn="ctr">
              <a:lnSpc>
                <a:spcPct val="10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cess to the following on-chip memory is restrict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Rectangle 177"/>
          <p:cNvSpPr/>
          <p:nvPr/>
        </p:nvSpPr>
        <p:spPr>
          <a:xfrm>
            <a:off x="3497400" y="1235160"/>
            <a:ext cx="2133360" cy="2103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Text Box 178"/>
          <p:cNvSpPr/>
          <p:nvPr/>
        </p:nvSpPr>
        <p:spPr>
          <a:xfrm>
            <a:off x="2508480" y="150660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0x008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Text Box 179"/>
          <p:cNvSpPr/>
          <p:nvPr/>
        </p:nvSpPr>
        <p:spPr>
          <a:xfrm>
            <a:off x="2508480" y="170496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0x009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Text Box 180"/>
          <p:cNvSpPr/>
          <p:nvPr/>
        </p:nvSpPr>
        <p:spPr>
          <a:xfrm>
            <a:off x="2508480" y="1916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0x00A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Text Box 181"/>
          <p:cNvSpPr/>
          <p:nvPr/>
        </p:nvSpPr>
        <p:spPr>
          <a:xfrm>
            <a:off x="2508480" y="32608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0x300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Text Box 182"/>
          <p:cNvSpPr/>
          <p:nvPr/>
        </p:nvSpPr>
        <p:spPr>
          <a:xfrm>
            <a:off x="2508480" y="37036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0x340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Text Box 183"/>
          <p:cNvSpPr/>
          <p:nvPr/>
        </p:nvSpPr>
        <p:spPr>
          <a:xfrm>
            <a:off x="2508480" y="412596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0x3F8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Text Box 184"/>
          <p:cNvSpPr/>
          <p:nvPr/>
        </p:nvSpPr>
        <p:spPr>
          <a:xfrm>
            <a:off x="2508480" y="45370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0x3FA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Text Box 185"/>
          <p:cNvSpPr/>
          <p:nvPr/>
        </p:nvSpPr>
        <p:spPr>
          <a:xfrm>
            <a:off x="2508480" y="392580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0x3804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Text Box 186"/>
          <p:cNvSpPr/>
          <p:nvPr/>
        </p:nvSpPr>
        <p:spPr>
          <a:xfrm>
            <a:off x="2508480" y="432576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0x3F9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Rectangle 187"/>
          <p:cNvSpPr/>
          <p:nvPr/>
        </p:nvSpPr>
        <p:spPr>
          <a:xfrm>
            <a:off x="3502080" y="3755880"/>
            <a:ext cx="2128680" cy="179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Rectangle 188"/>
          <p:cNvSpPr/>
          <p:nvPr/>
        </p:nvSpPr>
        <p:spPr>
          <a:xfrm>
            <a:off x="3500280" y="3322800"/>
            <a:ext cx="2129040" cy="43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Text Box 189"/>
          <p:cNvSpPr/>
          <p:nvPr/>
        </p:nvSpPr>
        <p:spPr>
          <a:xfrm>
            <a:off x="3800160" y="3314880"/>
            <a:ext cx="146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LASH (256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Text Box 190"/>
          <p:cNvSpPr/>
          <p:nvPr/>
        </p:nvSpPr>
        <p:spPr>
          <a:xfrm>
            <a:off x="3864600" y="3562200"/>
            <a:ext cx="137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8-Bit Passwor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Line 191"/>
          <p:cNvSpPr/>
          <p:nvPr/>
        </p:nvSpPr>
        <p:spPr>
          <a:xfrm>
            <a:off x="3502080" y="3571920"/>
            <a:ext cx="21286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Rectangle 192"/>
          <p:cNvSpPr/>
          <p:nvPr/>
        </p:nvSpPr>
        <p:spPr>
          <a:xfrm>
            <a:off x="3500280" y="3935520"/>
            <a:ext cx="2129040" cy="198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Text Box 193"/>
          <p:cNvSpPr/>
          <p:nvPr/>
        </p:nvSpPr>
        <p:spPr>
          <a:xfrm>
            <a:off x="4034160" y="3902040"/>
            <a:ext cx="106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TP (1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Rectangle 194"/>
          <p:cNvSpPr/>
          <p:nvPr/>
        </p:nvSpPr>
        <p:spPr>
          <a:xfrm>
            <a:off x="3502080" y="1521000"/>
            <a:ext cx="2128680" cy="204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0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Rectangle 195"/>
          <p:cNvSpPr/>
          <p:nvPr/>
        </p:nvSpPr>
        <p:spPr>
          <a:xfrm>
            <a:off x="3502080" y="1724040"/>
            <a:ext cx="2128680" cy="204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1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Rectangle 196"/>
          <p:cNvSpPr/>
          <p:nvPr/>
        </p:nvSpPr>
        <p:spPr>
          <a:xfrm>
            <a:off x="3502080" y="1927080"/>
            <a:ext cx="2128680" cy="204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2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Rectangle 197"/>
          <p:cNvSpPr/>
          <p:nvPr/>
        </p:nvSpPr>
        <p:spPr>
          <a:xfrm>
            <a:off x="3502080" y="2130480"/>
            <a:ext cx="2128680" cy="2048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3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Rectangle 198"/>
          <p:cNvSpPr/>
          <p:nvPr/>
        </p:nvSpPr>
        <p:spPr>
          <a:xfrm>
            <a:off x="3500280" y="4132440"/>
            <a:ext cx="2129040" cy="2044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0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Rectangle 199"/>
          <p:cNvSpPr/>
          <p:nvPr/>
        </p:nvSpPr>
        <p:spPr>
          <a:xfrm>
            <a:off x="3500280" y="4335480"/>
            <a:ext cx="2129040" cy="2048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1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Rectangle 200"/>
          <p:cNvSpPr/>
          <p:nvPr/>
        </p:nvSpPr>
        <p:spPr>
          <a:xfrm>
            <a:off x="3500280" y="4538520"/>
            <a:ext cx="2129040" cy="2048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2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Rectangle 201"/>
          <p:cNvSpPr/>
          <p:nvPr/>
        </p:nvSpPr>
        <p:spPr>
          <a:xfrm>
            <a:off x="3500280" y="4741920"/>
            <a:ext cx="2129040" cy="2048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3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Text Box 202"/>
          <p:cNvSpPr/>
          <p:nvPr/>
        </p:nvSpPr>
        <p:spPr>
          <a:xfrm>
            <a:off x="2508480" y="212400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0x00B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Text Box 203"/>
          <p:cNvSpPr/>
          <p:nvPr/>
        </p:nvSpPr>
        <p:spPr>
          <a:xfrm>
            <a:off x="2508480" y="473400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0x3FB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AutoShape 204"/>
          <p:cNvSpPr/>
          <p:nvPr/>
        </p:nvSpPr>
        <p:spPr>
          <a:xfrm>
            <a:off x="5683320" y="1535040"/>
            <a:ext cx="457200" cy="782640"/>
          </a:xfrm>
          <a:custGeom>
            <a:avLst/>
            <a:gdLst>
              <a:gd name="textAreaLeft" fmla="*/ 0 w 457200"/>
              <a:gd name="textAreaRight" fmla="*/ 164880 w 457200"/>
              <a:gd name="textAreaTop" fmla="*/ 20160 h 782640"/>
              <a:gd name="textAreaBottom" fmla="*/ 762480 h 78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AutoShape 205"/>
          <p:cNvSpPr/>
          <p:nvPr/>
        </p:nvSpPr>
        <p:spPr>
          <a:xfrm>
            <a:off x="5683320" y="4154400"/>
            <a:ext cx="457200" cy="792360"/>
          </a:xfrm>
          <a:custGeom>
            <a:avLst/>
            <a:gdLst>
              <a:gd name="textAreaLeft" fmla="*/ 0 w 457200"/>
              <a:gd name="textAreaRight" fmla="*/ 164880 w 45720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AutoShape 206"/>
          <p:cNvSpPr/>
          <p:nvPr/>
        </p:nvSpPr>
        <p:spPr>
          <a:xfrm>
            <a:off x="6140520" y="1927080"/>
            <a:ext cx="482400" cy="2625840"/>
          </a:xfrm>
          <a:custGeom>
            <a:avLst/>
            <a:gdLst>
              <a:gd name="textAreaLeft" fmla="*/ 0 w 482400"/>
              <a:gd name="textAreaRight" fmla="*/ 174240 w 482400"/>
              <a:gd name="textAreaTop" fmla="*/ 68400 h 2625840"/>
              <a:gd name="textAreaBottom" fmla="*/ 2557440 h 262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Rectangle 207"/>
          <p:cNvSpPr/>
          <p:nvPr/>
        </p:nvSpPr>
        <p:spPr>
          <a:xfrm>
            <a:off x="6689880" y="2901960"/>
            <a:ext cx="108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pp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Rectangle 208"/>
          <p:cNvSpPr/>
          <p:nvPr/>
        </p:nvSpPr>
        <p:spPr>
          <a:xfrm>
            <a:off x="3498840" y="1143000"/>
            <a:ext cx="2131920" cy="2048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lash Regist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Text Box 209"/>
          <p:cNvSpPr/>
          <p:nvPr/>
        </p:nvSpPr>
        <p:spPr>
          <a:xfrm>
            <a:off x="2511720" y="11206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0x000A8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CSM Password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3963960"/>
            <a:ext cx="9144000" cy="247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552600" indent="-55260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28-bit user defined password is stored in Flash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28-bit KEY registers are used to lock and unlock the devic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pped in memory space 0x00 0AE0 – 0x00 0AE7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gisters “EALLOW” protecte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Line 61"/>
          <p:cNvSpPr/>
          <p:nvPr/>
        </p:nvSpPr>
        <p:spPr>
          <a:xfrm flipV="1">
            <a:off x="5275440" y="2450880"/>
            <a:ext cx="645840" cy="3603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4" name="Group 62"/>
          <p:cNvGrpSpPr/>
          <p:nvPr/>
        </p:nvGrpSpPr>
        <p:grpSpPr>
          <a:xfrm>
            <a:off x="5921280" y="1828800"/>
            <a:ext cx="2979360" cy="1128600"/>
            <a:chOff x="5921280" y="1828800"/>
            <a:chExt cx="2979360" cy="1128600"/>
          </a:xfrm>
        </p:grpSpPr>
        <p:sp>
          <p:nvSpPr>
            <p:cNvPr id="425" name="Text Box 63"/>
            <p:cNvSpPr/>
            <p:nvPr/>
          </p:nvSpPr>
          <p:spPr>
            <a:xfrm>
              <a:off x="6113880" y="2589120"/>
              <a:ext cx="278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Courier New"/>
                </a:rPr>
                <a:t>0x33FFF8 - 0x33FFF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Text Box 64"/>
            <p:cNvSpPr/>
            <p:nvPr/>
          </p:nvSpPr>
          <p:spPr>
            <a:xfrm>
              <a:off x="6156360" y="1828800"/>
              <a:ext cx="189072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40000"/>
                </a:lnSpc>
                <a:spcBef>
                  <a:spcPts val="1199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SM  Passwor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40000"/>
                </a:lnSpc>
                <a:spcBef>
                  <a:spcPts val="1199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ocations (PWL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AutoShape 65"/>
            <p:cNvSpPr/>
            <p:nvPr/>
          </p:nvSpPr>
          <p:spPr>
            <a:xfrm>
              <a:off x="5921280" y="2067120"/>
              <a:ext cx="235080" cy="766440"/>
            </a:xfrm>
            <a:custGeom>
              <a:avLst/>
              <a:gdLst>
                <a:gd name="textAreaLeft" fmla="*/ 150120 w 235080"/>
                <a:gd name="textAreaRight" fmla="*/ 235440 w 235080"/>
                <a:gd name="textAreaTop" fmla="*/ 19800 h 766440"/>
                <a:gd name="textAreaBottom" fmla="*/ 746640 h 76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8" name="Rectangle 102"/>
          <p:cNvSpPr/>
          <p:nvPr/>
        </p:nvSpPr>
        <p:spPr>
          <a:xfrm>
            <a:off x="3146400" y="1430280"/>
            <a:ext cx="2129040" cy="1555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Text Box 103"/>
          <p:cNvSpPr/>
          <p:nvPr/>
        </p:nvSpPr>
        <p:spPr>
          <a:xfrm>
            <a:off x="3185640" y="197964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ASH (256K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Text Box 110"/>
          <p:cNvSpPr/>
          <p:nvPr/>
        </p:nvSpPr>
        <p:spPr>
          <a:xfrm>
            <a:off x="1904400" y="14144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0x300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Text Box 112"/>
          <p:cNvSpPr/>
          <p:nvPr/>
        </p:nvSpPr>
        <p:spPr>
          <a:xfrm>
            <a:off x="3321720" y="2700360"/>
            <a:ext cx="177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-Bit Passwor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Line 113"/>
          <p:cNvSpPr/>
          <p:nvPr/>
        </p:nvSpPr>
        <p:spPr>
          <a:xfrm>
            <a:off x="3147840" y="2658960"/>
            <a:ext cx="21290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Text Box 125"/>
          <p:cNvSpPr/>
          <p:nvPr/>
        </p:nvSpPr>
        <p:spPr>
          <a:xfrm>
            <a:off x="1904400" y="26272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0x33FF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CSM Register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435" name="Group 3"/>
          <p:cNvGrpSpPr/>
          <p:nvPr/>
        </p:nvGrpSpPr>
        <p:grpSpPr>
          <a:xfrm>
            <a:off x="398160" y="592200"/>
            <a:ext cx="8379000" cy="3104280"/>
            <a:chOff x="398160" y="592200"/>
            <a:chExt cx="8379000" cy="3104280"/>
          </a:xfrm>
        </p:grpSpPr>
        <p:grpSp>
          <p:nvGrpSpPr>
            <p:cNvPr id="436" name="Group 4"/>
            <p:cNvGrpSpPr/>
            <p:nvPr/>
          </p:nvGrpSpPr>
          <p:grpSpPr>
            <a:xfrm>
              <a:off x="439560" y="879480"/>
              <a:ext cx="8337600" cy="2817000"/>
              <a:chOff x="439560" y="879480"/>
              <a:chExt cx="8337600" cy="2817000"/>
            </a:xfrm>
          </p:grpSpPr>
          <p:sp>
            <p:nvSpPr>
              <p:cNvPr id="437" name="Rectangle 5"/>
              <p:cNvSpPr/>
              <p:nvPr/>
            </p:nvSpPr>
            <p:spPr>
              <a:xfrm>
                <a:off x="439560" y="879480"/>
                <a:ext cx="8337600" cy="27144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Rectangle 6"/>
              <p:cNvSpPr/>
              <p:nvPr/>
            </p:nvSpPr>
            <p:spPr>
              <a:xfrm>
                <a:off x="439560" y="1150920"/>
                <a:ext cx="8337600" cy="24717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Text Box 7"/>
              <p:cNvSpPr/>
              <p:nvPr/>
            </p:nvSpPr>
            <p:spPr>
              <a:xfrm>
                <a:off x="440280" y="944640"/>
                <a:ext cx="8335800" cy="275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Address      Name          Reset Value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Descrip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x00 0AE0  KEY0           0xFFFF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Low word of 128-bit Key regist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x00 0AE1  KEY1           0xFFFF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1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nd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word of 128-bit Key regist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x00 0AE2  KEY2           0xFFFF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1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rd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word of 128-bit Key regist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x00 0AE3  KEY3           0xFFFF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r>
                  <a:rPr b="1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th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word of 128-bit Key regist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x00 0AE4  KEY4           0xFFFF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th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word of 128-bit Key regist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x00 0AE5  KEY5           0xFFFF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r>
                  <a:rPr b="1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th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word of 128-bit Key regist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x00 0AE6  KEY6           0xFFFF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7</a:t>
                </a:r>
                <a:r>
                  <a:rPr b="1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th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word of 128-bit Key regist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x00 0AE7  KEY7           0xFFFF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High word of 128-bit Key regist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x00 0AEF  CSMSCR     0xFFFF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SM status and control regist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Line 8"/>
              <p:cNvSpPr/>
              <p:nvPr/>
            </p:nvSpPr>
            <p:spPr>
              <a:xfrm>
                <a:off x="1730160" y="879480"/>
                <a:ext cx="0" cy="2743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Line 9"/>
              <p:cNvSpPr/>
              <p:nvPr/>
            </p:nvSpPr>
            <p:spPr>
              <a:xfrm>
                <a:off x="2950920" y="879480"/>
                <a:ext cx="0" cy="2743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Line 10"/>
              <p:cNvSpPr/>
              <p:nvPr/>
            </p:nvSpPr>
            <p:spPr>
              <a:xfrm>
                <a:off x="4944960" y="879480"/>
                <a:ext cx="0" cy="2743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43" name="Text Box 11"/>
            <p:cNvSpPr/>
            <p:nvPr/>
          </p:nvSpPr>
          <p:spPr>
            <a:xfrm>
              <a:off x="398160" y="592200"/>
              <a:ext cx="622332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Key Registers – accessible by user; EALLOW protec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4" name="Group 12"/>
          <p:cNvGrpSpPr/>
          <p:nvPr/>
        </p:nvGrpSpPr>
        <p:grpSpPr>
          <a:xfrm>
            <a:off x="415800" y="3639960"/>
            <a:ext cx="8380440" cy="2811600"/>
            <a:chOff x="415800" y="3639960"/>
            <a:chExt cx="8380440" cy="2811600"/>
          </a:xfrm>
        </p:grpSpPr>
        <p:grpSp>
          <p:nvGrpSpPr>
            <p:cNvPr id="445" name="Group 13"/>
            <p:cNvGrpSpPr/>
            <p:nvPr/>
          </p:nvGrpSpPr>
          <p:grpSpPr>
            <a:xfrm>
              <a:off x="458640" y="3940200"/>
              <a:ext cx="8337600" cy="2511360"/>
              <a:chOff x="458640" y="3940200"/>
              <a:chExt cx="8337600" cy="2511360"/>
            </a:xfrm>
          </p:grpSpPr>
          <p:sp>
            <p:nvSpPr>
              <p:cNvPr id="446" name="Rectangle 14"/>
              <p:cNvSpPr/>
              <p:nvPr/>
            </p:nvSpPr>
            <p:spPr>
              <a:xfrm>
                <a:off x="458640" y="3940200"/>
                <a:ext cx="8337600" cy="24588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Rectangle 15"/>
              <p:cNvSpPr/>
              <p:nvPr/>
            </p:nvSpPr>
            <p:spPr>
              <a:xfrm>
                <a:off x="458640" y="4186080"/>
                <a:ext cx="8337600" cy="22338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Text Box 16"/>
              <p:cNvSpPr/>
              <p:nvPr/>
            </p:nvSpPr>
            <p:spPr>
              <a:xfrm>
                <a:off x="497160" y="3979800"/>
                <a:ext cx="8084160" cy="247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Address      Name          Reset Value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Descrip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x33 7FF8   PWL0           user defined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Low word of 128-bit passwor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x33 7FF9   PWL1           user defined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1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nd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word of 128-bit passwor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x33 7FFA  PWL2           user defined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1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rd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word of 128-bit passwor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x33 7FFB  PWL3           user defined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r>
                  <a:rPr b="1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th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word of 128-bit passwor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x33 7FFC  PWL4           user defined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1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th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word of 128-bit passwor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x33 7FFD  PWL5           user defined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r>
                  <a:rPr b="1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th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word of 128-bit passwor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x33 7FFE  PWL6           user defined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7</a:t>
                </a:r>
                <a:r>
                  <a:rPr b="1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th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word of 128-bit passwor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x33 7FFF  PWL7           user defined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High word of 128-bit passwor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Line 17"/>
              <p:cNvSpPr/>
              <p:nvPr/>
            </p:nvSpPr>
            <p:spPr>
              <a:xfrm>
                <a:off x="1749240" y="3940200"/>
                <a:ext cx="0" cy="247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Line 18"/>
              <p:cNvSpPr/>
              <p:nvPr/>
            </p:nvSpPr>
            <p:spPr>
              <a:xfrm>
                <a:off x="2970000" y="3940200"/>
                <a:ext cx="0" cy="247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Line 19"/>
              <p:cNvSpPr/>
              <p:nvPr/>
            </p:nvSpPr>
            <p:spPr>
              <a:xfrm>
                <a:off x="4964040" y="3940200"/>
                <a:ext cx="0" cy="247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52" name="Text Box 20"/>
            <p:cNvSpPr/>
            <p:nvPr/>
          </p:nvSpPr>
          <p:spPr>
            <a:xfrm>
              <a:off x="415800" y="3639960"/>
              <a:ext cx="52740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WL in memory – reserved for passwords onl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Locking and Unlocking the CSM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88640" y="1270080"/>
            <a:ext cx="8767800" cy="45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552600" indent="-55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CSM is locked at power-up and rese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 unlock the CSM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rform a dummy read of each password in the Flash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rite the correct passwords to the key register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w Flash Devices (PWL are all 0xFFFF)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all passwords are 0xFFFF – only a read of the PWL is required to bring the device into unlocked mod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Times New Roman"/>
              </a:rPr>
              <a:t>CSM Caveat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31560" y="1003320"/>
            <a:ext cx="8629560" cy="522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552600" indent="-55260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ver program all the PWL’s as 0x000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oing so will permanently lock the CS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9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lash addresses 0x337F80 to 0x337FF5, inclusive, must be programmed to 0x0000 to securely lock the CSM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member that code running in unsecured RAM cannot access data in secured memor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on’t link the stack to secured RAM if you have any code that runs from unsecured RA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 not embed the passwords in your code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nerally, the CSM is unlocked only for debu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de Composer Studio can do the unlock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CSM Password Match Flow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458" name="Group 3"/>
          <p:cNvGrpSpPr/>
          <p:nvPr/>
        </p:nvGrpSpPr>
        <p:grpSpPr>
          <a:xfrm>
            <a:off x="890640" y="2546280"/>
            <a:ext cx="1670040" cy="677880"/>
            <a:chOff x="890640" y="2546280"/>
            <a:chExt cx="1670040" cy="677880"/>
          </a:xfrm>
        </p:grpSpPr>
        <p:sp>
          <p:nvSpPr>
            <p:cNvPr id="459" name="Rectangle 4"/>
            <p:cNvSpPr/>
            <p:nvPr/>
          </p:nvSpPr>
          <p:spPr>
            <a:xfrm>
              <a:off x="944640" y="2546280"/>
              <a:ext cx="1523880" cy="6778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Text Box 5"/>
            <p:cNvSpPr/>
            <p:nvPr/>
          </p:nvSpPr>
          <p:spPr>
            <a:xfrm>
              <a:off x="890640" y="2546280"/>
              <a:ext cx="167004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lash device secure after reset or runtim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1" name="Group 6"/>
          <p:cNvGrpSpPr/>
          <p:nvPr/>
        </p:nvGrpSpPr>
        <p:grpSpPr>
          <a:xfrm>
            <a:off x="428760" y="3832200"/>
            <a:ext cx="2568600" cy="482760"/>
            <a:chOff x="428760" y="3832200"/>
            <a:chExt cx="2568600" cy="482760"/>
          </a:xfrm>
        </p:grpSpPr>
        <p:sp>
          <p:nvSpPr>
            <p:cNvPr id="462" name="Rectangle 7"/>
            <p:cNvSpPr/>
            <p:nvPr/>
          </p:nvSpPr>
          <p:spPr>
            <a:xfrm>
              <a:off x="571680" y="3832200"/>
              <a:ext cx="2247840" cy="482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Text Box 8"/>
            <p:cNvSpPr/>
            <p:nvPr/>
          </p:nvSpPr>
          <p:spPr>
            <a:xfrm>
              <a:off x="428760" y="3832200"/>
              <a:ext cx="256860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o dummy read of PWL 0x33 7FF8 – 0x33 7FF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Group 9"/>
          <p:cNvGrpSpPr/>
          <p:nvPr/>
        </p:nvGrpSpPr>
        <p:grpSpPr>
          <a:xfrm>
            <a:off x="1411200" y="1654200"/>
            <a:ext cx="624240" cy="300960"/>
            <a:chOff x="1411200" y="1654200"/>
            <a:chExt cx="624240" cy="300960"/>
          </a:xfrm>
        </p:grpSpPr>
        <p:sp>
          <p:nvSpPr>
            <p:cNvPr id="465" name="AutoShape 10"/>
            <p:cNvSpPr/>
            <p:nvPr/>
          </p:nvSpPr>
          <p:spPr>
            <a:xfrm>
              <a:off x="1411200" y="1654200"/>
              <a:ext cx="614520" cy="287280"/>
            </a:xfrm>
            <a:prstGeom prst="roundRect">
              <a:avLst>
                <a:gd name="adj" fmla="val 16667"/>
              </a:avLst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Text Box 11"/>
            <p:cNvSpPr/>
            <p:nvPr/>
          </p:nvSpPr>
          <p:spPr>
            <a:xfrm>
              <a:off x="1426320" y="1666800"/>
              <a:ext cx="609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7" name="Group 12"/>
          <p:cNvGrpSpPr/>
          <p:nvPr/>
        </p:nvGrpSpPr>
        <p:grpSpPr>
          <a:xfrm>
            <a:off x="5921280" y="1346040"/>
            <a:ext cx="2892600" cy="1017720"/>
            <a:chOff x="5921280" y="1346040"/>
            <a:chExt cx="2892600" cy="1017720"/>
          </a:xfrm>
        </p:grpSpPr>
        <p:sp>
          <p:nvSpPr>
            <p:cNvPr id="468" name="Rectangle 13"/>
            <p:cNvSpPr/>
            <p:nvPr/>
          </p:nvSpPr>
          <p:spPr>
            <a:xfrm>
              <a:off x="5969160" y="1346040"/>
              <a:ext cx="2803320" cy="9954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Text Box 14"/>
            <p:cNvSpPr/>
            <p:nvPr/>
          </p:nvSpPr>
          <p:spPr>
            <a:xfrm>
              <a:off x="5921280" y="1365120"/>
              <a:ext cx="2892600" cy="9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Device permanently lock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PU access is limited – device cannot be debugged or reprogramm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0" name="Group 15"/>
          <p:cNvGrpSpPr/>
          <p:nvPr/>
        </p:nvGrpSpPr>
        <p:grpSpPr>
          <a:xfrm>
            <a:off x="6554880" y="5330880"/>
            <a:ext cx="2036520" cy="804240"/>
            <a:chOff x="6554880" y="5330880"/>
            <a:chExt cx="2036520" cy="804240"/>
          </a:xfrm>
        </p:grpSpPr>
        <p:sp>
          <p:nvSpPr>
            <p:cNvPr id="471" name="Rectangle 16"/>
            <p:cNvSpPr/>
            <p:nvPr/>
          </p:nvSpPr>
          <p:spPr>
            <a:xfrm>
              <a:off x="6554880" y="5330880"/>
              <a:ext cx="2036520" cy="79992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Text Box 17"/>
            <p:cNvSpPr/>
            <p:nvPr/>
          </p:nvSpPr>
          <p:spPr>
            <a:xfrm>
              <a:off x="6554880" y="5330880"/>
              <a:ext cx="2036520" cy="80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evice unlock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ser can access on-chip secure memor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3" name="Group 18"/>
          <p:cNvGrpSpPr/>
          <p:nvPr/>
        </p:nvGrpSpPr>
        <p:grpSpPr>
          <a:xfrm>
            <a:off x="3747960" y="3854520"/>
            <a:ext cx="3186360" cy="816840"/>
            <a:chOff x="3747960" y="3854520"/>
            <a:chExt cx="3186360" cy="816840"/>
          </a:xfrm>
        </p:grpSpPr>
        <p:sp>
          <p:nvSpPr>
            <p:cNvPr id="474" name="Rectangle 19"/>
            <p:cNvSpPr/>
            <p:nvPr/>
          </p:nvSpPr>
          <p:spPr>
            <a:xfrm>
              <a:off x="3824280" y="3854520"/>
              <a:ext cx="2995560" cy="7999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Text Box 20"/>
            <p:cNvSpPr/>
            <p:nvPr/>
          </p:nvSpPr>
          <p:spPr>
            <a:xfrm>
              <a:off x="3747960" y="3867120"/>
              <a:ext cx="3186360" cy="80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rite password to KEY registers 0x00 0AE0 – 0x00 0AE7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EALLOW) protect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6" name="Group 21"/>
          <p:cNvGrpSpPr/>
          <p:nvPr/>
        </p:nvGrpSpPr>
        <p:grpSpPr>
          <a:xfrm>
            <a:off x="4525920" y="5207040"/>
            <a:ext cx="1470240" cy="1049400"/>
            <a:chOff x="4525920" y="5207040"/>
            <a:chExt cx="1470240" cy="1049400"/>
          </a:xfrm>
        </p:grpSpPr>
        <p:sp>
          <p:nvSpPr>
            <p:cNvPr id="477" name="AutoShape 22"/>
            <p:cNvSpPr/>
            <p:nvPr/>
          </p:nvSpPr>
          <p:spPr>
            <a:xfrm>
              <a:off x="4525920" y="5207040"/>
              <a:ext cx="1470240" cy="1049400"/>
            </a:xfrm>
            <a:prstGeom prst="flowChartDecision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Text Box 23"/>
            <p:cNvSpPr/>
            <p:nvPr/>
          </p:nvSpPr>
          <p:spPr>
            <a:xfrm>
              <a:off x="4667400" y="5460840"/>
              <a:ext cx="125244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rrect password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9" name="Group 24"/>
          <p:cNvGrpSpPr/>
          <p:nvPr/>
        </p:nvGrpSpPr>
        <p:grpSpPr>
          <a:xfrm>
            <a:off x="3903840" y="2692440"/>
            <a:ext cx="1469880" cy="801360"/>
            <a:chOff x="3903840" y="2692440"/>
            <a:chExt cx="1469880" cy="801360"/>
          </a:xfrm>
        </p:grpSpPr>
        <p:sp>
          <p:nvSpPr>
            <p:cNvPr id="480" name="AutoShape 25"/>
            <p:cNvSpPr/>
            <p:nvPr/>
          </p:nvSpPr>
          <p:spPr>
            <a:xfrm>
              <a:off x="3903840" y="2692440"/>
              <a:ext cx="1469880" cy="801360"/>
            </a:xfrm>
            <a:prstGeom prst="flowChartDecision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Text Box 26"/>
            <p:cNvSpPr/>
            <p:nvPr/>
          </p:nvSpPr>
          <p:spPr>
            <a:xfrm>
              <a:off x="4070520" y="2882880"/>
              <a:ext cx="125244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s PWL = all Fs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2" name="Group 27"/>
          <p:cNvGrpSpPr/>
          <p:nvPr/>
        </p:nvGrpSpPr>
        <p:grpSpPr>
          <a:xfrm>
            <a:off x="3903840" y="1449360"/>
            <a:ext cx="1469880" cy="801720"/>
            <a:chOff x="3903840" y="1449360"/>
            <a:chExt cx="1469880" cy="801720"/>
          </a:xfrm>
        </p:grpSpPr>
        <p:sp>
          <p:nvSpPr>
            <p:cNvPr id="483" name="AutoShape 28"/>
            <p:cNvSpPr/>
            <p:nvPr/>
          </p:nvSpPr>
          <p:spPr>
            <a:xfrm>
              <a:off x="3903840" y="1449360"/>
              <a:ext cx="1469880" cy="801720"/>
            </a:xfrm>
            <a:prstGeom prst="flowChartDecision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Text Box 29"/>
            <p:cNvSpPr/>
            <p:nvPr/>
          </p:nvSpPr>
          <p:spPr>
            <a:xfrm>
              <a:off x="4070520" y="1639800"/>
              <a:ext cx="125244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s PWL = all 0s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5" name="Line 30"/>
          <p:cNvSpPr/>
          <p:nvPr/>
        </p:nvSpPr>
        <p:spPr>
          <a:xfrm>
            <a:off x="5373720" y="1847880"/>
            <a:ext cx="5954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Line 31"/>
          <p:cNvSpPr/>
          <p:nvPr/>
        </p:nvSpPr>
        <p:spPr>
          <a:xfrm>
            <a:off x="4638600" y="2251080"/>
            <a:ext cx="0" cy="441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Line 32"/>
          <p:cNvSpPr/>
          <p:nvPr/>
        </p:nvSpPr>
        <p:spPr>
          <a:xfrm>
            <a:off x="4638600" y="349416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Line 33"/>
          <p:cNvSpPr/>
          <p:nvPr/>
        </p:nvSpPr>
        <p:spPr>
          <a:xfrm>
            <a:off x="5996160" y="5729400"/>
            <a:ext cx="55872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Line 34"/>
          <p:cNvSpPr/>
          <p:nvPr/>
        </p:nvSpPr>
        <p:spPr>
          <a:xfrm flipV="1">
            <a:off x="5257800" y="4654080"/>
            <a:ext cx="0" cy="5526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90" name="AutoShape 35"/>
          <p:cNvCxnSpPr>
            <a:stCxn id="463" idx="2"/>
            <a:endCxn id="483" idx="0"/>
          </p:cNvCxnSpPr>
          <p:nvPr/>
        </p:nvCxnSpPr>
        <p:spPr>
          <a:xfrm flipH="1" flipV="1" rot="5400000">
            <a:off x="1742040" y="1419120"/>
            <a:ext cx="2865960" cy="2926440"/>
          </a:xfrm>
          <a:prstGeom prst="bentConnector5">
            <a:avLst>
              <a:gd name="adj1" fmla="val -7977"/>
              <a:gd name="adj2" fmla="val 59411"/>
              <a:gd name="adj3" fmla="val 107989"/>
            </a:avLst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91" name="AutoShape 36"/>
          <p:cNvCxnSpPr>
            <a:stCxn id="466" idx="2"/>
            <a:endCxn id="460" idx="0"/>
          </p:cNvCxnSpPr>
          <p:nvPr/>
        </p:nvCxnSpPr>
        <p:spPr>
          <a:xfrm flipH="1">
            <a:off x="1725120" y="1953720"/>
            <a:ext cx="7200" cy="592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92" name="AutoShape 37"/>
          <p:cNvCxnSpPr>
            <a:stCxn id="460" idx="2"/>
          </p:cNvCxnSpPr>
          <p:nvPr/>
        </p:nvCxnSpPr>
        <p:spPr>
          <a:xfrm>
            <a:off x="1725120" y="3224160"/>
            <a:ext cx="1080" cy="6055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93" name="Text Box 38"/>
          <p:cNvSpPr/>
          <p:nvPr/>
        </p:nvSpPr>
        <p:spPr>
          <a:xfrm>
            <a:off x="5488920" y="2814480"/>
            <a:ext cx="5313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Text Box 39"/>
          <p:cNvSpPr/>
          <p:nvPr/>
        </p:nvSpPr>
        <p:spPr>
          <a:xfrm>
            <a:off x="5933520" y="5445000"/>
            <a:ext cx="5313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Text Box 40"/>
          <p:cNvSpPr/>
          <p:nvPr/>
        </p:nvSpPr>
        <p:spPr>
          <a:xfrm>
            <a:off x="5347800" y="1573200"/>
            <a:ext cx="5313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96" name="AutoShape 41"/>
          <p:cNvCxnSpPr>
            <a:stCxn id="480" idx="3"/>
            <a:endCxn id="471" idx="0"/>
          </p:cNvCxnSpPr>
          <p:nvPr/>
        </p:nvCxnSpPr>
        <p:spPr>
          <a:xfrm>
            <a:off x="5373720" y="3093840"/>
            <a:ext cx="2201040" cy="2237400"/>
          </a:xfrm>
          <a:prstGeom prst="bentConnector2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97" name="Text Box 42"/>
          <p:cNvSpPr/>
          <p:nvPr/>
        </p:nvSpPr>
        <p:spPr>
          <a:xfrm>
            <a:off x="4844880" y="6199200"/>
            <a:ext cx="439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Text Box 43"/>
          <p:cNvSpPr/>
          <p:nvPr/>
        </p:nvSpPr>
        <p:spPr>
          <a:xfrm>
            <a:off x="4248000" y="3456000"/>
            <a:ext cx="439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Text Box 44"/>
          <p:cNvSpPr/>
          <p:nvPr/>
        </p:nvSpPr>
        <p:spPr>
          <a:xfrm>
            <a:off x="4249440" y="2233440"/>
            <a:ext cx="439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00" name="AutoShape 45"/>
          <p:cNvCxnSpPr>
            <a:stCxn id="477" idx="2"/>
            <a:endCxn id="474" idx="1"/>
          </p:cNvCxnSpPr>
          <p:nvPr/>
        </p:nvCxnSpPr>
        <p:spPr>
          <a:xfrm flipV="1" rot="16200000">
            <a:off x="3540960" y="4536360"/>
            <a:ext cx="2002680" cy="1437480"/>
          </a:xfrm>
          <a:prstGeom prst="bentConnector4">
            <a:avLst>
              <a:gd name="adj1" fmla="val -11416"/>
              <a:gd name="adj2" fmla="val 115906"/>
            </a:avLst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CSM C-Code Example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291960" y="1143000"/>
            <a:ext cx="8512200" cy="345744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291960" y="1346040"/>
            <a:ext cx="8496360" cy="31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volatile int *PWL = &amp;CsmPwl.PSWD0;   //Pointer to PWL register fi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volatile int i, tmp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for (i = 0; i&lt;8; i++) tmp = *PWL++;  //Dummy reads of PWL loc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asm (” EALLOW”);                     //KEY regs are EALLOW protec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CsmRegs.KEY0 = PASSWORD0;            //Write the password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CsmRegs.KEY1 = PASSWORD0;            //to the Key regist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CsmRegs.KEY2 = PASSWORD2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CsmRegs.KEY3 = PASSWORD3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CsmRegs.KEY4 = PASSWORD4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CsmRegs.KEY5 = PASSWORD5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CsmRegs.KEY6 = PASSWORD6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CsmRegs.KEY7 = PASSWORD7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asm (” EDIS”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4" name="Group 5"/>
          <p:cNvGrpSpPr/>
          <p:nvPr/>
        </p:nvGrpSpPr>
        <p:grpSpPr>
          <a:xfrm>
            <a:off x="291960" y="5538960"/>
            <a:ext cx="8512200" cy="907920"/>
            <a:chOff x="291960" y="5538960"/>
            <a:chExt cx="8512200" cy="907920"/>
          </a:xfrm>
        </p:grpSpPr>
        <p:sp>
          <p:nvSpPr>
            <p:cNvPr id="505" name="Rectangle 6"/>
            <p:cNvSpPr/>
            <p:nvPr/>
          </p:nvSpPr>
          <p:spPr>
            <a:xfrm>
              <a:off x="291960" y="5538960"/>
              <a:ext cx="8512200" cy="9079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Text Box 7"/>
            <p:cNvSpPr/>
            <p:nvPr/>
          </p:nvSpPr>
          <p:spPr>
            <a:xfrm>
              <a:off x="304560" y="5715000"/>
              <a:ext cx="847116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urier New"/>
                </a:rPr>
                <a:t>asm(” EALLOW”);                     //CSMSCR reg is EALLOW protect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urier New"/>
                </a:rPr>
                <a:t>CsmRegs.CSMSCR.bit.FORCESEC = 1;    //Set FORCESEC bi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urier New"/>
                </a:rPr>
                <a:t>asm (”EDIS”)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7" name="Text Box 8"/>
          <p:cNvSpPr/>
          <p:nvPr/>
        </p:nvSpPr>
        <p:spPr>
          <a:xfrm>
            <a:off x="224640" y="831960"/>
            <a:ext cx="2341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locking the CS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Text Box 9"/>
          <p:cNvSpPr/>
          <p:nvPr/>
        </p:nvSpPr>
        <p:spPr>
          <a:xfrm>
            <a:off x="224640" y="5210280"/>
            <a:ext cx="2113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king the CS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2"/>
          <p:cNvSpPr/>
          <p:nvPr/>
        </p:nvSpPr>
        <p:spPr>
          <a:xfrm>
            <a:off x="76320" y="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Lab 14:   Load an application into Flas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179280" y="765000"/>
            <a:ext cx="856944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noAutofit/>
          </a:bodyPr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Solution for Lab6 to begin wit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dify the project to use internal Flash for co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d “DSP2833x_CodeStartBranch.asm” to branch from Flash entry point ( 0x33 FFF6) to C - library function “_c_int00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d TI - code to set up the speed of Fla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d a function to move the speed-up code from Flash to SARAM Adjust Linker Command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CCS plug-in tool to perform the Flash downlo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isconnect emulator and re-power the board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de should be executed out of Fla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details see procedure in textbook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21552"/>
            </a:gs>
            <a:gs pos="50000">
              <a:srgbClr val="042aa4"/>
            </a:gs>
            <a:gs pos="100000">
              <a:srgbClr val="02155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Group 2"/>
          <p:cNvGrpSpPr/>
          <p:nvPr/>
        </p:nvGrpSpPr>
        <p:grpSpPr>
          <a:xfrm>
            <a:off x="2247840" y="1574640"/>
            <a:ext cx="4214880" cy="4113360"/>
            <a:chOff x="2247840" y="1574640"/>
            <a:chExt cx="4214880" cy="4113360"/>
          </a:xfrm>
        </p:grpSpPr>
        <p:sp>
          <p:nvSpPr>
            <p:cNvPr id="512" name="Freeform 3"/>
            <p:cNvSpPr/>
            <p:nvPr/>
          </p:nvSpPr>
          <p:spPr>
            <a:xfrm>
              <a:off x="4797360" y="2103480"/>
              <a:ext cx="455760" cy="41904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87" h="264">
                  <a:moveTo>
                    <a:pt x="286" y="132"/>
                  </a:moveTo>
                  <a:lnTo>
                    <a:pt x="286" y="90"/>
                  </a:lnTo>
                  <a:lnTo>
                    <a:pt x="272" y="90"/>
                  </a:lnTo>
                  <a:lnTo>
                    <a:pt x="272" y="69"/>
                  </a:lnTo>
                  <a:lnTo>
                    <a:pt x="272" y="55"/>
                  </a:lnTo>
                  <a:lnTo>
                    <a:pt x="258" y="55"/>
                  </a:lnTo>
                  <a:lnTo>
                    <a:pt x="258" y="42"/>
                  </a:lnTo>
                  <a:lnTo>
                    <a:pt x="244" y="42"/>
                  </a:lnTo>
                  <a:lnTo>
                    <a:pt x="244" y="28"/>
                  </a:lnTo>
                  <a:lnTo>
                    <a:pt x="230" y="28"/>
                  </a:lnTo>
                  <a:lnTo>
                    <a:pt x="216" y="28"/>
                  </a:lnTo>
                  <a:lnTo>
                    <a:pt x="216" y="14"/>
                  </a:lnTo>
                  <a:lnTo>
                    <a:pt x="188" y="14"/>
                  </a:lnTo>
                  <a:lnTo>
                    <a:pt x="188" y="0"/>
                  </a:lnTo>
                  <a:lnTo>
                    <a:pt x="98" y="0"/>
                  </a:lnTo>
                  <a:lnTo>
                    <a:pt x="98" y="14"/>
                  </a:lnTo>
                  <a:lnTo>
                    <a:pt x="70" y="14"/>
                  </a:lnTo>
                  <a:lnTo>
                    <a:pt x="70" y="28"/>
                  </a:lnTo>
                  <a:lnTo>
                    <a:pt x="56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28" y="42"/>
                  </a:lnTo>
                  <a:lnTo>
                    <a:pt x="28" y="55"/>
                  </a:lnTo>
                  <a:lnTo>
                    <a:pt x="14" y="55"/>
                  </a:lnTo>
                  <a:lnTo>
                    <a:pt x="14" y="69"/>
                  </a:lnTo>
                  <a:lnTo>
                    <a:pt x="14" y="90"/>
                  </a:lnTo>
                  <a:lnTo>
                    <a:pt x="0" y="90"/>
                  </a:lnTo>
                  <a:lnTo>
                    <a:pt x="0" y="132"/>
                  </a:lnTo>
                  <a:lnTo>
                    <a:pt x="0" y="173"/>
                  </a:lnTo>
                  <a:lnTo>
                    <a:pt x="14" y="173"/>
                  </a:lnTo>
                  <a:lnTo>
                    <a:pt x="14" y="201"/>
                  </a:lnTo>
                  <a:lnTo>
                    <a:pt x="14" y="215"/>
                  </a:lnTo>
                  <a:lnTo>
                    <a:pt x="28" y="215"/>
                  </a:lnTo>
                  <a:lnTo>
                    <a:pt x="28" y="228"/>
                  </a:lnTo>
                  <a:lnTo>
                    <a:pt x="42" y="228"/>
                  </a:lnTo>
                  <a:lnTo>
                    <a:pt x="42" y="235"/>
                  </a:lnTo>
                  <a:lnTo>
                    <a:pt x="56" y="235"/>
                  </a:lnTo>
                  <a:lnTo>
                    <a:pt x="70" y="235"/>
                  </a:lnTo>
                  <a:lnTo>
                    <a:pt x="70" y="249"/>
                  </a:lnTo>
                  <a:lnTo>
                    <a:pt x="98" y="249"/>
                  </a:lnTo>
                  <a:lnTo>
                    <a:pt x="98" y="263"/>
                  </a:lnTo>
                  <a:lnTo>
                    <a:pt x="188" y="263"/>
                  </a:lnTo>
                  <a:lnTo>
                    <a:pt x="188" y="249"/>
                  </a:lnTo>
                  <a:lnTo>
                    <a:pt x="216" y="249"/>
                  </a:lnTo>
                  <a:lnTo>
                    <a:pt x="216" y="235"/>
                  </a:lnTo>
                  <a:lnTo>
                    <a:pt x="230" y="235"/>
                  </a:lnTo>
                  <a:lnTo>
                    <a:pt x="244" y="235"/>
                  </a:lnTo>
                  <a:lnTo>
                    <a:pt x="244" y="228"/>
                  </a:lnTo>
                  <a:lnTo>
                    <a:pt x="258" y="228"/>
                  </a:lnTo>
                  <a:lnTo>
                    <a:pt x="258" y="215"/>
                  </a:lnTo>
                  <a:lnTo>
                    <a:pt x="272" y="215"/>
                  </a:lnTo>
                  <a:lnTo>
                    <a:pt x="272" y="201"/>
                  </a:lnTo>
                  <a:lnTo>
                    <a:pt x="272" y="173"/>
                  </a:lnTo>
                  <a:lnTo>
                    <a:pt x="286" y="173"/>
                  </a:lnTo>
                  <a:lnTo>
                    <a:pt x="286" y="132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Freeform 4"/>
            <p:cNvSpPr/>
            <p:nvPr/>
          </p:nvSpPr>
          <p:spPr>
            <a:xfrm>
              <a:off x="4506840" y="2684520"/>
              <a:ext cx="655560" cy="14158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1415880"/>
                <a:gd name="textAreaBottom" fmla="*/ 1415880 h 1415880"/>
              </a:gdLst>
              <a:ahLst/>
              <a:rect l="textAreaLeft" t="textAreaTop" r="textAreaRight" b="textAreaBottom"/>
              <a:pathLst>
                <a:path w="413" h="892">
                  <a:moveTo>
                    <a:pt x="164" y="0"/>
                  </a:moveTo>
                  <a:lnTo>
                    <a:pt x="164" y="40"/>
                  </a:lnTo>
                  <a:lnTo>
                    <a:pt x="152" y="40"/>
                  </a:lnTo>
                  <a:lnTo>
                    <a:pt x="152" y="100"/>
                  </a:lnTo>
                  <a:lnTo>
                    <a:pt x="141" y="100"/>
                  </a:lnTo>
                  <a:lnTo>
                    <a:pt x="141" y="153"/>
                  </a:lnTo>
                  <a:lnTo>
                    <a:pt x="130" y="153"/>
                  </a:lnTo>
                  <a:lnTo>
                    <a:pt x="130" y="219"/>
                  </a:lnTo>
                  <a:lnTo>
                    <a:pt x="119" y="219"/>
                  </a:lnTo>
                  <a:lnTo>
                    <a:pt x="119" y="279"/>
                  </a:lnTo>
                  <a:lnTo>
                    <a:pt x="107" y="279"/>
                  </a:lnTo>
                  <a:lnTo>
                    <a:pt x="107" y="332"/>
                  </a:lnTo>
                  <a:lnTo>
                    <a:pt x="96" y="332"/>
                  </a:lnTo>
                  <a:lnTo>
                    <a:pt x="96" y="392"/>
                  </a:lnTo>
                  <a:lnTo>
                    <a:pt x="85" y="392"/>
                  </a:lnTo>
                  <a:lnTo>
                    <a:pt x="85" y="459"/>
                  </a:lnTo>
                  <a:lnTo>
                    <a:pt x="73" y="459"/>
                  </a:lnTo>
                  <a:lnTo>
                    <a:pt x="73" y="512"/>
                  </a:lnTo>
                  <a:lnTo>
                    <a:pt x="62" y="512"/>
                  </a:lnTo>
                  <a:lnTo>
                    <a:pt x="62" y="572"/>
                  </a:lnTo>
                  <a:lnTo>
                    <a:pt x="51" y="572"/>
                  </a:lnTo>
                  <a:lnTo>
                    <a:pt x="51" y="638"/>
                  </a:lnTo>
                  <a:lnTo>
                    <a:pt x="45" y="638"/>
                  </a:lnTo>
                  <a:lnTo>
                    <a:pt x="45" y="692"/>
                  </a:lnTo>
                  <a:lnTo>
                    <a:pt x="34" y="692"/>
                  </a:lnTo>
                  <a:lnTo>
                    <a:pt x="34" y="751"/>
                  </a:lnTo>
                  <a:lnTo>
                    <a:pt x="23" y="751"/>
                  </a:lnTo>
                  <a:lnTo>
                    <a:pt x="23" y="818"/>
                  </a:lnTo>
                  <a:lnTo>
                    <a:pt x="11" y="818"/>
                  </a:lnTo>
                  <a:lnTo>
                    <a:pt x="11" y="864"/>
                  </a:lnTo>
                  <a:lnTo>
                    <a:pt x="0" y="864"/>
                  </a:lnTo>
                  <a:lnTo>
                    <a:pt x="0" y="891"/>
                  </a:lnTo>
                  <a:lnTo>
                    <a:pt x="248" y="891"/>
                  </a:lnTo>
                  <a:lnTo>
                    <a:pt x="248" y="864"/>
                  </a:lnTo>
                  <a:lnTo>
                    <a:pt x="260" y="864"/>
                  </a:lnTo>
                  <a:lnTo>
                    <a:pt x="260" y="805"/>
                  </a:lnTo>
                  <a:lnTo>
                    <a:pt x="271" y="805"/>
                  </a:lnTo>
                  <a:lnTo>
                    <a:pt x="271" y="751"/>
                  </a:lnTo>
                  <a:lnTo>
                    <a:pt x="282" y="751"/>
                  </a:lnTo>
                  <a:lnTo>
                    <a:pt x="282" y="692"/>
                  </a:lnTo>
                  <a:lnTo>
                    <a:pt x="293" y="692"/>
                  </a:lnTo>
                  <a:lnTo>
                    <a:pt x="293" y="625"/>
                  </a:lnTo>
                  <a:lnTo>
                    <a:pt x="305" y="625"/>
                  </a:lnTo>
                  <a:lnTo>
                    <a:pt x="305" y="572"/>
                  </a:lnTo>
                  <a:lnTo>
                    <a:pt x="316" y="572"/>
                  </a:lnTo>
                  <a:lnTo>
                    <a:pt x="316" y="512"/>
                  </a:lnTo>
                  <a:lnTo>
                    <a:pt x="327" y="512"/>
                  </a:lnTo>
                  <a:lnTo>
                    <a:pt x="327" y="446"/>
                  </a:lnTo>
                  <a:lnTo>
                    <a:pt x="333" y="446"/>
                  </a:lnTo>
                  <a:lnTo>
                    <a:pt x="333" y="392"/>
                  </a:lnTo>
                  <a:lnTo>
                    <a:pt x="344" y="392"/>
                  </a:lnTo>
                  <a:lnTo>
                    <a:pt x="344" y="332"/>
                  </a:lnTo>
                  <a:lnTo>
                    <a:pt x="356" y="332"/>
                  </a:lnTo>
                  <a:lnTo>
                    <a:pt x="356" y="266"/>
                  </a:lnTo>
                  <a:lnTo>
                    <a:pt x="367" y="266"/>
                  </a:lnTo>
                  <a:lnTo>
                    <a:pt x="367" y="219"/>
                  </a:lnTo>
                  <a:lnTo>
                    <a:pt x="378" y="219"/>
                  </a:lnTo>
                  <a:lnTo>
                    <a:pt x="378" y="153"/>
                  </a:lnTo>
                  <a:lnTo>
                    <a:pt x="389" y="153"/>
                  </a:lnTo>
                  <a:lnTo>
                    <a:pt x="389" y="86"/>
                  </a:lnTo>
                  <a:lnTo>
                    <a:pt x="401" y="86"/>
                  </a:lnTo>
                  <a:lnTo>
                    <a:pt x="401" y="40"/>
                  </a:lnTo>
                  <a:lnTo>
                    <a:pt x="412" y="40"/>
                  </a:lnTo>
                  <a:lnTo>
                    <a:pt x="412" y="0"/>
                  </a:lnTo>
                  <a:lnTo>
                    <a:pt x="164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Freeform 5"/>
            <p:cNvSpPr/>
            <p:nvPr/>
          </p:nvSpPr>
          <p:spPr>
            <a:xfrm>
              <a:off x="2247840" y="1574640"/>
              <a:ext cx="4214880" cy="4113360"/>
            </a:xfrm>
            <a:custGeom>
              <a:avLst/>
              <a:gdLst>
                <a:gd name="textAreaLeft" fmla="*/ 0 w 4214880"/>
                <a:gd name="textAreaRight" fmla="*/ 4215240 w 4214880"/>
                <a:gd name="textAreaTop" fmla="*/ 0 h 4113360"/>
                <a:gd name="textAreaBottom" fmla="*/ 4113720 h 4113360"/>
              </a:gdLst>
              <a:ahLst/>
              <a:rect l="textAreaLeft" t="textAreaTop" r="textAreaRight" b="textAreaBottom"/>
              <a:pathLst>
                <a:path w="2655" h="2591">
                  <a:moveTo>
                    <a:pt x="131" y="1309"/>
                  </a:moveTo>
                  <a:lnTo>
                    <a:pt x="117" y="1295"/>
                  </a:lnTo>
                  <a:lnTo>
                    <a:pt x="103" y="1295"/>
                  </a:lnTo>
                  <a:lnTo>
                    <a:pt x="103" y="1281"/>
                  </a:lnTo>
                  <a:lnTo>
                    <a:pt x="103" y="1267"/>
                  </a:lnTo>
                  <a:lnTo>
                    <a:pt x="89" y="1267"/>
                  </a:lnTo>
                  <a:lnTo>
                    <a:pt x="89" y="1253"/>
                  </a:lnTo>
                  <a:lnTo>
                    <a:pt x="76" y="1253"/>
                  </a:lnTo>
                  <a:lnTo>
                    <a:pt x="76" y="1239"/>
                  </a:lnTo>
                  <a:lnTo>
                    <a:pt x="69" y="1239"/>
                  </a:lnTo>
                  <a:lnTo>
                    <a:pt x="69" y="1232"/>
                  </a:lnTo>
                  <a:lnTo>
                    <a:pt x="69" y="1218"/>
                  </a:lnTo>
                  <a:lnTo>
                    <a:pt x="55" y="1204"/>
                  </a:lnTo>
                  <a:lnTo>
                    <a:pt x="41" y="1204"/>
                  </a:lnTo>
                  <a:lnTo>
                    <a:pt x="41" y="1177"/>
                  </a:lnTo>
                  <a:lnTo>
                    <a:pt x="28" y="1177"/>
                  </a:lnTo>
                  <a:lnTo>
                    <a:pt x="28" y="1163"/>
                  </a:lnTo>
                  <a:lnTo>
                    <a:pt x="28" y="1121"/>
                  </a:lnTo>
                  <a:lnTo>
                    <a:pt x="14" y="1121"/>
                  </a:lnTo>
                  <a:lnTo>
                    <a:pt x="14" y="1093"/>
                  </a:lnTo>
                  <a:lnTo>
                    <a:pt x="0" y="1079"/>
                  </a:lnTo>
                  <a:lnTo>
                    <a:pt x="0" y="1030"/>
                  </a:lnTo>
                  <a:lnTo>
                    <a:pt x="674" y="1030"/>
                  </a:lnTo>
                  <a:lnTo>
                    <a:pt x="688" y="1030"/>
                  </a:lnTo>
                  <a:lnTo>
                    <a:pt x="688" y="0"/>
                  </a:lnTo>
                  <a:lnTo>
                    <a:pt x="1348" y="0"/>
                  </a:lnTo>
                  <a:lnTo>
                    <a:pt x="1348" y="425"/>
                  </a:lnTo>
                  <a:lnTo>
                    <a:pt x="1348" y="439"/>
                  </a:lnTo>
                  <a:lnTo>
                    <a:pt x="1361" y="439"/>
                  </a:lnTo>
                  <a:lnTo>
                    <a:pt x="1361" y="453"/>
                  </a:lnTo>
                  <a:lnTo>
                    <a:pt x="1375" y="453"/>
                  </a:lnTo>
                  <a:lnTo>
                    <a:pt x="1375" y="466"/>
                  </a:lnTo>
                  <a:lnTo>
                    <a:pt x="1375" y="480"/>
                  </a:lnTo>
                  <a:lnTo>
                    <a:pt x="1403" y="480"/>
                  </a:lnTo>
                  <a:lnTo>
                    <a:pt x="1416" y="480"/>
                  </a:lnTo>
                  <a:lnTo>
                    <a:pt x="1416" y="494"/>
                  </a:lnTo>
                  <a:lnTo>
                    <a:pt x="1437" y="494"/>
                  </a:lnTo>
                  <a:lnTo>
                    <a:pt x="1437" y="508"/>
                  </a:lnTo>
                  <a:lnTo>
                    <a:pt x="1451" y="508"/>
                  </a:lnTo>
                  <a:lnTo>
                    <a:pt x="1465" y="522"/>
                  </a:lnTo>
                  <a:lnTo>
                    <a:pt x="1492" y="522"/>
                  </a:lnTo>
                  <a:lnTo>
                    <a:pt x="1492" y="536"/>
                  </a:lnTo>
                  <a:lnTo>
                    <a:pt x="1506" y="536"/>
                  </a:lnTo>
                  <a:lnTo>
                    <a:pt x="1451" y="856"/>
                  </a:lnTo>
                  <a:lnTo>
                    <a:pt x="1203" y="856"/>
                  </a:lnTo>
                  <a:lnTo>
                    <a:pt x="1148" y="1135"/>
                  </a:lnTo>
                  <a:lnTo>
                    <a:pt x="1389" y="1135"/>
                  </a:lnTo>
                  <a:lnTo>
                    <a:pt x="1389" y="1149"/>
                  </a:lnTo>
                  <a:lnTo>
                    <a:pt x="1389" y="1191"/>
                  </a:lnTo>
                  <a:lnTo>
                    <a:pt x="1375" y="1204"/>
                  </a:lnTo>
                  <a:lnTo>
                    <a:pt x="1375" y="1253"/>
                  </a:lnTo>
                  <a:lnTo>
                    <a:pt x="1361" y="1267"/>
                  </a:lnTo>
                  <a:lnTo>
                    <a:pt x="1361" y="1323"/>
                  </a:lnTo>
                  <a:lnTo>
                    <a:pt x="1348" y="1337"/>
                  </a:lnTo>
                  <a:lnTo>
                    <a:pt x="1348" y="1379"/>
                  </a:lnTo>
                  <a:lnTo>
                    <a:pt x="1334" y="1392"/>
                  </a:lnTo>
                  <a:lnTo>
                    <a:pt x="1334" y="1427"/>
                  </a:lnTo>
                  <a:lnTo>
                    <a:pt x="1320" y="1441"/>
                  </a:lnTo>
                  <a:lnTo>
                    <a:pt x="1320" y="1469"/>
                  </a:lnTo>
                  <a:lnTo>
                    <a:pt x="1306" y="1483"/>
                  </a:lnTo>
                  <a:lnTo>
                    <a:pt x="1306" y="1539"/>
                  </a:lnTo>
                  <a:lnTo>
                    <a:pt x="1293" y="1539"/>
                  </a:lnTo>
                  <a:lnTo>
                    <a:pt x="1293" y="1587"/>
                  </a:lnTo>
                  <a:lnTo>
                    <a:pt x="1279" y="1601"/>
                  </a:lnTo>
                  <a:lnTo>
                    <a:pt x="1279" y="1727"/>
                  </a:lnTo>
                  <a:lnTo>
                    <a:pt x="1293" y="1734"/>
                  </a:lnTo>
                  <a:lnTo>
                    <a:pt x="1293" y="1761"/>
                  </a:lnTo>
                  <a:lnTo>
                    <a:pt x="1306" y="1761"/>
                  </a:lnTo>
                  <a:lnTo>
                    <a:pt x="1306" y="1775"/>
                  </a:lnTo>
                  <a:lnTo>
                    <a:pt x="1320" y="1789"/>
                  </a:lnTo>
                  <a:lnTo>
                    <a:pt x="1320" y="1803"/>
                  </a:lnTo>
                  <a:lnTo>
                    <a:pt x="1334" y="1803"/>
                  </a:lnTo>
                  <a:lnTo>
                    <a:pt x="1334" y="1817"/>
                  </a:lnTo>
                  <a:lnTo>
                    <a:pt x="1361" y="1845"/>
                  </a:lnTo>
                  <a:lnTo>
                    <a:pt x="1361" y="1859"/>
                  </a:lnTo>
                  <a:lnTo>
                    <a:pt x="1375" y="1859"/>
                  </a:lnTo>
                  <a:lnTo>
                    <a:pt x="1403" y="1887"/>
                  </a:lnTo>
                  <a:lnTo>
                    <a:pt x="1416" y="1887"/>
                  </a:lnTo>
                  <a:lnTo>
                    <a:pt x="1430" y="1901"/>
                  </a:lnTo>
                  <a:lnTo>
                    <a:pt x="1451" y="1901"/>
                  </a:lnTo>
                  <a:lnTo>
                    <a:pt x="1451" y="1908"/>
                  </a:lnTo>
                  <a:lnTo>
                    <a:pt x="1492" y="1908"/>
                  </a:lnTo>
                  <a:lnTo>
                    <a:pt x="1506" y="1922"/>
                  </a:lnTo>
                  <a:lnTo>
                    <a:pt x="1588" y="1922"/>
                  </a:lnTo>
                  <a:lnTo>
                    <a:pt x="1691" y="1922"/>
                  </a:lnTo>
                  <a:lnTo>
                    <a:pt x="1733" y="1922"/>
                  </a:lnTo>
                  <a:lnTo>
                    <a:pt x="1733" y="1908"/>
                  </a:lnTo>
                  <a:lnTo>
                    <a:pt x="1760" y="1908"/>
                  </a:lnTo>
                  <a:lnTo>
                    <a:pt x="1760" y="1901"/>
                  </a:lnTo>
                  <a:lnTo>
                    <a:pt x="1781" y="1901"/>
                  </a:lnTo>
                  <a:lnTo>
                    <a:pt x="1795" y="1887"/>
                  </a:lnTo>
                  <a:lnTo>
                    <a:pt x="1808" y="1887"/>
                  </a:lnTo>
                  <a:lnTo>
                    <a:pt x="1836" y="1887"/>
                  </a:lnTo>
                  <a:lnTo>
                    <a:pt x="1836" y="1873"/>
                  </a:lnTo>
                  <a:lnTo>
                    <a:pt x="1850" y="1873"/>
                  </a:lnTo>
                  <a:lnTo>
                    <a:pt x="1850" y="1859"/>
                  </a:lnTo>
                  <a:lnTo>
                    <a:pt x="1863" y="1859"/>
                  </a:lnTo>
                  <a:lnTo>
                    <a:pt x="1905" y="1671"/>
                  </a:lnTo>
                  <a:lnTo>
                    <a:pt x="1891" y="1671"/>
                  </a:lnTo>
                  <a:lnTo>
                    <a:pt x="1877" y="1671"/>
                  </a:lnTo>
                  <a:lnTo>
                    <a:pt x="1877" y="1685"/>
                  </a:lnTo>
                  <a:lnTo>
                    <a:pt x="1850" y="1685"/>
                  </a:lnTo>
                  <a:lnTo>
                    <a:pt x="1850" y="1699"/>
                  </a:lnTo>
                  <a:lnTo>
                    <a:pt x="1781" y="1699"/>
                  </a:lnTo>
                  <a:lnTo>
                    <a:pt x="1781" y="1685"/>
                  </a:lnTo>
                  <a:lnTo>
                    <a:pt x="1774" y="1685"/>
                  </a:lnTo>
                  <a:lnTo>
                    <a:pt x="1774" y="1671"/>
                  </a:lnTo>
                  <a:lnTo>
                    <a:pt x="1760" y="1671"/>
                  </a:lnTo>
                  <a:lnTo>
                    <a:pt x="1760" y="1643"/>
                  </a:lnTo>
                  <a:lnTo>
                    <a:pt x="1760" y="1629"/>
                  </a:lnTo>
                  <a:lnTo>
                    <a:pt x="1850" y="1149"/>
                  </a:lnTo>
                  <a:lnTo>
                    <a:pt x="2049" y="1149"/>
                  </a:lnTo>
                  <a:lnTo>
                    <a:pt x="2111" y="870"/>
                  </a:lnTo>
                  <a:lnTo>
                    <a:pt x="1918" y="870"/>
                  </a:lnTo>
                  <a:lnTo>
                    <a:pt x="1966" y="571"/>
                  </a:lnTo>
                  <a:lnTo>
                    <a:pt x="1980" y="571"/>
                  </a:lnTo>
                  <a:lnTo>
                    <a:pt x="2008" y="571"/>
                  </a:lnTo>
                  <a:lnTo>
                    <a:pt x="2008" y="564"/>
                  </a:lnTo>
                  <a:lnTo>
                    <a:pt x="2090" y="564"/>
                  </a:lnTo>
                  <a:lnTo>
                    <a:pt x="2104" y="550"/>
                  </a:lnTo>
                  <a:lnTo>
                    <a:pt x="2152" y="550"/>
                  </a:lnTo>
                  <a:lnTo>
                    <a:pt x="2152" y="564"/>
                  </a:lnTo>
                  <a:lnTo>
                    <a:pt x="2262" y="564"/>
                  </a:lnTo>
                  <a:lnTo>
                    <a:pt x="2262" y="571"/>
                  </a:lnTo>
                  <a:lnTo>
                    <a:pt x="2310" y="571"/>
                  </a:lnTo>
                  <a:lnTo>
                    <a:pt x="2324" y="571"/>
                  </a:lnTo>
                  <a:lnTo>
                    <a:pt x="2365" y="571"/>
                  </a:lnTo>
                  <a:lnTo>
                    <a:pt x="2365" y="585"/>
                  </a:lnTo>
                  <a:lnTo>
                    <a:pt x="2406" y="585"/>
                  </a:lnTo>
                  <a:lnTo>
                    <a:pt x="2420" y="599"/>
                  </a:lnTo>
                  <a:lnTo>
                    <a:pt x="2434" y="599"/>
                  </a:lnTo>
                  <a:lnTo>
                    <a:pt x="2448" y="613"/>
                  </a:lnTo>
                  <a:lnTo>
                    <a:pt x="2468" y="613"/>
                  </a:lnTo>
                  <a:lnTo>
                    <a:pt x="2510" y="613"/>
                  </a:lnTo>
                  <a:lnTo>
                    <a:pt x="2510" y="627"/>
                  </a:lnTo>
                  <a:lnTo>
                    <a:pt x="2523" y="627"/>
                  </a:lnTo>
                  <a:lnTo>
                    <a:pt x="2523" y="696"/>
                  </a:lnTo>
                  <a:lnTo>
                    <a:pt x="2510" y="710"/>
                  </a:lnTo>
                  <a:lnTo>
                    <a:pt x="2510" y="975"/>
                  </a:lnTo>
                  <a:lnTo>
                    <a:pt x="2523" y="989"/>
                  </a:lnTo>
                  <a:lnTo>
                    <a:pt x="2523" y="1003"/>
                  </a:lnTo>
                  <a:lnTo>
                    <a:pt x="2537" y="1017"/>
                  </a:lnTo>
                  <a:lnTo>
                    <a:pt x="2537" y="1030"/>
                  </a:lnTo>
                  <a:lnTo>
                    <a:pt x="2551" y="1044"/>
                  </a:lnTo>
                  <a:lnTo>
                    <a:pt x="2551" y="1058"/>
                  </a:lnTo>
                  <a:lnTo>
                    <a:pt x="2565" y="1065"/>
                  </a:lnTo>
                  <a:lnTo>
                    <a:pt x="2565" y="1079"/>
                  </a:lnTo>
                  <a:lnTo>
                    <a:pt x="2578" y="1079"/>
                  </a:lnTo>
                  <a:lnTo>
                    <a:pt x="2578" y="1093"/>
                  </a:lnTo>
                  <a:lnTo>
                    <a:pt x="2606" y="1121"/>
                  </a:lnTo>
                  <a:lnTo>
                    <a:pt x="2620" y="1121"/>
                  </a:lnTo>
                  <a:lnTo>
                    <a:pt x="2620" y="1135"/>
                  </a:lnTo>
                  <a:lnTo>
                    <a:pt x="2626" y="1135"/>
                  </a:lnTo>
                  <a:lnTo>
                    <a:pt x="2626" y="1163"/>
                  </a:lnTo>
                  <a:lnTo>
                    <a:pt x="2640" y="1177"/>
                  </a:lnTo>
                  <a:lnTo>
                    <a:pt x="2640" y="1239"/>
                  </a:lnTo>
                  <a:lnTo>
                    <a:pt x="2654" y="1239"/>
                  </a:lnTo>
                  <a:lnTo>
                    <a:pt x="2654" y="1427"/>
                  </a:lnTo>
                  <a:lnTo>
                    <a:pt x="2640" y="1441"/>
                  </a:lnTo>
                  <a:lnTo>
                    <a:pt x="2640" y="1497"/>
                  </a:lnTo>
                  <a:lnTo>
                    <a:pt x="2626" y="1525"/>
                  </a:lnTo>
                  <a:lnTo>
                    <a:pt x="2626" y="1573"/>
                  </a:lnTo>
                  <a:lnTo>
                    <a:pt x="2620" y="1587"/>
                  </a:lnTo>
                  <a:lnTo>
                    <a:pt x="2620" y="1601"/>
                  </a:lnTo>
                  <a:lnTo>
                    <a:pt x="2606" y="1615"/>
                  </a:lnTo>
                  <a:lnTo>
                    <a:pt x="2606" y="1629"/>
                  </a:lnTo>
                  <a:lnTo>
                    <a:pt x="2592" y="1643"/>
                  </a:lnTo>
                  <a:lnTo>
                    <a:pt x="2592" y="1657"/>
                  </a:lnTo>
                  <a:lnTo>
                    <a:pt x="2578" y="1671"/>
                  </a:lnTo>
                  <a:lnTo>
                    <a:pt x="2578" y="1685"/>
                  </a:lnTo>
                  <a:lnTo>
                    <a:pt x="2565" y="1685"/>
                  </a:lnTo>
                  <a:lnTo>
                    <a:pt x="2551" y="1699"/>
                  </a:lnTo>
                  <a:lnTo>
                    <a:pt x="2537" y="1699"/>
                  </a:lnTo>
                  <a:lnTo>
                    <a:pt x="2523" y="1713"/>
                  </a:lnTo>
                  <a:lnTo>
                    <a:pt x="2496" y="1713"/>
                  </a:lnTo>
                  <a:lnTo>
                    <a:pt x="2482" y="1727"/>
                  </a:lnTo>
                  <a:lnTo>
                    <a:pt x="2455" y="1727"/>
                  </a:lnTo>
                  <a:lnTo>
                    <a:pt x="2448" y="1734"/>
                  </a:lnTo>
                  <a:lnTo>
                    <a:pt x="2434" y="1734"/>
                  </a:lnTo>
                  <a:lnTo>
                    <a:pt x="2420" y="1748"/>
                  </a:lnTo>
                  <a:lnTo>
                    <a:pt x="2406" y="1748"/>
                  </a:lnTo>
                  <a:lnTo>
                    <a:pt x="2393" y="1761"/>
                  </a:lnTo>
                  <a:lnTo>
                    <a:pt x="2365" y="1761"/>
                  </a:lnTo>
                  <a:lnTo>
                    <a:pt x="2351" y="1775"/>
                  </a:lnTo>
                  <a:lnTo>
                    <a:pt x="2338" y="1775"/>
                  </a:lnTo>
                  <a:lnTo>
                    <a:pt x="2324" y="1789"/>
                  </a:lnTo>
                  <a:lnTo>
                    <a:pt x="2310" y="1789"/>
                  </a:lnTo>
                  <a:lnTo>
                    <a:pt x="2296" y="1803"/>
                  </a:lnTo>
                  <a:lnTo>
                    <a:pt x="2283" y="1803"/>
                  </a:lnTo>
                  <a:lnTo>
                    <a:pt x="2276" y="1817"/>
                  </a:lnTo>
                  <a:lnTo>
                    <a:pt x="2262" y="1817"/>
                  </a:lnTo>
                  <a:lnTo>
                    <a:pt x="2248" y="1831"/>
                  </a:lnTo>
                  <a:lnTo>
                    <a:pt x="2235" y="1831"/>
                  </a:lnTo>
                  <a:lnTo>
                    <a:pt x="2235" y="1845"/>
                  </a:lnTo>
                  <a:lnTo>
                    <a:pt x="2207" y="1845"/>
                  </a:lnTo>
                  <a:lnTo>
                    <a:pt x="2180" y="1873"/>
                  </a:lnTo>
                  <a:lnTo>
                    <a:pt x="2166" y="1873"/>
                  </a:lnTo>
                  <a:lnTo>
                    <a:pt x="2152" y="1887"/>
                  </a:lnTo>
                  <a:lnTo>
                    <a:pt x="2138" y="1887"/>
                  </a:lnTo>
                  <a:lnTo>
                    <a:pt x="2138" y="1901"/>
                  </a:lnTo>
                  <a:lnTo>
                    <a:pt x="2125" y="1901"/>
                  </a:lnTo>
                  <a:lnTo>
                    <a:pt x="2111" y="1908"/>
                  </a:lnTo>
                  <a:lnTo>
                    <a:pt x="2104" y="1908"/>
                  </a:lnTo>
                  <a:lnTo>
                    <a:pt x="2104" y="1922"/>
                  </a:lnTo>
                  <a:lnTo>
                    <a:pt x="2090" y="1922"/>
                  </a:lnTo>
                  <a:lnTo>
                    <a:pt x="2021" y="1991"/>
                  </a:lnTo>
                  <a:lnTo>
                    <a:pt x="2008" y="1991"/>
                  </a:lnTo>
                  <a:lnTo>
                    <a:pt x="2008" y="2005"/>
                  </a:lnTo>
                  <a:lnTo>
                    <a:pt x="1994" y="2005"/>
                  </a:lnTo>
                  <a:lnTo>
                    <a:pt x="1994" y="2019"/>
                  </a:lnTo>
                  <a:lnTo>
                    <a:pt x="1980" y="2019"/>
                  </a:lnTo>
                  <a:lnTo>
                    <a:pt x="1980" y="2033"/>
                  </a:lnTo>
                  <a:lnTo>
                    <a:pt x="1966" y="2033"/>
                  </a:lnTo>
                  <a:lnTo>
                    <a:pt x="1966" y="2061"/>
                  </a:lnTo>
                  <a:lnTo>
                    <a:pt x="1953" y="2061"/>
                  </a:lnTo>
                  <a:lnTo>
                    <a:pt x="1953" y="2068"/>
                  </a:lnTo>
                  <a:lnTo>
                    <a:pt x="1946" y="2082"/>
                  </a:lnTo>
                  <a:lnTo>
                    <a:pt x="1946" y="2096"/>
                  </a:lnTo>
                  <a:lnTo>
                    <a:pt x="1932" y="2110"/>
                  </a:lnTo>
                  <a:lnTo>
                    <a:pt x="1932" y="2137"/>
                  </a:lnTo>
                  <a:lnTo>
                    <a:pt x="1918" y="2137"/>
                  </a:lnTo>
                  <a:lnTo>
                    <a:pt x="1918" y="2179"/>
                  </a:lnTo>
                  <a:lnTo>
                    <a:pt x="1905" y="2193"/>
                  </a:lnTo>
                  <a:lnTo>
                    <a:pt x="1905" y="2381"/>
                  </a:lnTo>
                  <a:lnTo>
                    <a:pt x="1918" y="2381"/>
                  </a:lnTo>
                  <a:lnTo>
                    <a:pt x="1918" y="2430"/>
                  </a:lnTo>
                  <a:lnTo>
                    <a:pt x="1932" y="2430"/>
                  </a:lnTo>
                  <a:lnTo>
                    <a:pt x="1932" y="2472"/>
                  </a:lnTo>
                  <a:lnTo>
                    <a:pt x="1946" y="2486"/>
                  </a:lnTo>
                  <a:lnTo>
                    <a:pt x="1946" y="2513"/>
                  </a:lnTo>
                  <a:lnTo>
                    <a:pt x="1953" y="2513"/>
                  </a:lnTo>
                  <a:lnTo>
                    <a:pt x="1953" y="2541"/>
                  </a:lnTo>
                  <a:lnTo>
                    <a:pt x="1966" y="2541"/>
                  </a:lnTo>
                  <a:lnTo>
                    <a:pt x="1966" y="2555"/>
                  </a:lnTo>
                  <a:lnTo>
                    <a:pt x="1953" y="2555"/>
                  </a:lnTo>
                  <a:lnTo>
                    <a:pt x="1953" y="2562"/>
                  </a:lnTo>
                  <a:lnTo>
                    <a:pt x="1946" y="2562"/>
                  </a:lnTo>
                  <a:lnTo>
                    <a:pt x="1932" y="2576"/>
                  </a:lnTo>
                  <a:lnTo>
                    <a:pt x="1891" y="2576"/>
                  </a:lnTo>
                  <a:lnTo>
                    <a:pt x="1891" y="2590"/>
                  </a:lnTo>
                  <a:lnTo>
                    <a:pt x="1746" y="2590"/>
                  </a:lnTo>
                  <a:lnTo>
                    <a:pt x="1746" y="2576"/>
                  </a:lnTo>
                  <a:lnTo>
                    <a:pt x="1678" y="2576"/>
                  </a:lnTo>
                  <a:lnTo>
                    <a:pt x="1678" y="2562"/>
                  </a:lnTo>
                  <a:lnTo>
                    <a:pt x="1636" y="2562"/>
                  </a:lnTo>
                  <a:lnTo>
                    <a:pt x="1623" y="2555"/>
                  </a:lnTo>
                  <a:lnTo>
                    <a:pt x="1602" y="2555"/>
                  </a:lnTo>
                  <a:lnTo>
                    <a:pt x="1602" y="2541"/>
                  </a:lnTo>
                  <a:lnTo>
                    <a:pt x="1588" y="2541"/>
                  </a:lnTo>
                  <a:lnTo>
                    <a:pt x="1575" y="2527"/>
                  </a:lnTo>
                  <a:lnTo>
                    <a:pt x="1561" y="2527"/>
                  </a:lnTo>
                  <a:lnTo>
                    <a:pt x="1547" y="2513"/>
                  </a:lnTo>
                  <a:lnTo>
                    <a:pt x="1533" y="2513"/>
                  </a:lnTo>
                  <a:lnTo>
                    <a:pt x="1533" y="2499"/>
                  </a:lnTo>
                  <a:lnTo>
                    <a:pt x="1520" y="2499"/>
                  </a:lnTo>
                  <a:lnTo>
                    <a:pt x="1492" y="2472"/>
                  </a:lnTo>
                  <a:lnTo>
                    <a:pt x="1478" y="2472"/>
                  </a:lnTo>
                  <a:lnTo>
                    <a:pt x="1478" y="2458"/>
                  </a:lnTo>
                  <a:lnTo>
                    <a:pt x="1465" y="2458"/>
                  </a:lnTo>
                  <a:lnTo>
                    <a:pt x="1465" y="2444"/>
                  </a:lnTo>
                  <a:lnTo>
                    <a:pt x="1451" y="2444"/>
                  </a:lnTo>
                  <a:lnTo>
                    <a:pt x="1451" y="2430"/>
                  </a:lnTo>
                  <a:lnTo>
                    <a:pt x="1437" y="2430"/>
                  </a:lnTo>
                  <a:lnTo>
                    <a:pt x="1430" y="2416"/>
                  </a:lnTo>
                  <a:lnTo>
                    <a:pt x="1430" y="2402"/>
                  </a:lnTo>
                  <a:lnTo>
                    <a:pt x="1416" y="2402"/>
                  </a:lnTo>
                  <a:lnTo>
                    <a:pt x="1416" y="2395"/>
                  </a:lnTo>
                  <a:lnTo>
                    <a:pt x="1403" y="2395"/>
                  </a:lnTo>
                  <a:lnTo>
                    <a:pt x="1403" y="2381"/>
                  </a:lnTo>
                  <a:lnTo>
                    <a:pt x="1389" y="2367"/>
                  </a:lnTo>
                  <a:lnTo>
                    <a:pt x="1375" y="2367"/>
                  </a:lnTo>
                  <a:lnTo>
                    <a:pt x="1375" y="2353"/>
                  </a:lnTo>
                  <a:lnTo>
                    <a:pt x="1348" y="2325"/>
                  </a:lnTo>
                  <a:lnTo>
                    <a:pt x="1348" y="2312"/>
                  </a:lnTo>
                  <a:lnTo>
                    <a:pt x="1306" y="2270"/>
                  </a:lnTo>
                  <a:lnTo>
                    <a:pt x="1306" y="2256"/>
                  </a:lnTo>
                  <a:lnTo>
                    <a:pt x="1293" y="2242"/>
                  </a:lnTo>
                  <a:lnTo>
                    <a:pt x="1293" y="2228"/>
                  </a:lnTo>
                  <a:lnTo>
                    <a:pt x="1279" y="2221"/>
                  </a:lnTo>
                  <a:lnTo>
                    <a:pt x="1265" y="2221"/>
                  </a:lnTo>
                  <a:lnTo>
                    <a:pt x="1265" y="2207"/>
                  </a:lnTo>
                  <a:lnTo>
                    <a:pt x="1258" y="2193"/>
                  </a:lnTo>
                  <a:lnTo>
                    <a:pt x="1258" y="2179"/>
                  </a:lnTo>
                  <a:lnTo>
                    <a:pt x="1244" y="2165"/>
                  </a:lnTo>
                  <a:lnTo>
                    <a:pt x="1244" y="2151"/>
                  </a:lnTo>
                  <a:lnTo>
                    <a:pt x="1231" y="2137"/>
                  </a:lnTo>
                  <a:lnTo>
                    <a:pt x="1231" y="2124"/>
                  </a:lnTo>
                  <a:lnTo>
                    <a:pt x="1203" y="2096"/>
                  </a:lnTo>
                  <a:lnTo>
                    <a:pt x="1203" y="2082"/>
                  </a:lnTo>
                  <a:lnTo>
                    <a:pt x="1189" y="2068"/>
                  </a:lnTo>
                  <a:lnTo>
                    <a:pt x="1189" y="2061"/>
                  </a:lnTo>
                  <a:lnTo>
                    <a:pt x="1176" y="2047"/>
                  </a:lnTo>
                  <a:lnTo>
                    <a:pt x="1176" y="2033"/>
                  </a:lnTo>
                  <a:lnTo>
                    <a:pt x="1162" y="2019"/>
                  </a:lnTo>
                  <a:lnTo>
                    <a:pt x="1162" y="2005"/>
                  </a:lnTo>
                  <a:lnTo>
                    <a:pt x="1148" y="1991"/>
                  </a:lnTo>
                  <a:lnTo>
                    <a:pt x="1148" y="1977"/>
                  </a:lnTo>
                  <a:lnTo>
                    <a:pt x="1121" y="1949"/>
                  </a:lnTo>
                  <a:lnTo>
                    <a:pt x="1121" y="1922"/>
                  </a:lnTo>
                  <a:lnTo>
                    <a:pt x="1107" y="1908"/>
                  </a:lnTo>
                  <a:lnTo>
                    <a:pt x="1107" y="1901"/>
                  </a:lnTo>
                  <a:lnTo>
                    <a:pt x="1093" y="1887"/>
                  </a:lnTo>
                  <a:lnTo>
                    <a:pt x="1093" y="1873"/>
                  </a:lnTo>
                  <a:lnTo>
                    <a:pt x="1086" y="1859"/>
                  </a:lnTo>
                  <a:lnTo>
                    <a:pt x="1086" y="1845"/>
                  </a:lnTo>
                  <a:lnTo>
                    <a:pt x="1073" y="1817"/>
                  </a:lnTo>
                  <a:lnTo>
                    <a:pt x="1073" y="1803"/>
                  </a:lnTo>
                  <a:lnTo>
                    <a:pt x="1059" y="1789"/>
                  </a:lnTo>
                  <a:lnTo>
                    <a:pt x="1059" y="1775"/>
                  </a:lnTo>
                  <a:lnTo>
                    <a:pt x="1045" y="1761"/>
                  </a:lnTo>
                  <a:lnTo>
                    <a:pt x="1045" y="1734"/>
                  </a:lnTo>
                  <a:lnTo>
                    <a:pt x="1031" y="1727"/>
                  </a:lnTo>
                  <a:lnTo>
                    <a:pt x="1031" y="1713"/>
                  </a:lnTo>
                  <a:lnTo>
                    <a:pt x="1018" y="1713"/>
                  </a:lnTo>
                  <a:lnTo>
                    <a:pt x="1018" y="1699"/>
                  </a:lnTo>
                  <a:lnTo>
                    <a:pt x="976" y="1699"/>
                  </a:lnTo>
                  <a:lnTo>
                    <a:pt x="976" y="1685"/>
                  </a:lnTo>
                  <a:lnTo>
                    <a:pt x="914" y="1685"/>
                  </a:lnTo>
                  <a:lnTo>
                    <a:pt x="914" y="1671"/>
                  </a:lnTo>
                  <a:lnTo>
                    <a:pt x="859" y="1671"/>
                  </a:lnTo>
                  <a:lnTo>
                    <a:pt x="859" y="1685"/>
                  </a:lnTo>
                  <a:lnTo>
                    <a:pt x="832" y="1685"/>
                  </a:lnTo>
                  <a:lnTo>
                    <a:pt x="832" y="1699"/>
                  </a:lnTo>
                  <a:lnTo>
                    <a:pt x="818" y="1699"/>
                  </a:lnTo>
                  <a:lnTo>
                    <a:pt x="818" y="1713"/>
                  </a:lnTo>
                  <a:lnTo>
                    <a:pt x="804" y="1713"/>
                  </a:lnTo>
                  <a:lnTo>
                    <a:pt x="791" y="1713"/>
                  </a:lnTo>
                  <a:lnTo>
                    <a:pt x="791" y="1727"/>
                  </a:lnTo>
                  <a:lnTo>
                    <a:pt x="777" y="1727"/>
                  </a:lnTo>
                  <a:lnTo>
                    <a:pt x="763" y="1748"/>
                  </a:lnTo>
                  <a:lnTo>
                    <a:pt x="749" y="1748"/>
                  </a:lnTo>
                  <a:lnTo>
                    <a:pt x="749" y="1761"/>
                  </a:lnTo>
                  <a:lnTo>
                    <a:pt x="743" y="1761"/>
                  </a:lnTo>
                  <a:lnTo>
                    <a:pt x="743" y="1775"/>
                  </a:lnTo>
                  <a:lnTo>
                    <a:pt x="743" y="1789"/>
                  </a:lnTo>
                  <a:lnTo>
                    <a:pt x="729" y="1789"/>
                  </a:lnTo>
                  <a:lnTo>
                    <a:pt x="729" y="1817"/>
                  </a:lnTo>
                  <a:lnTo>
                    <a:pt x="715" y="1817"/>
                  </a:lnTo>
                  <a:lnTo>
                    <a:pt x="715" y="1831"/>
                  </a:lnTo>
                  <a:lnTo>
                    <a:pt x="591" y="1831"/>
                  </a:lnTo>
                  <a:lnTo>
                    <a:pt x="591" y="1817"/>
                  </a:lnTo>
                  <a:lnTo>
                    <a:pt x="571" y="1817"/>
                  </a:lnTo>
                  <a:lnTo>
                    <a:pt x="557" y="1803"/>
                  </a:lnTo>
                  <a:lnTo>
                    <a:pt x="529" y="1803"/>
                  </a:lnTo>
                  <a:lnTo>
                    <a:pt x="529" y="1789"/>
                  </a:lnTo>
                  <a:lnTo>
                    <a:pt x="516" y="1789"/>
                  </a:lnTo>
                  <a:lnTo>
                    <a:pt x="502" y="1789"/>
                  </a:lnTo>
                  <a:lnTo>
                    <a:pt x="502" y="1775"/>
                  </a:lnTo>
                  <a:lnTo>
                    <a:pt x="488" y="1775"/>
                  </a:lnTo>
                  <a:lnTo>
                    <a:pt x="488" y="1761"/>
                  </a:lnTo>
                  <a:lnTo>
                    <a:pt x="474" y="1761"/>
                  </a:lnTo>
                  <a:lnTo>
                    <a:pt x="474" y="1748"/>
                  </a:lnTo>
                  <a:lnTo>
                    <a:pt x="461" y="1748"/>
                  </a:lnTo>
                  <a:lnTo>
                    <a:pt x="447" y="1748"/>
                  </a:lnTo>
                  <a:lnTo>
                    <a:pt x="447" y="1734"/>
                  </a:lnTo>
                  <a:lnTo>
                    <a:pt x="447" y="1727"/>
                  </a:lnTo>
                  <a:lnTo>
                    <a:pt x="433" y="1713"/>
                  </a:lnTo>
                  <a:lnTo>
                    <a:pt x="419" y="1713"/>
                  </a:lnTo>
                  <a:lnTo>
                    <a:pt x="419" y="1699"/>
                  </a:lnTo>
                  <a:lnTo>
                    <a:pt x="413" y="1699"/>
                  </a:lnTo>
                  <a:lnTo>
                    <a:pt x="413" y="1671"/>
                  </a:lnTo>
                  <a:lnTo>
                    <a:pt x="399" y="1671"/>
                  </a:lnTo>
                  <a:lnTo>
                    <a:pt x="399" y="1657"/>
                  </a:lnTo>
                  <a:lnTo>
                    <a:pt x="399" y="1629"/>
                  </a:lnTo>
                  <a:lnTo>
                    <a:pt x="385" y="1629"/>
                  </a:lnTo>
                  <a:lnTo>
                    <a:pt x="385" y="1615"/>
                  </a:lnTo>
                  <a:lnTo>
                    <a:pt x="371" y="1601"/>
                  </a:lnTo>
                  <a:lnTo>
                    <a:pt x="371" y="1587"/>
                  </a:lnTo>
                  <a:lnTo>
                    <a:pt x="358" y="1573"/>
                  </a:lnTo>
                  <a:lnTo>
                    <a:pt x="358" y="1567"/>
                  </a:lnTo>
                  <a:lnTo>
                    <a:pt x="358" y="1553"/>
                  </a:lnTo>
                  <a:lnTo>
                    <a:pt x="344" y="1553"/>
                  </a:lnTo>
                  <a:lnTo>
                    <a:pt x="344" y="1525"/>
                  </a:lnTo>
                  <a:lnTo>
                    <a:pt x="330" y="1525"/>
                  </a:lnTo>
                  <a:lnTo>
                    <a:pt x="330" y="1511"/>
                  </a:lnTo>
                  <a:lnTo>
                    <a:pt x="316" y="1497"/>
                  </a:lnTo>
                  <a:lnTo>
                    <a:pt x="316" y="1483"/>
                  </a:lnTo>
                  <a:lnTo>
                    <a:pt x="289" y="1455"/>
                  </a:lnTo>
                  <a:lnTo>
                    <a:pt x="289" y="1441"/>
                  </a:lnTo>
                  <a:lnTo>
                    <a:pt x="199" y="1351"/>
                  </a:lnTo>
                  <a:lnTo>
                    <a:pt x="186" y="1351"/>
                  </a:lnTo>
                  <a:lnTo>
                    <a:pt x="186" y="1337"/>
                  </a:lnTo>
                  <a:lnTo>
                    <a:pt x="172" y="1323"/>
                  </a:lnTo>
                  <a:lnTo>
                    <a:pt x="158" y="1323"/>
                  </a:lnTo>
                  <a:lnTo>
                    <a:pt x="131" y="1295"/>
                  </a:lnTo>
                  <a:lnTo>
                    <a:pt x="131" y="1309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tartup Sequence from Flash Memory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2238480" y="5219640"/>
            <a:ext cx="2054160" cy="99684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2239920" y="868320"/>
            <a:ext cx="2054160" cy="6955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2238480" y="3298680"/>
            <a:ext cx="2054160" cy="7765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2238480" y="4064040"/>
            <a:ext cx="2054160" cy="11509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2238480" y="1547640"/>
            <a:ext cx="2054160" cy="175104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1040400" y="247500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3 FFF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1058040" y="159696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0 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1058400" y="4068720"/>
            <a:ext cx="114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F F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1058400" y="554184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F FFC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2400480" y="4103640"/>
            <a:ext cx="171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oot ROM (8K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2266920" y="52419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ROM vector (32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2609280" y="553716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F F9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Line 17"/>
          <p:cNvSpPr/>
          <p:nvPr/>
        </p:nvSpPr>
        <p:spPr>
          <a:xfrm>
            <a:off x="2238480" y="551988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Line 18"/>
          <p:cNvSpPr/>
          <p:nvPr/>
        </p:nvSpPr>
        <p:spPr>
          <a:xfrm>
            <a:off x="2238480" y="580068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Line 19"/>
          <p:cNvSpPr/>
          <p:nvPr/>
        </p:nvSpPr>
        <p:spPr>
          <a:xfrm>
            <a:off x="2238480" y="593892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2238480" y="608184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Line 21"/>
          <p:cNvSpPr/>
          <p:nvPr/>
        </p:nvSpPr>
        <p:spPr>
          <a:xfrm>
            <a:off x="2238480" y="440856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22"/>
          <p:cNvSpPr/>
          <p:nvPr/>
        </p:nvSpPr>
        <p:spPr>
          <a:xfrm>
            <a:off x="2633760" y="439596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Boot C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23"/>
          <p:cNvSpPr/>
          <p:nvPr/>
        </p:nvSpPr>
        <p:spPr>
          <a:xfrm>
            <a:off x="303840" y="640224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9b03"/>
                </a:solidFill>
                <a:latin typeface="Arial"/>
              </a:rPr>
              <a:t>RES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24"/>
          <p:cNvSpPr/>
          <p:nvPr/>
        </p:nvSpPr>
        <p:spPr>
          <a:xfrm>
            <a:off x="3267360" y="4621320"/>
            <a:ext cx="10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x3F F9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25"/>
          <p:cNvSpPr/>
          <p:nvPr/>
        </p:nvSpPr>
        <p:spPr>
          <a:xfrm>
            <a:off x="2528280" y="4894200"/>
            <a:ext cx="144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{SCAN GPIO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5" name="AutoShape 26"/>
          <p:cNvCxnSpPr>
            <a:stCxn id="75" idx="3"/>
            <a:endCxn id="83" idx="3"/>
          </p:cNvCxnSpPr>
          <p:nvPr/>
        </p:nvCxnSpPr>
        <p:spPr>
          <a:xfrm flipV="1">
            <a:off x="3822840" y="4774320"/>
            <a:ext cx="530640" cy="932760"/>
          </a:xfrm>
          <a:prstGeom prst="bentConnector3">
            <a:avLst>
              <a:gd name="adj1" fmla="val 142973"/>
            </a:avLst>
          </a:prstGeom>
          <a:ln w="0">
            <a:noFill/>
          </a:ln>
        </p:spPr>
      </p:cxnSp>
      <p:sp>
        <p:nvSpPr>
          <p:cNvPr id="86" name="Text Box 27"/>
          <p:cNvSpPr/>
          <p:nvPr/>
        </p:nvSpPr>
        <p:spPr>
          <a:xfrm>
            <a:off x="2444400" y="1749600"/>
            <a:ext cx="164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LASH (256K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Line 28"/>
          <p:cNvSpPr/>
          <p:nvPr/>
        </p:nvSpPr>
        <p:spPr>
          <a:xfrm>
            <a:off x="2235240" y="302112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Line 29"/>
          <p:cNvSpPr/>
          <p:nvPr/>
        </p:nvSpPr>
        <p:spPr>
          <a:xfrm>
            <a:off x="2236680" y="274788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Line 30"/>
          <p:cNvSpPr/>
          <p:nvPr/>
        </p:nvSpPr>
        <p:spPr>
          <a:xfrm>
            <a:off x="2238480" y="247968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31"/>
          <p:cNvSpPr/>
          <p:nvPr/>
        </p:nvSpPr>
        <p:spPr>
          <a:xfrm>
            <a:off x="2458080" y="3024360"/>
            <a:ext cx="162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sswords (8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32"/>
          <p:cNvSpPr/>
          <p:nvPr/>
        </p:nvSpPr>
        <p:spPr>
          <a:xfrm>
            <a:off x="2817720" y="274320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_c_int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33"/>
          <p:cNvSpPr/>
          <p:nvPr/>
        </p:nvSpPr>
        <p:spPr>
          <a:xfrm>
            <a:off x="3077640" y="24876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L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3" name="AutoShape 34"/>
          <p:cNvCxnSpPr>
            <a:stCxn id="75" idx="3"/>
            <a:endCxn id="83" idx="3"/>
          </p:cNvCxnSpPr>
          <p:nvPr/>
        </p:nvCxnSpPr>
        <p:spPr>
          <a:xfrm flipV="1">
            <a:off x="3822840" y="4774320"/>
            <a:ext cx="530640" cy="932760"/>
          </a:xfrm>
          <a:prstGeom prst="bentConnector3">
            <a:avLst>
              <a:gd name="adj1" fmla="val 142973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4" name="AutoShape 35"/>
          <p:cNvCxnSpPr>
            <a:stCxn id="84" idx="1"/>
            <a:endCxn id="69" idx="1"/>
          </p:cNvCxnSpPr>
          <p:nvPr/>
        </p:nvCxnSpPr>
        <p:spPr>
          <a:xfrm rot="10800000">
            <a:off x="1032840" y="2644200"/>
            <a:ext cx="1491120" cy="2394360"/>
          </a:xfrm>
          <a:prstGeom prst="bentConnector3">
            <a:avLst>
              <a:gd name="adj1" fmla="val 11531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5" name="Rectangle 36"/>
          <p:cNvSpPr/>
          <p:nvPr/>
        </p:nvSpPr>
        <p:spPr>
          <a:xfrm>
            <a:off x="6099120" y="1166760"/>
            <a:ext cx="2054160" cy="446724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38"/>
          <p:cNvSpPr/>
          <p:nvPr/>
        </p:nvSpPr>
        <p:spPr>
          <a:xfrm>
            <a:off x="6350400" y="1666800"/>
            <a:ext cx="157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e9b03"/>
                </a:solidFill>
                <a:latin typeface="Arial"/>
              </a:rPr>
              <a:t>“</a:t>
            </a:r>
            <a:r>
              <a:rPr b="0" i="1" lang="en-US" sz="1600" spc="-1" strike="noStrike">
                <a:solidFill>
                  <a:srgbClr val="fe9b03"/>
                </a:solidFill>
                <a:latin typeface="Arial"/>
              </a:rPr>
              <a:t>rts2800_ml.lib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6115680" y="278928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e9b03"/>
                </a:solidFill>
                <a:latin typeface="Arial"/>
              </a:rPr>
              <a:t>“</a:t>
            </a:r>
            <a:r>
              <a:rPr b="0" i="1" lang="en-US" sz="1600" spc="-1" strike="noStrike">
                <a:solidFill>
                  <a:srgbClr val="fe9b03"/>
                </a:solidFill>
                <a:latin typeface="Arial"/>
              </a:rPr>
              <a:t>user” code sec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Line 40"/>
          <p:cNvSpPr/>
          <p:nvPr/>
        </p:nvSpPr>
        <p:spPr>
          <a:xfrm>
            <a:off x="6099120" y="150804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Line 41"/>
          <p:cNvSpPr/>
          <p:nvPr/>
        </p:nvSpPr>
        <p:spPr>
          <a:xfrm>
            <a:off x="6099120" y="278928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Line 42"/>
          <p:cNvSpPr/>
          <p:nvPr/>
        </p:nvSpPr>
        <p:spPr>
          <a:xfrm>
            <a:off x="6099120" y="525780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43"/>
          <p:cNvSpPr/>
          <p:nvPr/>
        </p:nvSpPr>
        <p:spPr>
          <a:xfrm>
            <a:off x="5154840" y="157464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_c_int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Line 44"/>
          <p:cNvSpPr/>
          <p:nvPr/>
        </p:nvSpPr>
        <p:spPr>
          <a:xfrm flipV="1">
            <a:off x="4286160" y="1168560"/>
            <a:ext cx="1797120" cy="3808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Line 45"/>
          <p:cNvSpPr/>
          <p:nvPr/>
        </p:nvSpPr>
        <p:spPr>
          <a:xfrm>
            <a:off x="4286160" y="3301920"/>
            <a:ext cx="1816200" cy="233064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4" name="AutoShape 46"/>
          <p:cNvCxnSpPr>
            <a:stCxn id="91" idx="3"/>
            <a:endCxn id="101" idx="1"/>
          </p:cNvCxnSpPr>
          <p:nvPr/>
        </p:nvCxnSpPr>
        <p:spPr>
          <a:xfrm flipV="1">
            <a:off x="3790800" y="1718640"/>
            <a:ext cx="1340640" cy="1168920"/>
          </a:xfrm>
          <a:prstGeom prst="bentConnector3">
            <a:avLst>
              <a:gd name="adj1" fmla="val 71071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5" name="Text Box 52"/>
          <p:cNvSpPr/>
          <p:nvPr/>
        </p:nvSpPr>
        <p:spPr>
          <a:xfrm>
            <a:off x="6115320" y="3060720"/>
            <a:ext cx="86796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in (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53"/>
          <p:cNvSpPr/>
          <p:nvPr/>
        </p:nvSpPr>
        <p:spPr>
          <a:xfrm>
            <a:off x="6103440" y="3341520"/>
            <a:ext cx="41688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{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56"/>
          <p:cNvSpPr/>
          <p:nvPr/>
        </p:nvSpPr>
        <p:spPr>
          <a:xfrm>
            <a:off x="6145200" y="4160880"/>
            <a:ext cx="24768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8" name="AutoShape 57"/>
          <p:cNvCxnSpPr/>
          <p:nvPr/>
        </p:nvCxnSpPr>
        <p:spPr>
          <a:xfrm flipH="1" flipV="1" rot="10800000">
            <a:off x="6090840" y="1919880"/>
            <a:ext cx="15120" cy="1848600"/>
          </a:xfrm>
          <a:prstGeom prst="bentConnector3">
            <a:avLst>
              <a:gd name="adj1" fmla="val -3043902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9" name="AutoShape 59"/>
          <p:cNvCxnSpPr/>
          <p:nvPr/>
        </p:nvCxnSpPr>
        <p:spPr>
          <a:xfrm flipH="1">
            <a:off x="6652440" y="3139920"/>
            <a:ext cx="142200" cy="332640"/>
          </a:xfrm>
          <a:prstGeom prst="straightConnector1">
            <a:avLst/>
          </a:prstGeom>
          <a:ln w="0">
            <a:noFill/>
          </a:ln>
        </p:spPr>
      </p:cxnSp>
      <p:sp>
        <p:nvSpPr>
          <p:cNvPr id="110" name="Oval 61"/>
          <p:cNvSpPr/>
          <p:nvPr/>
        </p:nvSpPr>
        <p:spPr>
          <a:xfrm>
            <a:off x="4676040" y="5000760"/>
            <a:ext cx="375480" cy="39024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Oval 62"/>
          <p:cNvSpPr/>
          <p:nvPr/>
        </p:nvSpPr>
        <p:spPr>
          <a:xfrm>
            <a:off x="615240" y="3596400"/>
            <a:ext cx="375480" cy="39024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Oval 63"/>
          <p:cNvSpPr/>
          <p:nvPr/>
        </p:nvSpPr>
        <p:spPr>
          <a:xfrm>
            <a:off x="4550760" y="2151720"/>
            <a:ext cx="375480" cy="39024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Oval 64"/>
          <p:cNvSpPr/>
          <p:nvPr/>
        </p:nvSpPr>
        <p:spPr>
          <a:xfrm>
            <a:off x="5451840" y="2657520"/>
            <a:ext cx="375480" cy="39024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AutoShape 67"/>
          <p:cNvCxnSpPr>
            <a:stCxn id="82" idx="0"/>
            <a:endCxn id="72" idx="1"/>
          </p:cNvCxnSpPr>
          <p:nvPr/>
        </p:nvCxnSpPr>
        <p:spPr>
          <a:xfrm flipH="1" flipV="1" rot="5400000">
            <a:off x="533880" y="5885280"/>
            <a:ext cx="716400" cy="317880"/>
          </a:xfrm>
          <a:prstGeom prst="bent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5" name="Oval 68"/>
          <p:cNvSpPr/>
          <p:nvPr/>
        </p:nvSpPr>
        <p:spPr>
          <a:xfrm>
            <a:off x="529560" y="5875560"/>
            <a:ext cx="375480" cy="39024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Line 80"/>
          <p:cNvSpPr/>
          <p:nvPr/>
        </p:nvSpPr>
        <p:spPr>
          <a:xfrm>
            <a:off x="6094440" y="214956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Line 81"/>
          <p:cNvSpPr/>
          <p:nvPr/>
        </p:nvSpPr>
        <p:spPr>
          <a:xfrm>
            <a:off x="6105600" y="452592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84"/>
          <p:cNvSpPr/>
          <p:nvPr/>
        </p:nvSpPr>
        <p:spPr>
          <a:xfrm>
            <a:off x="6912000" y="646596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85"/>
          <p:cNvSpPr/>
          <p:nvPr/>
        </p:nvSpPr>
        <p:spPr>
          <a:xfrm>
            <a:off x="6129360" y="3521160"/>
            <a:ext cx="75528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…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86"/>
          <p:cNvSpPr/>
          <p:nvPr/>
        </p:nvSpPr>
        <p:spPr>
          <a:xfrm>
            <a:off x="6129360" y="3703680"/>
            <a:ext cx="75528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…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87"/>
          <p:cNvSpPr/>
          <p:nvPr/>
        </p:nvSpPr>
        <p:spPr>
          <a:xfrm>
            <a:off x="6129360" y="3886200"/>
            <a:ext cx="75528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…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TMS320F28335 Flash Memory Map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23" name="Text Box 104"/>
          <p:cNvSpPr/>
          <p:nvPr/>
        </p:nvSpPr>
        <p:spPr>
          <a:xfrm>
            <a:off x="5085720" y="858960"/>
            <a:ext cx="215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a  &amp; Program Spa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81"/>
          <p:cNvSpPr/>
          <p:nvPr/>
        </p:nvSpPr>
        <p:spPr>
          <a:xfrm>
            <a:off x="1912680" y="830160"/>
            <a:ext cx="14853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dress Ran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" name="Group 163"/>
          <p:cNvGrpSpPr/>
          <p:nvPr/>
        </p:nvGrpSpPr>
        <p:grpSpPr>
          <a:xfrm>
            <a:off x="1255680" y="1114560"/>
            <a:ext cx="3207960" cy="2216160"/>
            <a:chOff x="1255680" y="1114560"/>
            <a:chExt cx="3207960" cy="2216160"/>
          </a:xfrm>
        </p:grpSpPr>
        <p:grpSp>
          <p:nvGrpSpPr>
            <p:cNvPr id="126" name="Group 152"/>
            <p:cNvGrpSpPr/>
            <p:nvPr/>
          </p:nvGrpSpPr>
          <p:grpSpPr>
            <a:xfrm>
              <a:off x="1255680" y="1114560"/>
              <a:ext cx="3206520" cy="1104840"/>
              <a:chOff x="1255680" y="1114560"/>
              <a:chExt cx="3206520" cy="1104840"/>
            </a:xfrm>
          </p:grpSpPr>
          <p:grpSp>
            <p:nvGrpSpPr>
              <p:cNvPr id="127" name="Group 127"/>
              <p:cNvGrpSpPr/>
              <p:nvPr/>
            </p:nvGrpSpPr>
            <p:grpSpPr>
              <a:xfrm>
                <a:off x="1257120" y="1114560"/>
                <a:ext cx="3205080" cy="365040"/>
                <a:chOff x="1257120" y="1114560"/>
                <a:chExt cx="3205080" cy="365040"/>
              </a:xfrm>
            </p:grpSpPr>
            <p:sp>
              <p:nvSpPr>
                <p:cNvPr id="128" name="Rectangle 6"/>
                <p:cNvSpPr/>
                <p:nvPr/>
              </p:nvSpPr>
              <p:spPr>
                <a:xfrm>
                  <a:off x="1257120" y="1114560"/>
                  <a:ext cx="3205080" cy="3650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Text Box 7"/>
                <p:cNvSpPr/>
                <p:nvPr/>
              </p:nvSpPr>
              <p:spPr>
                <a:xfrm>
                  <a:off x="1469880" y="1135080"/>
                  <a:ext cx="281952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0x30 0000 – 0x30 7FFF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Group 128"/>
              <p:cNvGrpSpPr/>
              <p:nvPr/>
            </p:nvGrpSpPr>
            <p:grpSpPr>
              <a:xfrm>
                <a:off x="1257120" y="1486080"/>
                <a:ext cx="3205080" cy="365040"/>
                <a:chOff x="1257120" y="1486080"/>
                <a:chExt cx="3205080" cy="365040"/>
              </a:xfrm>
            </p:grpSpPr>
            <p:sp>
              <p:nvSpPr>
                <p:cNvPr id="131" name="Rectangle 129"/>
                <p:cNvSpPr/>
                <p:nvPr/>
              </p:nvSpPr>
              <p:spPr>
                <a:xfrm>
                  <a:off x="1257120" y="1486080"/>
                  <a:ext cx="3205080" cy="3650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Text Box 130"/>
                <p:cNvSpPr/>
                <p:nvPr/>
              </p:nvSpPr>
              <p:spPr>
                <a:xfrm>
                  <a:off x="1469880" y="1506600"/>
                  <a:ext cx="281952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0x30 8000 – 0x30 FFFF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Group 134"/>
              <p:cNvGrpSpPr/>
              <p:nvPr/>
            </p:nvGrpSpPr>
            <p:grpSpPr>
              <a:xfrm>
                <a:off x="1255680" y="1854360"/>
                <a:ext cx="3205080" cy="365040"/>
                <a:chOff x="1255680" y="1854360"/>
                <a:chExt cx="3205080" cy="365040"/>
              </a:xfrm>
            </p:grpSpPr>
            <p:sp>
              <p:nvSpPr>
                <p:cNvPr id="134" name="Rectangle 135"/>
                <p:cNvSpPr/>
                <p:nvPr/>
              </p:nvSpPr>
              <p:spPr>
                <a:xfrm>
                  <a:off x="1255680" y="1854360"/>
                  <a:ext cx="3205080" cy="3650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Text Box 136"/>
                <p:cNvSpPr/>
                <p:nvPr/>
              </p:nvSpPr>
              <p:spPr>
                <a:xfrm>
                  <a:off x="1468440" y="1874880"/>
                  <a:ext cx="281952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0x31 0000 – 0x31 7FFF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6" name="Group 153"/>
            <p:cNvGrpSpPr/>
            <p:nvPr/>
          </p:nvGrpSpPr>
          <p:grpSpPr>
            <a:xfrm>
              <a:off x="1257120" y="2225880"/>
              <a:ext cx="3206520" cy="1104840"/>
              <a:chOff x="1257120" y="2225880"/>
              <a:chExt cx="3206520" cy="1104840"/>
            </a:xfrm>
          </p:grpSpPr>
          <p:grpSp>
            <p:nvGrpSpPr>
              <p:cNvPr id="137" name="Group 154"/>
              <p:cNvGrpSpPr/>
              <p:nvPr/>
            </p:nvGrpSpPr>
            <p:grpSpPr>
              <a:xfrm>
                <a:off x="1258560" y="2225880"/>
                <a:ext cx="3205080" cy="365040"/>
                <a:chOff x="1258560" y="2225880"/>
                <a:chExt cx="3205080" cy="365040"/>
              </a:xfrm>
            </p:grpSpPr>
            <p:sp>
              <p:nvSpPr>
                <p:cNvPr id="138" name="Rectangle 155"/>
                <p:cNvSpPr/>
                <p:nvPr/>
              </p:nvSpPr>
              <p:spPr>
                <a:xfrm>
                  <a:off x="1258560" y="2225880"/>
                  <a:ext cx="3205080" cy="3650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Text Box 156"/>
                <p:cNvSpPr/>
                <p:nvPr/>
              </p:nvSpPr>
              <p:spPr>
                <a:xfrm>
                  <a:off x="1471320" y="2246400"/>
                  <a:ext cx="281952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0x31 8000 – 0x31 FFFF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Group 157"/>
              <p:cNvGrpSpPr/>
              <p:nvPr/>
            </p:nvGrpSpPr>
            <p:grpSpPr>
              <a:xfrm>
                <a:off x="1258560" y="2597400"/>
                <a:ext cx="3205080" cy="365040"/>
                <a:chOff x="1258560" y="2597400"/>
                <a:chExt cx="3205080" cy="365040"/>
              </a:xfrm>
            </p:grpSpPr>
            <p:sp>
              <p:nvSpPr>
                <p:cNvPr id="141" name="Rectangle 158"/>
                <p:cNvSpPr/>
                <p:nvPr/>
              </p:nvSpPr>
              <p:spPr>
                <a:xfrm>
                  <a:off x="1258560" y="2597400"/>
                  <a:ext cx="3205080" cy="3650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Text Box 159"/>
                <p:cNvSpPr/>
                <p:nvPr/>
              </p:nvSpPr>
              <p:spPr>
                <a:xfrm>
                  <a:off x="1471320" y="2617920"/>
                  <a:ext cx="281952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0x32 0000 – 0x32 7FFF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Group 160"/>
              <p:cNvGrpSpPr/>
              <p:nvPr/>
            </p:nvGrpSpPr>
            <p:grpSpPr>
              <a:xfrm>
                <a:off x="1257120" y="2965680"/>
                <a:ext cx="3205080" cy="365040"/>
                <a:chOff x="1257120" y="2965680"/>
                <a:chExt cx="3205080" cy="365040"/>
              </a:xfrm>
            </p:grpSpPr>
            <p:sp>
              <p:nvSpPr>
                <p:cNvPr id="144" name="Rectangle 161"/>
                <p:cNvSpPr/>
                <p:nvPr/>
              </p:nvSpPr>
              <p:spPr>
                <a:xfrm>
                  <a:off x="1257120" y="2965680"/>
                  <a:ext cx="3205080" cy="3650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Text Box 162"/>
                <p:cNvSpPr/>
                <p:nvPr/>
              </p:nvSpPr>
              <p:spPr>
                <a:xfrm>
                  <a:off x="1469880" y="2986200"/>
                  <a:ext cx="281952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0x32 8000 – 0x32 FFFF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6" name="Group 164"/>
          <p:cNvGrpSpPr/>
          <p:nvPr/>
        </p:nvGrpSpPr>
        <p:grpSpPr>
          <a:xfrm>
            <a:off x="1257480" y="3335400"/>
            <a:ext cx="3207960" cy="1847880"/>
            <a:chOff x="1257480" y="3335400"/>
            <a:chExt cx="3207960" cy="1847880"/>
          </a:xfrm>
        </p:grpSpPr>
        <p:grpSp>
          <p:nvGrpSpPr>
            <p:cNvPr id="147" name="Group 165"/>
            <p:cNvGrpSpPr/>
            <p:nvPr/>
          </p:nvGrpSpPr>
          <p:grpSpPr>
            <a:xfrm>
              <a:off x="1257480" y="3335400"/>
              <a:ext cx="3206520" cy="1104840"/>
              <a:chOff x="1257480" y="3335400"/>
              <a:chExt cx="3206520" cy="1104840"/>
            </a:xfrm>
          </p:grpSpPr>
          <p:grpSp>
            <p:nvGrpSpPr>
              <p:cNvPr id="148" name="Group 166"/>
              <p:cNvGrpSpPr/>
              <p:nvPr/>
            </p:nvGrpSpPr>
            <p:grpSpPr>
              <a:xfrm>
                <a:off x="1258920" y="3335400"/>
                <a:ext cx="3205080" cy="365040"/>
                <a:chOff x="1258920" y="3335400"/>
                <a:chExt cx="3205080" cy="365040"/>
              </a:xfrm>
            </p:grpSpPr>
            <p:sp>
              <p:nvSpPr>
                <p:cNvPr id="149" name="Rectangle 167"/>
                <p:cNvSpPr/>
                <p:nvPr/>
              </p:nvSpPr>
              <p:spPr>
                <a:xfrm>
                  <a:off x="1258920" y="3335400"/>
                  <a:ext cx="3205080" cy="3650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Text Box 168"/>
                <p:cNvSpPr/>
                <p:nvPr/>
              </p:nvSpPr>
              <p:spPr>
                <a:xfrm>
                  <a:off x="1471680" y="3355920"/>
                  <a:ext cx="281952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0x33 0000 – 0x33 7FFF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Group 169"/>
              <p:cNvGrpSpPr/>
              <p:nvPr/>
            </p:nvGrpSpPr>
            <p:grpSpPr>
              <a:xfrm>
                <a:off x="1258920" y="3706920"/>
                <a:ext cx="3205080" cy="365040"/>
                <a:chOff x="1258920" y="3706920"/>
                <a:chExt cx="3205080" cy="365040"/>
              </a:xfrm>
            </p:grpSpPr>
            <p:sp>
              <p:nvSpPr>
                <p:cNvPr id="152" name="Rectangle 170"/>
                <p:cNvSpPr/>
                <p:nvPr/>
              </p:nvSpPr>
              <p:spPr>
                <a:xfrm>
                  <a:off x="1258920" y="3706920"/>
                  <a:ext cx="3205080" cy="3650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Text Box 171"/>
                <p:cNvSpPr/>
                <p:nvPr/>
              </p:nvSpPr>
              <p:spPr>
                <a:xfrm>
                  <a:off x="1471680" y="3727440"/>
                  <a:ext cx="281952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0x33 8000 – 0x33 FF7F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Group 172"/>
              <p:cNvGrpSpPr/>
              <p:nvPr/>
            </p:nvGrpSpPr>
            <p:grpSpPr>
              <a:xfrm>
                <a:off x="1257480" y="4075200"/>
                <a:ext cx="3205080" cy="365040"/>
                <a:chOff x="1257480" y="4075200"/>
                <a:chExt cx="3205080" cy="365040"/>
              </a:xfrm>
            </p:grpSpPr>
            <p:sp>
              <p:nvSpPr>
                <p:cNvPr id="155" name="Rectangle 173"/>
                <p:cNvSpPr/>
                <p:nvPr/>
              </p:nvSpPr>
              <p:spPr>
                <a:xfrm>
                  <a:off x="1257480" y="4075200"/>
                  <a:ext cx="3205080" cy="3650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Text Box 174"/>
                <p:cNvSpPr/>
                <p:nvPr/>
              </p:nvSpPr>
              <p:spPr>
                <a:xfrm>
                  <a:off x="1470240" y="4095720"/>
                  <a:ext cx="281952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0x33 FF80 – 0x33 FFF5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7" name="Group 175"/>
            <p:cNvGrpSpPr/>
            <p:nvPr/>
          </p:nvGrpSpPr>
          <p:grpSpPr>
            <a:xfrm>
              <a:off x="1260360" y="4446720"/>
              <a:ext cx="3205080" cy="736560"/>
              <a:chOff x="1260360" y="4446720"/>
              <a:chExt cx="3205080" cy="736560"/>
            </a:xfrm>
          </p:grpSpPr>
          <p:grpSp>
            <p:nvGrpSpPr>
              <p:cNvPr id="158" name="Group 176"/>
              <p:cNvGrpSpPr/>
              <p:nvPr/>
            </p:nvGrpSpPr>
            <p:grpSpPr>
              <a:xfrm>
                <a:off x="1260360" y="4446720"/>
                <a:ext cx="3205080" cy="365040"/>
                <a:chOff x="1260360" y="4446720"/>
                <a:chExt cx="3205080" cy="365040"/>
              </a:xfrm>
            </p:grpSpPr>
            <p:sp>
              <p:nvSpPr>
                <p:cNvPr id="159" name="Rectangle 177"/>
                <p:cNvSpPr/>
                <p:nvPr/>
              </p:nvSpPr>
              <p:spPr>
                <a:xfrm>
                  <a:off x="1260360" y="4446720"/>
                  <a:ext cx="3205080" cy="3650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Text Box 178"/>
                <p:cNvSpPr/>
                <p:nvPr/>
              </p:nvSpPr>
              <p:spPr>
                <a:xfrm>
                  <a:off x="1473120" y="4467240"/>
                  <a:ext cx="281952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0x33 FFF6 – 0x33 FFF7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Group 179"/>
              <p:cNvGrpSpPr/>
              <p:nvPr/>
            </p:nvGrpSpPr>
            <p:grpSpPr>
              <a:xfrm>
                <a:off x="1260360" y="4818240"/>
                <a:ext cx="3205080" cy="365040"/>
                <a:chOff x="1260360" y="4818240"/>
                <a:chExt cx="3205080" cy="365040"/>
              </a:xfrm>
            </p:grpSpPr>
            <p:sp>
              <p:nvSpPr>
                <p:cNvPr id="162" name="Rectangle 180"/>
                <p:cNvSpPr/>
                <p:nvPr/>
              </p:nvSpPr>
              <p:spPr>
                <a:xfrm>
                  <a:off x="1260360" y="4818240"/>
                  <a:ext cx="3205080" cy="3650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Text Box 181"/>
                <p:cNvSpPr/>
                <p:nvPr/>
              </p:nvSpPr>
              <p:spPr>
                <a:xfrm>
                  <a:off x="1473120" y="4838760"/>
                  <a:ext cx="281952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0x33 FFF8 – 0x33 FFFF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4" name="Group 210"/>
          <p:cNvGrpSpPr/>
          <p:nvPr/>
        </p:nvGrpSpPr>
        <p:grpSpPr>
          <a:xfrm>
            <a:off x="4605480" y="1120680"/>
            <a:ext cx="3206520" cy="1104840"/>
            <a:chOff x="4605480" y="1120680"/>
            <a:chExt cx="3206520" cy="1104840"/>
          </a:xfrm>
        </p:grpSpPr>
        <p:grpSp>
          <p:nvGrpSpPr>
            <p:cNvPr id="165" name="Group 211"/>
            <p:cNvGrpSpPr/>
            <p:nvPr/>
          </p:nvGrpSpPr>
          <p:grpSpPr>
            <a:xfrm>
              <a:off x="4606920" y="1120680"/>
              <a:ext cx="3205080" cy="365040"/>
              <a:chOff x="4606920" y="1120680"/>
              <a:chExt cx="3205080" cy="365040"/>
            </a:xfrm>
          </p:grpSpPr>
          <p:sp>
            <p:nvSpPr>
              <p:cNvPr id="166" name="Rectangle 212"/>
              <p:cNvSpPr/>
              <p:nvPr/>
            </p:nvSpPr>
            <p:spPr>
              <a:xfrm>
                <a:off x="4606920" y="1120680"/>
                <a:ext cx="3205080" cy="365040"/>
              </a:xfrm>
              <a:prstGeom prst="rect">
                <a:avLst/>
              </a:prstGeom>
              <a:solidFill>
                <a:srgbClr val="005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Text Box 213"/>
              <p:cNvSpPr/>
              <p:nvPr/>
            </p:nvSpPr>
            <p:spPr>
              <a:xfrm>
                <a:off x="4819680" y="1141200"/>
                <a:ext cx="281952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ector H; 32K x 1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Group 214"/>
            <p:cNvGrpSpPr/>
            <p:nvPr/>
          </p:nvGrpSpPr>
          <p:grpSpPr>
            <a:xfrm>
              <a:off x="4606920" y="1492200"/>
              <a:ext cx="3205080" cy="365040"/>
              <a:chOff x="4606920" y="1492200"/>
              <a:chExt cx="3205080" cy="365040"/>
            </a:xfrm>
          </p:grpSpPr>
          <p:sp>
            <p:nvSpPr>
              <p:cNvPr id="169" name="Rectangle 215"/>
              <p:cNvSpPr/>
              <p:nvPr/>
            </p:nvSpPr>
            <p:spPr>
              <a:xfrm>
                <a:off x="4606920" y="1492200"/>
                <a:ext cx="3205080" cy="365040"/>
              </a:xfrm>
              <a:prstGeom prst="rect">
                <a:avLst/>
              </a:prstGeom>
              <a:solidFill>
                <a:srgbClr val="005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Text Box 216"/>
              <p:cNvSpPr/>
              <p:nvPr/>
            </p:nvSpPr>
            <p:spPr>
              <a:xfrm>
                <a:off x="4819680" y="1512720"/>
                <a:ext cx="281952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ector G; 32K x 1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Group 217"/>
            <p:cNvGrpSpPr/>
            <p:nvPr/>
          </p:nvGrpSpPr>
          <p:grpSpPr>
            <a:xfrm>
              <a:off x="4605480" y="1860480"/>
              <a:ext cx="3205080" cy="365040"/>
              <a:chOff x="4605480" y="1860480"/>
              <a:chExt cx="3205080" cy="365040"/>
            </a:xfrm>
          </p:grpSpPr>
          <p:sp>
            <p:nvSpPr>
              <p:cNvPr id="172" name="Rectangle 218"/>
              <p:cNvSpPr/>
              <p:nvPr/>
            </p:nvSpPr>
            <p:spPr>
              <a:xfrm>
                <a:off x="4605480" y="1860480"/>
                <a:ext cx="3205080" cy="365040"/>
              </a:xfrm>
              <a:prstGeom prst="rect">
                <a:avLst/>
              </a:prstGeom>
              <a:solidFill>
                <a:srgbClr val="005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Text Box 219"/>
              <p:cNvSpPr/>
              <p:nvPr/>
            </p:nvSpPr>
            <p:spPr>
              <a:xfrm>
                <a:off x="4818240" y="1881000"/>
                <a:ext cx="281952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ector F; 32K x 1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4" name="Group 220"/>
          <p:cNvGrpSpPr/>
          <p:nvPr/>
        </p:nvGrpSpPr>
        <p:grpSpPr>
          <a:xfrm>
            <a:off x="4606920" y="2232000"/>
            <a:ext cx="3206520" cy="1104840"/>
            <a:chOff x="4606920" y="2232000"/>
            <a:chExt cx="3206520" cy="1104840"/>
          </a:xfrm>
        </p:grpSpPr>
        <p:grpSp>
          <p:nvGrpSpPr>
            <p:cNvPr id="175" name="Group 221"/>
            <p:cNvGrpSpPr/>
            <p:nvPr/>
          </p:nvGrpSpPr>
          <p:grpSpPr>
            <a:xfrm>
              <a:off x="4608360" y="2232000"/>
              <a:ext cx="3205080" cy="365040"/>
              <a:chOff x="4608360" y="2232000"/>
              <a:chExt cx="3205080" cy="365040"/>
            </a:xfrm>
          </p:grpSpPr>
          <p:sp>
            <p:nvSpPr>
              <p:cNvPr id="176" name="Rectangle 222"/>
              <p:cNvSpPr/>
              <p:nvPr/>
            </p:nvSpPr>
            <p:spPr>
              <a:xfrm>
                <a:off x="4608360" y="2232000"/>
                <a:ext cx="3205080" cy="365040"/>
              </a:xfrm>
              <a:prstGeom prst="rect">
                <a:avLst/>
              </a:prstGeom>
              <a:solidFill>
                <a:srgbClr val="005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Text Box 223"/>
              <p:cNvSpPr/>
              <p:nvPr/>
            </p:nvSpPr>
            <p:spPr>
              <a:xfrm>
                <a:off x="4821120" y="2252520"/>
                <a:ext cx="281952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ector E; 32K x 1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Group 224"/>
            <p:cNvGrpSpPr/>
            <p:nvPr/>
          </p:nvGrpSpPr>
          <p:grpSpPr>
            <a:xfrm>
              <a:off x="4608360" y="2603520"/>
              <a:ext cx="3205080" cy="365040"/>
              <a:chOff x="4608360" y="2603520"/>
              <a:chExt cx="3205080" cy="365040"/>
            </a:xfrm>
          </p:grpSpPr>
          <p:sp>
            <p:nvSpPr>
              <p:cNvPr id="179" name="Rectangle 225"/>
              <p:cNvSpPr/>
              <p:nvPr/>
            </p:nvSpPr>
            <p:spPr>
              <a:xfrm>
                <a:off x="4608360" y="2603520"/>
                <a:ext cx="3205080" cy="365040"/>
              </a:xfrm>
              <a:prstGeom prst="rect">
                <a:avLst/>
              </a:prstGeom>
              <a:solidFill>
                <a:srgbClr val="005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Text Box 226"/>
              <p:cNvSpPr/>
              <p:nvPr/>
            </p:nvSpPr>
            <p:spPr>
              <a:xfrm>
                <a:off x="4821120" y="2624040"/>
                <a:ext cx="281952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ector D; 32K x 1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Group 227"/>
            <p:cNvGrpSpPr/>
            <p:nvPr/>
          </p:nvGrpSpPr>
          <p:grpSpPr>
            <a:xfrm>
              <a:off x="4606920" y="2971800"/>
              <a:ext cx="3205080" cy="365040"/>
              <a:chOff x="4606920" y="2971800"/>
              <a:chExt cx="3205080" cy="365040"/>
            </a:xfrm>
          </p:grpSpPr>
          <p:sp>
            <p:nvSpPr>
              <p:cNvPr id="182" name="Rectangle 228"/>
              <p:cNvSpPr/>
              <p:nvPr/>
            </p:nvSpPr>
            <p:spPr>
              <a:xfrm>
                <a:off x="4606920" y="2971800"/>
                <a:ext cx="3205080" cy="365040"/>
              </a:xfrm>
              <a:prstGeom prst="rect">
                <a:avLst/>
              </a:prstGeom>
              <a:solidFill>
                <a:srgbClr val="005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Text Box 229"/>
              <p:cNvSpPr/>
              <p:nvPr/>
            </p:nvSpPr>
            <p:spPr>
              <a:xfrm>
                <a:off x="4819680" y="2992320"/>
                <a:ext cx="281952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ector C; 32K x 1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" name="Group 231"/>
          <p:cNvGrpSpPr/>
          <p:nvPr/>
        </p:nvGrpSpPr>
        <p:grpSpPr>
          <a:xfrm>
            <a:off x="4606920" y="3341520"/>
            <a:ext cx="3206520" cy="1145880"/>
            <a:chOff x="4606920" y="3341520"/>
            <a:chExt cx="3206520" cy="1145880"/>
          </a:xfrm>
        </p:grpSpPr>
        <p:grpSp>
          <p:nvGrpSpPr>
            <p:cNvPr id="185" name="Group 232"/>
            <p:cNvGrpSpPr/>
            <p:nvPr/>
          </p:nvGrpSpPr>
          <p:grpSpPr>
            <a:xfrm>
              <a:off x="4608360" y="3341520"/>
              <a:ext cx="3205080" cy="365040"/>
              <a:chOff x="4608360" y="3341520"/>
              <a:chExt cx="3205080" cy="365040"/>
            </a:xfrm>
          </p:grpSpPr>
          <p:sp>
            <p:nvSpPr>
              <p:cNvPr id="186" name="Rectangle 233"/>
              <p:cNvSpPr/>
              <p:nvPr/>
            </p:nvSpPr>
            <p:spPr>
              <a:xfrm>
                <a:off x="4608360" y="3341520"/>
                <a:ext cx="3205080" cy="365040"/>
              </a:xfrm>
              <a:prstGeom prst="rect">
                <a:avLst/>
              </a:prstGeom>
              <a:solidFill>
                <a:srgbClr val="005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Text Box 234"/>
              <p:cNvSpPr/>
              <p:nvPr/>
            </p:nvSpPr>
            <p:spPr>
              <a:xfrm>
                <a:off x="4821120" y="3362040"/>
                <a:ext cx="281952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ector B; 32K x 1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Group 235"/>
            <p:cNvGrpSpPr/>
            <p:nvPr/>
          </p:nvGrpSpPr>
          <p:grpSpPr>
            <a:xfrm>
              <a:off x="4608360" y="3713040"/>
              <a:ext cx="3205080" cy="365040"/>
              <a:chOff x="4608360" y="3713040"/>
              <a:chExt cx="3205080" cy="365040"/>
            </a:xfrm>
          </p:grpSpPr>
          <p:sp>
            <p:nvSpPr>
              <p:cNvPr id="189" name="Rectangle 236"/>
              <p:cNvSpPr/>
              <p:nvPr/>
            </p:nvSpPr>
            <p:spPr>
              <a:xfrm>
                <a:off x="4608360" y="3713040"/>
                <a:ext cx="3205080" cy="365040"/>
              </a:xfrm>
              <a:prstGeom prst="rect">
                <a:avLst/>
              </a:prstGeom>
              <a:solidFill>
                <a:srgbClr val="005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Text Box 237"/>
              <p:cNvSpPr/>
              <p:nvPr/>
            </p:nvSpPr>
            <p:spPr>
              <a:xfrm>
                <a:off x="4821120" y="3733560"/>
                <a:ext cx="281952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ector A; (32K-128) x 1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Group 238"/>
            <p:cNvGrpSpPr/>
            <p:nvPr/>
          </p:nvGrpSpPr>
          <p:grpSpPr>
            <a:xfrm>
              <a:off x="4606920" y="4081320"/>
              <a:ext cx="3205080" cy="406080"/>
              <a:chOff x="4606920" y="4081320"/>
              <a:chExt cx="3205080" cy="406080"/>
            </a:xfrm>
          </p:grpSpPr>
          <p:sp>
            <p:nvSpPr>
              <p:cNvPr id="192" name="Rectangle 239"/>
              <p:cNvSpPr/>
              <p:nvPr/>
            </p:nvSpPr>
            <p:spPr>
              <a:xfrm>
                <a:off x="4606920" y="4081320"/>
                <a:ext cx="3205080" cy="365040"/>
              </a:xfrm>
              <a:prstGeom prst="rect">
                <a:avLst/>
              </a:prstGeom>
              <a:solidFill>
                <a:srgbClr val="005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Text Box 240"/>
              <p:cNvSpPr/>
              <p:nvPr/>
            </p:nvSpPr>
            <p:spPr>
              <a:xfrm>
                <a:off x="4819680" y="4101840"/>
                <a:ext cx="281952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gram to 0x0000 when using Code Security Mode !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4" name="Group 242"/>
          <p:cNvGrpSpPr/>
          <p:nvPr/>
        </p:nvGrpSpPr>
        <p:grpSpPr>
          <a:xfrm>
            <a:off x="4610160" y="4452840"/>
            <a:ext cx="3205080" cy="365040"/>
            <a:chOff x="4610160" y="4452840"/>
            <a:chExt cx="3205080" cy="365040"/>
          </a:xfrm>
        </p:grpSpPr>
        <p:sp>
          <p:nvSpPr>
            <p:cNvPr id="195" name="Rectangle 243"/>
            <p:cNvSpPr/>
            <p:nvPr/>
          </p:nvSpPr>
          <p:spPr>
            <a:xfrm>
              <a:off x="4610160" y="4452840"/>
              <a:ext cx="3205080" cy="36504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Text Box 244"/>
            <p:cNvSpPr/>
            <p:nvPr/>
          </p:nvSpPr>
          <p:spPr>
            <a:xfrm>
              <a:off x="4842000" y="4501800"/>
              <a:ext cx="28195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lash Entry Point; 2 x 1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7" name="Group 245"/>
          <p:cNvGrpSpPr/>
          <p:nvPr/>
        </p:nvGrpSpPr>
        <p:grpSpPr>
          <a:xfrm>
            <a:off x="4610160" y="4824360"/>
            <a:ext cx="3205080" cy="365040"/>
            <a:chOff x="4610160" y="4824360"/>
            <a:chExt cx="3205080" cy="365040"/>
          </a:xfrm>
        </p:grpSpPr>
        <p:sp>
          <p:nvSpPr>
            <p:cNvPr id="198" name="Rectangle 246"/>
            <p:cNvSpPr/>
            <p:nvPr/>
          </p:nvSpPr>
          <p:spPr>
            <a:xfrm>
              <a:off x="4610160" y="4824360"/>
              <a:ext cx="3205080" cy="36504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Text Box 247"/>
            <p:cNvSpPr/>
            <p:nvPr/>
          </p:nvSpPr>
          <p:spPr>
            <a:xfrm>
              <a:off x="4880160" y="4883040"/>
              <a:ext cx="28191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curity Password; 8 x 1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Basic Flash Operation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71280" y="685800"/>
            <a:ext cx="898056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marL="552600" indent="-552600">
              <a:lnSpc>
                <a:spcPct val="85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ash is arranged in pages of 128 addres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5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it states are specified for consecutive accesses within a page, and random accesses across  p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5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TP has random access on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5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st specify the number of SYSCLKOUT wait-stat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5000"/>
              </a:lnSpc>
              <a:spcBef>
                <a:spcPts val="9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set defaults are maximum value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5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ash configuration code must not run from Flash memory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2" name="Group 4"/>
          <p:cNvGrpSpPr/>
          <p:nvPr/>
        </p:nvGrpSpPr>
        <p:grpSpPr>
          <a:xfrm>
            <a:off x="264600" y="3154320"/>
            <a:ext cx="8358840" cy="2003400"/>
            <a:chOff x="264600" y="3154320"/>
            <a:chExt cx="8358840" cy="2003400"/>
          </a:xfrm>
        </p:grpSpPr>
        <p:grpSp>
          <p:nvGrpSpPr>
            <p:cNvPr id="203" name="Group 5"/>
            <p:cNvGrpSpPr/>
            <p:nvPr/>
          </p:nvGrpSpPr>
          <p:grpSpPr>
            <a:xfrm>
              <a:off x="275400" y="3154320"/>
              <a:ext cx="8348040" cy="825480"/>
              <a:chOff x="275400" y="3154320"/>
              <a:chExt cx="8348040" cy="825480"/>
            </a:xfrm>
          </p:grpSpPr>
          <p:sp>
            <p:nvSpPr>
              <p:cNvPr id="204" name="Text Box 6"/>
              <p:cNvSpPr/>
              <p:nvPr/>
            </p:nvSpPr>
            <p:spPr>
              <a:xfrm>
                <a:off x="275400" y="3220920"/>
                <a:ext cx="1815840" cy="74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e9b03"/>
                    </a:solidFill>
                    <a:latin typeface="Arial"/>
                  </a:rPr>
                  <a:t>FBANKWAI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e9b03"/>
                    </a:solidFill>
                    <a:latin typeface="Arial"/>
                  </a:rPr>
                  <a:t>@ 0x00 0A86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5" name="Group 7"/>
              <p:cNvGrpSpPr/>
              <p:nvPr/>
            </p:nvGrpSpPr>
            <p:grpSpPr>
              <a:xfrm>
                <a:off x="2104560" y="3154320"/>
                <a:ext cx="6518880" cy="825480"/>
                <a:chOff x="2104560" y="3154320"/>
                <a:chExt cx="6518880" cy="825480"/>
              </a:xfrm>
            </p:grpSpPr>
            <p:sp>
              <p:nvSpPr>
                <p:cNvPr id="206" name="Rectangle 8"/>
                <p:cNvSpPr/>
                <p:nvPr/>
              </p:nvSpPr>
              <p:spPr>
                <a:xfrm>
                  <a:off x="5389560" y="3441600"/>
                  <a:ext cx="1606680" cy="538200"/>
                </a:xfrm>
                <a:prstGeom prst="rect">
                  <a:avLst/>
                </a:prstGeom>
                <a:solidFill>
                  <a:srgbClr val="6039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Rectangle 9"/>
                <p:cNvSpPr/>
                <p:nvPr/>
              </p:nvSpPr>
              <p:spPr>
                <a:xfrm>
                  <a:off x="3783240" y="3441600"/>
                  <a:ext cx="1606320" cy="538200"/>
                </a:xfrm>
                <a:prstGeom prst="rect">
                  <a:avLst/>
                </a:prstGeom>
                <a:solidFill>
                  <a:srgbClr val="0249fc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Rectangle 10"/>
                <p:cNvSpPr/>
                <p:nvPr/>
              </p:nvSpPr>
              <p:spPr>
                <a:xfrm>
                  <a:off x="2176560" y="3441600"/>
                  <a:ext cx="1606680" cy="538200"/>
                </a:xfrm>
                <a:prstGeom prst="rect">
                  <a:avLst/>
                </a:prstGeom>
                <a:solidFill>
                  <a:srgbClr val="6039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Rectangle 11"/>
                <p:cNvSpPr/>
                <p:nvPr/>
              </p:nvSpPr>
              <p:spPr>
                <a:xfrm>
                  <a:off x="6996240" y="3441600"/>
                  <a:ext cx="1606680" cy="538200"/>
                </a:xfrm>
                <a:prstGeom prst="rect">
                  <a:avLst/>
                </a:prstGeom>
                <a:solidFill>
                  <a:srgbClr val="0249fc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Text Box 12"/>
                <p:cNvSpPr/>
                <p:nvPr/>
              </p:nvSpPr>
              <p:spPr>
                <a:xfrm>
                  <a:off x="7156440" y="3570120"/>
                  <a:ext cx="12841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RANDWAIT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Text Box 13"/>
                <p:cNvSpPr/>
                <p:nvPr/>
              </p:nvSpPr>
              <p:spPr>
                <a:xfrm>
                  <a:off x="2492640" y="3571560"/>
                  <a:ext cx="10267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reserved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Text Box 14"/>
                <p:cNvSpPr/>
                <p:nvPr/>
              </p:nvSpPr>
              <p:spPr>
                <a:xfrm>
                  <a:off x="2104560" y="3170160"/>
                  <a:ext cx="37872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15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Text Box 15"/>
                <p:cNvSpPr/>
                <p:nvPr/>
              </p:nvSpPr>
              <p:spPr>
                <a:xfrm>
                  <a:off x="8343720" y="3154320"/>
                  <a:ext cx="27972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Text Box 16"/>
                <p:cNvSpPr/>
                <p:nvPr/>
              </p:nvSpPr>
              <p:spPr>
                <a:xfrm>
                  <a:off x="6682320" y="3160440"/>
                  <a:ext cx="57996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4    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Text Box 17"/>
                <p:cNvSpPr/>
                <p:nvPr/>
              </p:nvSpPr>
              <p:spPr>
                <a:xfrm>
                  <a:off x="5113080" y="3170160"/>
                  <a:ext cx="52956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8   7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Text Box 18"/>
                <p:cNvSpPr/>
                <p:nvPr/>
              </p:nvSpPr>
              <p:spPr>
                <a:xfrm>
                  <a:off x="3956760" y="3576600"/>
                  <a:ext cx="12733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PAGEWAIT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Text Box 19"/>
                <p:cNvSpPr/>
                <p:nvPr/>
              </p:nvSpPr>
              <p:spPr>
                <a:xfrm>
                  <a:off x="5677200" y="3571560"/>
                  <a:ext cx="10267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reserved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Text Box 20"/>
                <p:cNvSpPr/>
                <p:nvPr/>
              </p:nvSpPr>
              <p:spPr>
                <a:xfrm>
                  <a:off x="3398040" y="3174840"/>
                  <a:ext cx="72792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12   1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9" name="Group 21"/>
            <p:cNvGrpSpPr/>
            <p:nvPr/>
          </p:nvGrpSpPr>
          <p:grpSpPr>
            <a:xfrm>
              <a:off x="264600" y="4321080"/>
              <a:ext cx="8358840" cy="836640"/>
              <a:chOff x="264600" y="4321080"/>
              <a:chExt cx="8358840" cy="836640"/>
            </a:xfrm>
          </p:grpSpPr>
          <p:sp>
            <p:nvSpPr>
              <p:cNvPr id="220" name="Text Box 22"/>
              <p:cNvSpPr/>
              <p:nvPr/>
            </p:nvSpPr>
            <p:spPr>
              <a:xfrm>
                <a:off x="264600" y="4321080"/>
                <a:ext cx="1815840" cy="74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e9b03"/>
                    </a:solidFill>
                    <a:latin typeface="Arial"/>
                  </a:rPr>
                  <a:t>FOTPWAI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e9b03"/>
                    </a:solidFill>
                    <a:latin typeface="Arial"/>
                  </a:rPr>
                  <a:t>@ 0x00 0A87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1" name="Group 23"/>
              <p:cNvGrpSpPr/>
              <p:nvPr/>
            </p:nvGrpSpPr>
            <p:grpSpPr>
              <a:xfrm>
                <a:off x="2104560" y="4332240"/>
                <a:ext cx="6518880" cy="825480"/>
                <a:chOff x="2104560" y="4332240"/>
                <a:chExt cx="6518880" cy="825480"/>
              </a:xfrm>
            </p:grpSpPr>
            <p:sp>
              <p:nvSpPr>
                <p:cNvPr id="222" name="Rectangle 24"/>
                <p:cNvSpPr/>
                <p:nvPr/>
              </p:nvSpPr>
              <p:spPr>
                <a:xfrm>
                  <a:off x="2176560" y="4619520"/>
                  <a:ext cx="4819680" cy="538200"/>
                </a:xfrm>
                <a:prstGeom prst="rect">
                  <a:avLst/>
                </a:prstGeom>
                <a:solidFill>
                  <a:srgbClr val="6039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Rectangle 25"/>
                <p:cNvSpPr/>
                <p:nvPr/>
              </p:nvSpPr>
              <p:spPr>
                <a:xfrm>
                  <a:off x="6996240" y="4619520"/>
                  <a:ext cx="1606320" cy="538200"/>
                </a:xfrm>
                <a:prstGeom prst="rect">
                  <a:avLst/>
                </a:prstGeom>
                <a:solidFill>
                  <a:srgbClr val="0249fc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Text Box 26"/>
                <p:cNvSpPr/>
                <p:nvPr/>
              </p:nvSpPr>
              <p:spPr>
                <a:xfrm>
                  <a:off x="7157880" y="4748040"/>
                  <a:ext cx="11149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OTPWAIT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Text Box 27"/>
                <p:cNvSpPr/>
                <p:nvPr/>
              </p:nvSpPr>
              <p:spPr>
                <a:xfrm>
                  <a:off x="4138920" y="4749480"/>
                  <a:ext cx="10267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reserved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Text Box 28"/>
                <p:cNvSpPr/>
                <p:nvPr/>
              </p:nvSpPr>
              <p:spPr>
                <a:xfrm>
                  <a:off x="2104560" y="4348080"/>
                  <a:ext cx="37872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15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Text Box 29"/>
                <p:cNvSpPr/>
                <p:nvPr/>
              </p:nvSpPr>
              <p:spPr>
                <a:xfrm>
                  <a:off x="8343720" y="4332240"/>
                  <a:ext cx="27972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Text Box 30"/>
                <p:cNvSpPr/>
                <p:nvPr/>
              </p:nvSpPr>
              <p:spPr>
                <a:xfrm>
                  <a:off x="6699960" y="4332240"/>
                  <a:ext cx="57996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4    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9" name="Group 31"/>
          <p:cNvGrpSpPr/>
          <p:nvPr/>
        </p:nvGrpSpPr>
        <p:grpSpPr>
          <a:xfrm>
            <a:off x="468360" y="5445000"/>
            <a:ext cx="8143920" cy="1293840"/>
            <a:chOff x="468360" y="5445000"/>
            <a:chExt cx="8143920" cy="1293840"/>
          </a:xfrm>
        </p:grpSpPr>
        <p:sp>
          <p:nvSpPr>
            <p:cNvPr id="230" name="Rectangle 32"/>
            <p:cNvSpPr/>
            <p:nvPr/>
          </p:nvSpPr>
          <p:spPr>
            <a:xfrm>
              <a:off x="468360" y="5445000"/>
              <a:ext cx="7893000" cy="12938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Rectangle 33"/>
            <p:cNvSpPr/>
            <p:nvPr/>
          </p:nvSpPr>
          <p:spPr>
            <a:xfrm>
              <a:off x="650880" y="5530680"/>
              <a:ext cx="7961400" cy="11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*** Refer to the F2833x datasheet for detailed numbers ***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For 150 MHz, PAGEWAIT = 5, RANDWAIT = 5, OTPWAIT = 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For 100 MHz, PAGEWAIT = 3, RANDWAIT = 3, OTPWAIT = 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"/>
          <p:cNvGrpSpPr/>
          <p:nvPr/>
        </p:nvGrpSpPr>
        <p:grpSpPr>
          <a:xfrm>
            <a:off x="837720" y="1035000"/>
            <a:ext cx="7877520" cy="3582720"/>
            <a:chOff x="837720" y="1035000"/>
            <a:chExt cx="7877520" cy="3582720"/>
          </a:xfrm>
        </p:grpSpPr>
        <p:sp>
          <p:nvSpPr>
            <p:cNvPr id="233" name="Text Box 3"/>
            <p:cNvSpPr/>
            <p:nvPr/>
          </p:nvSpPr>
          <p:spPr>
            <a:xfrm>
              <a:off x="5554800" y="1773360"/>
              <a:ext cx="13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6 or 32 dispatch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4" name="Group 4"/>
            <p:cNvGrpSpPr/>
            <p:nvPr/>
          </p:nvGrpSpPr>
          <p:grpSpPr>
            <a:xfrm>
              <a:off x="837720" y="1035000"/>
              <a:ext cx="1143360" cy="3582720"/>
              <a:chOff x="837720" y="1035000"/>
              <a:chExt cx="1143360" cy="3582720"/>
            </a:xfrm>
          </p:grpSpPr>
          <p:sp>
            <p:nvSpPr>
              <p:cNvPr id="235" name="Rectangle 5"/>
              <p:cNvSpPr/>
              <p:nvPr/>
            </p:nvSpPr>
            <p:spPr>
              <a:xfrm>
                <a:off x="838080" y="1417320"/>
                <a:ext cx="1143000" cy="228600"/>
              </a:xfrm>
              <a:prstGeom prst="rect">
                <a:avLst/>
              </a:prstGeom>
              <a:solidFill>
                <a:srgbClr val="000f4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Rectangle 6"/>
              <p:cNvSpPr/>
              <p:nvPr/>
            </p:nvSpPr>
            <p:spPr>
              <a:xfrm>
                <a:off x="838080" y="1645920"/>
                <a:ext cx="1143000" cy="228600"/>
              </a:xfrm>
              <a:prstGeom prst="rect">
                <a:avLst/>
              </a:prstGeom>
              <a:solidFill>
                <a:srgbClr val="000f4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Rectangle 7"/>
              <p:cNvSpPr/>
              <p:nvPr/>
            </p:nvSpPr>
            <p:spPr>
              <a:xfrm>
                <a:off x="838080" y="1874520"/>
                <a:ext cx="1143000" cy="228600"/>
              </a:xfrm>
              <a:prstGeom prst="rect">
                <a:avLst/>
              </a:prstGeom>
              <a:solidFill>
                <a:srgbClr val="000f4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Rectangle 8"/>
              <p:cNvSpPr/>
              <p:nvPr/>
            </p:nvSpPr>
            <p:spPr>
              <a:xfrm>
                <a:off x="838080" y="2103120"/>
                <a:ext cx="1143000" cy="228600"/>
              </a:xfrm>
              <a:prstGeom prst="rect">
                <a:avLst/>
              </a:prstGeom>
              <a:solidFill>
                <a:srgbClr val="000f4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Rectangle 9"/>
              <p:cNvSpPr/>
              <p:nvPr/>
            </p:nvSpPr>
            <p:spPr>
              <a:xfrm>
                <a:off x="838080" y="2331720"/>
                <a:ext cx="1143000" cy="228600"/>
              </a:xfrm>
              <a:prstGeom prst="rect">
                <a:avLst/>
              </a:prstGeom>
              <a:solidFill>
                <a:srgbClr val="603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Rectangle 10"/>
              <p:cNvSpPr/>
              <p:nvPr/>
            </p:nvSpPr>
            <p:spPr>
              <a:xfrm>
                <a:off x="838080" y="2560320"/>
                <a:ext cx="1143000" cy="228600"/>
              </a:xfrm>
              <a:prstGeom prst="rect">
                <a:avLst/>
              </a:prstGeom>
              <a:solidFill>
                <a:srgbClr val="603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Rectangle 11"/>
              <p:cNvSpPr/>
              <p:nvPr/>
            </p:nvSpPr>
            <p:spPr>
              <a:xfrm>
                <a:off x="838080" y="2788920"/>
                <a:ext cx="1143000" cy="228600"/>
              </a:xfrm>
              <a:prstGeom prst="rect">
                <a:avLst/>
              </a:prstGeom>
              <a:solidFill>
                <a:srgbClr val="603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Rectangle 12"/>
              <p:cNvSpPr/>
              <p:nvPr/>
            </p:nvSpPr>
            <p:spPr>
              <a:xfrm>
                <a:off x="838080" y="3017520"/>
                <a:ext cx="1143000" cy="228600"/>
              </a:xfrm>
              <a:prstGeom prst="rect">
                <a:avLst/>
              </a:prstGeom>
              <a:solidFill>
                <a:srgbClr val="603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Rectangle 13"/>
              <p:cNvSpPr/>
              <p:nvPr/>
            </p:nvSpPr>
            <p:spPr>
              <a:xfrm>
                <a:off x="838080" y="3246120"/>
                <a:ext cx="1143000" cy="228600"/>
              </a:xfrm>
              <a:prstGeom prst="rect">
                <a:avLst/>
              </a:prstGeom>
              <a:solidFill>
                <a:srgbClr val="000f4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Rectangle 14"/>
              <p:cNvSpPr/>
              <p:nvPr/>
            </p:nvSpPr>
            <p:spPr>
              <a:xfrm>
                <a:off x="838080" y="3474720"/>
                <a:ext cx="1143000" cy="228600"/>
              </a:xfrm>
              <a:prstGeom prst="rect">
                <a:avLst/>
              </a:prstGeom>
              <a:solidFill>
                <a:srgbClr val="000f4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Rectangle 15"/>
              <p:cNvSpPr/>
              <p:nvPr/>
            </p:nvSpPr>
            <p:spPr>
              <a:xfrm>
                <a:off x="838080" y="3703320"/>
                <a:ext cx="1143000" cy="228600"/>
              </a:xfrm>
              <a:prstGeom prst="rect">
                <a:avLst/>
              </a:prstGeom>
              <a:solidFill>
                <a:srgbClr val="000f4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Rectangle 16"/>
              <p:cNvSpPr/>
              <p:nvPr/>
            </p:nvSpPr>
            <p:spPr>
              <a:xfrm>
                <a:off x="838080" y="3931920"/>
                <a:ext cx="1143000" cy="228600"/>
              </a:xfrm>
              <a:prstGeom prst="rect">
                <a:avLst/>
              </a:prstGeom>
              <a:solidFill>
                <a:srgbClr val="000f4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Rectangle 17"/>
              <p:cNvSpPr/>
              <p:nvPr/>
            </p:nvSpPr>
            <p:spPr>
              <a:xfrm>
                <a:off x="838080" y="4160520"/>
                <a:ext cx="1143000" cy="228600"/>
              </a:xfrm>
              <a:prstGeom prst="rect">
                <a:avLst/>
              </a:prstGeom>
              <a:solidFill>
                <a:srgbClr val="000f4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Rectangle 18"/>
              <p:cNvSpPr/>
              <p:nvPr/>
            </p:nvSpPr>
            <p:spPr>
              <a:xfrm>
                <a:off x="838080" y="4389120"/>
                <a:ext cx="1143000" cy="228600"/>
              </a:xfrm>
              <a:prstGeom prst="rect">
                <a:avLst/>
              </a:prstGeom>
              <a:solidFill>
                <a:srgbClr val="000f4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Text Box 19"/>
              <p:cNvSpPr/>
              <p:nvPr/>
            </p:nvSpPr>
            <p:spPr>
              <a:xfrm>
                <a:off x="1221480" y="1035000"/>
                <a:ext cx="43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1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Line 20"/>
              <p:cNvSpPr/>
              <p:nvPr/>
            </p:nvSpPr>
            <p:spPr>
              <a:xfrm>
                <a:off x="1600200" y="1265040"/>
                <a:ext cx="380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Line 21"/>
              <p:cNvSpPr/>
              <p:nvPr/>
            </p:nvSpPr>
            <p:spPr>
              <a:xfrm flipH="1">
                <a:off x="837720" y="1265040"/>
                <a:ext cx="381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2" name="AutoShape 22"/>
            <p:cNvSpPr/>
            <p:nvPr/>
          </p:nvSpPr>
          <p:spPr>
            <a:xfrm>
              <a:off x="2057400" y="2332080"/>
              <a:ext cx="228600" cy="9144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Line 23"/>
            <p:cNvSpPr/>
            <p:nvPr/>
          </p:nvSpPr>
          <p:spPr>
            <a:xfrm>
              <a:off x="2362320" y="2789280"/>
              <a:ext cx="1295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Line 24"/>
            <p:cNvSpPr/>
            <p:nvPr/>
          </p:nvSpPr>
          <p:spPr>
            <a:xfrm>
              <a:off x="2971800" y="2712960"/>
              <a:ext cx="7632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Text Box 25"/>
            <p:cNvSpPr/>
            <p:nvPr/>
          </p:nvSpPr>
          <p:spPr>
            <a:xfrm>
              <a:off x="2745360" y="23302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Text Box 26"/>
            <p:cNvSpPr/>
            <p:nvPr/>
          </p:nvSpPr>
          <p:spPr>
            <a:xfrm>
              <a:off x="2498760" y="2941560"/>
              <a:ext cx="1006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igned 64-bit fetc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Text Box 27"/>
            <p:cNvSpPr/>
            <p:nvPr/>
          </p:nvSpPr>
          <p:spPr>
            <a:xfrm>
              <a:off x="3962520" y="3017880"/>
              <a:ext cx="146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-level deep fetch buff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Text Box 28"/>
            <p:cNvSpPr/>
            <p:nvPr/>
          </p:nvSpPr>
          <p:spPr>
            <a:xfrm>
              <a:off x="4421880" y="19638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Line 29"/>
            <p:cNvSpPr/>
            <p:nvPr/>
          </p:nvSpPr>
          <p:spPr>
            <a:xfrm>
              <a:off x="4800600" y="219384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Line 30"/>
            <p:cNvSpPr/>
            <p:nvPr/>
          </p:nvSpPr>
          <p:spPr>
            <a:xfrm flipH="1">
              <a:off x="3657240" y="2193840"/>
              <a:ext cx="762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Group 31"/>
            <p:cNvGrpSpPr/>
            <p:nvPr/>
          </p:nvGrpSpPr>
          <p:grpSpPr>
            <a:xfrm>
              <a:off x="7039080" y="1874880"/>
              <a:ext cx="1676160" cy="1600200"/>
              <a:chOff x="7039080" y="1874880"/>
              <a:chExt cx="1676160" cy="1600200"/>
            </a:xfrm>
          </p:grpSpPr>
          <p:sp>
            <p:nvSpPr>
              <p:cNvPr id="262" name="Rectangle 32"/>
              <p:cNvSpPr/>
              <p:nvPr/>
            </p:nvSpPr>
            <p:spPr>
              <a:xfrm>
                <a:off x="7039080" y="1874880"/>
                <a:ext cx="1676160" cy="1600200"/>
              </a:xfrm>
              <a:prstGeom prst="rect">
                <a:avLst/>
              </a:prstGeom>
              <a:solidFill>
                <a:srgbClr val="0249f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Text Box 33"/>
              <p:cNvSpPr/>
              <p:nvPr/>
            </p:nvSpPr>
            <p:spPr>
              <a:xfrm>
                <a:off x="7115040" y="2332080"/>
                <a:ext cx="1590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F2833x Core decoder uni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4" name="Line 34"/>
            <p:cNvSpPr/>
            <p:nvPr/>
          </p:nvSpPr>
          <p:spPr>
            <a:xfrm>
              <a:off x="5486400" y="2560680"/>
              <a:ext cx="15526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Line 35"/>
            <p:cNvSpPr/>
            <p:nvPr/>
          </p:nvSpPr>
          <p:spPr>
            <a:xfrm>
              <a:off x="6140520" y="2484360"/>
              <a:ext cx="7596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Line 36"/>
            <p:cNvSpPr/>
            <p:nvPr/>
          </p:nvSpPr>
          <p:spPr>
            <a:xfrm>
              <a:off x="1981080" y="118908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Line 37"/>
            <p:cNvSpPr/>
            <p:nvPr/>
          </p:nvSpPr>
          <p:spPr>
            <a:xfrm>
              <a:off x="838080" y="118908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Line 38"/>
            <p:cNvSpPr/>
            <p:nvPr/>
          </p:nvSpPr>
          <p:spPr>
            <a:xfrm>
              <a:off x="3657600" y="210348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Line 39"/>
            <p:cNvSpPr/>
            <p:nvPr/>
          </p:nvSpPr>
          <p:spPr>
            <a:xfrm>
              <a:off x="5486400" y="210348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Rectangle 40"/>
            <p:cNvSpPr/>
            <p:nvPr/>
          </p:nvSpPr>
          <p:spPr>
            <a:xfrm>
              <a:off x="3657600" y="2408400"/>
              <a:ext cx="1828800" cy="228600"/>
            </a:xfrm>
            <a:prstGeom prst="rect">
              <a:avLst/>
            </a:prstGeom>
            <a:solidFill>
              <a:srgbClr val="005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Rectangle 41"/>
            <p:cNvSpPr/>
            <p:nvPr/>
          </p:nvSpPr>
          <p:spPr>
            <a:xfrm>
              <a:off x="3657600" y="2637000"/>
              <a:ext cx="1828800" cy="228600"/>
            </a:xfrm>
            <a:prstGeom prst="rect">
              <a:avLst/>
            </a:prstGeom>
            <a:solidFill>
              <a:srgbClr val="005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peeding Up Code Execution in Flash:</a:t>
            </a:r>
            <a:br>
              <a:rPr sz="3200"/>
            </a:br>
            <a:r>
              <a:rPr b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Flash Pipelining (for code fetch only)</a:t>
            </a:r>
            <a:endParaRPr b="1" lang="en-US" sz="18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273" name="Group 43"/>
          <p:cNvGrpSpPr/>
          <p:nvPr/>
        </p:nvGrpSpPr>
        <p:grpSpPr>
          <a:xfrm>
            <a:off x="668880" y="3909960"/>
            <a:ext cx="7919280" cy="2362320"/>
            <a:chOff x="668880" y="3909960"/>
            <a:chExt cx="7919280" cy="2362320"/>
          </a:xfrm>
        </p:grpSpPr>
        <p:sp>
          <p:nvSpPr>
            <p:cNvPr id="274" name="Rectangle 44"/>
            <p:cNvSpPr/>
            <p:nvPr/>
          </p:nvSpPr>
          <p:spPr>
            <a:xfrm>
              <a:off x="5939280" y="3909960"/>
              <a:ext cx="2648880" cy="8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Flash Pipeline Ena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 = disable (default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 = enabl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Line 45"/>
            <p:cNvSpPr/>
            <p:nvPr/>
          </p:nvSpPr>
          <p:spPr>
            <a:xfrm>
              <a:off x="7280280" y="4905360"/>
              <a:ext cx="0" cy="43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Rectangle 46"/>
            <p:cNvSpPr/>
            <p:nvPr/>
          </p:nvSpPr>
          <p:spPr>
            <a:xfrm>
              <a:off x="6581880" y="5738760"/>
              <a:ext cx="1447560" cy="53352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Text Box 47"/>
            <p:cNvSpPr/>
            <p:nvPr/>
          </p:nvSpPr>
          <p:spPr>
            <a:xfrm>
              <a:off x="6742440" y="5859360"/>
              <a:ext cx="10188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NPIP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Rectangle 48"/>
            <p:cNvSpPr/>
            <p:nvPr/>
          </p:nvSpPr>
          <p:spPr>
            <a:xfrm>
              <a:off x="790560" y="5738760"/>
              <a:ext cx="5791320" cy="53352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Text Box 49"/>
            <p:cNvSpPr/>
            <p:nvPr/>
          </p:nvSpPr>
          <p:spPr>
            <a:xfrm>
              <a:off x="3403800" y="5829480"/>
              <a:ext cx="113004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Text Box 50"/>
            <p:cNvSpPr/>
            <p:nvPr/>
          </p:nvSpPr>
          <p:spPr>
            <a:xfrm>
              <a:off x="706320" y="5459400"/>
              <a:ext cx="4064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Text Box 51"/>
            <p:cNvSpPr/>
            <p:nvPr/>
          </p:nvSpPr>
          <p:spPr>
            <a:xfrm>
              <a:off x="7139160" y="545940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Text Box 52"/>
            <p:cNvSpPr/>
            <p:nvPr/>
          </p:nvSpPr>
          <p:spPr>
            <a:xfrm>
              <a:off x="6139080" y="545940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Text Box 53"/>
            <p:cNvSpPr/>
            <p:nvPr/>
          </p:nvSpPr>
          <p:spPr>
            <a:xfrm>
              <a:off x="668880" y="5087880"/>
              <a:ext cx="25642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Arial"/>
                </a:rPr>
                <a:t>FOPT @ 0x00 0A80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Times New Roman"/>
              </a:rPr>
              <a:t>Other Flash Configuration Registers 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896760" y="852480"/>
            <a:ext cx="7472520" cy="2256840"/>
            <a:chOff x="896760" y="852480"/>
            <a:chExt cx="7472520" cy="2256840"/>
          </a:xfrm>
        </p:grpSpPr>
        <p:sp>
          <p:nvSpPr>
            <p:cNvPr id="286" name="Rectangle 4"/>
            <p:cNvSpPr/>
            <p:nvPr/>
          </p:nvSpPr>
          <p:spPr>
            <a:xfrm>
              <a:off x="896760" y="852480"/>
              <a:ext cx="7472520" cy="27144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Rectangle 5"/>
            <p:cNvSpPr/>
            <p:nvPr/>
          </p:nvSpPr>
          <p:spPr>
            <a:xfrm>
              <a:off x="896760" y="1123920"/>
              <a:ext cx="7472520" cy="19573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Text Box 6"/>
            <p:cNvSpPr/>
            <p:nvPr/>
          </p:nvSpPr>
          <p:spPr>
            <a:xfrm>
              <a:off x="900360" y="917640"/>
              <a:ext cx="7297200" cy="21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1260360"/>
                  <a:tab algn="l" pos="31449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ress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escrip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1260360"/>
                  <a:tab algn="l" pos="31449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x00 0A80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OPT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lash option regi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1260360"/>
                  <a:tab algn="l" pos="31449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x00 0A82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FPWR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lash power modes regist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1260360"/>
                  <a:tab algn="l" pos="31449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x00 0A83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FSTATUS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lash status regi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1260360"/>
                  <a:tab algn="l" pos="31449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x00 0A84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FSTDBYWAIT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lash sleep to standby wait regi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1260360"/>
                  <a:tab algn="l" pos="31449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x00 0A85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FACTIVEWAIT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lash standby to active wait regi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1260360"/>
                  <a:tab algn="l" pos="31449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x00 0A86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BANKWAIT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lash read access wait state regi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1260360"/>
                  <a:tab algn="l" pos="31449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x00 0A87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OTPWAIT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OTP read access wait state regi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Line 7"/>
            <p:cNvSpPr/>
            <p:nvPr/>
          </p:nvSpPr>
          <p:spPr>
            <a:xfrm>
              <a:off x="2171880" y="852480"/>
              <a:ext cx="0" cy="222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Line 8"/>
            <p:cNvSpPr/>
            <p:nvPr/>
          </p:nvSpPr>
          <p:spPr>
            <a:xfrm>
              <a:off x="3922560" y="852480"/>
              <a:ext cx="0" cy="222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1" name="Rectangle 9"/>
          <p:cNvSpPr/>
          <p:nvPr/>
        </p:nvSpPr>
        <p:spPr>
          <a:xfrm>
            <a:off x="71280" y="3278160"/>
            <a:ext cx="8980560" cy="25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marL="552600" indent="-552600">
              <a:lnSpc>
                <a:spcPct val="85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FPWR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ave power by putting Flash/OTP to ‘Sleep’ or ‘Standby’ mode;  Flash will automatically enter active mode if a Flash/OTP access is ma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5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FSTATUS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Various status bits (e.g. PWR mod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5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FSTDBYWAIT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pecify number of cycles to wait during wake-up from sleep to stand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5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FACTIVEWAIT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pecify number of cycles to wait during wake-up from standby to ac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366840" y="6080040"/>
            <a:ext cx="85946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aults for these registers are often sufficient –  See 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MS320F2833x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ntrol and Interrupts Reference Guide,” SPRUFB0, for more inform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Flash Programming Basic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2160" y="634680"/>
            <a:ext cx="8670960" cy="13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546840" indent="-54684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DSP CPU itself performs the flash programming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6840" indent="-54684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CPU executes Flash utility code from RAM that reads the Flash data and writes it into the Flash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6840" indent="-54684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e need to get the 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Flash utility cod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and the 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Flash dat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into RAM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Group 119"/>
          <p:cNvGrpSpPr/>
          <p:nvPr/>
        </p:nvGrpSpPr>
        <p:grpSpPr>
          <a:xfrm>
            <a:off x="4438800" y="2073240"/>
            <a:ext cx="4111560" cy="4794120"/>
            <a:chOff x="4438800" y="2073240"/>
            <a:chExt cx="4111560" cy="4794120"/>
          </a:xfrm>
        </p:grpSpPr>
        <p:grpSp>
          <p:nvGrpSpPr>
            <p:cNvPr id="296" name="Group 120"/>
            <p:cNvGrpSpPr/>
            <p:nvPr/>
          </p:nvGrpSpPr>
          <p:grpSpPr>
            <a:xfrm>
              <a:off x="4438800" y="2073240"/>
              <a:ext cx="4065480" cy="4703760"/>
              <a:chOff x="4438800" y="2073240"/>
              <a:chExt cx="4065480" cy="4703760"/>
            </a:xfrm>
          </p:grpSpPr>
          <p:sp>
            <p:nvSpPr>
              <p:cNvPr id="297" name="Rectangle 121"/>
              <p:cNvSpPr/>
              <p:nvPr/>
            </p:nvSpPr>
            <p:spPr>
              <a:xfrm>
                <a:off x="4438800" y="2073240"/>
                <a:ext cx="4065480" cy="47037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98" name="Group 122"/>
              <p:cNvGrpSpPr/>
              <p:nvPr/>
            </p:nvGrpSpPr>
            <p:grpSpPr>
              <a:xfrm>
                <a:off x="5102280" y="2149560"/>
                <a:ext cx="1073160" cy="803160"/>
                <a:chOff x="5102280" y="2149560"/>
                <a:chExt cx="1073160" cy="803160"/>
              </a:xfrm>
            </p:grpSpPr>
            <p:sp>
              <p:nvSpPr>
                <p:cNvPr id="299" name="Rectangle 123"/>
                <p:cNvSpPr/>
                <p:nvPr/>
              </p:nvSpPr>
              <p:spPr>
                <a:xfrm>
                  <a:off x="5102280" y="2149560"/>
                  <a:ext cx="1073160" cy="803160"/>
                </a:xfrm>
                <a:prstGeom prst="rect">
                  <a:avLst/>
                </a:prstGeom>
                <a:solidFill>
                  <a:srgbClr val="0249fc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Text Box 124"/>
                <p:cNvSpPr/>
                <p:nvPr/>
              </p:nvSpPr>
              <p:spPr>
                <a:xfrm>
                  <a:off x="5162760" y="2397240"/>
                  <a:ext cx="916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FLASH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Group 125"/>
              <p:cNvGrpSpPr/>
              <p:nvPr/>
            </p:nvGrpSpPr>
            <p:grpSpPr>
              <a:xfrm>
                <a:off x="7147080" y="2149560"/>
                <a:ext cx="1182600" cy="809640"/>
                <a:chOff x="7147080" y="2149560"/>
                <a:chExt cx="1182600" cy="809640"/>
              </a:xfrm>
            </p:grpSpPr>
            <p:sp>
              <p:nvSpPr>
                <p:cNvPr id="302" name="Rectangle 126"/>
                <p:cNvSpPr/>
                <p:nvPr/>
              </p:nvSpPr>
              <p:spPr>
                <a:xfrm>
                  <a:off x="7147080" y="2149560"/>
                  <a:ext cx="1182600" cy="8096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Text Box 127"/>
                <p:cNvSpPr/>
                <p:nvPr/>
              </p:nvSpPr>
              <p:spPr>
                <a:xfrm>
                  <a:off x="7409520" y="2444760"/>
                  <a:ext cx="662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CPU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Group 128"/>
              <p:cNvGrpSpPr/>
              <p:nvPr/>
            </p:nvGrpSpPr>
            <p:grpSpPr>
              <a:xfrm>
                <a:off x="7315200" y="3360600"/>
                <a:ext cx="925200" cy="1074600"/>
                <a:chOff x="7315200" y="3360600"/>
                <a:chExt cx="925200" cy="1074600"/>
              </a:xfrm>
            </p:grpSpPr>
            <p:sp>
              <p:nvSpPr>
                <p:cNvPr id="305" name="Rectangle 129"/>
                <p:cNvSpPr/>
                <p:nvPr/>
              </p:nvSpPr>
              <p:spPr>
                <a:xfrm>
                  <a:off x="7315200" y="3360600"/>
                  <a:ext cx="906840" cy="1074600"/>
                </a:xfrm>
                <a:prstGeom prst="rect">
                  <a:avLst/>
                </a:prstGeom>
                <a:solidFill>
                  <a:srgbClr val="0249fc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Text Box 130"/>
                <p:cNvSpPr/>
                <p:nvPr/>
              </p:nvSpPr>
              <p:spPr>
                <a:xfrm>
                  <a:off x="7330320" y="3749400"/>
                  <a:ext cx="910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RAM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7" name="Line 131"/>
              <p:cNvSpPr/>
              <p:nvPr/>
            </p:nvSpPr>
            <p:spPr>
              <a:xfrm>
                <a:off x="7769160" y="2971800"/>
                <a:ext cx="0" cy="3920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Line 132"/>
              <p:cNvSpPr/>
              <p:nvPr/>
            </p:nvSpPr>
            <p:spPr>
              <a:xfrm flipH="1">
                <a:off x="6183360" y="2562120"/>
                <a:ext cx="95256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9" name="Text Box 133"/>
            <p:cNvSpPr/>
            <p:nvPr/>
          </p:nvSpPr>
          <p:spPr>
            <a:xfrm>
              <a:off x="6746400" y="6499080"/>
              <a:ext cx="180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MS320F2833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0" name="Group 134"/>
          <p:cNvGrpSpPr/>
          <p:nvPr/>
        </p:nvGrpSpPr>
        <p:grpSpPr>
          <a:xfrm>
            <a:off x="1920960" y="3246480"/>
            <a:ext cx="5386320" cy="441360"/>
            <a:chOff x="1920960" y="3246480"/>
            <a:chExt cx="5386320" cy="441360"/>
          </a:xfrm>
        </p:grpSpPr>
        <p:sp>
          <p:nvSpPr>
            <p:cNvPr id="311" name="Line 135"/>
            <p:cNvSpPr/>
            <p:nvPr/>
          </p:nvSpPr>
          <p:spPr>
            <a:xfrm>
              <a:off x="5342040" y="3454560"/>
              <a:ext cx="196524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2" name="Group 136"/>
            <p:cNvGrpSpPr/>
            <p:nvPr/>
          </p:nvGrpSpPr>
          <p:grpSpPr>
            <a:xfrm>
              <a:off x="4440240" y="3246480"/>
              <a:ext cx="893520" cy="441360"/>
              <a:chOff x="4440240" y="3246480"/>
              <a:chExt cx="893520" cy="441360"/>
            </a:xfrm>
          </p:grpSpPr>
          <p:sp>
            <p:nvSpPr>
              <p:cNvPr id="313" name="Rectangle 137"/>
              <p:cNvSpPr/>
              <p:nvPr/>
            </p:nvSpPr>
            <p:spPr>
              <a:xfrm>
                <a:off x="4440240" y="3246480"/>
                <a:ext cx="893520" cy="43020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Text Box 138"/>
              <p:cNvSpPr/>
              <p:nvPr/>
            </p:nvSpPr>
            <p:spPr>
              <a:xfrm>
                <a:off x="4493520" y="3319560"/>
                <a:ext cx="76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JTAG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Group 139"/>
            <p:cNvGrpSpPr/>
            <p:nvPr/>
          </p:nvGrpSpPr>
          <p:grpSpPr>
            <a:xfrm>
              <a:off x="2919600" y="3246480"/>
              <a:ext cx="1104840" cy="430200"/>
              <a:chOff x="2919600" y="3246480"/>
              <a:chExt cx="1104840" cy="430200"/>
            </a:xfrm>
          </p:grpSpPr>
          <p:sp>
            <p:nvSpPr>
              <p:cNvPr id="316" name="Rectangle 140"/>
              <p:cNvSpPr/>
              <p:nvPr/>
            </p:nvSpPr>
            <p:spPr>
              <a:xfrm>
                <a:off x="2919600" y="3246480"/>
                <a:ext cx="1104840" cy="4302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Text Box 141"/>
              <p:cNvSpPr/>
              <p:nvPr/>
            </p:nvSpPr>
            <p:spPr>
              <a:xfrm>
                <a:off x="2936520" y="3319560"/>
                <a:ext cx="992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mulat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8" name="Line 142"/>
            <p:cNvSpPr/>
            <p:nvPr/>
          </p:nvSpPr>
          <p:spPr>
            <a:xfrm>
              <a:off x="4024440" y="3465360"/>
              <a:ext cx="39024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Line 143"/>
            <p:cNvSpPr/>
            <p:nvPr/>
          </p:nvSpPr>
          <p:spPr>
            <a:xfrm>
              <a:off x="1920960" y="3436920"/>
              <a:ext cx="100476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0" name="Group 144"/>
          <p:cNvGrpSpPr/>
          <p:nvPr/>
        </p:nvGrpSpPr>
        <p:grpSpPr>
          <a:xfrm>
            <a:off x="1920960" y="4321080"/>
            <a:ext cx="4184640" cy="430200"/>
            <a:chOff x="1920960" y="4321080"/>
            <a:chExt cx="4184640" cy="430200"/>
          </a:xfrm>
        </p:grpSpPr>
        <p:grpSp>
          <p:nvGrpSpPr>
            <p:cNvPr id="321" name="Group 145"/>
            <p:cNvGrpSpPr/>
            <p:nvPr/>
          </p:nvGrpSpPr>
          <p:grpSpPr>
            <a:xfrm>
              <a:off x="4438800" y="4321080"/>
              <a:ext cx="903240" cy="430200"/>
              <a:chOff x="4438800" y="4321080"/>
              <a:chExt cx="903240" cy="430200"/>
            </a:xfrm>
          </p:grpSpPr>
          <p:sp>
            <p:nvSpPr>
              <p:cNvPr id="322" name="Rectangle 146"/>
              <p:cNvSpPr/>
              <p:nvPr/>
            </p:nvSpPr>
            <p:spPr>
              <a:xfrm>
                <a:off x="4438800" y="4321080"/>
                <a:ext cx="903240" cy="43020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Text Box 147"/>
              <p:cNvSpPr/>
              <p:nvPr/>
            </p:nvSpPr>
            <p:spPr>
              <a:xfrm>
                <a:off x="4639320" y="4381200"/>
                <a:ext cx="54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SP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4" name="Line 148"/>
            <p:cNvSpPr/>
            <p:nvPr/>
          </p:nvSpPr>
          <p:spPr>
            <a:xfrm>
              <a:off x="5351400" y="4539960"/>
              <a:ext cx="75420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Line 149"/>
            <p:cNvSpPr/>
            <p:nvPr/>
          </p:nvSpPr>
          <p:spPr>
            <a:xfrm>
              <a:off x="1920960" y="4539960"/>
              <a:ext cx="249372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6" name="Group 150"/>
          <p:cNvGrpSpPr/>
          <p:nvPr/>
        </p:nvGrpSpPr>
        <p:grpSpPr>
          <a:xfrm>
            <a:off x="1920960" y="3832200"/>
            <a:ext cx="4163760" cy="438120"/>
            <a:chOff x="1920960" y="3832200"/>
            <a:chExt cx="4163760" cy="438120"/>
          </a:xfrm>
        </p:grpSpPr>
        <p:sp>
          <p:nvSpPr>
            <p:cNvPr id="327" name="Rectangle 151"/>
            <p:cNvSpPr/>
            <p:nvPr/>
          </p:nvSpPr>
          <p:spPr>
            <a:xfrm>
              <a:off x="4438800" y="3840120"/>
              <a:ext cx="893520" cy="430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Text Box 152"/>
            <p:cNvSpPr/>
            <p:nvPr/>
          </p:nvSpPr>
          <p:spPr>
            <a:xfrm>
              <a:off x="4573800" y="390060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C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Freeform 153"/>
            <p:cNvSpPr/>
            <p:nvPr/>
          </p:nvSpPr>
          <p:spPr>
            <a:xfrm flipV="1">
              <a:off x="5346720" y="4054320"/>
              <a:ext cx="738000" cy="20808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360 h 208080"/>
                <a:gd name="textAreaBottom" fmla="*/ 208800 h 208080"/>
              </a:gdLst>
              <a:ahLst/>
              <a:rect l="textAreaLeft" t="textAreaTop" r="textAreaRight" b="textAreaBottom"/>
              <a:pathLst>
                <a:path w="465" h="131">
                  <a:moveTo>
                    <a:pt x="0" y="131"/>
                  </a:moveTo>
                  <a:lnTo>
                    <a:pt x="212" y="122"/>
                  </a:lnTo>
                  <a:lnTo>
                    <a:pt x="352" y="87"/>
                  </a:lnTo>
                  <a:lnTo>
                    <a:pt x="465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Line 154"/>
            <p:cNvSpPr/>
            <p:nvPr/>
          </p:nvSpPr>
          <p:spPr>
            <a:xfrm>
              <a:off x="1920960" y="4054320"/>
              <a:ext cx="127944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1" name="Group 155"/>
            <p:cNvGrpSpPr/>
            <p:nvPr/>
          </p:nvGrpSpPr>
          <p:grpSpPr>
            <a:xfrm>
              <a:off x="3206160" y="3832200"/>
              <a:ext cx="817920" cy="430200"/>
              <a:chOff x="3206160" y="3832200"/>
              <a:chExt cx="817920" cy="430200"/>
            </a:xfrm>
          </p:grpSpPr>
          <p:sp>
            <p:nvSpPr>
              <p:cNvPr id="332" name="Rectangle 156"/>
              <p:cNvSpPr/>
              <p:nvPr/>
            </p:nvSpPr>
            <p:spPr>
              <a:xfrm>
                <a:off x="3224160" y="3832200"/>
                <a:ext cx="799920" cy="4302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Text Box 157"/>
              <p:cNvSpPr/>
              <p:nvPr/>
            </p:nvSpPr>
            <p:spPr>
              <a:xfrm>
                <a:off x="3206160" y="3905280"/>
                <a:ext cx="80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RS23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4" name="Line 158"/>
            <p:cNvSpPr/>
            <p:nvPr/>
          </p:nvSpPr>
          <p:spPr>
            <a:xfrm>
              <a:off x="4024440" y="4054320"/>
              <a:ext cx="39024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5" name="Group 159"/>
          <p:cNvGrpSpPr/>
          <p:nvPr/>
        </p:nvGrpSpPr>
        <p:grpSpPr>
          <a:xfrm>
            <a:off x="550800" y="2984400"/>
            <a:ext cx="1166760" cy="3754440"/>
            <a:chOff x="550800" y="2984400"/>
            <a:chExt cx="1166760" cy="3754440"/>
          </a:xfrm>
        </p:grpSpPr>
        <p:sp>
          <p:nvSpPr>
            <p:cNvPr id="336" name="Rectangle 160"/>
            <p:cNvSpPr/>
            <p:nvPr/>
          </p:nvSpPr>
          <p:spPr>
            <a:xfrm>
              <a:off x="550800" y="2984400"/>
              <a:ext cx="1166760" cy="375444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7" name="Group 161"/>
            <p:cNvGrpSpPr/>
            <p:nvPr/>
          </p:nvGrpSpPr>
          <p:grpSpPr>
            <a:xfrm>
              <a:off x="630360" y="3065400"/>
              <a:ext cx="988920" cy="3581280"/>
              <a:chOff x="630360" y="3065400"/>
              <a:chExt cx="988920" cy="3581280"/>
            </a:xfrm>
          </p:grpSpPr>
          <p:grpSp>
            <p:nvGrpSpPr>
              <p:cNvPr id="338" name="Group 162"/>
              <p:cNvGrpSpPr/>
              <p:nvPr/>
            </p:nvGrpSpPr>
            <p:grpSpPr>
              <a:xfrm>
                <a:off x="630360" y="3065400"/>
                <a:ext cx="988920" cy="1184040"/>
                <a:chOff x="630360" y="3065400"/>
                <a:chExt cx="988920" cy="1184040"/>
              </a:xfrm>
            </p:grpSpPr>
            <p:sp>
              <p:nvSpPr>
                <p:cNvPr id="339" name="AutoShape 163"/>
                <p:cNvSpPr/>
                <p:nvPr/>
              </p:nvSpPr>
              <p:spPr>
                <a:xfrm>
                  <a:off x="630360" y="3065400"/>
                  <a:ext cx="988920" cy="118404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Text Box 164"/>
                <p:cNvSpPr/>
                <p:nvPr/>
              </p:nvSpPr>
              <p:spPr>
                <a:xfrm>
                  <a:off x="720720" y="3239640"/>
                  <a:ext cx="83664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Flash Utility Code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Group 165"/>
              <p:cNvGrpSpPr/>
              <p:nvPr/>
            </p:nvGrpSpPr>
            <p:grpSpPr>
              <a:xfrm>
                <a:off x="630360" y="4462200"/>
                <a:ext cx="988920" cy="2184480"/>
                <a:chOff x="630360" y="4462200"/>
                <a:chExt cx="988920" cy="2184480"/>
              </a:xfrm>
            </p:grpSpPr>
            <p:sp>
              <p:nvSpPr>
                <p:cNvPr id="342" name="AutoShape 166"/>
                <p:cNvSpPr/>
                <p:nvPr/>
              </p:nvSpPr>
              <p:spPr>
                <a:xfrm>
                  <a:off x="630360" y="4462200"/>
                  <a:ext cx="988920" cy="218448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Text Box 167"/>
                <p:cNvSpPr/>
                <p:nvPr/>
              </p:nvSpPr>
              <p:spPr>
                <a:xfrm>
                  <a:off x="709560" y="5265360"/>
                  <a:ext cx="8366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Flash Data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44" name="Group 168"/>
          <p:cNvGrpSpPr/>
          <p:nvPr/>
        </p:nvGrpSpPr>
        <p:grpSpPr>
          <a:xfrm>
            <a:off x="1920960" y="5321160"/>
            <a:ext cx="4184640" cy="430200"/>
            <a:chOff x="1920960" y="5321160"/>
            <a:chExt cx="4184640" cy="430200"/>
          </a:xfrm>
        </p:grpSpPr>
        <p:grpSp>
          <p:nvGrpSpPr>
            <p:cNvPr id="345" name="Group 169"/>
            <p:cNvGrpSpPr/>
            <p:nvPr/>
          </p:nvGrpSpPr>
          <p:grpSpPr>
            <a:xfrm>
              <a:off x="4438800" y="5321160"/>
              <a:ext cx="903240" cy="430200"/>
              <a:chOff x="4438800" y="5321160"/>
              <a:chExt cx="903240" cy="430200"/>
            </a:xfrm>
          </p:grpSpPr>
          <p:sp>
            <p:nvSpPr>
              <p:cNvPr id="346" name="Rectangle 170"/>
              <p:cNvSpPr/>
              <p:nvPr/>
            </p:nvSpPr>
            <p:spPr>
              <a:xfrm>
                <a:off x="4438800" y="5321160"/>
                <a:ext cx="903240" cy="43020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Text Box 171"/>
              <p:cNvSpPr/>
              <p:nvPr/>
            </p:nvSpPr>
            <p:spPr>
              <a:xfrm>
                <a:off x="4542480" y="5381280"/>
                <a:ext cx="788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eCA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8" name="Line 172"/>
            <p:cNvSpPr/>
            <p:nvPr/>
          </p:nvSpPr>
          <p:spPr>
            <a:xfrm>
              <a:off x="5351400" y="5540040"/>
              <a:ext cx="75420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Line 173"/>
            <p:cNvSpPr/>
            <p:nvPr/>
          </p:nvSpPr>
          <p:spPr>
            <a:xfrm>
              <a:off x="1920960" y="5540040"/>
              <a:ext cx="249372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0" name="Group 174"/>
          <p:cNvGrpSpPr/>
          <p:nvPr/>
        </p:nvGrpSpPr>
        <p:grpSpPr>
          <a:xfrm>
            <a:off x="1920960" y="6291360"/>
            <a:ext cx="4154400" cy="465120"/>
            <a:chOff x="1920960" y="6291360"/>
            <a:chExt cx="4154400" cy="465120"/>
          </a:xfrm>
        </p:grpSpPr>
        <p:grpSp>
          <p:nvGrpSpPr>
            <p:cNvPr id="351" name="Group 175"/>
            <p:cNvGrpSpPr/>
            <p:nvPr/>
          </p:nvGrpSpPr>
          <p:grpSpPr>
            <a:xfrm>
              <a:off x="4438800" y="6291360"/>
              <a:ext cx="903240" cy="465120"/>
              <a:chOff x="4438800" y="6291360"/>
              <a:chExt cx="903240" cy="465120"/>
            </a:xfrm>
          </p:grpSpPr>
          <p:sp>
            <p:nvSpPr>
              <p:cNvPr id="352" name="Rectangle 176"/>
              <p:cNvSpPr/>
              <p:nvPr/>
            </p:nvSpPr>
            <p:spPr>
              <a:xfrm>
                <a:off x="4438800" y="6291360"/>
                <a:ext cx="903240" cy="43020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Text Box 177"/>
              <p:cNvSpPr/>
              <p:nvPr/>
            </p:nvSpPr>
            <p:spPr>
              <a:xfrm>
                <a:off x="4487760" y="6388200"/>
                <a:ext cx="84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INT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4" name="Freeform 178"/>
            <p:cNvSpPr/>
            <p:nvPr/>
          </p:nvSpPr>
          <p:spPr>
            <a:xfrm>
              <a:off x="5337000" y="6345360"/>
              <a:ext cx="738360" cy="208080"/>
            </a:xfrm>
            <a:custGeom>
              <a:avLst/>
              <a:gdLst>
                <a:gd name="textAreaLeft" fmla="*/ 0 w 738360"/>
                <a:gd name="textAreaRight" fmla="*/ 738720 w 73836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465" h="131">
                  <a:moveTo>
                    <a:pt x="0" y="131"/>
                  </a:moveTo>
                  <a:lnTo>
                    <a:pt x="212" y="122"/>
                  </a:lnTo>
                  <a:lnTo>
                    <a:pt x="352" y="87"/>
                  </a:lnTo>
                  <a:lnTo>
                    <a:pt x="465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Line 179"/>
            <p:cNvSpPr/>
            <p:nvPr/>
          </p:nvSpPr>
          <p:spPr>
            <a:xfrm>
              <a:off x="1920960" y="6521760"/>
              <a:ext cx="249372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6" name="Group 180"/>
          <p:cNvGrpSpPr/>
          <p:nvPr/>
        </p:nvGrpSpPr>
        <p:grpSpPr>
          <a:xfrm>
            <a:off x="1920960" y="4815000"/>
            <a:ext cx="4167000" cy="465120"/>
            <a:chOff x="1920960" y="4815000"/>
            <a:chExt cx="4167000" cy="465120"/>
          </a:xfrm>
        </p:grpSpPr>
        <p:grpSp>
          <p:nvGrpSpPr>
            <p:cNvPr id="357" name="Group 181"/>
            <p:cNvGrpSpPr/>
            <p:nvPr/>
          </p:nvGrpSpPr>
          <p:grpSpPr>
            <a:xfrm>
              <a:off x="1920960" y="4815000"/>
              <a:ext cx="3421080" cy="465120"/>
              <a:chOff x="1920960" y="4815000"/>
              <a:chExt cx="3421080" cy="465120"/>
            </a:xfrm>
          </p:grpSpPr>
          <p:grpSp>
            <p:nvGrpSpPr>
              <p:cNvPr id="358" name="Group 182"/>
              <p:cNvGrpSpPr/>
              <p:nvPr/>
            </p:nvGrpSpPr>
            <p:grpSpPr>
              <a:xfrm>
                <a:off x="4438800" y="4815000"/>
                <a:ext cx="903240" cy="465120"/>
                <a:chOff x="4438800" y="4815000"/>
                <a:chExt cx="903240" cy="465120"/>
              </a:xfrm>
            </p:grpSpPr>
            <p:sp>
              <p:nvSpPr>
                <p:cNvPr id="359" name="Rectangle 183"/>
                <p:cNvSpPr/>
                <p:nvPr/>
              </p:nvSpPr>
              <p:spPr>
                <a:xfrm>
                  <a:off x="4438800" y="4815000"/>
                  <a:ext cx="903240" cy="430200"/>
                </a:xfrm>
                <a:prstGeom prst="rect">
                  <a:avLst/>
                </a:prstGeom>
                <a:solidFill>
                  <a:srgbClr val="6039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Text Box 184"/>
                <p:cNvSpPr/>
                <p:nvPr/>
              </p:nvSpPr>
              <p:spPr>
                <a:xfrm>
                  <a:off x="4659480" y="4911840"/>
                  <a:ext cx="535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2C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1" name="Line 185"/>
              <p:cNvSpPr/>
              <p:nvPr/>
            </p:nvSpPr>
            <p:spPr>
              <a:xfrm>
                <a:off x="1920960" y="5045040"/>
                <a:ext cx="24937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2" name="Line 186"/>
            <p:cNvSpPr/>
            <p:nvPr/>
          </p:nvSpPr>
          <p:spPr>
            <a:xfrm>
              <a:off x="5334120" y="5029560"/>
              <a:ext cx="75384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3" name="Group 187"/>
          <p:cNvGrpSpPr/>
          <p:nvPr/>
        </p:nvGrpSpPr>
        <p:grpSpPr>
          <a:xfrm>
            <a:off x="6114960" y="4160880"/>
            <a:ext cx="1639800" cy="2333160"/>
            <a:chOff x="6114960" y="4160880"/>
            <a:chExt cx="1639800" cy="2333160"/>
          </a:xfrm>
        </p:grpSpPr>
        <p:sp>
          <p:nvSpPr>
            <p:cNvPr id="364" name="Rectangle 188"/>
            <p:cNvSpPr/>
            <p:nvPr/>
          </p:nvSpPr>
          <p:spPr>
            <a:xfrm>
              <a:off x="6114960" y="4160880"/>
              <a:ext cx="763560" cy="233316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Freeform 189"/>
            <p:cNvSpPr/>
            <p:nvPr/>
          </p:nvSpPr>
          <p:spPr>
            <a:xfrm>
              <a:off x="6878520" y="4433760"/>
              <a:ext cx="876240" cy="941040"/>
            </a:xfrm>
            <a:custGeom>
              <a:avLst/>
              <a:gdLst>
                <a:gd name="textAreaLeft" fmla="*/ 0 w 876240"/>
                <a:gd name="textAreaRight" fmla="*/ 876600 w 876240"/>
                <a:gd name="textAreaTop" fmla="*/ 0 h 941040"/>
                <a:gd name="textAreaBottom" fmla="*/ 941400 h 941040"/>
              </a:gdLst>
              <a:ahLst/>
              <a:rect l="textAreaLeft" t="textAreaTop" r="textAreaRight" b="textAreaBottom"/>
              <a:pathLst>
                <a:path w="552" h="267">
                  <a:moveTo>
                    <a:pt x="0" y="267"/>
                  </a:moveTo>
                  <a:lnTo>
                    <a:pt x="222" y="267"/>
                  </a:lnTo>
                  <a:lnTo>
                    <a:pt x="333" y="261"/>
                  </a:lnTo>
                  <a:lnTo>
                    <a:pt x="426" y="243"/>
                  </a:lnTo>
                  <a:lnTo>
                    <a:pt x="504" y="207"/>
                  </a:lnTo>
                  <a:lnTo>
                    <a:pt x="552" y="153"/>
                  </a:lnTo>
                  <a:lnTo>
                    <a:pt x="551" y="105"/>
                  </a:lnTo>
                  <a:lnTo>
                    <a:pt x="551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Text Box 190"/>
            <p:cNvSpPr/>
            <p:nvPr/>
          </p:nvSpPr>
          <p:spPr>
            <a:xfrm rot="16200000">
              <a:off x="5908320" y="5085360"/>
              <a:ext cx="1162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O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Bootload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7" name="Group 191"/>
          <p:cNvGrpSpPr/>
          <p:nvPr/>
        </p:nvGrpSpPr>
        <p:grpSpPr>
          <a:xfrm>
            <a:off x="1920960" y="5805360"/>
            <a:ext cx="4184640" cy="430200"/>
            <a:chOff x="1920960" y="5805360"/>
            <a:chExt cx="4184640" cy="430200"/>
          </a:xfrm>
        </p:grpSpPr>
        <p:grpSp>
          <p:nvGrpSpPr>
            <p:cNvPr id="368" name="Group 192"/>
            <p:cNvGrpSpPr/>
            <p:nvPr/>
          </p:nvGrpSpPr>
          <p:grpSpPr>
            <a:xfrm>
              <a:off x="4438800" y="5805360"/>
              <a:ext cx="903240" cy="430200"/>
              <a:chOff x="4438800" y="5805360"/>
              <a:chExt cx="903240" cy="430200"/>
            </a:xfrm>
          </p:grpSpPr>
          <p:sp>
            <p:nvSpPr>
              <p:cNvPr id="369" name="Rectangle 193"/>
              <p:cNvSpPr/>
              <p:nvPr/>
            </p:nvSpPr>
            <p:spPr>
              <a:xfrm>
                <a:off x="4438800" y="5805360"/>
                <a:ext cx="903240" cy="43020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Text Box 194"/>
              <p:cNvSpPr/>
              <p:nvPr/>
            </p:nvSpPr>
            <p:spPr>
              <a:xfrm>
                <a:off x="4534560" y="5865480"/>
                <a:ext cx="75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GPI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1" name="Line 195"/>
            <p:cNvSpPr/>
            <p:nvPr/>
          </p:nvSpPr>
          <p:spPr>
            <a:xfrm>
              <a:off x="5351400" y="6024240"/>
              <a:ext cx="75420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Line 196"/>
            <p:cNvSpPr/>
            <p:nvPr/>
          </p:nvSpPr>
          <p:spPr>
            <a:xfrm>
              <a:off x="1920960" y="6024240"/>
              <a:ext cx="249372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Flash Programming Basic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8915400" cy="557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552600" indent="-552600">
              <a:lnSpc>
                <a:spcPct val="7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quence of steps for Flash programming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0">
              <a:lnSpc>
                <a:spcPct val="7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0">
              <a:lnSpc>
                <a:spcPct val="7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0">
              <a:lnSpc>
                <a:spcPct val="7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0">
              <a:lnSpc>
                <a:spcPct val="7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0">
              <a:lnSpc>
                <a:spcPct val="7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7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inimum </a:t>
            </a:r>
            <a:r>
              <a:rPr b="1" lang="en-US" sz="2800" spc="-1" strike="noStrike">
                <a:solidFill>
                  <a:srgbClr val="fe9b03"/>
                </a:solidFill>
                <a:latin typeface="Arial"/>
                <a:ea typeface="Arial"/>
              </a:rPr>
              <a:t>Eras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ize is a secto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7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inimum </a:t>
            </a:r>
            <a:r>
              <a:rPr b="1" lang="en-US" sz="2800" spc="-1" strike="noStrike">
                <a:solidFill>
                  <a:srgbClr val="fe9b03"/>
                </a:solidFill>
                <a:latin typeface="Arial"/>
                <a:ea typeface="Arial"/>
              </a:rPr>
              <a:t>Progra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ize is a bit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7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mportant not to lose power during erase step:  If CSM passwords happen to be all zeros, the CSM will be permanently locked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7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ance of this happening is quite small! (Erase step is performed sector by sector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5" name="Group 4"/>
          <p:cNvGrpSpPr/>
          <p:nvPr/>
        </p:nvGrpSpPr>
        <p:grpSpPr>
          <a:xfrm>
            <a:off x="1740960" y="1752480"/>
            <a:ext cx="5938560" cy="1416960"/>
            <a:chOff x="1740960" y="1752480"/>
            <a:chExt cx="5938560" cy="1416960"/>
          </a:xfrm>
        </p:grpSpPr>
        <p:sp>
          <p:nvSpPr>
            <p:cNvPr id="376" name="Rectangle 5"/>
            <p:cNvSpPr/>
            <p:nvPr/>
          </p:nvSpPr>
          <p:spPr>
            <a:xfrm>
              <a:off x="1943280" y="1760400"/>
              <a:ext cx="5618160" cy="30492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Rectangle 6"/>
            <p:cNvSpPr/>
            <p:nvPr/>
          </p:nvSpPr>
          <p:spPr>
            <a:xfrm>
              <a:off x="1943280" y="2071800"/>
              <a:ext cx="5616360" cy="1085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Text Box 7"/>
            <p:cNvSpPr/>
            <p:nvPr/>
          </p:nvSpPr>
          <p:spPr>
            <a:xfrm>
              <a:off x="1740960" y="2131920"/>
              <a:ext cx="5938560" cy="10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5960" indent="-345960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.  Erase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- Set all bits to zero, then to 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5960" indent="-345960">
                <a:lnSpc>
                  <a:spcPct val="80000"/>
                </a:lnSpc>
                <a:spcBef>
                  <a:spcPts val="1125"/>
                </a:spcBef>
                <a:buClr>
                  <a:srgbClr val="ffffff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rogram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- Program selected bits with zer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5960" indent="-345960">
                <a:lnSpc>
                  <a:spcPct val="80000"/>
                </a:lnSpc>
                <a:spcBef>
                  <a:spcPts val="1125"/>
                </a:spcBef>
                <a:buClr>
                  <a:srgbClr val="ffffff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erify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- Verify flash conten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Text Box 8"/>
            <p:cNvSpPr/>
            <p:nvPr/>
          </p:nvSpPr>
          <p:spPr>
            <a:xfrm>
              <a:off x="2155320" y="1752480"/>
              <a:ext cx="315396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lgorithm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Func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Flash Programming Utilitie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63080" y="918720"/>
            <a:ext cx="8798040" cy="512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546840" indent="-54684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de Composer Studio Plug-in (uses JTAG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6840" indent="-54684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ird-party JTAG utiliti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61920" indent="-30168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DFlash JTAG from Spectrum Digital (requires SD emulator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61920" indent="-30168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ignum System Flash utilities (requires Signum emulator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61920" indent="-30168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lackHawk Flash utilities (requires Blackhawk emulator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6840" indent="-54684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DFlash Serial utility (uses SCI boot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6840" indent="-54684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ang Programmers (use GPIO boot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61920" indent="-30168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P Micro programmer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61920" indent="-30168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ta I/O programmer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6840" indent="-54684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your own custom utilit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61920" indent="-30168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se a different ROM bootloader method than SCI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61920" indent="-30168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mbed flash programming into your applica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61920" indent="-30168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lash API algorithms provided by TI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690480" y="6264360"/>
            <a:ext cx="657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9b03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I web has links to all utilities (http://www.ti.com/c20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2T08:02:44Z</dcterms:created>
  <dc:creator>Frank Bormann</dc:creator>
  <dc:description/>
  <cp:keywords>14</cp:keywords>
  <dc:language>en-US</dc:language>
  <cp:lastModifiedBy>Windows-Benutzer</cp:lastModifiedBy>
  <dcterms:modified xsi:type="dcterms:W3CDTF">2010-03-24T11:57:43Z</dcterms:modified>
  <cp:revision>125</cp:revision>
  <dc:subject/>
  <dc:title>Module 14 Flash Programming</dc:title>
</cp:coreProperties>
</file>