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BA07-9168-4ED3-9539-F7172798FC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an I8Q24 format.  For this particular system, the variable ranges happen to fall such that the precision of floating-point in that range is pretty much the same as the precision of I8Q24.  Remember that both single-precision floating-point and IQmath are 32-bit m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is no doubt some difference in the floating-point and IQmath computations.  But, those differences are too small to affect the AC induction motor system in this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’ll see next, changing the IQ format can dramatically change th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57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have a lot of time in this section, so quickly point out the web address, and hit home this important location for their next step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m where to get additional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ight the DMC applications area,  the designer notebook pages, and the development tools s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7 - </a:t>
            </a:r>
            <a:fld id="{B7576A94-0448-45AE-AC65-69C0B6E760E3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2060640" y="25560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7: IQ – Math libra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It looks like floating-point!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455920" y="1287360"/>
            <a:ext cx="6400800" cy="91440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loat  Y, M, X, B;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M * X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22200" y="1405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ating-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455920" y="2354400"/>
            <a:ext cx="6400800" cy="91440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ng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 + (i64) B &lt;&lt; Q)) &gt;&gt; Q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2200" y="24462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-Point 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455920" y="3421080"/>
            <a:ext cx="6400800" cy="99072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mpy(M, X)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22200" y="342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Qma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2455920" y="4564080"/>
            <a:ext cx="6400800" cy="99072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q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M * X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22200" y="4564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Qma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24680" y="5931000"/>
            <a:ext cx="42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Qmath” code is easy to rea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simplification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838080" y="4057560"/>
            <a:ext cx="7543800" cy="120276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define  GLOBAL_Q  18    // set in “IQmathLib.h”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mpy(M,X) + B;     // all values are in Q = 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600200" y="1467000"/>
            <a:ext cx="5943600" cy="457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LOBAL_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2819520" y="17715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133640" y="1030320"/>
            <a:ext cx="68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 selects “Global Q” value for the whole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92920" y="1969920"/>
            <a:ext cx="79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the required dynamic range or resolution,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240920" y="5291280"/>
            <a:ext cx="67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ser can also explicitly specify the Q value to u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838080" y="5651640"/>
            <a:ext cx="7543800" cy="7855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20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20mpy(M,X) + B;   // all values are in Q =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10"/>
          <p:cNvGrpSpPr/>
          <p:nvPr/>
        </p:nvGrpSpPr>
        <p:grpSpPr>
          <a:xfrm>
            <a:off x="476280" y="2443320"/>
            <a:ext cx="8204040" cy="1266840"/>
            <a:chOff x="476280" y="2443320"/>
            <a:chExt cx="8204040" cy="1266840"/>
          </a:xfrm>
        </p:grpSpPr>
        <p:sp>
          <p:nvSpPr>
            <p:cNvPr id="285" name="Rectangle 11"/>
            <p:cNvSpPr/>
            <p:nvPr/>
          </p:nvSpPr>
          <p:spPr>
            <a:xfrm>
              <a:off x="476280" y="2799000"/>
              <a:ext cx="8204040" cy="9014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476280" y="2443320"/>
              <a:ext cx="8204040" cy="3506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6667560" y="3103560"/>
              <a:ext cx="196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.000 000 0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4145040" y="3103560"/>
              <a:ext cx="2528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-128.000 000 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1817640" y="3103560"/>
              <a:ext cx="237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127.999 999 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85640" y="3103560"/>
              <a:ext cx="1311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6667560" y="3406680"/>
              <a:ext cx="19666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.000 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4145040" y="3406680"/>
              <a:ext cx="25286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-2048.000 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1817640" y="3406680"/>
              <a:ext cx="23796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047.999 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85640" y="3406680"/>
              <a:ext cx="1311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21"/>
            <p:cNvSpPr/>
            <p:nvPr/>
          </p:nvSpPr>
          <p:spPr>
            <a:xfrm>
              <a:off x="6667560" y="2800440"/>
              <a:ext cx="196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.000 000 00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4145040" y="2800440"/>
              <a:ext cx="2528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-8.000 000 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23"/>
            <p:cNvSpPr/>
            <p:nvPr/>
          </p:nvSpPr>
          <p:spPr>
            <a:xfrm>
              <a:off x="1817640" y="2800440"/>
              <a:ext cx="237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7.999 999 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485640" y="2800440"/>
              <a:ext cx="1311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25"/>
            <p:cNvSpPr/>
            <p:nvPr/>
          </p:nvSpPr>
          <p:spPr>
            <a:xfrm>
              <a:off x="6667560" y="2497320"/>
              <a:ext cx="196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Resolu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4145040" y="2497320"/>
              <a:ext cx="2528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in V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27"/>
            <p:cNvSpPr/>
            <p:nvPr/>
          </p:nvSpPr>
          <p:spPr>
            <a:xfrm>
              <a:off x="1817640" y="2497320"/>
              <a:ext cx="237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ax V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485640" y="2497320"/>
              <a:ext cx="1311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GLOBAL_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>
              <a:off x="476280" y="3081240"/>
              <a:ext cx="820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76280" y="3386160"/>
              <a:ext cx="820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1842840" y="2443320"/>
              <a:ext cx="0" cy="12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32"/>
            <p:cNvSpPr/>
            <p:nvPr/>
          </p:nvSpPr>
          <p:spPr>
            <a:xfrm>
              <a:off x="4179960" y="2443320"/>
              <a:ext cx="0" cy="12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33"/>
            <p:cNvSpPr/>
            <p:nvPr/>
          </p:nvSpPr>
          <p:spPr>
            <a:xfrm>
              <a:off x="6656400" y="2443320"/>
              <a:ext cx="0" cy="12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IQmath Provides Compatibility Between Floating-Point and Fixed-Point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02080" y="5894280"/>
            <a:ext cx="75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“IQmath” operations have an equivalent floating-point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076480" y="169056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2076480" y="1889280"/>
            <a:ext cx="380880" cy="639720"/>
          </a:xfrm>
          <a:prstGeom prst="downArrow">
            <a:avLst>
              <a:gd name="adj1" fmla="val 50000"/>
              <a:gd name="adj2" fmla="val 4199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6343560" y="1889280"/>
            <a:ext cx="381240" cy="639720"/>
          </a:xfrm>
          <a:prstGeom prst="downArrow">
            <a:avLst>
              <a:gd name="adj1" fmla="val 50000"/>
              <a:gd name="adj2" fmla="val 4195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6343560" y="2865600"/>
            <a:ext cx="381240" cy="730080"/>
          </a:xfrm>
          <a:prstGeom prst="downArrow">
            <a:avLst>
              <a:gd name="adj1" fmla="val 50000"/>
              <a:gd name="adj2" fmla="val 47875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6343560" y="3932280"/>
            <a:ext cx="381240" cy="501480"/>
          </a:xfrm>
          <a:prstGeom prst="downArrow">
            <a:avLst>
              <a:gd name="adj1" fmla="val 50000"/>
              <a:gd name="adj2" fmla="val 55362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552600" y="4452840"/>
            <a:ext cx="3429000" cy="121932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&amp;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ixed-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82x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2076480" y="2865600"/>
            <a:ext cx="380880" cy="1568160"/>
          </a:xfrm>
          <a:prstGeom prst="downArrow">
            <a:avLst>
              <a:gd name="adj1" fmla="val 45000"/>
              <a:gd name="adj2" fmla="val 75234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52600" y="1504800"/>
            <a:ext cx="8305560" cy="398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 = _IQmpy(M, X) + 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98400" y="2541600"/>
            <a:ext cx="3140280" cy="3373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if MATH_TYPE == IQ_M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4778280" y="2541600"/>
            <a:ext cx="3508560" cy="3373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if MATH_TYPE == FLOAT_M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4286160" y="3608280"/>
            <a:ext cx="4572000" cy="337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 = (float)M * (float)X + (float)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2662560" y="1182600"/>
            <a:ext cx="357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) Develop any mathematical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651040" y="2235240"/>
            <a:ext cx="3306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) Select math type in IQmathLib.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2663280" y="3287880"/>
            <a:ext cx="357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) Compiler automatically converts 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7373880" y="4051440"/>
            <a:ext cx="147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oating-Point Math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147600" y="4051440"/>
            <a:ext cx="129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-Point Math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Oval 20"/>
          <p:cNvSpPr/>
          <p:nvPr/>
        </p:nvSpPr>
        <p:spPr>
          <a:xfrm>
            <a:off x="4821120" y="4448160"/>
            <a:ext cx="3429000" cy="121932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&amp;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loating-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83xx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440" y="6483240"/>
            <a:ext cx="916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Can also compile floating-point code on any floating-point compiler (e.g., PC, Matlab, fixed-point w/ RTS lib, etc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Library: Math &amp; Trig Function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551600" y="644832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uracy of functions/operations approx ~28 to ~31 b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195120" y="838080"/>
            <a:ext cx="8783640" cy="5550120"/>
            <a:chOff x="195120" y="838080"/>
            <a:chExt cx="8783640" cy="5550120"/>
          </a:xfrm>
        </p:grpSpPr>
        <p:sp>
          <p:nvSpPr>
            <p:cNvPr id="331" name="Rectangle 5"/>
            <p:cNvSpPr/>
            <p:nvPr/>
          </p:nvSpPr>
          <p:spPr>
            <a:xfrm>
              <a:off x="225360" y="1181160"/>
              <a:ext cx="8680680" cy="52070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225360" y="838080"/>
              <a:ext cx="8680680" cy="338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6388200" y="3340080"/>
              <a:ext cx="25905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in(A),IQ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inPU(A),IQcosPU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asin(A),IQa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atan(A),IQatan2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atan2PU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qrt(A),IQisqrt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mag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exp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3759120" y="3340080"/>
              <a:ext cx="2789280" cy="18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in(A), _IQ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inPU(A), _IQcosPU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asin(A),_IQa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atan(A), _IQatan2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atan2PU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qrt(A), _IQisqrt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mag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exp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Rectangle 9"/>
            <p:cNvSpPr/>
            <p:nvPr/>
          </p:nvSpPr>
          <p:spPr>
            <a:xfrm>
              <a:off x="1581120" y="3340080"/>
              <a:ext cx="22096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n(A),cos(A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n(A*2pi),cos(A*2pi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sin(A),a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tan(A),atan2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tan2(A,B)/2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qrt(A),1/sqrt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qrt(A*A + B*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xp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10"/>
            <p:cNvSpPr/>
            <p:nvPr/>
          </p:nvSpPr>
          <p:spPr>
            <a:xfrm>
              <a:off x="262080" y="3340080"/>
              <a:ext cx="117936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i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w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6578640" y="5767560"/>
              <a:ext cx="22096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at(A,Pos,Neg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933720" y="5754600"/>
              <a:ext cx="2438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at(A,Pos,Neg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1581120" y="5754600"/>
              <a:ext cx="2209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f(A &gt; Pos) A = P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f(A &lt; Neg) A = Ne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255600" y="5754600"/>
              <a:ext cx="11923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atu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7042320" y="2693880"/>
              <a:ext cx="1282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–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4471920" y="2693880"/>
              <a:ext cx="13622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-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Rectangle 17"/>
            <p:cNvSpPr/>
            <p:nvPr/>
          </p:nvSpPr>
          <p:spPr>
            <a:xfrm>
              <a:off x="2063880" y="2693880"/>
              <a:ext cx="1244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-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Rectangle 18"/>
            <p:cNvSpPr/>
            <p:nvPr/>
          </p:nvSpPr>
          <p:spPr>
            <a:xfrm>
              <a:off x="281160" y="2693880"/>
              <a:ext cx="11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bstr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Rectangle 19"/>
            <p:cNvSpPr/>
            <p:nvPr/>
          </p:nvSpPr>
          <p:spPr>
            <a:xfrm>
              <a:off x="6578640" y="3036960"/>
              <a:ext cx="2209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, &gt;=, &lt;, &lt;=, ==, |=, &amp;&amp;, ||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20"/>
            <p:cNvSpPr/>
            <p:nvPr/>
          </p:nvSpPr>
          <p:spPr>
            <a:xfrm>
              <a:off x="4027320" y="3036960"/>
              <a:ext cx="225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, &gt;=, &lt;, &lt;=, ==, |=, &amp;&amp;, ||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Rectangle 21"/>
            <p:cNvSpPr/>
            <p:nvPr/>
          </p:nvSpPr>
          <p:spPr>
            <a:xfrm>
              <a:off x="1581120" y="3036960"/>
              <a:ext cx="2209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, &gt;=, &lt;, &lt;=, ==, |=, &amp;&amp;, ||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Rectangle 22"/>
            <p:cNvSpPr/>
            <p:nvPr/>
          </p:nvSpPr>
          <p:spPr>
            <a:xfrm>
              <a:off x="318960" y="303696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ole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Rectangle 23"/>
            <p:cNvSpPr/>
            <p:nvPr/>
          </p:nvSpPr>
          <p:spPr>
            <a:xfrm>
              <a:off x="6948360" y="2390760"/>
              <a:ext cx="1470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Rectangle 24"/>
            <p:cNvSpPr/>
            <p:nvPr/>
          </p:nvSpPr>
          <p:spPr>
            <a:xfrm>
              <a:off x="4491000" y="2390760"/>
              <a:ext cx="1324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Rectangle 25"/>
            <p:cNvSpPr/>
            <p:nvPr/>
          </p:nvSpPr>
          <p:spPr>
            <a:xfrm>
              <a:off x="2151000" y="2390760"/>
              <a:ext cx="1069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318960" y="239076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6885000" y="2087640"/>
              <a:ext cx="1595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/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Rectangle 28"/>
            <p:cNvSpPr/>
            <p:nvPr/>
          </p:nvSpPr>
          <p:spPr>
            <a:xfrm>
              <a:off x="4229280" y="2087640"/>
              <a:ext cx="184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div (A , 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2093760" y="2087640"/>
              <a:ext cx="1182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/ B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318960" y="208764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Rectangle 31"/>
            <p:cNvSpPr/>
            <p:nvPr/>
          </p:nvSpPr>
          <p:spPr>
            <a:xfrm>
              <a:off x="6854760" y="1784520"/>
              <a:ext cx="1657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*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Rectangle 32"/>
            <p:cNvSpPr/>
            <p:nvPr/>
          </p:nvSpPr>
          <p:spPr>
            <a:xfrm>
              <a:off x="4216320" y="1784520"/>
              <a:ext cx="1874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mpy(A , 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33"/>
            <p:cNvSpPr/>
            <p:nvPr/>
          </p:nvSpPr>
          <p:spPr>
            <a:xfrm>
              <a:off x="2095560" y="1784520"/>
              <a:ext cx="1181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*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318960" y="178452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ultipl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Rectangle 35"/>
            <p:cNvSpPr/>
            <p:nvPr/>
          </p:nvSpPr>
          <p:spPr>
            <a:xfrm>
              <a:off x="6842160" y="1481040"/>
              <a:ext cx="16826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= IQ(1.234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Rectangle 36"/>
            <p:cNvSpPr/>
            <p:nvPr/>
          </p:nvSpPr>
          <p:spPr>
            <a:xfrm>
              <a:off x="4272120" y="1481040"/>
              <a:ext cx="1761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= _IQ(1.234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37"/>
            <p:cNvSpPr/>
            <p:nvPr/>
          </p:nvSpPr>
          <p:spPr>
            <a:xfrm>
              <a:off x="1881360" y="1481040"/>
              <a:ext cx="1609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= 1.234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Rectangle 38"/>
            <p:cNvSpPr/>
            <p:nvPr/>
          </p:nvSpPr>
          <p:spPr>
            <a:xfrm>
              <a:off x="318960" y="1481040"/>
              <a:ext cx="10670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7061040" y="1177920"/>
              <a:ext cx="1244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 A, B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40"/>
            <p:cNvSpPr/>
            <p:nvPr/>
          </p:nvSpPr>
          <p:spPr>
            <a:xfrm>
              <a:off x="4459320" y="1177920"/>
              <a:ext cx="1387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 A, B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836720" y="1177920"/>
              <a:ext cx="169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at A, B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318960" y="117792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Rectangle 43"/>
            <p:cNvSpPr/>
            <p:nvPr/>
          </p:nvSpPr>
          <p:spPr>
            <a:xfrm>
              <a:off x="6667560" y="874800"/>
              <a:ext cx="1996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Qmath” in C+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Rectangle 44"/>
            <p:cNvSpPr/>
            <p:nvPr/>
          </p:nvSpPr>
          <p:spPr>
            <a:xfrm>
              <a:off x="4183200" y="874800"/>
              <a:ext cx="1949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Qmath” in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Rectangle 45"/>
            <p:cNvSpPr/>
            <p:nvPr/>
          </p:nvSpPr>
          <p:spPr>
            <a:xfrm>
              <a:off x="1790640" y="874800"/>
              <a:ext cx="1895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oating-Poi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Rectangle 46"/>
            <p:cNvSpPr/>
            <p:nvPr/>
          </p:nvSpPr>
          <p:spPr>
            <a:xfrm>
              <a:off x="195120" y="874800"/>
              <a:ext cx="1366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228600" y="146700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8"/>
            <p:cNvSpPr/>
            <p:nvPr/>
          </p:nvSpPr>
          <p:spPr>
            <a:xfrm>
              <a:off x="228600" y="17812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228600" y="20764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0"/>
            <p:cNvSpPr/>
            <p:nvPr/>
          </p:nvSpPr>
          <p:spPr>
            <a:xfrm>
              <a:off x="228600" y="23716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51"/>
            <p:cNvSpPr/>
            <p:nvPr/>
          </p:nvSpPr>
          <p:spPr>
            <a:xfrm>
              <a:off x="228600" y="267660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Line 52"/>
            <p:cNvSpPr/>
            <p:nvPr/>
          </p:nvSpPr>
          <p:spPr>
            <a:xfrm>
              <a:off x="228600" y="298116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53"/>
            <p:cNvSpPr/>
            <p:nvPr/>
          </p:nvSpPr>
          <p:spPr>
            <a:xfrm>
              <a:off x="228600" y="33148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4"/>
            <p:cNvSpPr/>
            <p:nvPr/>
          </p:nvSpPr>
          <p:spPr>
            <a:xfrm>
              <a:off x="228600" y="570564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5"/>
            <p:cNvSpPr/>
            <p:nvPr/>
          </p:nvSpPr>
          <p:spPr>
            <a:xfrm>
              <a:off x="1552680" y="838080"/>
              <a:ext cx="0" cy="555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56"/>
            <p:cNvSpPr/>
            <p:nvPr/>
          </p:nvSpPr>
          <p:spPr>
            <a:xfrm>
              <a:off x="3813120" y="838080"/>
              <a:ext cx="0" cy="555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7"/>
            <p:cNvSpPr/>
            <p:nvPr/>
          </p:nvSpPr>
          <p:spPr>
            <a:xfrm>
              <a:off x="6492960" y="838080"/>
              <a:ext cx="0" cy="555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Library: Conversion Function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800360" y="5624640"/>
            <a:ext cx="58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Qmath.li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contains library of math function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QmathLib.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C header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QmathCPP.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C++ header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87360" y="1598760"/>
            <a:ext cx="8393040" cy="37274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87360" y="1255680"/>
            <a:ext cx="8393040" cy="351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680160" y="43862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oIQ(ch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519440" y="43862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atoIQ(ch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2181240" y="43862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of(ch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536400" y="43862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ing to 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6680160" y="40766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519440" y="40766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2181240" y="40766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536400" y="40766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6680160" y="37670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4519440" y="37670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2181240" y="37670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536400" y="37670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N to 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6680160" y="3154320"/>
            <a:ext cx="19810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pyI32int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4519440" y="3154320"/>
            <a:ext cx="20574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mpyI32int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2181240" y="3154320"/>
            <a:ext cx="2281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ong) (A * (float)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360360" y="3154320"/>
            <a:ext cx="1803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er(iq*lo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6680160" y="3479760"/>
            <a:ext cx="19810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pyI32frac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4457880" y="3479760"/>
            <a:ext cx="21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mpyI32frac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2100240" y="3479760"/>
            <a:ext cx="244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- (long) (A * (float)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330120" y="3479760"/>
            <a:ext cx="18655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ction(iq*lo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6680160" y="46958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F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27"/>
          <p:cNvSpPr/>
          <p:nvPr/>
        </p:nvSpPr>
        <p:spPr>
          <a:xfrm>
            <a:off x="4519440" y="46958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F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2181240" y="46958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29"/>
          <p:cNvSpPr/>
          <p:nvPr/>
        </p:nvSpPr>
        <p:spPr>
          <a:xfrm>
            <a:off x="536400" y="46958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flo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680160" y="28447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pyI32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4519440" y="284472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mpyI32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2"/>
          <p:cNvSpPr/>
          <p:nvPr/>
        </p:nvSpPr>
        <p:spPr>
          <a:xfrm>
            <a:off x="2181240" y="284472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* (float) 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33"/>
          <p:cNvSpPr/>
          <p:nvPr/>
        </p:nvSpPr>
        <p:spPr>
          <a:xfrm>
            <a:off x="536400" y="284472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= iq*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34"/>
          <p:cNvSpPr/>
          <p:nvPr/>
        </p:nvSpPr>
        <p:spPr>
          <a:xfrm>
            <a:off x="6680160" y="25351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frac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35"/>
          <p:cNvSpPr/>
          <p:nvPr/>
        </p:nvSpPr>
        <p:spPr>
          <a:xfrm>
            <a:off x="4519440" y="253512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frac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36"/>
          <p:cNvSpPr/>
          <p:nvPr/>
        </p:nvSpPr>
        <p:spPr>
          <a:xfrm>
            <a:off x="2181240" y="253512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– (long)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37"/>
          <p:cNvSpPr/>
          <p:nvPr/>
        </p:nvSpPr>
        <p:spPr>
          <a:xfrm>
            <a:off x="536400" y="253512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ction(iq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38"/>
          <p:cNvSpPr/>
          <p:nvPr/>
        </p:nvSpPr>
        <p:spPr>
          <a:xfrm>
            <a:off x="6680160" y="22255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int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39"/>
          <p:cNvSpPr/>
          <p:nvPr/>
        </p:nvSpPr>
        <p:spPr>
          <a:xfrm>
            <a:off x="4519440" y="222552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int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0"/>
          <p:cNvSpPr/>
          <p:nvPr/>
        </p:nvSpPr>
        <p:spPr>
          <a:xfrm>
            <a:off x="2181240" y="222552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ong)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1"/>
          <p:cNvSpPr/>
          <p:nvPr/>
        </p:nvSpPr>
        <p:spPr>
          <a:xfrm>
            <a:off x="536400" y="222552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er(iq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42"/>
          <p:cNvSpPr/>
          <p:nvPr/>
        </p:nvSpPr>
        <p:spPr>
          <a:xfrm>
            <a:off x="6680160" y="1916280"/>
            <a:ext cx="19810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43"/>
          <p:cNvSpPr/>
          <p:nvPr/>
        </p:nvSpPr>
        <p:spPr>
          <a:xfrm>
            <a:off x="4519440" y="1916280"/>
            <a:ext cx="205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44"/>
          <p:cNvSpPr/>
          <p:nvPr/>
        </p:nvSpPr>
        <p:spPr>
          <a:xfrm>
            <a:off x="2181240" y="1916280"/>
            <a:ext cx="2281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45"/>
          <p:cNvSpPr/>
          <p:nvPr/>
        </p:nvSpPr>
        <p:spPr>
          <a:xfrm>
            <a:off x="536400" y="1916280"/>
            <a:ext cx="14526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N to 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46"/>
          <p:cNvSpPr/>
          <p:nvPr/>
        </p:nvSpPr>
        <p:spPr>
          <a:xfrm>
            <a:off x="6680160" y="160668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I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47"/>
          <p:cNvSpPr/>
          <p:nvPr/>
        </p:nvSpPr>
        <p:spPr>
          <a:xfrm>
            <a:off x="4519440" y="160668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I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48"/>
          <p:cNvSpPr/>
          <p:nvPr/>
        </p:nvSpPr>
        <p:spPr>
          <a:xfrm>
            <a:off x="2181240" y="160668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49"/>
          <p:cNvSpPr/>
          <p:nvPr/>
        </p:nvSpPr>
        <p:spPr>
          <a:xfrm>
            <a:off x="536400" y="160668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i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50"/>
          <p:cNvSpPr/>
          <p:nvPr/>
        </p:nvSpPr>
        <p:spPr>
          <a:xfrm>
            <a:off x="6680160" y="129708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Qmath” in C+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51"/>
          <p:cNvSpPr/>
          <p:nvPr/>
        </p:nvSpPr>
        <p:spPr>
          <a:xfrm>
            <a:off x="4572000" y="1297080"/>
            <a:ext cx="1906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Qmath” in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52"/>
          <p:cNvSpPr/>
          <p:nvPr/>
        </p:nvSpPr>
        <p:spPr>
          <a:xfrm>
            <a:off x="2338560" y="1297080"/>
            <a:ext cx="1944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ating-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53"/>
          <p:cNvSpPr/>
          <p:nvPr/>
        </p:nvSpPr>
        <p:spPr>
          <a:xfrm>
            <a:off x="571680" y="1297080"/>
            <a:ext cx="14522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54"/>
          <p:cNvSpPr/>
          <p:nvPr/>
        </p:nvSpPr>
        <p:spPr>
          <a:xfrm>
            <a:off x="387360" y="189540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55"/>
          <p:cNvSpPr/>
          <p:nvPr/>
        </p:nvSpPr>
        <p:spPr>
          <a:xfrm>
            <a:off x="399960" y="222552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56"/>
          <p:cNvSpPr/>
          <p:nvPr/>
        </p:nvSpPr>
        <p:spPr>
          <a:xfrm>
            <a:off x="387360" y="251784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57"/>
          <p:cNvSpPr/>
          <p:nvPr/>
        </p:nvSpPr>
        <p:spPr>
          <a:xfrm>
            <a:off x="387360" y="283536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58"/>
          <p:cNvSpPr/>
          <p:nvPr/>
        </p:nvSpPr>
        <p:spPr>
          <a:xfrm>
            <a:off x="387360" y="315288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59"/>
          <p:cNvSpPr/>
          <p:nvPr/>
        </p:nvSpPr>
        <p:spPr>
          <a:xfrm>
            <a:off x="387360" y="344484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60"/>
          <p:cNvSpPr/>
          <p:nvPr/>
        </p:nvSpPr>
        <p:spPr>
          <a:xfrm>
            <a:off x="387360" y="377496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61"/>
          <p:cNvSpPr/>
          <p:nvPr/>
        </p:nvSpPr>
        <p:spPr>
          <a:xfrm>
            <a:off x="387360" y="406728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62"/>
          <p:cNvSpPr/>
          <p:nvPr/>
        </p:nvSpPr>
        <p:spPr>
          <a:xfrm>
            <a:off x="387360" y="437184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63"/>
          <p:cNvSpPr/>
          <p:nvPr/>
        </p:nvSpPr>
        <p:spPr>
          <a:xfrm>
            <a:off x="387360" y="467676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64"/>
          <p:cNvSpPr/>
          <p:nvPr/>
        </p:nvSpPr>
        <p:spPr>
          <a:xfrm>
            <a:off x="2128680" y="1255680"/>
            <a:ext cx="0" cy="407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65"/>
          <p:cNvSpPr/>
          <p:nvPr/>
        </p:nvSpPr>
        <p:spPr>
          <a:xfrm>
            <a:off x="4491000" y="1255680"/>
            <a:ext cx="0" cy="407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66"/>
          <p:cNvSpPr/>
          <p:nvPr/>
        </p:nvSpPr>
        <p:spPr>
          <a:xfrm>
            <a:off x="6624720" y="1255680"/>
            <a:ext cx="0" cy="407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67"/>
          <p:cNvSpPr/>
          <p:nvPr/>
        </p:nvSpPr>
        <p:spPr>
          <a:xfrm>
            <a:off x="388800" y="5022720"/>
            <a:ext cx="839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68"/>
          <p:cNvSpPr/>
          <p:nvPr/>
        </p:nvSpPr>
        <p:spPr>
          <a:xfrm>
            <a:off x="6680160" y="5046840"/>
            <a:ext cx="19810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A(A,B,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69"/>
          <p:cNvSpPr/>
          <p:nvPr/>
        </p:nvSpPr>
        <p:spPr>
          <a:xfrm>
            <a:off x="4519440" y="5046840"/>
            <a:ext cx="205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A(A,B,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70"/>
          <p:cNvSpPr/>
          <p:nvPr/>
        </p:nvSpPr>
        <p:spPr>
          <a:xfrm>
            <a:off x="2181240" y="5046840"/>
            <a:ext cx="2281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rintf(A,B,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1"/>
          <p:cNvSpPr/>
          <p:nvPr/>
        </p:nvSpPr>
        <p:spPr>
          <a:xfrm>
            <a:off x="536400" y="5046840"/>
            <a:ext cx="14526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ASC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One of the more complex motor control algorithms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455" name="Picture 3" descr="ACI3_4_Simulated_System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47718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5978520"/>
            <a:ext cx="868680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sorless, ACI induction machine direct rotor flux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: motor speed estimation &amp; alpha-axis stator current esti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520560" y="1454040"/>
            <a:ext cx="8229600" cy="4599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Park Transform – floating-point C cod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666720" y="1589040"/>
            <a:ext cx="80010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</a:t>
            </a:r>
            <a:r>
              <a:rPr b="1" lang="en-US" sz="1600" spc="-1" strike="noStrike">
                <a:solidFill>
                  <a:srgbClr val="6039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ath.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define  TWO_PI   6.283185307179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park_calc(PARK *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cos_ang , sin_an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in_ang = sin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os_ang = cos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e = (v-&gt;ds * cos_ang) + (v-&gt;q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e = (v-&gt;qs * cos_ang) - (v-&gt;d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520560" y="1454040"/>
            <a:ext cx="8229600" cy="4599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Park Transform - converting to “IQmath” C cod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66720" y="1589040"/>
            <a:ext cx="80010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</a:t>
            </a:r>
            <a:r>
              <a:rPr b="1" lang="en-US" sz="1600" spc="-1" strike="noStrike">
                <a:solidFill>
                  <a:srgbClr val="6039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ath.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define  TWO_PI   6.283185307179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park_calc(PARK *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cos_ang , sin_an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in_ang = sin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os_ang = cos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e = (v-&gt;ds * cos_ang) + (v-&gt;q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e = (v-&gt;qs * cos_ang) - (v-&gt;d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719280" y="1976400"/>
            <a:ext cx="3047760" cy="328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</a:rPr>
              <a:t>#include  “IQmathLib.h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2800440" y="2306520"/>
            <a:ext cx="297180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6.28318530717959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276200" y="3402000"/>
            <a:ext cx="76212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495520" y="3738600"/>
            <a:ext cx="548640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sin(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WO_PI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v-&gt;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495520" y="4075200"/>
            <a:ext cx="525780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cos(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WO_PI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v-&gt;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2252520" y="4761000"/>
            <a:ext cx="627732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os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+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sin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2243160" y="5122800"/>
            <a:ext cx="632448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os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-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sin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= 24, system stabl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471" name="Group 3"/>
          <p:cNvGrpSpPr/>
          <p:nvPr/>
        </p:nvGrpSpPr>
        <p:grpSpPr>
          <a:xfrm>
            <a:off x="488880" y="1071720"/>
            <a:ext cx="8218440" cy="5202000"/>
            <a:chOff x="488880" y="1071720"/>
            <a:chExt cx="8218440" cy="5202000"/>
          </a:xfrm>
        </p:grpSpPr>
        <p:pic>
          <p:nvPicPr>
            <p:cNvPr id="472" name="Picture 4" descr=""/>
            <p:cNvPicPr/>
            <p:nvPr/>
          </p:nvPicPr>
          <p:blipFill>
            <a:blip r:embed="rId1"/>
            <a:stretch/>
          </p:blipFill>
          <p:spPr>
            <a:xfrm>
              <a:off x="488880" y="1071720"/>
              <a:ext cx="8218440" cy="52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5"/>
            <p:cNvSpPr/>
            <p:nvPr/>
          </p:nvSpPr>
          <p:spPr>
            <a:xfrm>
              <a:off x="1846440" y="337824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spee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 Box 6"/>
            <p:cNvSpPr/>
            <p:nvPr/>
          </p:nvSpPr>
          <p:spPr>
            <a:xfrm>
              <a:off x="5770440" y="339084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7"/>
            <p:cNvSpPr/>
            <p:nvPr/>
          </p:nvSpPr>
          <p:spPr>
            <a:xfrm>
              <a:off x="1586160" y="5629320"/>
              <a:ext cx="23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ating-Point: spee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8"/>
            <p:cNvSpPr/>
            <p:nvPr/>
          </p:nvSpPr>
          <p:spPr>
            <a:xfrm>
              <a:off x="5565600" y="5611680"/>
              <a:ext cx="24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ating-Point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367920" y="3049560"/>
            <a:ext cx="8145720" cy="1438200"/>
            <a:chOff x="367920" y="3049560"/>
            <a:chExt cx="8145720" cy="1438200"/>
          </a:xfrm>
        </p:grpSpPr>
        <p:grpSp>
          <p:nvGrpSpPr>
            <p:cNvPr id="478" name="Group 3"/>
            <p:cNvGrpSpPr/>
            <p:nvPr/>
          </p:nvGrpSpPr>
          <p:grpSpPr>
            <a:xfrm>
              <a:off x="367920" y="3049560"/>
              <a:ext cx="8145720" cy="1438200"/>
              <a:chOff x="367920" y="3049560"/>
              <a:chExt cx="8145720" cy="1438200"/>
            </a:xfrm>
          </p:grpSpPr>
          <p:sp>
            <p:nvSpPr>
              <p:cNvPr id="479" name="Rectangle 4"/>
              <p:cNvSpPr/>
              <p:nvPr/>
            </p:nvSpPr>
            <p:spPr>
              <a:xfrm>
                <a:off x="476280" y="3473280"/>
                <a:ext cx="8037360" cy="101448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Text Box 5"/>
              <p:cNvSpPr/>
              <p:nvPr/>
            </p:nvSpPr>
            <p:spPr>
              <a:xfrm>
                <a:off x="367920" y="3049560"/>
                <a:ext cx="217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8Q24 Fractions: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Line 6"/>
            <p:cNvSpPr/>
            <p:nvPr/>
          </p:nvSpPr>
          <p:spPr>
            <a:xfrm>
              <a:off x="896760" y="3859200"/>
              <a:ext cx="737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"/>
            <p:cNvSpPr/>
            <p:nvPr/>
          </p:nvSpPr>
          <p:spPr>
            <a:xfrm>
              <a:off x="457200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8"/>
            <p:cNvSpPr/>
            <p:nvPr/>
          </p:nvSpPr>
          <p:spPr>
            <a:xfrm>
              <a:off x="4422600" y="404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614520" y="402120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10"/>
            <p:cNvSpPr/>
            <p:nvPr/>
          </p:nvSpPr>
          <p:spPr>
            <a:xfrm>
              <a:off x="7985520" y="403236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47242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12"/>
            <p:cNvSpPr/>
            <p:nvPr/>
          </p:nvSpPr>
          <p:spPr>
            <a:xfrm>
              <a:off x="48751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13"/>
            <p:cNvSpPr/>
            <p:nvPr/>
          </p:nvSpPr>
          <p:spPr>
            <a:xfrm>
              <a:off x="51786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14"/>
            <p:cNvSpPr/>
            <p:nvPr/>
          </p:nvSpPr>
          <p:spPr>
            <a:xfrm>
              <a:off x="50277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15"/>
            <p:cNvSpPr/>
            <p:nvPr/>
          </p:nvSpPr>
          <p:spPr>
            <a:xfrm>
              <a:off x="5330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548316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17"/>
            <p:cNvSpPr/>
            <p:nvPr/>
          </p:nvSpPr>
          <p:spPr>
            <a:xfrm>
              <a:off x="56358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18"/>
            <p:cNvSpPr/>
            <p:nvPr/>
          </p:nvSpPr>
          <p:spPr>
            <a:xfrm>
              <a:off x="57862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19"/>
            <p:cNvSpPr/>
            <p:nvPr/>
          </p:nvSpPr>
          <p:spPr>
            <a:xfrm>
              <a:off x="60897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20"/>
            <p:cNvSpPr/>
            <p:nvPr/>
          </p:nvSpPr>
          <p:spPr>
            <a:xfrm>
              <a:off x="59389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1"/>
            <p:cNvSpPr/>
            <p:nvPr/>
          </p:nvSpPr>
          <p:spPr>
            <a:xfrm>
              <a:off x="62420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22"/>
            <p:cNvSpPr/>
            <p:nvPr/>
          </p:nvSpPr>
          <p:spPr>
            <a:xfrm>
              <a:off x="639288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23"/>
            <p:cNvSpPr/>
            <p:nvPr/>
          </p:nvSpPr>
          <p:spPr>
            <a:xfrm>
              <a:off x="65451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24"/>
            <p:cNvSpPr/>
            <p:nvPr/>
          </p:nvSpPr>
          <p:spPr>
            <a:xfrm>
              <a:off x="66960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25"/>
            <p:cNvSpPr/>
            <p:nvPr/>
          </p:nvSpPr>
          <p:spPr>
            <a:xfrm>
              <a:off x="69991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26"/>
            <p:cNvSpPr/>
            <p:nvPr/>
          </p:nvSpPr>
          <p:spPr>
            <a:xfrm>
              <a:off x="68486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>
              <a:off x="71517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28"/>
            <p:cNvSpPr/>
            <p:nvPr/>
          </p:nvSpPr>
          <p:spPr>
            <a:xfrm>
              <a:off x="199224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2144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30"/>
            <p:cNvSpPr/>
            <p:nvPr/>
          </p:nvSpPr>
          <p:spPr>
            <a:xfrm>
              <a:off x="22953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31"/>
            <p:cNvSpPr/>
            <p:nvPr/>
          </p:nvSpPr>
          <p:spPr>
            <a:xfrm>
              <a:off x="25988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32"/>
            <p:cNvSpPr/>
            <p:nvPr/>
          </p:nvSpPr>
          <p:spPr>
            <a:xfrm>
              <a:off x="24480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33"/>
            <p:cNvSpPr/>
            <p:nvPr/>
          </p:nvSpPr>
          <p:spPr>
            <a:xfrm>
              <a:off x="27511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34"/>
            <p:cNvSpPr/>
            <p:nvPr/>
          </p:nvSpPr>
          <p:spPr>
            <a:xfrm>
              <a:off x="290340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35"/>
            <p:cNvSpPr/>
            <p:nvPr/>
          </p:nvSpPr>
          <p:spPr>
            <a:xfrm>
              <a:off x="30560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36"/>
            <p:cNvSpPr/>
            <p:nvPr/>
          </p:nvSpPr>
          <p:spPr>
            <a:xfrm>
              <a:off x="3206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37"/>
            <p:cNvSpPr/>
            <p:nvPr/>
          </p:nvSpPr>
          <p:spPr>
            <a:xfrm>
              <a:off x="35100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38"/>
            <p:cNvSpPr/>
            <p:nvPr/>
          </p:nvSpPr>
          <p:spPr>
            <a:xfrm>
              <a:off x="33591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6622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>
              <a:off x="381312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>
              <a:off x="39654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>
              <a:off x="41162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>
              <a:off x="44197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>
              <a:off x="4268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What’s Happening Here?</a:t>
            </a:r>
            <a:br>
              <a:rPr sz="3200"/>
            </a:br>
            <a:r>
              <a:rPr b="1" lang="en-US" sz="2600" spc="-1" strike="noStrike">
                <a:solidFill>
                  <a:srgbClr val="fe9b03"/>
                </a:solidFill>
                <a:latin typeface="Arial"/>
              </a:rPr>
              <a:t>Equal Precision in the Computation Region</a:t>
            </a:r>
            <a:endParaRPr b="1" lang="en-US" sz="2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21" name="Text Box 46"/>
          <p:cNvSpPr/>
          <p:nvPr/>
        </p:nvSpPr>
        <p:spPr>
          <a:xfrm>
            <a:off x="457200" y="4745160"/>
            <a:ext cx="801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region where these particular computations occur, the precision of single-precision floating-point just happens to equal the precision of the I8Q24 forma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, both produce similar result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Group 47"/>
          <p:cNvGrpSpPr/>
          <p:nvPr/>
        </p:nvGrpSpPr>
        <p:grpSpPr>
          <a:xfrm>
            <a:off x="363240" y="1201680"/>
            <a:ext cx="8141040" cy="1425600"/>
            <a:chOff x="363240" y="1201680"/>
            <a:chExt cx="8141040" cy="1425600"/>
          </a:xfrm>
        </p:grpSpPr>
        <p:sp>
          <p:nvSpPr>
            <p:cNvPr id="523" name="Text Box 48"/>
            <p:cNvSpPr/>
            <p:nvPr/>
          </p:nvSpPr>
          <p:spPr>
            <a:xfrm>
              <a:off x="363240" y="120168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loating-Point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4" name="Group 49"/>
            <p:cNvGrpSpPr/>
            <p:nvPr/>
          </p:nvGrpSpPr>
          <p:grpSpPr>
            <a:xfrm>
              <a:off x="466560" y="1612800"/>
              <a:ext cx="8037720" cy="1014480"/>
              <a:chOff x="466560" y="1612800"/>
              <a:chExt cx="8037720" cy="1014480"/>
            </a:xfrm>
          </p:grpSpPr>
          <p:sp>
            <p:nvSpPr>
              <p:cNvPr id="525" name="Rectangle 50"/>
              <p:cNvSpPr/>
              <p:nvPr/>
            </p:nvSpPr>
            <p:spPr>
              <a:xfrm>
                <a:off x="466560" y="1612800"/>
                <a:ext cx="8037720" cy="101448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Line 51"/>
              <p:cNvSpPr/>
              <p:nvPr/>
            </p:nvSpPr>
            <p:spPr>
              <a:xfrm>
                <a:off x="4586400" y="187632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Text Box 52"/>
              <p:cNvSpPr/>
              <p:nvPr/>
            </p:nvSpPr>
            <p:spPr>
              <a:xfrm>
                <a:off x="4425840" y="2192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Line 53"/>
              <p:cNvSpPr/>
              <p:nvPr/>
            </p:nvSpPr>
            <p:spPr>
              <a:xfrm>
                <a:off x="8215200" y="186840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Line 54"/>
              <p:cNvSpPr/>
              <p:nvPr/>
            </p:nvSpPr>
            <p:spPr>
              <a:xfrm>
                <a:off x="89532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Text Box 55"/>
              <p:cNvSpPr/>
              <p:nvPr/>
            </p:nvSpPr>
            <p:spPr>
              <a:xfrm>
                <a:off x="617760" y="2173320"/>
                <a:ext cx="52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56"/>
              <p:cNvSpPr/>
              <p:nvPr/>
            </p:nvSpPr>
            <p:spPr>
              <a:xfrm>
                <a:off x="7982280" y="2184480"/>
                <a:ext cx="45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Line 57"/>
              <p:cNvSpPr/>
              <p:nvPr/>
            </p:nvSpPr>
            <p:spPr>
              <a:xfrm>
                <a:off x="48229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Line 58"/>
              <p:cNvSpPr/>
              <p:nvPr/>
            </p:nvSpPr>
            <p:spPr>
              <a:xfrm>
                <a:off x="47768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Line 59"/>
              <p:cNvSpPr/>
              <p:nvPr/>
            </p:nvSpPr>
            <p:spPr>
              <a:xfrm>
                <a:off x="47293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Line 60"/>
              <p:cNvSpPr/>
              <p:nvPr/>
            </p:nvSpPr>
            <p:spPr>
              <a:xfrm>
                <a:off x="46814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Line 61"/>
              <p:cNvSpPr/>
              <p:nvPr/>
            </p:nvSpPr>
            <p:spPr>
              <a:xfrm>
                <a:off x="46324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Line 62"/>
              <p:cNvSpPr/>
              <p:nvPr/>
            </p:nvSpPr>
            <p:spPr>
              <a:xfrm>
                <a:off x="56530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>
                <a:off x="43513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Line 64"/>
              <p:cNvSpPr/>
              <p:nvPr/>
            </p:nvSpPr>
            <p:spPr>
              <a:xfrm>
                <a:off x="45385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Line 65"/>
              <p:cNvSpPr/>
              <p:nvPr/>
            </p:nvSpPr>
            <p:spPr>
              <a:xfrm>
                <a:off x="449100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>
                <a:off x="44434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Line 67"/>
              <p:cNvSpPr/>
              <p:nvPr/>
            </p:nvSpPr>
            <p:spPr>
              <a:xfrm>
                <a:off x="439416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Line 68"/>
              <p:cNvSpPr/>
              <p:nvPr/>
            </p:nvSpPr>
            <p:spPr>
              <a:xfrm>
                <a:off x="3424320" y="186840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Line 69"/>
              <p:cNvSpPr/>
              <p:nvPr/>
            </p:nvSpPr>
            <p:spPr>
              <a:xfrm>
                <a:off x="3309840" y="186840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Line 70"/>
              <p:cNvSpPr/>
              <p:nvPr/>
            </p:nvSpPr>
            <p:spPr>
              <a:xfrm>
                <a:off x="7310520" y="186516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Line 71"/>
              <p:cNvSpPr/>
              <p:nvPr/>
            </p:nvSpPr>
            <p:spPr>
              <a:xfrm>
                <a:off x="69580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Line 72"/>
              <p:cNvSpPr/>
              <p:nvPr/>
            </p:nvSpPr>
            <p:spPr>
              <a:xfrm>
                <a:off x="2128680" y="18622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Line 73"/>
              <p:cNvSpPr/>
              <p:nvPr/>
            </p:nvSpPr>
            <p:spPr>
              <a:xfrm>
                <a:off x="1757520" y="18622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Line 74"/>
              <p:cNvSpPr/>
              <p:nvPr/>
            </p:nvSpPr>
            <p:spPr>
              <a:xfrm>
                <a:off x="3913200" y="2030400"/>
                <a:ext cx="1274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Line 75"/>
              <p:cNvSpPr/>
              <p:nvPr/>
            </p:nvSpPr>
            <p:spPr>
              <a:xfrm flipH="1">
                <a:off x="3158640" y="2038320"/>
                <a:ext cx="698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1" name="Group 76"/>
              <p:cNvGrpSpPr/>
              <p:nvPr/>
            </p:nvGrpSpPr>
            <p:grpSpPr>
              <a:xfrm>
                <a:off x="3847680" y="2004840"/>
                <a:ext cx="73080" cy="53640"/>
                <a:chOff x="3847680" y="2004840"/>
                <a:chExt cx="73080" cy="53640"/>
              </a:xfrm>
            </p:grpSpPr>
            <p:sp>
              <p:nvSpPr>
                <p:cNvPr id="552" name="Line 77"/>
                <p:cNvSpPr/>
                <p:nvPr/>
              </p:nvSpPr>
              <p:spPr>
                <a:xfrm flipH="1">
                  <a:off x="384768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78"/>
                <p:cNvSpPr/>
                <p:nvPr/>
              </p:nvSpPr>
              <p:spPr>
                <a:xfrm flipH="1">
                  <a:off x="388584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79"/>
              <p:cNvGrpSpPr/>
              <p:nvPr/>
            </p:nvGrpSpPr>
            <p:grpSpPr>
              <a:xfrm>
                <a:off x="2361960" y="2004840"/>
                <a:ext cx="73080" cy="53640"/>
                <a:chOff x="2361960" y="2004840"/>
                <a:chExt cx="73080" cy="53640"/>
              </a:xfrm>
            </p:grpSpPr>
            <p:sp>
              <p:nvSpPr>
                <p:cNvPr id="555" name="Line 80"/>
                <p:cNvSpPr/>
                <p:nvPr/>
              </p:nvSpPr>
              <p:spPr>
                <a:xfrm flipH="1">
                  <a:off x="236196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81"/>
                <p:cNvSpPr/>
                <p:nvPr/>
              </p:nvSpPr>
              <p:spPr>
                <a:xfrm flipH="1">
                  <a:off x="240012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Line 82"/>
              <p:cNvSpPr/>
              <p:nvPr/>
            </p:nvSpPr>
            <p:spPr>
              <a:xfrm flipH="1">
                <a:off x="895320" y="2036880"/>
                <a:ext cx="1479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Line 83"/>
              <p:cNvSpPr/>
              <p:nvPr/>
            </p:nvSpPr>
            <p:spPr>
              <a:xfrm>
                <a:off x="5235480" y="2038320"/>
                <a:ext cx="59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9" name="Group 84"/>
              <p:cNvGrpSpPr/>
              <p:nvPr/>
            </p:nvGrpSpPr>
            <p:grpSpPr>
              <a:xfrm>
                <a:off x="5181480" y="2008440"/>
                <a:ext cx="73080" cy="53640"/>
                <a:chOff x="5181480" y="2008440"/>
                <a:chExt cx="73080" cy="53640"/>
              </a:xfrm>
            </p:grpSpPr>
            <p:sp>
              <p:nvSpPr>
                <p:cNvPr id="560" name="Line 85"/>
                <p:cNvSpPr/>
                <p:nvPr/>
              </p:nvSpPr>
              <p:spPr>
                <a:xfrm flipV="1">
                  <a:off x="521964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Line 86"/>
                <p:cNvSpPr/>
                <p:nvPr/>
              </p:nvSpPr>
              <p:spPr>
                <a:xfrm flipV="1">
                  <a:off x="518148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87"/>
              <p:cNvGrpSpPr/>
              <p:nvPr/>
            </p:nvGrpSpPr>
            <p:grpSpPr>
              <a:xfrm>
                <a:off x="6642000" y="2008440"/>
                <a:ext cx="73080" cy="53640"/>
                <a:chOff x="6642000" y="2008440"/>
                <a:chExt cx="73080" cy="53640"/>
              </a:xfrm>
            </p:grpSpPr>
            <p:sp>
              <p:nvSpPr>
                <p:cNvPr id="563" name="Line 88"/>
                <p:cNvSpPr/>
                <p:nvPr/>
              </p:nvSpPr>
              <p:spPr>
                <a:xfrm flipV="1">
                  <a:off x="668016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Line 89"/>
                <p:cNvSpPr/>
                <p:nvPr/>
              </p:nvSpPr>
              <p:spPr>
                <a:xfrm flipV="1">
                  <a:off x="664200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Line 90"/>
              <p:cNvSpPr/>
              <p:nvPr/>
            </p:nvSpPr>
            <p:spPr>
              <a:xfrm>
                <a:off x="6696000" y="2030400"/>
                <a:ext cx="151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Line 91"/>
              <p:cNvSpPr/>
              <p:nvPr/>
            </p:nvSpPr>
            <p:spPr>
              <a:xfrm>
                <a:off x="35290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Line 92"/>
              <p:cNvSpPr/>
              <p:nvPr/>
            </p:nvSpPr>
            <p:spPr>
              <a:xfrm>
                <a:off x="37576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Line 93"/>
              <p:cNvSpPr/>
              <p:nvPr/>
            </p:nvSpPr>
            <p:spPr>
              <a:xfrm>
                <a:off x="364320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Line 94"/>
              <p:cNvSpPr/>
              <p:nvPr/>
            </p:nvSpPr>
            <p:spPr>
              <a:xfrm>
                <a:off x="4300560" y="187632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Line 95"/>
              <p:cNvSpPr/>
              <p:nvPr/>
            </p:nvSpPr>
            <p:spPr>
              <a:xfrm>
                <a:off x="40654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Line 96"/>
              <p:cNvSpPr/>
              <p:nvPr/>
            </p:nvSpPr>
            <p:spPr>
              <a:xfrm>
                <a:off x="42530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Line 97"/>
              <p:cNvSpPr/>
              <p:nvPr/>
            </p:nvSpPr>
            <p:spPr>
              <a:xfrm>
                <a:off x="420516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Line 98"/>
              <p:cNvSpPr/>
              <p:nvPr/>
            </p:nvSpPr>
            <p:spPr>
              <a:xfrm>
                <a:off x="41576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Line 99"/>
              <p:cNvSpPr/>
              <p:nvPr/>
            </p:nvSpPr>
            <p:spPr>
              <a:xfrm>
                <a:off x="41083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Line 100"/>
              <p:cNvSpPr/>
              <p:nvPr/>
            </p:nvSpPr>
            <p:spPr>
              <a:xfrm>
                <a:off x="4919760" y="187632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Line 101"/>
              <p:cNvSpPr/>
              <p:nvPr/>
            </p:nvSpPr>
            <p:spPr>
              <a:xfrm>
                <a:off x="511020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Line 102"/>
              <p:cNvSpPr/>
              <p:nvPr/>
            </p:nvSpPr>
            <p:spPr>
              <a:xfrm>
                <a:off x="50626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Line 103"/>
              <p:cNvSpPr/>
              <p:nvPr/>
            </p:nvSpPr>
            <p:spPr>
              <a:xfrm>
                <a:off x="501480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Line 104"/>
              <p:cNvSpPr/>
              <p:nvPr/>
            </p:nvSpPr>
            <p:spPr>
              <a:xfrm>
                <a:off x="49658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Line 105"/>
              <p:cNvSpPr/>
              <p:nvPr/>
            </p:nvSpPr>
            <p:spPr>
              <a:xfrm>
                <a:off x="48718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Line 106"/>
              <p:cNvSpPr/>
              <p:nvPr/>
            </p:nvSpPr>
            <p:spPr>
              <a:xfrm>
                <a:off x="531972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Line 107"/>
              <p:cNvSpPr/>
              <p:nvPr/>
            </p:nvSpPr>
            <p:spPr>
              <a:xfrm>
                <a:off x="54244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Line 108"/>
              <p:cNvSpPr/>
              <p:nvPr/>
            </p:nvSpPr>
            <p:spPr>
              <a:xfrm>
                <a:off x="553896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Line 109"/>
              <p:cNvSpPr/>
              <p:nvPr/>
            </p:nvSpPr>
            <p:spPr>
              <a:xfrm flipH="1">
                <a:off x="2416320" y="2038320"/>
                <a:ext cx="698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Group 110"/>
              <p:cNvGrpSpPr/>
              <p:nvPr/>
            </p:nvGrpSpPr>
            <p:grpSpPr>
              <a:xfrm>
                <a:off x="3095280" y="2004840"/>
                <a:ext cx="73080" cy="53640"/>
                <a:chOff x="3095280" y="2004840"/>
                <a:chExt cx="73080" cy="53640"/>
              </a:xfrm>
            </p:grpSpPr>
            <p:sp>
              <p:nvSpPr>
                <p:cNvPr id="586" name="Line 111"/>
                <p:cNvSpPr/>
                <p:nvPr/>
              </p:nvSpPr>
              <p:spPr>
                <a:xfrm flipH="1">
                  <a:off x="309528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112"/>
                <p:cNvSpPr/>
                <p:nvPr/>
              </p:nvSpPr>
              <p:spPr>
                <a:xfrm flipH="1">
                  <a:off x="313344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Line 113"/>
              <p:cNvSpPr/>
              <p:nvPr/>
            </p:nvSpPr>
            <p:spPr>
              <a:xfrm>
                <a:off x="253692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Line 114"/>
              <p:cNvSpPr/>
              <p:nvPr/>
            </p:nvSpPr>
            <p:spPr>
              <a:xfrm>
                <a:off x="284004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Line 115"/>
              <p:cNvSpPr/>
              <p:nvPr/>
            </p:nvSpPr>
            <p:spPr>
              <a:xfrm>
                <a:off x="268920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Line 116"/>
              <p:cNvSpPr/>
              <p:nvPr/>
            </p:nvSpPr>
            <p:spPr>
              <a:xfrm>
                <a:off x="299232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17"/>
              <p:cNvGrpSpPr/>
              <p:nvPr/>
            </p:nvGrpSpPr>
            <p:grpSpPr>
              <a:xfrm>
                <a:off x="5825880" y="2001960"/>
                <a:ext cx="73080" cy="53640"/>
                <a:chOff x="5825880" y="2001960"/>
                <a:chExt cx="73080" cy="53640"/>
              </a:xfrm>
            </p:grpSpPr>
            <p:sp>
              <p:nvSpPr>
                <p:cNvPr id="593" name="Line 118"/>
                <p:cNvSpPr/>
                <p:nvPr/>
              </p:nvSpPr>
              <p:spPr>
                <a:xfrm flipH="1">
                  <a:off x="5825880" y="200196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Line 119"/>
                <p:cNvSpPr/>
                <p:nvPr/>
              </p:nvSpPr>
              <p:spPr>
                <a:xfrm flipH="1">
                  <a:off x="5864040" y="200196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Line 120"/>
              <p:cNvSpPr/>
              <p:nvPr/>
            </p:nvSpPr>
            <p:spPr>
              <a:xfrm flipH="1">
                <a:off x="5879880" y="2035080"/>
                <a:ext cx="771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Line 121"/>
              <p:cNvSpPr/>
              <p:nvPr/>
            </p:nvSpPr>
            <p:spPr>
              <a:xfrm>
                <a:off x="602928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Line 122"/>
              <p:cNvSpPr/>
              <p:nvPr/>
            </p:nvSpPr>
            <p:spPr>
              <a:xfrm>
                <a:off x="633240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Line 123"/>
              <p:cNvSpPr/>
              <p:nvPr/>
            </p:nvSpPr>
            <p:spPr>
              <a:xfrm>
                <a:off x="618156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Line 124"/>
              <p:cNvSpPr/>
              <p:nvPr/>
            </p:nvSpPr>
            <p:spPr>
              <a:xfrm>
                <a:off x="648504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0" name="Oval 125"/>
          <p:cNvSpPr/>
          <p:nvPr/>
        </p:nvSpPr>
        <p:spPr>
          <a:xfrm>
            <a:off x="2435400" y="1709640"/>
            <a:ext cx="695160" cy="7048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126"/>
          <p:cNvSpPr/>
          <p:nvPr/>
        </p:nvSpPr>
        <p:spPr>
          <a:xfrm>
            <a:off x="2817720" y="2414520"/>
            <a:ext cx="319320" cy="1270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127"/>
          <p:cNvSpPr/>
          <p:nvPr/>
        </p:nvSpPr>
        <p:spPr>
          <a:xfrm>
            <a:off x="2978640" y="2664000"/>
            <a:ext cx="28720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 precision as I8Q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ractional Representa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273320" y="1044720"/>
            <a:ext cx="6536520" cy="1078920"/>
            <a:chOff x="1273320" y="1044720"/>
            <a:chExt cx="6536520" cy="1078920"/>
          </a:xfrm>
        </p:grpSpPr>
        <p:sp>
          <p:nvSpPr>
            <p:cNvPr id="72" name="Rectangle 4"/>
            <p:cNvSpPr/>
            <p:nvPr/>
          </p:nvSpPr>
          <p:spPr>
            <a:xfrm>
              <a:off x="1273320" y="1325880"/>
              <a:ext cx="6476760" cy="380880"/>
            </a:xfrm>
            <a:prstGeom prst="rect">
              <a:avLst/>
            </a:prstGeom>
            <a:solidFill>
              <a:srgbClr val="0249f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1320480" y="128772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S IIIII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6"/>
            <p:cNvSpPr/>
            <p:nvPr/>
          </p:nvSpPr>
          <p:spPr>
            <a:xfrm>
              <a:off x="3404520" y="1306800"/>
              <a:ext cx="438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ffffffffffffffffffffff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7516440" y="1044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1274760" y="10447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3823920" y="1786320"/>
              <a:ext cx="15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2 bit mantiss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3301920" y="1578240"/>
              <a:ext cx="75600" cy="76320"/>
            </a:xfrm>
            <a:prstGeom prst="ellipse">
              <a:avLst/>
            </a:prstGeom>
            <a:solidFill>
              <a:srgbClr val="fe9b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H="1">
              <a:off x="1396440" y="1959120"/>
              <a:ext cx="236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5359320" y="1959120"/>
              <a:ext cx="236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Group 13"/>
          <p:cNvGrpSpPr/>
          <p:nvPr/>
        </p:nvGrpSpPr>
        <p:grpSpPr>
          <a:xfrm>
            <a:off x="401760" y="5256360"/>
            <a:ext cx="8391240" cy="828000"/>
            <a:chOff x="401760" y="5256360"/>
            <a:chExt cx="8391240" cy="828000"/>
          </a:xfrm>
        </p:grpSpPr>
        <p:sp>
          <p:nvSpPr>
            <p:cNvPr id="82" name="Rectangle 14"/>
            <p:cNvSpPr/>
            <p:nvPr/>
          </p:nvSpPr>
          <p:spPr>
            <a:xfrm>
              <a:off x="401760" y="5270040"/>
              <a:ext cx="8391240" cy="8143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498960" y="5256360"/>
              <a:ext cx="82274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vantage </a:t>
              </a: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Precision same for all numbers in an IQ form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advantage </a:t>
              </a: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Limited dynamic range compared to floating po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Text Box 16"/>
          <p:cNvSpPr/>
          <p:nvPr/>
        </p:nvSpPr>
        <p:spPr>
          <a:xfrm>
            <a:off x="749160" y="21286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…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…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2913480" y="3355920"/>
            <a:ext cx="32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” – Format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2778120" y="4172040"/>
            <a:ext cx="364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”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EGER – F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”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QUOTIENT – Fra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= 27, system unstabl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711360" y="1098720"/>
            <a:ext cx="7772400" cy="5257800"/>
            <a:chOff x="711360" y="1098720"/>
            <a:chExt cx="7772400" cy="5257800"/>
          </a:xfrm>
        </p:grpSpPr>
        <p:pic>
          <p:nvPicPr>
            <p:cNvPr id="605" name="Picture 4" descr=""/>
            <p:cNvPicPr/>
            <p:nvPr/>
          </p:nvPicPr>
          <p:blipFill>
            <a:blip r:embed="rId1"/>
            <a:stretch/>
          </p:blipFill>
          <p:spPr>
            <a:xfrm>
              <a:off x="711360" y="1098720"/>
              <a:ext cx="777240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5"/>
            <p:cNvSpPr/>
            <p:nvPr/>
          </p:nvSpPr>
          <p:spPr>
            <a:xfrm>
              <a:off x="5824800" y="286380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spee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Text Box 6"/>
            <p:cNvSpPr/>
            <p:nvPr/>
          </p:nvSpPr>
          <p:spPr>
            <a:xfrm>
              <a:off x="5810040" y="559296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= 16, system unstabl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635040" y="1185840"/>
            <a:ext cx="7943760" cy="5210280"/>
            <a:chOff x="635040" y="1185840"/>
            <a:chExt cx="7943760" cy="5210280"/>
          </a:xfrm>
        </p:grpSpPr>
        <p:pic>
          <p:nvPicPr>
            <p:cNvPr id="610" name="Picture 4" descr=""/>
            <p:cNvPicPr/>
            <p:nvPr/>
          </p:nvPicPr>
          <p:blipFill>
            <a:blip r:embed="rId1"/>
            <a:stretch/>
          </p:blipFill>
          <p:spPr>
            <a:xfrm>
              <a:off x="635040" y="1185840"/>
              <a:ext cx="7943760" cy="52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5"/>
            <p:cNvSpPr/>
            <p:nvPr/>
          </p:nvSpPr>
          <p:spPr>
            <a:xfrm>
              <a:off x="5824800" y="298764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spee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6"/>
            <p:cNvSpPr/>
            <p:nvPr/>
          </p:nvSpPr>
          <p:spPr>
            <a:xfrm>
              <a:off x="5810040" y="571680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Q stability rang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609480" y="543564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eveloper must pick the right GLOBAL_Q valu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507960" y="1590840"/>
            <a:ext cx="8134560" cy="2955600"/>
            <a:chOff x="507960" y="1590840"/>
            <a:chExt cx="8134560" cy="2955600"/>
          </a:xfrm>
        </p:grpSpPr>
        <p:sp>
          <p:nvSpPr>
            <p:cNvPr id="616" name="Rectangle 5"/>
            <p:cNvSpPr/>
            <p:nvPr/>
          </p:nvSpPr>
          <p:spPr>
            <a:xfrm>
              <a:off x="514440" y="1592280"/>
              <a:ext cx="8115120" cy="600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Rectangle 6"/>
            <p:cNvSpPr/>
            <p:nvPr/>
          </p:nvSpPr>
          <p:spPr>
            <a:xfrm>
              <a:off x="514440" y="2192400"/>
              <a:ext cx="8115120" cy="23540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Rectangle 7"/>
            <p:cNvSpPr/>
            <p:nvPr/>
          </p:nvSpPr>
          <p:spPr>
            <a:xfrm>
              <a:off x="2573280" y="3890880"/>
              <a:ext cx="606924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st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not enough resolution, quantization problem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569880" y="3940200"/>
              <a:ext cx="17766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18 to Q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3772080" y="3182760"/>
              <a:ext cx="367164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St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557280" y="3181320"/>
              <a:ext cx="180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26 to Q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Rectangle 11"/>
            <p:cNvSpPr/>
            <p:nvPr/>
          </p:nvSpPr>
          <p:spPr>
            <a:xfrm>
              <a:off x="3753000" y="2330280"/>
              <a:ext cx="3708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st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not enough dynamic rang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507960" y="2397240"/>
              <a:ext cx="190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31 to Q2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>
              <a:off x="4116240" y="1676520"/>
              <a:ext cx="29829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ability Ran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620640" y="16765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Q ran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15"/>
            <p:cNvSpPr/>
            <p:nvPr/>
          </p:nvSpPr>
          <p:spPr>
            <a:xfrm flipV="1">
              <a:off x="2556000" y="1590840"/>
              <a:ext cx="0" cy="29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16"/>
            <p:cNvSpPr/>
            <p:nvPr/>
          </p:nvSpPr>
          <p:spPr>
            <a:xfrm>
              <a:off x="514440" y="3008160"/>
              <a:ext cx="8115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17"/>
            <p:cNvSpPr/>
            <p:nvPr/>
          </p:nvSpPr>
          <p:spPr>
            <a:xfrm>
              <a:off x="527040" y="3745080"/>
              <a:ext cx="811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557280" y="2670120"/>
            <a:ext cx="7969320" cy="21258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557280" y="1303200"/>
            <a:ext cx="7969320" cy="1366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Performance comparisons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666720" y="1459080"/>
            <a:ext cx="79567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chmark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 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 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ing-poi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ing-poi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d. RTS li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st RTS li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1.4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50 MHz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50 MHz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50 MH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596880" y="2690640"/>
            <a:ext cx="784548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1: ACI module cyc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2: Feedforward control cyc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7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3: Feedback control cyc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336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9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control cycles (B2+B3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75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6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% of available MHz use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6.8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15.5%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18.9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0 kHz control loop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498600" y="5857920"/>
            <a:ext cx="78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s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28x compiled on codegen tools v5.0.0, -g (debug enabled), -o3 (max. optimiz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st RTS lib v1.0bet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Qmath lib v1.4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Line 8"/>
          <p:cNvSpPr/>
          <p:nvPr/>
        </p:nvSpPr>
        <p:spPr>
          <a:xfrm>
            <a:off x="3973680" y="1303200"/>
            <a:ext cx="0" cy="34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Line 9"/>
          <p:cNvSpPr/>
          <p:nvPr/>
        </p:nvSpPr>
        <p:spPr>
          <a:xfrm>
            <a:off x="5491080" y="1303200"/>
            <a:ext cx="0" cy="34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Line 10"/>
          <p:cNvSpPr/>
          <p:nvPr/>
        </p:nvSpPr>
        <p:spPr>
          <a:xfrm>
            <a:off x="7008840" y="1303200"/>
            <a:ext cx="0" cy="34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Line 11"/>
          <p:cNvSpPr/>
          <p:nvPr/>
        </p:nvSpPr>
        <p:spPr>
          <a:xfrm>
            <a:off x="557280" y="304956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Line 12"/>
          <p:cNvSpPr/>
          <p:nvPr/>
        </p:nvSpPr>
        <p:spPr>
          <a:xfrm>
            <a:off x="557280" y="340056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557280" y="406404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Line 14"/>
          <p:cNvSpPr/>
          <p:nvPr/>
        </p:nvSpPr>
        <p:spPr>
          <a:xfrm>
            <a:off x="557280" y="370368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627120" y="1371600"/>
            <a:ext cx="8053200" cy="44974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 Summary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396800"/>
            <a:ext cx="7985160" cy="449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mless portability of code between fixed and floating-point de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selects target math type in “IQmathLib.h”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if MATH_TYPE == IQ_MAT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if MATH_TYPE == FLOAT_MAT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source code set for simulation vs. target de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erical resolution adjustability based on application requi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in “IQmathLib.h”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define  GLOBAL_Q  1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icitly specify Q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20  X, Y, Z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erical accuracy without sacrificing time and cyc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pid conversion/porting and implementation of algorith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636480" y="603900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IQmath library is freeware - available from TI DSP web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e9b03"/>
                </a:solidFill>
                <a:uFillTx/>
                <a:latin typeface="Arial"/>
              </a:rPr>
              <a:t>http://www.ti.com/c2000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248040" y="858960"/>
            <a:ext cx="8608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Qmath” + fixed-point processor with 32-bit capabilities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feld 4"/>
          <p:cNvSpPr/>
          <p:nvPr/>
        </p:nvSpPr>
        <p:spPr>
          <a:xfrm>
            <a:off x="403200" y="1022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208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7: IQ – Math FIR - Filt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7736040" y="426888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PU cop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ffer du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 I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379440" y="1111320"/>
            <a:ext cx="4984560" cy="2981160"/>
          </a:xfrm>
          <a:prstGeom prst="rect">
            <a:avLst/>
          </a:prstGeom>
          <a:solidFill>
            <a:srgbClr val="0249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2138400" y="1824120"/>
            <a:ext cx="22860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Oval 7"/>
          <p:cNvSpPr/>
          <p:nvPr/>
        </p:nvSpPr>
        <p:spPr>
          <a:xfrm>
            <a:off x="3579840" y="1797120"/>
            <a:ext cx="117360" cy="117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211280" y="11127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3675240" y="1851120"/>
            <a:ext cx="326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10"/>
          <p:cNvSpPr/>
          <p:nvPr/>
        </p:nvSpPr>
        <p:spPr>
          <a:xfrm>
            <a:off x="3984480" y="1468440"/>
            <a:ext cx="1173240" cy="762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156200" y="1738440"/>
            <a:ext cx="842760" cy="341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4022280" y="14382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4114800" y="3672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14"/>
          <p:cNvGrpSpPr/>
          <p:nvPr/>
        </p:nvGrpSpPr>
        <p:grpSpPr>
          <a:xfrm>
            <a:off x="4137120" y="2870280"/>
            <a:ext cx="868320" cy="825480"/>
            <a:chOff x="4137120" y="2870280"/>
            <a:chExt cx="868320" cy="825480"/>
          </a:xfrm>
        </p:grpSpPr>
        <p:sp>
          <p:nvSpPr>
            <p:cNvPr id="660" name="Rectangle 15"/>
            <p:cNvSpPr/>
            <p:nvPr/>
          </p:nvSpPr>
          <p:spPr>
            <a:xfrm>
              <a:off x="4137120" y="2870280"/>
              <a:ext cx="868320" cy="825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Oval 16"/>
            <p:cNvSpPr/>
            <p:nvPr/>
          </p:nvSpPr>
          <p:spPr>
            <a:xfrm>
              <a:off x="4267080" y="2957400"/>
              <a:ext cx="608040" cy="608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rc 17"/>
            <p:cNvSpPr/>
            <p:nvPr/>
          </p:nvSpPr>
          <p:spPr>
            <a:xfrm>
              <a:off x="4572000" y="2957400"/>
              <a:ext cx="260280" cy="3049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18543" h="21600">
                  <a:moveTo>
                    <a:pt x="-1" y="0"/>
                  </a:moveTo>
                  <a:cubicBezTo>
                    <a:pt x="7602" y="0"/>
                    <a:pt x="14644" y="3996"/>
                    <a:pt x="18543" y="10522"/>
                  </a:cubicBezTo>
                </a:path>
                <a:path stroke="0" w="18543" h="21600">
                  <a:moveTo>
                    <a:pt x="-1" y="0"/>
                  </a:moveTo>
                  <a:cubicBezTo>
                    <a:pt x="7602" y="0"/>
                    <a:pt x="14644" y="3996"/>
                    <a:pt x="18543" y="10522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e9b0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18"/>
            <p:cNvSpPr/>
            <p:nvPr/>
          </p:nvSpPr>
          <p:spPr>
            <a:xfrm flipV="1">
              <a:off x="4572000" y="295704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19"/>
            <p:cNvSpPr/>
            <p:nvPr/>
          </p:nvSpPr>
          <p:spPr>
            <a:xfrm flipV="1">
              <a:off x="4572000" y="3101760"/>
              <a:ext cx="26028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Oval 20"/>
          <p:cNvSpPr/>
          <p:nvPr/>
        </p:nvSpPr>
        <p:spPr>
          <a:xfrm>
            <a:off x="2328840" y="1747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21"/>
          <p:cNvSpPr/>
          <p:nvPr/>
        </p:nvSpPr>
        <p:spPr>
          <a:xfrm>
            <a:off x="2622600" y="2228760"/>
            <a:ext cx="965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22"/>
          <p:cNvSpPr/>
          <p:nvPr/>
        </p:nvSpPr>
        <p:spPr>
          <a:xfrm>
            <a:off x="3009960" y="1630440"/>
            <a:ext cx="10173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INA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4557600" y="223344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9" name="AutoShape 24"/>
          <p:cNvCxnSpPr>
            <a:stCxn id="665" idx="6"/>
            <a:endCxn id="652" idx="3"/>
          </p:cNvCxnSpPr>
          <p:nvPr/>
        </p:nvCxnSpPr>
        <p:spPr>
          <a:xfrm>
            <a:off x="2481120" y="1823760"/>
            <a:ext cx="1116720" cy="73800"/>
          </a:xfrm>
          <a:prstGeom prst="curvedConnector5">
            <a:avLst>
              <a:gd name="adj1" fmla="val 44663"/>
              <a:gd name="adj2" fmla="val 234313"/>
              <a:gd name="adj3" fmla="val 44663"/>
            </a:avLst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70" name="Group 25"/>
          <p:cNvGrpSpPr/>
          <p:nvPr/>
        </p:nvGrpSpPr>
        <p:grpSpPr>
          <a:xfrm>
            <a:off x="5614920" y="3068640"/>
            <a:ext cx="2173320" cy="3121200"/>
            <a:chOff x="5614920" y="3068640"/>
            <a:chExt cx="2173320" cy="3121200"/>
          </a:xfrm>
        </p:grpSpPr>
        <p:grpSp>
          <p:nvGrpSpPr>
            <p:cNvPr id="671" name="Group 26"/>
            <p:cNvGrpSpPr/>
            <p:nvPr/>
          </p:nvGrpSpPr>
          <p:grpSpPr>
            <a:xfrm>
              <a:off x="6581880" y="3711600"/>
              <a:ext cx="1095120" cy="1981080"/>
              <a:chOff x="6581880" y="3711600"/>
              <a:chExt cx="1095120" cy="1981080"/>
            </a:xfrm>
          </p:grpSpPr>
          <p:sp>
            <p:nvSpPr>
              <p:cNvPr id="672" name="Rectangle 27"/>
              <p:cNvSpPr/>
              <p:nvPr/>
            </p:nvSpPr>
            <p:spPr>
              <a:xfrm>
                <a:off x="6581880" y="371160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6581880" y="386388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6581880" y="4016160"/>
                <a:ext cx="1015920" cy="1526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6581880" y="416880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6581880" y="432108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6581880" y="4473360"/>
                <a:ext cx="1015920" cy="1526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8" name="Group 33"/>
              <p:cNvGrpSpPr/>
              <p:nvPr/>
            </p:nvGrpSpPr>
            <p:grpSpPr>
              <a:xfrm>
                <a:off x="6581880" y="5387760"/>
                <a:ext cx="1015920" cy="304920"/>
                <a:chOff x="6581880" y="5387760"/>
                <a:chExt cx="1015920" cy="304920"/>
              </a:xfrm>
            </p:grpSpPr>
            <p:sp>
              <p:nvSpPr>
                <p:cNvPr id="679" name="Rectangle 34"/>
                <p:cNvSpPr/>
                <p:nvPr/>
              </p:nvSpPr>
              <p:spPr>
                <a:xfrm>
                  <a:off x="6581880" y="5387760"/>
                  <a:ext cx="1015920" cy="15264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35"/>
                <p:cNvSpPr/>
                <p:nvPr/>
              </p:nvSpPr>
              <p:spPr>
                <a:xfrm>
                  <a:off x="6581880" y="5540400"/>
                  <a:ext cx="1015920" cy="15228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Text Box 36"/>
              <p:cNvSpPr/>
              <p:nvPr/>
            </p:nvSpPr>
            <p:spPr>
              <a:xfrm rot="5400000">
                <a:off x="6994080" y="4619520"/>
                <a:ext cx="601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...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2" name="Text Box 37"/>
            <p:cNvSpPr/>
            <p:nvPr/>
          </p:nvSpPr>
          <p:spPr>
            <a:xfrm>
              <a:off x="6516000" y="3068640"/>
              <a:ext cx="11696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>
              <a:off x="6421680" y="3881520"/>
              <a:ext cx="0" cy="175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Arc 39"/>
            <p:cNvSpPr/>
            <p:nvPr/>
          </p:nvSpPr>
          <p:spPr>
            <a:xfrm flipH="1">
              <a:off x="6112800" y="3864240"/>
              <a:ext cx="181080" cy="1736640"/>
            </a:xfrm>
            <a:custGeom>
              <a:avLst/>
              <a:gdLst>
                <a:gd name="textAreaLeft" fmla="*/ -360 w 181080"/>
                <a:gd name="textAreaRight" fmla="*/ 181080 w 18108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fill="none" w="21600" h="41030">
                  <a:moveTo>
                    <a:pt x="9435" y="-1"/>
                  </a:moveTo>
                  <a:cubicBezTo>
                    <a:pt x="16876" y="3612"/>
                    <a:pt x="21600" y="11158"/>
                    <a:pt x="21600" y="19430"/>
                  </a:cubicBezTo>
                  <a:cubicBezTo>
                    <a:pt x="21600" y="31359"/>
                    <a:pt x="11929" y="41029"/>
                    <a:pt x="0" y="41030"/>
                  </a:cubicBezTo>
                </a:path>
                <a:path stroke="0" w="21600" h="41030">
                  <a:moveTo>
                    <a:pt x="9435" y="-1"/>
                  </a:moveTo>
                  <a:cubicBezTo>
                    <a:pt x="16876" y="3612"/>
                    <a:pt x="21600" y="11158"/>
                    <a:pt x="21600" y="19430"/>
                  </a:cubicBezTo>
                  <a:cubicBezTo>
                    <a:pt x="21600" y="31359"/>
                    <a:pt x="11929" y="41029"/>
                    <a:pt x="0" y="41030"/>
                  </a:cubicBezTo>
                  <a:lnTo>
                    <a:pt x="0" y="1943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40"/>
            <p:cNvSpPr/>
            <p:nvPr/>
          </p:nvSpPr>
          <p:spPr>
            <a:xfrm rot="16206600">
              <a:off x="4921560" y="455616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inter rew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Text Box 41"/>
            <p:cNvSpPr/>
            <p:nvPr/>
          </p:nvSpPr>
          <p:spPr>
            <a:xfrm>
              <a:off x="6550200" y="5707080"/>
              <a:ext cx="1238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lay using C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7" name="Group 42"/>
          <p:cNvGrpSpPr/>
          <p:nvPr/>
        </p:nvGrpSpPr>
        <p:grpSpPr>
          <a:xfrm>
            <a:off x="6246720" y="1174680"/>
            <a:ext cx="1866960" cy="1365480"/>
            <a:chOff x="6246720" y="1174680"/>
            <a:chExt cx="1866960" cy="1365480"/>
          </a:xfrm>
        </p:grpSpPr>
        <p:sp>
          <p:nvSpPr>
            <p:cNvPr id="688" name="AutoShape 43"/>
            <p:cNvSpPr/>
            <p:nvPr/>
          </p:nvSpPr>
          <p:spPr>
            <a:xfrm>
              <a:off x="6246720" y="1174680"/>
              <a:ext cx="1866960" cy="1365480"/>
            </a:xfrm>
            <a:prstGeom prst="bevel">
              <a:avLst>
                <a:gd name="adj" fmla="val 12500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44"/>
            <p:cNvSpPr/>
            <p:nvPr/>
          </p:nvSpPr>
          <p:spPr>
            <a:xfrm>
              <a:off x="6562800" y="1668600"/>
              <a:ext cx="128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R Fil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0" name="Line 45"/>
          <p:cNvSpPr/>
          <p:nvPr/>
        </p:nvSpPr>
        <p:spPr>
          <a:xfrm>
            <a:off x="5159520" y="185904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46"/>
          <p:cNvSpPr/>
          <p:nvPr/>
        </p:nvSpPr>
        <p:spPr>
          <a:xfrm>
            <a:off x="7605720" y="1828800"/>
            <a:ext cx="871560" cy="2300400"/>
          </a:xfrm>
          <a:custGeom>
            <a:avLst/>
            <a:gdLst>
              <a:gd name="textAreaLeft" fmla="*/ 0 w 871560"/>
              <a:gd name="textAreaRight" fmla="*/ 871920 w 87156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549" h="1449">
                <a:moveTo>
                  <a:pt x="322" y="0"/>
                </a:moveTo>
                <a:lnTo>
                  <a:pt x="549" y="0"/>
                </a:lnTo>
                <a:lnTo>
                  <a:pt x="549" y="1449"/>
                </a:lnTo>
                <a:lnTo>
                  <a:pt x="0" y="14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565200" y="1473120"/>
            <a:ext cx="1581120" cy="733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514080" y="1432800"/>
            <a:ext cx="168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 Cou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on Qual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Line 49"/>
          <p:cNvSpPr/>
          <p:nvPr/>
        </p:nvSpPr>
        <p:spPr>
          <a:xfrm>
            <a:off x="568440" y="1716120"/>
            <a:ext cx="157788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Line 50"/>
          <p:cNvSpPr/>
          <p:nvPr/>
        </p:nvSpPr>
        <p:spPr>
          <a:xfrm>
            <a:off x="568440" y="1959120"/>
            <a:ext cx="157788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846360" y="1208160"/>
            <a:ext cx="992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1346040" y="2968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PWM2 triggering ADC on period match using SOC A trigger every 20µs (50 k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feld 4"/>
          <p:cNvSpPr/>
          <p:nvPr/>
        </p:nvSpPr>
        <p:spPr>
          <a:xfrm>
            <a:off x="403200" y="10224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208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e a symmetrical 2 kHz PWM signal with 25% duty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the signal with ADC at a 50 kHz sample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ore the ADC results in a circular result bu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ute the ADC results in a digital finite impulse response (FIR) filter with low-pass characteristics. The Filter is calculated by IQ-Math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ot the graphs of the filtered and unfiltered signal with Code Composer Studios graph t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are the resul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7: IQ – Math FIR - Filt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MATLAB FDA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85800" y="106668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265400" y="1022400"/>
            <a:ext cx="6621480" cy="531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MATLAB FDA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066680"/>
            <a:ext cx="7772400" cy="19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 – Lowpass; 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ner Frequency: 300 H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mpling Frequency: 50 kH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mming - Wind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3" descr=""/>
          <p:cNvPicPr/>
          <p:nvPr/>
        </p:nvPicPr>
        <p:blipFill>
          <a:blip r:embed="rId1"/>
          <a:stretch/>
        </p:blipFill>
        <p:spPr>
          <a:xfrm>
            <a:off x="1405080" y="3236760"/>
            <a:ext cx="6514920" cy="314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MATLAB FDA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707" name="Grafik 4" descr=""/>
          <p:cNvPicPr/>
          <p:nvPr/>
        </p:nvPicPr>
        <p:blipFill>
          <a:blip r:embed="rId1"/>
          <a:stretch/>
        </p:blipFill>
        <p:spPr>
          <a:xfrm>
            <a:off x="2070000" y="847800"/>
            <a:ext cx="4734000" cy="2365200"/>
          </a:xfrm>
          <a:prstGeom prst="rect">
            <a:avLst/>
          </a:prstGeom>
          <a:ln w="0">
            <a:noFill/>
          </a:ln>
        </p:spPr>
      </p:pic>
      <p:pic>
        <p:nvPicPr>
          <p:cNvPr id="708" name="Grafik 6" descr=""/>
          <p:cNvPicPr/>
          <p:nvPr/>
        </p:nvPicPr>
        <p:blipFill>
          <a:blip r:embed="rId2"/>
          <a:stretch/>
        </p:blipFill>
        <p:spPr>
          <a:xfrm>
            <a:off x="852480" y="3362400"/>
            <a:ext cx="7000920" cy="302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 – Range and Resolu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227520" y="615960"/>
            <a:ext cx="25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4-bit number: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1200" y="1419120"/>
          <a:ext cx="8661600" cy="4029120"/>
        </p:xfrm>
        <a:graphic>
          <a:graphicData uri="http://schemas.openxmlformats.org/drawingml/2006/table">
            <a:tbl>
              <a:tblPr/>
              <a:tblGrid>
                <a:gridCol w="2165400"/>
                <a:gridCol w="2165400"/>
                <a:gridCol w="2165400"/>
                <a:gridCol w="216540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 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lution (step siz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1Q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.8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2Q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3Q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4Q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57"/>
          <p:cNvSpPr/>
          <p:nvPr/>
        </p:nvSpPr>
        <p:spPr>
          <a:xfrm>
            <a:off x="1278360" y="5641920"/>
            <a:ext cx="74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- Off between Range and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  Integer Format (I4Q0) is a subset of IQ-M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710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x Signal Processing Librarie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311120" y="6276960"/>
            <a:ext cx="6426360" cy="4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38360" y="901800"/>
            <a:ext cx="7643520" cy="51465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38360" y="628560"/>
            <a:ext cx="7643520" cy="268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5920" y="609480"/>
            <a:ext cx="828684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gnal Processing Libraries &amp; Applications Softwa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terature #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1: Control with Constant V/Hz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3: Sensored Indirect Flux Vector Contro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3: Sensored Indirect Flux Vector Control (simulation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4: Sensorless Direct Flux Vector Contro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4: Sensorless Direct Flux Vector Control (simulation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1: Sensored Field Oriented Control using QE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2: Sensorless Field Oriented Contro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3: Sensored Field Oriented Control using Resolv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4: Sensored Position Control using QE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DC3-1: Sensored Trapezoidal Control using Hall Sensor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DC3-2: Sensorless Trapezoidal Driv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CMOTOR: Speed &amp; Position Control using QEP without Index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gital Motor Control Library (F/C280x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unications Driver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Fast Fourier Transform (FFT)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Filter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Fixed-Point Math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IQ Math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Signal Generator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Software Test Bench (STB)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28x FPU Fast RTS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66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2833x C/C++ Header Files and Peripheral Example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5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800360" y="6356520"/>
            <a:ext cx="5451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ailable from TI Websit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http://www.ti.com/c200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738360" y="6051600"/>
            <a:ext cx="576000" cy="2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H="1">
            <a:off x="7733880" y="6046920"/>
            <a:ext cx="6476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So how do we really use all this fraction stuff?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844720" y="3821040"/>
            <a:ext cx="642960" cy="439920"/>
          </a:xfrm>
          <a:prstGeom prst="leftArrow">
            <a:avLst>
              <a:gd name="adj1" fmla="val 50000"/>
              <a:gd name="adj2" fmla="val 36538"/>
            </a:avLst>
          </a:prstGeom>
          <a:solidFill>
            <a:srgbClr val="005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4200" y="2475000"/>
            <a:ext cx="2544840" cy="824040"/>
          </a:xfrm>
          <a:prstGeom prst="rect">
            <a:avLst/>
          </a:prstGeom>
          <a:solidFill>
            <a:srgbClr val="00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kes many days/weeks to convert (one way proces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660240" y="3440160"/>
            <a:ext cx="2116440" cy="2458080"/>
            <a:chOff x="660240" y="3440160"/>
            <a:chExt cx="2116440" cy="2458080"/>
          </a:xfrm>
        </p:grpSpPr>
        <p:sp>
          <p:nvSpPr>
            <p:cNvPr id="103" name="AutoShape 6"/>
            <p:cNvSpPr/>
            <p:nvPr/>
          </p:nvSpPr>
          <p:spPr>
            <a:xfrm>
              <a:off x="1434960" y="4659120"/>
              <a:ext cx="642960" cy="420480"/>
            </a:xfrm>
            <a:prstGeom prst="upDownArrow">
              <a:avLst>
                <a:gd name="adj1" fmla="val 50000"/>
                <a:gd name="adj2" fmla="val 36667"/>
              </a:avLst>
            </a:prstGeom>
            <a:solidFill>
              <a:srgbClr val="005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Oval 7"/>
            <p:cNvSpPr/>
            <p:nvPr/>
          </p:nvSpPr>
          <p:spPr>
            <a:xfrm>
              <a:off x="774720" y="3440160"/>
              <a:ext cx="2001960" cy="1184040"/>
            </a:xfrm>
            <a:prstGeom prst="ellipse">
              <a:avLst/>
            </a:prstGeom>
            <a:solidFill>
              <a:srgbClr val="005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xed-Point Algorith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ASM, C, C++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AutoShape 8"/>
            <p:cNvSpPr/>
            <p:nvPr/>
          </p:nvSpPr>
          <p:spPr>
            <a:xfrm>
              <a:off x="965160" y="5103720"/>
              <a:ext cx="1363680" cy="434520"/>
            </a:xfrm>
            <a:prstGeom prst="cube">
              <a:avLst>
                <a:gd name="adj" fmla="val 854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660240" y="556092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ixed-Point D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10"/>
          <p:cNvGrpSpPr/>
          <p:nvPr/>
        </p:nvGrpSpPr>
        <p:grpSpPr>
          <a:xfrm>
            <a:off x="5359320" y="3465360"/>
            <a:ext cx="3537000" cy="2283480"/>
            <a:chOff x="5359320" y="3465360"/>
            <a:chExt cx="3537000" cy="2283480"/>
          </a:xfrm>
        </p:grpSpPr>
        <p:sp>
          <p:nvSpPr>
            <p:cNvPr id="108" name="AutoShape 11"/>
            <p:cNvSpPr/>
            <p:nvPr/>
          </p:nvSpPr>
          <p:spPr>
            <a:xfrm flipV="1">
              <a:off x="5456160" y="3668400"/>
              <a:ext cx="1284480" cy="1260720"/>
            </a:xfrm>
            <a:custGeom>
              <a:avLst/>
              <a:gdLst>
                <a:gd name="textAreaLeft" fmla="*/ 152280 w 1284480"/>
                <a:gd name="textAreaRight" fmla="*/ 1098720 w 1284480"/>
                <a:gd name="textAreaTop" fmla="*/ 838440 h 1260720"/>
                <a:gd name="textAreaBottom" fmla="*/ 1078200 h 12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16" y="0"/>
                  </a:moveTo>
                  <a:lnTo>
                    <a:pt x="11232" y="6420"/>
                  </a:lnTo>
                  <a:lnTo>
                    <a:pt x="14356" y="6420"/>
                  </a:lnTo>
                  <a:lnTo>
                    <a:pt x="14356" y="14356"/>
                  </a:lnTo>
                  <a:lnTo>
                    <a:pt x="6420" y="14356"/>
                  </a:lnTo>
                  <a:lnTo>
                    <a:pt x="6420" y="11232"/>
                  </a:lnTo>
                  <a:lnTo>
                    <a:pt x="0" y="16416"/>
                  </a:lnTo>
                  <a:lnTo>
                    <a:pt x="6420" y="21600"/>
                  </a:lnTo>
                  <a:lnTo>
                    <a:pt x="6420" y="18476"/>
                  </a:lnTo>
                  <a:lnTo>
                    <a:pt x="18476" y="18476"/>
                  </a:lnTo>
                  <a:lnTo>
                    <a:pt x="18476" y="6420"/>
                  </a:lnTo>
                  <a:lnTo>
                    <a:pt x="21600" y="6420"/>
                  </a:lnTo>
                  <a:close/>
                </a:path>
              </a:pathLst>
            </a:custGeom>
            <a:solidFill>
              <a:srgbClr val="603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6680160" y="3465360"/>
              <a:ext cx="2216160" cy="8240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n be easily ported to floating-point devi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AutoShape 13"/>
            <p:cNvSpPr/>
            <p:nvPr/>
          </p:nvSpPr>
          <p:spPr>
            <a:xfrm>
              <a:off x="5626080" y="4976640"/>
              <a:ext cx="1363680" cy="434880"/>
            </a:xfrm>
            <a:prstGeom prst="cube">
              <a:avLst>
                <a:gd name="adj" fmla="val 854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5359320" y="5411520"/>
              <a:ext cx="20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ating-Point D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Oval 15"/>
          <p:cNvSpPr/>
          <p:nvPr/>
        </p:nvSpPr>
        <p:spPr>
          <a:xfrm>
            <a:off x="3454560" y="3440160"/>
            <a:ext cx="2001600" cy="1201680"/>
          </a:xfrm>
          <a:prstGeom prst="ellipse">
            <a:avLst/>
          </a:prstGeom>
          <a:solidFill>
            <a:srgbClr val="603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ating-Po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C or C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4152960" y="2995560"/>
            <a:ext cx="641160" cy="420840"/>
          </a:xfrm>
          <a:prstGeom prst="upDownArrow">
            <a:avLst>
              <a:gd name="adj1" fmla="val 50000"/>
              <a:gd name="adj2" fmla="val 36667"/>
            </a:avLst>
          </a:prstGeom>
          <a:solidFill>
            <a:srgbClr val="603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5600880" y="1903320"/>
            <a:ext cx="2803320" cy="824040"/>
          </a:xfrm>
          <a:prstGeom prst="rect">
            <a:avLst/>
          </a:prstGeom>
          <a:solidFill>
            <a:srgbClr val="603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ural development starts with simulation in floating-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3378240" y="1839960"/>
            <a:ext cx="2133720" cy="1120680"/>
            <a:chOff x="3378240" y="1839960"/>
            <a:chExt cx="2133720" cy="1120680"/>
          </a:xfrm>
        </p:grpSpPr>
        <p:sp>
          <p:nvSpPr>
            <p:cNvPr id="116" name="Oval 19"/>
            <p:cNvSpPr/>
            <p:nvPr/>
          </p:nvSpPr>
          <p:spPr>
            <a:xfrm>
              <a:off x="3378240" y="1839960"/>
              <a:ext cx="2133720" cy="1120680"/>
            </a:xfrm>
            <a:prstGeom prst="ellipse">
              <a:avLst/>
            </a:prstGeom>
            <a:solidFill>
              <a:srgbClr val="603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5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3852000" y="2039760"/>
              <a:ext cx="1221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m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tfor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i.e. MatLa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Text Box 21"/>
          <p:cNvSpPr/>
          <p:nvPr/>
        </p:nvSpPr>
        <p:spPr>
          <a:xfrm>
            <a:off x="1402200" y="693720"/>
            <a:ext cx="6755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The Fixed-Point Development Di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Traditional 16-bit “Q” 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y = mx + b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934320" y="1082520"/>
            <a:ext cx="1066680" cy="434340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34320" y="127332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7162920" y="1425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5791320" y="1166760"/>
            <a:ext cx="914040" cy="911160"/>
            <a:chOff x="5791320" y="1166760"/>
            <a:chExt cx="914040" cy="911160"/>
          </a:xfrm>
        </p:grpSpPr>
        <p:sp>
          <p:nvSpPr>
            <p:cNvPr id="124" name="Oval 7"/>
            <p:cNvSpPr/>
            <p:nvPr/>
          </p:nvSpPr>
          <p:spPr>
            <a:xfrm>
              <a:off x="5791320" y="1166760"/>
              <a:ext cx="914040" cy="91116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5994720" y="1451160"/>
              <a:ext cx="50760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5994720" y="1450800"/>
              <a:ext cx="50760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Line 10"/>
          <p:cNvSpPr/>
          <p:nvPr/>
        </p:nvSpPr>
        <p:spPr>
          <a:xfrm flipH="1">
            <a:off x="6629040" y="139392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6629040" y="189396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2819520" y="150192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         Q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13"/>
          <p:cNvSpPr/>
          <p:nvPr/>
        </p:nvSpPr>
        <p:spPr>
          <a:xfrm>
            <a:off x="3124080" y="1662120"/>
            <a:ext cx="7632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H="1">
            <a:off x="5409720" y="162252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2819520" y="220824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sssssssssss 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6"/>
          <p:cNvSpPr/>
          <p:nvPr/>
        </p:nvSpPr>
        <p:spPr>
          <a:xfrm>
            <a:off x="4311720" y="2368440"/>
            <a:ext cx="7596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 flipH="1">
            <a:off x="5410080" y="2322360"/>
            <a:ext cx="1524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934320" y="177948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7162920" y="1932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934320" y="220824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7162920" y="236052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5410080" y="5091120"/>
            <a:ext cx="152424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6934320" y="497052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24"/>
          <p:cNvSpPr/>
          <p:nvPr/>
        </p:nvSpPr>
        <p:spPr>
          <a:xfrm>
            <a:off x="7162920" y="5122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2819520" y="3282840"/>
            <a:ext cx="2590560" cy="24156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        Q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26"/>
          <p:cNvSpPr/>
          <p:nvPr/>
        </p:nvSpPr>
        <p:spPr>
          <a:xfrm>
            <a:off x="3124080" y="3443400"/>
            <a:ext cx="7632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4083120" y="3049560"/>
            <a:ext cx="0" cy="23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2819520" y="386568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I        Q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3124080" y="4025880"/>
            <a:ext cx="7632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AutoShape 30"/>
          <p:cNvCxnSpPr>
            <a:stCxn id="148" idx="4"/>
            <a:endCxn id="145" idx="1"/>
          </p:cNvCxnSpPr>
          <p:nvPr/>
        </p:nvCxnSpPr>
        <p:spPr>
          <a:xfrm flipH="1" rot="16200000">
            <a:off x="2354400" y="3521160"/>
            <a:ext cx="167040" cy="76284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8" name="Oval 31"/>
          <p:cNvSpPr/>
          <p:nvPr/>
        </p:nvSpPr>
        <p:spPr>
          <a:xfrm>
            <a:off x="1676520" y="3033720"/>
            <a:ext cx="761760" cy="77616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2057400" y="3102120"/>
            <a:ext cx="0" cy="623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1778040" y="3414600"/>
            <a:ext cx="55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AutoShape 34"/>
          <p:cNvCxnSpPr>
            <a:stCxn id="148" idx="0"/>
            <a:endCxn id="129" idx="1"/>
          </p:cNvCxnSpPr>
          <p:nvPr/>
        </p:nvCxnSpPr>
        <p:spPr>
          <a:xfrm flipH="1" flipV="1" rot="5400000">
            <a:off x="1737000" y="1941840"/>
            <a:ext cx="1402560" cy="76284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152" name="Line 35"/>
          <p:cNvSpPr/>
          <p:nvPr/>
        </p:nvSpPr>
        <p:spPr>
          <a:xfrm flipH="1">
            <a:off x="2437920" y="341460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36"/>
          <p:cNvSpPr/>
          <p:nvPr/>
        </p:nvSpPr>
        <p:spPr>
          <a:xfrm>
            <a:off x="4083120" y="4726080"/>
            <a:ext cx="0" cy="23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2819520" y="497052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ssssssssssI 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38"/>
          <p:cNvSpPr/>
          <p:nvPr/>
        </p:nvSpPr>
        <p:spPr>
          <a:xfrm>
            <a:off x="4311720" y="5130720"/>
            <a:ext cx="7596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8002440" y="1203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7994520" y="1709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8002440" y="2138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2"/>
          <p:cNvSpPr/>
          <p:nvPr/>
        </p:nvSpPr>
        <p:spPr>
          <a:xfrm>
            <a:off x="7994520" y="490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3"/>
          <p:cNvSpPr/>
          <p:nvPr/>
        </p:nvSpPr>
        <p:spPr>
          <a:xfrm>
            <a:off x="3352680" y="2682720"/>
            <a:ext cx="1447920" cy="36684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&lt;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4"/>
          <p:cNvSpPr/>
          <p:nvPr/>
        </p:nvSpPr>
        <p:spPr>
          <a:xfrm>
            <a:off x="4083120" y="2449440"/>
            <a:ext cx="0" cy="23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5"/>
          <p:cNvSpPr/>
          <p:nvPr/>
        </p:nvSpPr>
        <p:spPr>
          <a:xfrm>
            <a:off x="4894920" y="25383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 Bi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For Ad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6"/>
          <p:cNvSpPr/>
          <p:nvPr/>
        </p:nvSpPr>
        <p:spPr>
          <a:xfrm>
            <a:off x="2002320" y="5894280"/>
            <a:ext cx="6215760" cy="3682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32) M * (i32) X + (i32) B &lt;&lt; Q) &gt;&gt; Q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7"/>
          <p:cNvSpPr/>
          <p:nvPr/>
        </p:nvSpPr>
        <p:spPr>
          <a:xfrm>
            <a:off x="1143000" y="5894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48"/>
          <p:cNvSpPr/>
          <p:nvPr/>
        </p:nvSpPr>
        <p:spPr>
          <a:xfrm>
            <a:off x="4083120" y="4106880"/>
            <a:ext cx="0" cy="252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49"/>
          <p:cNvSpPr/>
          <p:nvPr/>
        </p:nvSpPr>
        <p:spPr>
          <a:xfrm>
            <a:off x="3359160" y="4359240"/>
            <a:ext cx="1447920" cy="36684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4847040" y="42148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 Bi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For S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Traditional 32-bit “Q” 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y = mx + b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926000" y="5965920"/>
            <a:ext cx="6352920" cy="3682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 + (i64) B &lt;&lt; Q) &gt;&gt; Q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5965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848240" y="6408720"/>
            <a:ext cx="58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   Requires support for 64-bit integer data type in compi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426960" y="1131840"/>
            <a:ext cx="8464680" cy="4278240"/>
            <a:chOff x="426960" y="1131840"/>
            <a:chExt cx="8464680" cy="4278240"/>
          </a:xfrm>
        </p:grpSpPr>
        <p:sp>
          <p:nvSpPr>
            <p:cNvPr id="173" name="Oval 7"/>
            <p:cNvSpPr/>
            <p:nvPr/>
          </p:nvSpPr>
          <p:spPr>
            <a:xfrm>
              <a:off x="426960" y="3036600"/>
              <a:ext cx="761760" cy="77652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807840" y="3105000"/>
              <a:ext cx="0" cy="62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528480" y="3417840"/>
              <a:ext cx="55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6" name="AutoShape 10"/>
            <p:cNvCxnSpPr>
              <a:stCxn id="173" idx="0"/>
            </p:cNvCxnSpPr>
            <p:nvPr/>
          </p:nvCxnSpPr>
          <p:spPr>
            <a:xfrm flipH="1" flipV="1" rot="5400000">
              <a:off x="492120" y="1949400"/>
              <a:ext cx="1393200" cy="76284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177" name="Line 11"/>
            <p:cNvSpPr/>
            <p:nvPr/>
          </p:nvSpPr>
          <p:spPr>
            <a:xfrm flipH="1">
              <a:off x="1188360" y="3417840"/>
              <a:ext cx="381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>
              <a:off x="2560320" y="2707920"/>
              <a:ext cx="1447920" cy="36684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&lt;&lt;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3290760" y="2474640"/>
              <a:ext cx="0" cy="233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4000320" y="25365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 Deci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int for A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6743520" y="1131840"/>
              <a:ext cx="1820880" cy="4278240"/>
            </a:xfrm>
            <a:prstGeom prst="rect">
              <a:avLst/>
            </a:prstGeom>
            <a:solidFill>
              <a:srgbClr val="0249f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6"/>
            <p:cNvSpPr/>
            <p:nvPr/>
          </p:nvSpPr>
          <p:spPr>
            <a:xfrm>
              <a:off x="6743520" y="130320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7124400" y="14554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8573760" y="1258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8565840" y="1765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8565840" y="217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21"/>
            <p:cNvSpPr/>
            <p:nvPr/>
          </p:nvSpPr>
          <p:spPr>
            <a:xfrm>
              <a:off x="8557920" y="4968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22"/>
            <p:cNvSpPr/>
            <p:nvPr/>
          </p:nvSpPr>
          <p:spPr>
            <a:xfrm>
              <a:off x="6743520" y="180324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7124400" y="19555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4"/>
            <p:cNvSpPr/>
            <p:nvPr/>
          </p:nvSpPr>
          <p:spPr>
            <a:xfrm>
              <a:off x="6743520" y="224604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7124400" y="23986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5600520" y="1190520"/>
              <a:ext cx="914400" cy="91116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5803920" y="1474560"/>
              <a:ext cx="50796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 flipV="1">
              <a:off x="5803920" y="1474200"/>
              <a:ext cx="50796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 flipH="1">
              <a:off x="6438240" y="141732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 flipH="1">
              <a:off x="6438240" y="191736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1"/>
            <p:cNvSpPr/>
            <p:nvPr/>
          </p:nvSpPr>
          <p:spPr>
            <a:xfrm>
              <a:off x="1569960" y="1504800"/>
              <a:ext cx="3641760" cy="2412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16   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Oval 32"/>
            <p:cNvSpPr/>
            <p:nvPr/>
          </p:nvSpPr>
          <p:spPr>
            <a:xfrm>
              <a:off x="2315880" y="166500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33"/>
            <p:cNvSpPr/>
            <p:nvPr/>
          </p:nvSpPr>
          <p:spPr>
            <a:xfrm flipH="1">
              <a:off x="5211720" y="1625400"/>
              <a:ext cx="380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34"/>
            <p:cNvSpPr/>
            <p:nvPr/>
          </p:nvSpPr>
          <p:spPr>
            <a:xfrm flipH="1">
              <a:off x="5211360" y="234612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35"/>
            <p:cNvSpPr/>
            <p:nvPr/>
          </p:nvSpPr>
          <p:spPr>
            <a:xfrm>
              <a:off x="1562040" y="2232000"/>
              <a:ext cx="364968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ssssssssssssss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Oval 36"/>
            <p:cNvSpPr/>
            <p:nvPr/>
          </p:nvSpPr>
          <p:spPr>
            <a:xfrm>
              <a:off x="3771720" y="2384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37"/>
            <p:cNvSpPr/>
            <p:nvPr/>
          </p:nvSpPr>
          <p:spPr>
            <a:xfrm>
              <a:off x="3290760" y="3074760"/>
              <a:ext cx="0" cy="225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38"/>
            <p:cNvSpPr/>
            <p:nvPr/>
          </p:nvSpPr>
          <p:spPr>
            <a:xfrm>
              <a:off x="1569960" y="3296880"/>
              <a:ext cx="3641760" cy="24156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I8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Oval 39"/>
            <p:cNvSpPr/>
            <p:nvPr/>
          </p:nvSpPr>
          <p:spPr>
            <a:xfrm>
              <a:off x="2323800" y="345744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6" name="AutoShape 40"/>
            <p:cNvCxnSpPr>
              <a:stCxn id="173" idx="4"/>
            </p:cNvCxnSpPr>
            <p:nvPr/>
          </p:nvCxnSpPr>
          <p:spPr>
            <a:xfrm flipH="1" rot="16200000">
              <a:off x="1090440" y="3538800"/>
              <a:ext cx="195840" cy="76284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7" name="Rectangle 41"/>
            <p:cNvSpPr/>
            <p:nvPr/>
          </p:nvSpPr>
          <p:spPr>
            <a:xfrm>
              <a:off x="1577880" y="3906720"/>
              <a:ext cx="3641760" cy="2412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16   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Oval 42"/>
            <p:cNvSpPr/>
            <p:nvPr/>
          </p:nvSpPr>
          <p:spPr>
            <a:xfrm>
              <a:off x="2323800" y="406692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43"/>
            <p:cNvSpPr/>
            <p:nvPr/>
          </p:nvSpPr>
          <p:spPr>
            <a:xfrm>
              <a:off x="3290760" y="4767120"/>
              <a:ext cx="6480" cy="27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44"/>
            <p:cNvSpPr/>
            <p:nvPr/>
          </p:nvSpPr>
          <p:spPr>
            <a:xfrm>
              <a:off x="1562040" y="5038560"/>
              <a:ext cx="364968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sssssssssssssI16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Oval 45"/>
            <p:cNvSpPr/>
            <p:nvPr/>
          </p:nvSpPr>
          <p:spPr>
            <a:xfrm>
              <a:off x="3771720" y="51908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46"/>
            <p:cNvSpPr/>
            <p:nvPr/>
          </p:nvSpPr>
          <p:spPr>
            <a:xfrm flipH="1">
              <a:off x="5211360" y="515268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47"/>
            <p:cNvSpPr/>
            <p:nvPr/>
          </p:nvSpPr>
          <p:spPr>
            <a:xfrm>
              <a:off x="6743520" y="503856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Oval 48"/>
            <p:cNvSpPr/>
            <p:nvPr/>
          </p:nvSpPr>
          <p:spPr>
            <a:xfrm>
              <a:off x="7124400" y="51908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49"/>
            <p:cNvSpPr/>
            <p:nvPr/>
          </p:nvSpPr>
          <p:spPr>
            <a:xfrm>
              <a:off x="3284280" y="4147920"/>
              <a:ext cx="0" cy="252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Oval 50"/>
            <p:cNvSpPr/>
            <p:nvPr/>
          </p:nvSpPr>
          <p:spPr>
            <a:xfrm>
              <a:off x="2560320" y="4400280"/>
              <a:ext cx="1447920" cy="36684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&gt;&gt;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51"/>
            <p:cNvSpPr/>
            <p:nvPr/>
          </p:nvSpPr>
          <p:spPr>
            <a:xfrm>
              <a:off x="4076640" y="4213080"/>
              <a:ext cx="210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 Deci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int for S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32-bit 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y = mx + b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075320" y="1317600"/>
            <a:ext cx="7338600" cy="3733920"/>
            <a:chOff x="1075320" y="1317600"/>
            <a:chExt cx="7338600" cy="3733920"/>
          </a:xfrm>
        </p:grpSpPr>
        <p:sp>
          <p:nvSpPr>
            <p:cNvPr id="220" name="Rectangle 4"/>
            <p:cNvSpPr/>
            <p:nvPr/>
          </p:nvSpPr>
          <p:spPr>
            <a:xfrm>
              <a:off x="6265800" y="1317600"/>
              <a:ext cx="1820880" cy="3733920"/>
            </a:xfrm>
            <a:prstGeom prst="rect">
              <a:avLst/>
            </a:prstGeom>
            <a:solidFill>
              <a:srgbClr val="0249f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6265800" y="150804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6646680" y="16603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5122800" y="1401840"/>
              <a:ext cx="914400" cy="91116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5325840" y="1685880"/>
              <a:ext cx="50832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V="1">
              <a:off x="5325840" y="1685880"/>
              <a:ext cx="50832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 flipH="1">
              <a:off x="5960520" y="162864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H="1">
              <a:off x="5960520" y="212868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1100160" y="1736640"/>
              <a:ext cx="3641760" cy="2412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16   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1846080" y="189684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 flipH="1">
              <a:off x="4741920" y="1857240"/>
              <a:ext cx="380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3451320" y="3395520"/>
              <a:ext cx="761760" cy="77652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3832200" y="3463920"/>
              <a:ext cx="0" cy="62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3552840" y="3776760"/>
              <a:ext cx="55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4" name="AutoShape 18"/>
            <p:cNvCxnSpPr/>
            <p:nvPr/>
          </p:nvCxnSpPr>
          <p:spPr>
            <a:xfrm flipV="1">
              <a:off x="3831840" y="3042360"/>
              <a:ext cx="1080" cy="353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235" name="Line 19"/>
            <p:cNvSpPr/>
            <p:nvPr/>
          </p:nvSpPr>
          <p:spPr>
            <a:xfrm flipH="1">
              <a:off x="4213080" y="3784680"/>
              <a:ext cx="2052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Text Box 20"/>
            <p:cNvSpPr/>
            <p:nvPr/>
          </p:nvSpPr>
          <p:spPr>
            <a:xfrm>
              <a:off x="8096040" y="1444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21"/>
            <p:cNvSpPr/>
            <p:nvPr/>
          </p:nvSpPr>
          <p:spPr>
            <a:xfrm>
              <a:off x="8088120" y="1950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22"/>
            <p:cNvSpPr/>
            <p:nvPr/>
          </p:nvSpPr>
          <p:spPr>
            <a:xfrm>
              <a:off x="8088120" y="3600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23"/>
            <p:cNvSpPr/>
            <p:nvPr/>
          </p:nvSpPr>
          <p:spPr>
            <a:xfrm>
              <a:off x="8088120" y="4500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08240" y="2211480"/>
              <a:ext cx="1447920" cy="36648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&gt;&gt;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>
              <a:off x="3838320" y="1977840"/>
              <a:ext cx="0" cy="233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1075320" y="2081160"/>
              <a:ext cx="184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 Deci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int Of Multip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27"/>
            <p:cNvSpPr/>
            <p:nvPr/>
          </p:nvSpPr>
          <p:spPr>
            <a:xfrm>
              <a:off x="6265800" y="201456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6646680" y="21668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29"/>
            <p:cNvSpPr/>
            <p:nvPr/>
          </p:nvSpPr>
          <p:spPr>
            <a:xfrm>
              <a:off x="6265800" y="367020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6646680" y="38224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31"/>
            <p:cNvSpPr/>
            <p:nvPr/>
          </p:nvSpPr>
          <p:spPr>
            <a:xfrm>
              <a:off x="3832200" y="2593800"/>
              <a:ext cx="0" cy="233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32"/>
            <p:cNvSpPr/>
            <p:nvPr/>
          </p:nvSpPr>
          <p:spPr>
            <a:xfrm>
              <a:off x="1100160" y="2825640"/>
              <a:ext cx="364176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sssssssssssssI16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3301920" y="29779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34"/>
            <p:cNvSpPr/>
            <p:nvPr/>
          </p:nvSpPr>
          <p:spPr>
            <a:xfrm>
              <a:off x="6265800" y="457020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6646680" y="47228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36"/>
            <p:cNvSpPr/>
            <p:nvPr/>
          </p:nvSpPr>
          <p:spPr>
            <a:xfrm flipH="1">
              <a:off x="4741560" y="468468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37"/>
            <p:cNvSpPr/>
            <p:nvPr/>
          </p:nvSpPr>
          <p:spPr>
            <a:xfrm>
              <a:off x="2921040" y="4581360"/>
              <a:ext cx="182088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3301920" y="4734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39"/>
            <p:cNvSpPr/>
            <p:nvPr/>
          </p:nvSpPr>
          <p:spPr>
            <a:xfrm>
              <a:off x="3832200" y="4190760"/>
              <a:ext cx="0" cy="390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Text Box 40"/>
          <p:cNvSpPr/>
          <p:nvPr/>
        </p:nvSpPr>
        <p:spPr>
          <a:xfrm>
            <a:off x="2506680" y="5951520"/>
            <a:ext cx="4956120" cy="3682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) &gt;&gt; Q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1595520" y="595152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Multiply Operation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990720" y="1306440"/>
            <a:ext cx="7467480" cy="3682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) &gt;&gt; Q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90720" y="2130480"/>
            <a:ext cx="7467480" cy="3682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mpy(M,X) == ((i64) M * (i64) X) &gt;&gt; 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990720" y="1722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efine the multiply operation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990720" y="2955960"/>
            <a:ext cx="7467480" cy="3682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mpy(M,X)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990720" y="2548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implifies the equation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990720" y="3873600"/>
            <a:ext cx="7467480" cy="22885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L    XT,@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MPYL   P,XT,@X       ; P   = low  32-bits of M*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MPYL   ACC,XT,@X     ; ACC = high 32-bits of M*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SL64   ACC:P,#(32-Q) ; ACC = ACC:P &lt;&lt; 32-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; (same as P = ACC:P &gt;&gt; Q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DDL    ACC,@B        ; Add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L    @Y,ACC        ; Result = Y = _IQmpy(M*X) +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; 7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92960" y="3473280"/>
            <a:ext cx="87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28x compiler supports “_IQmpy” intrinsic; assembly code generat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>C2000 Teaching CD-ROM
Revision 3.0
© Frank Bormann</dc:description>
  <cp:keywords>17</cp:keywords>
  <dc:language>en-US</dc:language>
  <cp:lastModifiedBy>Windows-Benutzer</cp:lastModifiedBy>
  <dcterms:modified xsi:type="dcterms:W3CDTF">2010-04-04T18:28:38Z</dcterms:modified>
  <cp:revision>176</cp:revision>
  <dc:subject/>
  <dc:title>Module 17 IQ-Math</dc:title>
</cp:coreProperties>
</file>