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F63F-C5F5-4EAC-B98C-B5D4A22B0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7C2D-66D5-4FAB-88CE-51BE00658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F38-9CF6-40E1-99DA-A6E1C1F4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4545-CA67-4AEA-B05C-BAC4FC2D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F42-A1D1-4B21-A357-2DD0F1C3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9A4-C7AD-44F0-9CDE-085DC51E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1BE-AA96-4379-A510-887B2852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3B8-AF30-4860-9BE3-DB99E277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7A3-AFEF-4932-BE63-E557CA54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0C0-0F7C-4953-AF75-D1CD1CE1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DBF-F8EF-4961-98FF-4D579F88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885-CAD7-4778-B4B0-7EDAAB2F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527-4905-42F0-B27A-2D02427B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D834-63C1-4C78-B340-13C37DE3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8F9E-CEFE-4E94-821B-CBD1A13A5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LaT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ISM Brownbag S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ne 9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,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ungwon W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0" r="35896" b="47115"/>
          <a:stretch/>
        </p:blipFill>
        <p:spPr>
          <a:xfrm>
            <a:off x="450720" y="685800"/>
            <a:ext cx="831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the Front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\begin{document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\title{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\author{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\make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\begin{abstract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\end{abstract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\page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0" t="0" r="37627" b="33898"/>
          <a:stretch/>
        </p:blipFill>
        <p:spPr>
          <a:xfrm>
            <a:off x="457200" y="152280"/>
            <a:ext cx="762012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begin a new s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\section{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milarly, \subsection{}, \subsubsection{}, \subsubsubsection{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TeX does automatic numbering. If you don’t like it, use section*{}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\emph{}, \textbf{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\singlespacing, \doublespacing, \onehalfspa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\centering or \begin{centering} &amp; \end{centering}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tnotes/Quotes/Eq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\footnote{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\begin{quote} &amp; \end{quote}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`   ’, ``   ’’ for qua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thematical Equ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 always in between $ &amp; $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ly, \begin{equation} &amp; \end{equation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 1+4=5 $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\frac{}{}, \sqrt{}, \sum_{k=1}^{n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^{}, _{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\greek letters (e.g. \alpha or \Alph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Edt also provides click and type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\cite{bibtexkey}, citeyear{bibtexkey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more convenient to create a bibliography file, called bibtex file(.bib) and use it as nee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Edt is capable of creating a bib file, but there are more convenient tools out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bRef (http://jabref.sourceforge.net/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0" t="0" r="19021" b="12453"/>
          <a:stretch/>
        </p:blipFill>
        <p:spPr>
          <a:xfrm>
            <a:off x="609480" y="0"/>
            <a:ext cx="792504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0" t="0" r="-889" b="8482"/>
          <a:stretch/>
        </p:blipFill>
        <p:spPr>
          <a:xfrm>
            <a:off x="0" y="76320"/>
            <a:ext cx="92408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0" t="0" r="165" b="5717"/>
          <a:stretch/>
        </p:blipFill>
        <p:spPr>
          <a:xfrm>
            <a:off x="0" y="0"/>
            <a:ext cx="90676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numbered t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\begin{table} \caption{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ing a t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ple tables can be produced 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\begin{tabular}[pos]{tablespec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in the {tablespec} section, one details the number of columns, the alignment, and the number of vertical lines of the 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{lrc}, {|l|r|c}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type in from left to right, the values for each cell with &amp; in betwe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t “\\” at the end of each row, then input another row of values if nee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\h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STATA users, after downloading the “outtex” package online, one can simply type “outtex” after any estimation and STATA will spit out LaTeX code for the results table presen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LaTeX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X is pronounced “lay-tech” or “lah-tech,” not “la-te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X is a document preparation system for high-quality typeset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X is most often used to produce  technical or scientific documents, but it can be used for almost any form of publis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4*3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\begin{table}[h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\caption{Summary of Conclusions from Diagnostic Tests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\begin{tabular}{llll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\hl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\hl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&amp; Macropartisanship &amp; Consumer Sentiment &amp; Presidential Approval\\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\hl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Joint F test &amp; $d=1$ &amp; $d=1$ &amp; $d=0$\\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R test &amp; $0&lt;d\leq1$ &amp; $d=1$ &amp; $0&lt;d\leq1$ \\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\hli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\end{tabular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\end{table}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the Back Mat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forget bibliography{filename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sure that the bibtex file is saved in the same location where the main tex file is sa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forget end{document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eing the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0" t="0" r="165" b="81482"/>
          <a:stretch/>
        </p:blipFill>
        <p:spPr>
          <a:xfrm>
            <a:off x="185760" y="1523880"/>
            <a:ext cx="8729640" cy="1295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62120" y="33526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s on the smiling bear to convert to .d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5257800" y="33526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s on the PDF/LaTeX to convert to 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2971800" y="335268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s on the PDF+happy bear to convert to .pdf and ope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9"/>
          <p:cNvCxnSpPr>
            <a:stCxn id="100" idx="0"/>
          </p:cNvCxnSpPr>
          <p:nvPr/>
        </p:nvCxnSpPr>
        <p:spPr>
          <a:xfrm flipV="1">
            <a:off x="1638360" y="1980720"/>
            <a:ext cx="2324880" cy="1372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Straight Arrow Connector 11"/>
          <p:cNvCxnSpPr>
            <a:stCxn id="102" idx="0"/>
          </p:cNvCxnSpPr>
          <p:nvPr/>
        </p:nvCxnSpPr>
        <p:spPr>
          <a:xfrm flipV="1">
            <a:off x="3846960" y="1980720"/>
            <a:ext cx="801000" cy="1372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3"/>
          <p:cNvCxnSpPr>
            <a:stCxn id="101" idx="0"/>
          </p:cNvCxnSpPr>
          <p:nvPr/>
        </p:nvCxnSpPr>
        <p:spPr>
          <a:xfrm flipH="1" flipV="1">
            <a:off x="4952160" y="1980720"/>
            <a:ext cx="1181880" cy="1372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 Mistak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times, you make a mistake when creating a document. You will notice the log file reporting a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some common mistak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” doesn’t follow “begi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$ doesn’t follow $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commands from packages lot defined in the pream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forget “\”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eslie Lampert. 1994. LaTeX: A Document Preparation Syste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lmut Kopta and Patrick W. Daly. 2004.Guide to LaT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ank Mittelbach et al. 2004. The LaTeX Compan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ine Gui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en.wikibooks.org/wiki/LaT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ttp://tobi.oetiker.ch/lshort/lshort.pd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V and dissertation templates are available on l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LaTeX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ed by academics and easily accommodates academic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ly crafted predefined layouts make a document really look as if “printed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ematical symbols and equations are easily integr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complex structures such as footnotes, references, table of contents, and bibliographies can be generated easi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ces author to focus on logical instead of aesthetic structure of a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s more beautiful docu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rtable, compatible, flexible, versatile, and cheap (or free)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0"/>
          <p:cNvGrpSpPr/>
          <p:nvPr/>
        </p:nvGrpSpPr>
        <p:grpSpPr>
          <a:xfrm>
            <a:off x="4038480" y="3962520"/>
            <a:ext cx="4953240" cy="2209680"/>
            <a:chOff x="4038480" y="3962520"/>
            <a:chExt cx="4953240" cy="2209680"/>
          </a:xfrm>
        </p:grpSpPr>
        <p:sp>
          <p:nvSpPr>
            <p:cNvPr id="55" name="Rectangle 7"/>
            <p:cNvSpPr/>
            <p:nvPr/>
          </p:nvSpPr>
          <p:spPr>
            <a:xfrm>
              <a:off x="4038480" y="3962520"/>
              <a:ext cx="4953240" cy="22096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3" descr="kerning_latex.jpg"/>
            <p:cNvPicPr/>
            <p:nvPr/>
          </p:nvPicPr>
          <p:blipFill>
            <a:blip r:embed="rId1"/>
            <a:stretch/>
          </p:blipFill>
          <p:spPr>
            <a:xfrm>
              <a:off x="6172200" y="5257800"/>
              <a:ext cx="114300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4" descr="kerning_word.jpg"/>
            <p:cNvPicPr/>
            <p:nvPr/>
          </p:nvPicPr>
          <p:blipFill>
            <a:blip r:embed="rId2"/>
            <a:stretch/>
          </p:blipFill>
          <p:spPr>
            <a:xfrm>
              <a:off x="4952880" y="5257800"/>
              <a:ext cx="1143000" cy="49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5" descr="ligatures_latex.jpg"/>
            <p:cNvPicPr/>
            <p:nvPr/>
          </p:nvPicPr>
          <p:blipFill>
            <a:blip r:embed="rId3"/>
            <a:stretch/>
          </p:blipFill>
          <p:spPr>
            <a:xfrm>
              <a:off x="6172200" y="4648320"/>
              <a:ext cx="274320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6" descr="ligatures_word.jpg"/>
            <p:cNvPicPr/>
            <p:nvPr/>
          </p:nvPicPr>
          <p:blipFill>
            <a:blip r:embed="rId4"/>
            <a:stretch/>
          </p:blipFill>
          <p:spPr>
            <a:xfrm>
              <a:off x="4114440" y="4038480"/>
              <a:ext cx="2743200" cy="5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9"/>
            <p:cNvSpPr/>
            <p:nvPr/>
          </p:nvSpPr>
          <p:spPr>
            <a:xfrm>
              <a:off x="5257800" y="5791320"/>
              <a:ext cx="36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mages from Dario Taraborelli’s Blo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79440" y="384120"/>
            <a:ext cx="6359760" cy="126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ing LaT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Window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KTe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iKTeX is a typesetting system for the Window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wnload from www.miktex.org for fr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is generally recommended to install MiKTeX first, then WinEd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nEd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nEdt is a text edit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nEdt creates the source file (.tex and other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wnload from www.winedt.com for free for 30 day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nEdt costs $30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ing LaT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ther text edito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other text edi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shell for free (http://www.winshell.de/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Work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LaTeX and Mathematics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a good job of calculating and graphing, very user friendly, but expens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Ma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xShop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wnload for free http://www.uoregon.edu/~koch/texshop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s everything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32492" t="8419" r="14982" b="4034"/>
          <a:stretch/>
        </p:blipFill>
        <p:spPr>
          <a:xfrm>
            <a:off x="152280" y="1143000"/>
            <a:ext cx="2971800" cy="396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8" name="Picture 2" descr=""/>
          <p:cNvPicPr/>
          <p:nvPr/>
        </p:nvPicPr>
        <p:blipFill>
          <a:blip r:embed="rId2"/>
          <a:srcRect l="32492" t="8419" r="14982" b="4034"/>
          <a:stretch/>
        </p:blipFill>
        <p:spPr>
          <a:xfrm>
            <a:off x="3048120" y="1905120"/>
            <a:ext cx="2971800" cy="3962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9" name="Picture 2" descr=""/>
          <p:cNvPicPr/>
          <p:nvPr/>
        </p:nvPicPr>
        <p:blipFill>
          <a:blip r:embed="rId3"/>
          <a:srcRect l="32492" t="8419" r="14982" b="4034"/>
          <a:stretch/>
        </p:blipFill>
        <p:spPr>
          <a:xfrm>
            <a:off x="5943600" y="2743200"/>
            <a:ext cx="2971800" cy="396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Documen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rmat of a document is pretty sim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pream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front ma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tle/aut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back ma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the Pream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pecify your document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 classes: letter, article, report, book, slides(beamer, prosp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\documentclass[12pt]{article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ackslash – at the beginning of text markup com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ages: numerous packages are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\usepackage[margin=1in]{geometry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\usepackage{setspace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\usepackage{harvard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7:32:07Z</dcterms:created>
  <dc:creator>woo.54</dc:creator>
  <dc:description/>
  <dc:language>en-US</dc:language>
  <cp:lastModifiedBy>Anzivine, Alicia (.1)</cp:lastModifiedBy>
  <dcterms:modified xsi:type="dcterms:W3CDTF">2012-03-05T18:47:14Z</dcterms:modified>
  <cp:revision>21</cp:revision>
  <dc:subject/>
  <dc:title>Introduction to LaTeX</dc:title>
</cp:coreProperties>
</file>