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5127-BFF3-4325-B5B2-78A723F18A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4288-54F2-485B-B3E5-7DE10905BDE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1655-E007-4EE9-BF59-F8B167B4C80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6311-90EA-49AA-A924-CD523DF7EE5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0 - </a:t>
            </a:r>
            <a:fld id="{E6E9A787-F0D0-491E-9358-B52CF2029E71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899280" y="214200"/>
            <a:ext cx="78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  <a:ea typeface="Arial"/>
              </a:rPr>
              <a:t>Module 10: Serial Peripheral Interface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FIFO Transmit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FFTX @ 0x00704A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1295280" y="3003480"/>
            <a:ext cx="6705720" cy="1568520"/>
            <a:chOff x="1295280" y="3003480"/>
            <a:chExt cx="6705720" cy="1568520"/>
          </a:xfrm>
        </p:grpSpPr>
        <p:sp>
          <p:nvSpPr>
            <p:cNvPr id="243" name="Text Box 4"/>
            <p:cNvSpPr/>
            <p:nvPr/>
          </p:nvSpPr>
          <p:spPr>
            <a:xfrm>
              <a:off x="750060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54864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21337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PIFF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71629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46483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29718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666216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579240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Text Box 12"/>
            <p:cNvSpPr/>
            <p:nvPr/>
          </p:nvSpPr>
          <p:spPr>
            <a:xfrm>
              <a:off x="495396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Text Box 13"/>
            <p:cNvSpPr/>
            <p:nvPr/>
          </p:nvSpPr>
          <p:spPr>
            <a:xfrm>
              <a:off x="411588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327780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Text Box 15"/>
            <p:cNvSpPr/>
            <p:nvPr/>
          </p:nvSpPr>
          <p:spPr>
            <a:xfrm>
              <a:off x="243936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Text Box 16"/>
            <p:cNvSpPr/>
            <p:nvPr/>
          </p:nvSpPr>
          <p:spPr>
            <a:xfrm>
              <a:off x="160128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 Box 17"/>
            <p:cNvSpPr/>
            <p:nvPr/>
          </p:nvSpPr>
          <p:spPr>
            <a:xfrm>
              <a:off x="750060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666216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57916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Text Box 20"/>
            <p:cNvSpPr/>
            <p:nvPr/>
          </p:nvSpPr>
          <p:spPr>
            <a:xfrm>
              <a:off x="49536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Text Box 21"/>
            <p:cNvSpPr/>
            <p:nvPr/>
          </p:nvSpPr>
          <p:spPr>
            <a:xfrm>
              <a:off x="41151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22"/>
            <p:cNvSpPr/>
            <p:nvPr/>
          </p:nvSpPr>
          <p:spPr>
            <a:xfrm>
              <a:off x="32770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Text Box 23"/>
            <p:cNvSpPr/>
            <p:nvPr/>
          </p:nvSpPr>
          <p:spPr>
            <a:xfrm>
              <a:off x="24390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Text Box 24"/>
            <p:cNvSpPr/>
            <p:nvPr/>
          </p:nvSpPr>
          <p:spPr>
            <a:xfrm>
              <a:off x="16005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25"/>
            <p:cNvSpPr/>
            <p:nvPr/>
          </p:nvSpPr>
          <p:spPr>
            <a:xfrm>
              <a:off x="71629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26"/>
            <p:cNvSpPr/>
            <p:nvPr/>
          </p:nvSpPr>
          <p:spPr>
            <a:xfrm>
              <a:off x="63244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Rectangle 27"/>
            <p:cNvSpPr/>
            <p:nvPr/>
          </p:nvSpPr>
          <p:spPr>
            <a:xfrm>
              <a:off x="38098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28"/>
            <p:cNvSpPr/>
            <p:nvPr/>
          </p:nvSpPr>
          <p:spPr>
            <a:xfrm>
              <a:off x="46483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29"/>
            <p:cNvSpPr/>
            <p:nvPr/>
          </p:nvSpPr>
          <p:spPr>
            <a:xfrm>
              <a:off x="63244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30"/>
            <p:cNvSpPr/>
            <p:nvPr/>
          </p:nvSpPr>
          <p:spPr>
            <a:xfrm>
              <a:off x="21337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31"/>
            <p:cNvSpPr/>
            <p:nvPr/>
          </p:nvSpPr>
          <p:spPr>
            <a:xfrm>
              <a:off x="54864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12952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33"/>
            <p:cNvSpPr/>
            <p:nvPr/>
          </p:nvSpPr>
          <p:spPr>
            <a:xfrm>
              <a:off x="38098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34"/>
            <p:cNvSpPr/>
            <p:nvPr/>
          </p:nvSpPr>
          <p:spPr>
            <a:xfrm>
              <a:off x="29718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I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Rectangle 35"/>
            <p:cNvSpPr/>
            <p:nvPr/>
          </p:nvSpPr>
          <p:spPr>
            <a:xfrm>
              <a:off x="1295280" y="3278160"/>
              <a:ext cx="8384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790880" y="1035000"/>
            <a:ext cx="4461480" cy="1680480"/>
            <a:chOff x="4790880" y="1035000"/>
            <a:chExt cx="4461480" cy="1680480"/>
          </a:xfrm>
        </p:grpSpPr>
        <p:sp>
          <p:nvSpPr>
            <p:cNvPr id="276" name="Text Box 37"/>
            <p:cNvSpPr/>
            <p:nvPr/>
          </p:nvSpPr>
          <p:spPr>
            <a:xfrm>
              <a:off x="5428800" y="1035000"/>
              <a:ext cx="3108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38"/>
            <p:cNvSpPr/>
            <p:nvPr/>
          </p:nvSpPr>
          <p:spPr>
            <a:xfrm>
              <a:off x="4790880" y="1327320"/>
              <a:ext cx="44614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Text Box 39"/>
            <p:cNvSpPr/>
            <p:nvPr/>
          </p:nvSpPr>
          <p:spPr>
            <a:xfrm>
              <a:off x="5679720" y="222084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Text Box 40"/>
            <p:cNvSpPr/>
            <p:nvPr/>
          </p:nvSpPr>
          <p:spPr>
            <a:xfrm>
              <a:off x="6746400" y="22161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Text Box 41"/>
            <p:cNvSpPr/>
            <p:nvPr/>
          </p:nvSpPr>
          <p:spPr>
            <a:xfrm>
              <a:off x="7813080" y="22114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42"/>
          <p:cNvGrpSpPr/>
          <p:nvPr/>
        </p:nvGrpSpPr>
        <p:grpSpPr>
          <a:xfrm>
            <a:off x="5680800" y="5280120"/>
            <a:ext cx="3003840" cy="878040"/>
            <a:chOff x="5680800" y="5280120"/>
            <a:chExt cx="3003840" cy="878040"/>
          </a:xfrm>
        </p:grpSpPr>
        <p:sp>
          <p:nvSpPr>
            <p:cNvPr id="282" name="Text Box 43"/>
            <p:cNvSpPr/>
            <p:nvPr/>
          </p:nvSpPr>
          <p:spPr>
            <a:xfrm>
              <a:off x="5680800" y="5280120"/>
              <a:ext cx="2960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44"/>
            <p:cNvSpPr/>
            <p:nvPr/>
          </p:nvSpPr>
          <p:spPr>
            <a:xfrm>
              <a:off x="5760720" y="5597280"/>
              <a:ext cx="29239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T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T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45"/>
          <p:cNvGrpSpPr/>
          <p:nvPr/>
        </p:nvGrpSpPr>
        <p:grpSpPr>
          <a:xfrm>
            <a:off x="812160" y="1338120"/>
            <a:ext cx="1779480" cy="1107000"/>
            <a:chOff x="812160" y="1338120"/>
            <a:chExt cx="1779480" cy="1107000"/>
          </a:xfrm>
        </p:grpSpPr>
        <p:sp>
          <p:nvSpPr>
            <p:cNvPr id="285" name="Text Box 46"/>
            <p:cNvSpPr/>
            <p:nvPr/>
          </p:nvSpPr>
          <p:spPr>
            <a:xfrm>
              <a:off x="812160" y="1338120"/>
              <a:ext cx="17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SPI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hancem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Text Box 47"/>
            <p:cNvSpPr/>
            <p:nvPr/>
          </p:nvSpPr>
          <p:spPr>
            <a:xfrm>
              <a:off x="1017360" y="1841400"/>
              <a:ext cx="12261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48"/>
          <p:cNvGrpSpPr/>
          <p:nvPr/>
        </p:nvGrpSpPr>
        <p:grpSpPr>
          <a:xfrm>
            <a:off x="2828160" y="1415880"/>
            <a:ext cx="2354040" cy="864360"/>
            <a:chOff x="2828160" y="1415880"/>
            <a:chExt cx="2354040" cy="864360"/>
          </a:xfrm>
        </p:grpSpPr>
        <p:sp>
          <p:nvSpPr>
            <p:cNvPr id="288" name="Text Box 49"/>
            <p:cNvSpPr/>
            <p:nvPr/>
          </p:nvSpPr>
          <p:spPr>
            <a:xfrm>
              <a:off x="3047040" y="1415880"/>
              <a:ext cx="1864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50"/>
            <p:cNvSpPr/>
            <p:nvPr/>
          </p:nvSpPr>
          <p:spPr>
            <a:xfrm>
              <a:off x="2828160" y="167652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AutoShape 51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2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53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293" name="Text Box 54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55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Group 56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296" name="Text Box 57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Text Box 58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Group 59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299" name="Text Box 60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61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Line 62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3"/>
          <p:cNvSpPr/>
          <p:nvPr/>
        </p:nvSpPr>
        <p:spPr>
          <a:xfrm flipV="1">
            <a:off x="3429000" y="228564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64"/>
          <p:cNvSpPr/>
          <p:nvPr/>
        </p:nvSpPr>
        <p:spPr>
          <a:xfrm flipH="1" flipV="1">
            <a:off x="1790280" y="2438280"/>
            <a:ext cx="83844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65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66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67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68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FIFO Receive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FFRX @ 0x00704B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295280" y="3003480"/>
            <a:ext cx="6705720" cy="1568520"/>
            <a:chOff x="1295280" y="3003480"/>
            <a:chExt cx="6705720" cy="1568520"/>
          </a:xfrm>
        </p:grpSpPr>
        <p:sp>
          <p:nvSpPr>
            <p:cNvPr id="310" name="Text Box 4"/>
            <p:cNvSpPr/>
            <p:nvPr/>
          </p:nvSpPr>
          <p:spPr>
            <a:xfrm>
              <a:off x="75006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5"/>
            <p:cNvSpPr/>
            <p:nvPr/>
          </p:nvSpPr>
          <p:spPr>
            <a:xfrm>
              <a:off x="54864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21337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 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71629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46483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29718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Text Box 10"/>
            <p:cNvSpPr/>
            <p:nvPr/>
          </p:nvSpPr>
          <p:spPr>
            <a:xfrm>
              <a:off x="66621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57924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Text Box 12"/>
            <p:cNvSpPr/>
            <p:nvPr/>
          </p:nvSpPr>
          <p:spPr>
            <a:xfrm>
              <a:off x="49539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Text Box 13"/>
            <p:cNvSpPr/>
            <p:nvPr/>
          </p:nvSpPr>
          <p:spPr>
            <a:xfrm>
              <a:off x="41158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Text Box 14"/>
            <p:cNvSpPr/>
            <p:nvPr/>
          </p:nvSpPr>
          <p:spPr>
            <a:xfrm>
              <a:off x="32778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Text Box 15"/>
            <p:cNvSpPr/>
            <p:nvPr/>
          </p:nvSpPr>
          <p:spPr>
            <a:xfrm>
              <a:off x="24393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16"/>
            <p:cNvSpPr/>
            <p:nvPr/>
          </p:nvSpPr>
          <p:spPr>
            <a:xfrm>
              <a:off x="16012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Text Box 17"/>
            <p:cNvSpPr/>
            <p:nvPr/>
          </p:nvSpPr>
          <p:spPr>
            <a:xfrm>
              <a:off x="750060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Text Box 18"/>
            <p:cNvSpPr/>
            <p:nvPr/>
          </p:nvSpPr>
          <p:spPr>
            <a:xfrm>
              <a:off x="666216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19"/>
            <p:cNvSpPr/>
            <p:nvPr/>
          </p:nvSpPr>
          <p:spPr>
            <a:xfrm>
              <a:off x="57916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Text Box 20"/>
            <p:cNvSpPr/>
            <p:nvPr/>
          </p:nvSpPr>
          <p:spPr>
            <a:xfrm>
              <a:off x="49536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21"/>
            <p:cNvSpPr/>
            <p:nvPr/>
          </p:nvSpPr>
          <p:spPr>
            <a:xfrm>
              <a:off x="41151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22"/>
            <p:cNvSpPr/>
            <p:nvPr/>
          </p:nvSpPr>
          <p:spPr>
            <a:xfrm>
              <a:off x="32770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Text Box 23"/>
            <p:cNvSpPr/>
            <p:nvPr/>
          </p:nvSpPr>
          <p:spPr>
            <a:xfrm>
              <a:off x="24390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Text Box 24"/>
            <p:cNvSpPr/>
            <p:nvPr/>
          </p:nvSpPr>
          <p:spPr>
            <a:xfrm>
              <a:off x="16005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Rectangle 25"/>
            <p:cNvSpPr/>
            <p:nvPr/>
          </p:nvSpPr>
          <p:spPr>
            <a:xfrm>
              <a:off x="71629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26"/>
            <p:cNvSpPr/>
            <p:nvPr/>
          </p:nvSpPr>
          <p:spPr>
            <a:xfrm>
              <a:off x="63244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Rectangle 27"/>
            <p:cNvSpPr/>
            <p:nvPr/>
          </p:nvSpPr>
          <p:spPr>
            <a:xfrm>
              <a:off x="38098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28"/>
            <p:cNvSpPr/>
            <p:nvPr/>
          </p:nvSpPr>
          <p:spPr>
            <a:xfrm>
              <a:off x="46483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Rectangle 29"/>
            <p:cNvSpPr/>
            <p:nvPr/>
          </p:nvSpPr>
          <p:spPr>
            <a:xfrm>
              <a:off x="63244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30"/>
            <p:cNvSpPr/>
            <p:nvPr/>
          </p:nvSpPr>
          <p:spPr>
            <a:xfrm>
              <a:off x="21337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Rectangle 31"/>
            <p:cNvSpPr/>
            <p:nvPr/>
          </p:nvSpPr>
          <p:spPr>
            <a:xfrm>
              <a:off x="54864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Rectangle 32"/>
            <p:cNvSpPr/>
            <p:nvPr/>
          </p:nvSpPr>
          <p:spPr>
            <a:xfrm>
              <a:off x="12952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Rectangle 33"/>
            <p:cNvSpPr/>
            <p:nvPr/>
          </p:nvSpPr>
          <p:spPr>
            <a:xfrm>
              <a:off x="38098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Rectangle 34"/>
            <p:cNvSpPr/>
            <p:nvPr/>
          </p:nvSpPr>
          <p:spPr>
            <a:xfrm>
              <a:off x="29718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I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Rectangle 35"/>
            <p:cNvSpPr/>
            <p:nvPr/>
          </p:nvSpPr>
          <p:spPr>
            <a:xfrm>
              <a:off x="12952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Group 36"/>
          <p:cNvGrpSpPr/>
          <p:nvPr/>
        </p:nvGrpSpPr>
        <p:grpSpPr>
          <a:xfrm>
            <a:off x="5202360" y="990720"/>
            <a:ext cx="4472280" cy="1680480"/>
            <a:chOff x="5202360" y="990720"/>
            <a:chExt cx="4472280" cy="1680480"/>
          </a:xfrm>
        </p:grpSpPr>
        <p:sp>
          <p:nvSpPr>
            <p:cNvPr id="343" name="Text Box 37"/>
            <p:cNvSpPr/>
            <p:nvPr/>
          </p:nvSpPr>
          <p:spPr>
            <a:xfrm>
              <a:off x="5839200" y="990720"/>
              <a:ext cx="31233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Text Box 38"/>
            <p:cNvSpPr/>
            <p:nvPr/>
          </p:nvSpPr>
          <p:spPr>
            <a:xfrm>
              <a:off x="5202360" y="1283040"/>
              <a:ext cx="44722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Text Box 39"/>
            <p:cNvSpPr/>
            <p:nvPr/>
          </p:nvSpPr>
          <p:spPr>
            <a:xfrm>
              <a:off x="6090840" y="21765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Text Box 40"/>
            <p:cNvSpPr/>
            <p:nvPr/>
          </p:nvSpPr>
          <p:spPr>
            <a:xfrm>
              <a:off x="7157520" y="21718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41"/>
            <p:cNvSpPr/>
            <p:nvPr/>
          </p:nvSpPr>
          <p:spPr>
            <a:xfrm>
              <a:off x="8224200" y="216720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Group 42"/>
          <p:cNvGrpSpPr/>
          <p:nvPr/>
        </p:nvGrpSpPr>
        <p:grpSpPr>
          <a:xfrm>
            <a:off x="5680440" y="5280120"/>
            <a:ext cx="3016800" cy="878040"/>
            <a:chOff x="5680440" y="5280120"/>
            <a:chExt cx="3016800" cy="878040"/>
          </a:xfrm>
        </p:grpSpPr>
        <p:sp>
          <p:nvSpPr>
            <p:cNvPr id="349" name="Text Box 43"/>
            <p:cNvSpPr/>
            <p:nvPr/>
          </p:nvSpPr>
          <p:spPr>
            <a:xfrm>
              <a:off x="5680440" y="5280120"/>
              <a:ext cx="2975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Text Box 44"/>
            <p:cNvSpPr/>
            <p:nvPr/>
          </p:nvSpPr>
          <p:spPr>
            <a:xfrm>
              <a:off x="5761080" y="5597280"/>
              <a:ext cx="2936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R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R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Group 45"/>
          <p:cNvGrpSpPr/>
          <p:nvPr/>
        </p:nvGrpSpPr>
        <p:grpSpPr>
          <a:xfrm>
            <a:off x="3513960" y="1415880"/>
            <a:ext cx="2354040" cy="864360"/>
            <a:chOff x="3513960" y="1415880"/>
            <a:chExt cx="2354040" cy="864360"/>
          </a:xfrm>
        </p:grpSpPr>
        <p:sp>
          <p:nvSpPr>
            <p:cNvPr id="352" name="Text Box 46"/>
            <p:cNvSpPr/>
            <p:nvPr/>
          </p:nvSpPr>
          <p:spPr>
            <a:xfrm>
              <a:off x="3732480" y="1415880"/>
              <a:ext cx="187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Text Box 47"/>
            <p:cNvSpPr/>
            <p:nvPr/>
          </p:nvSpPr>
          <p:spPr>
            <a:xfrm>
              <a:off x="3513960" y="167652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AutoShape 48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AutoShape 49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Group 50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357" name="Text Box 51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52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Group 53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360" name="Text Box 54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55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56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363" name="Text Box 57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58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Line 59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60"/>
          <p:cNvSpPr/>
          <p:nvPr/>
        </p:nvSpPr>
        <p:spPr>
          <a:xfrm flipV="1">
            <a:off x="3429000" y="2361960"/>
            <a:ext cx="9144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61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Line 62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63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64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65"/>
          <p:cNvGrpSpPr/>
          <p:nvPr/>
        </p:nvGrpSpPr>
        <p:grpSpPr>
          <a:xfrm>
            <a:off x="237960" y="1143000"/>
            <a:ext cx="1819080" cy="1294560"/>
            <a:chOff x="237960" y="1143000"/>
            <a:chExt cx="1819080" cy="1294560"/>
          </a:xfrm>
        </p:grpSpPr>
        <p:sp>
          <p:nvSpPr>
            <p:cNvPr id="372" name="Text Box 66"/>
            <p:cNvSpPr/>
            <p:nvPr/>
          </p:nvSpPr>
          <p:spPr>
            <a:xfrm>
              <a:off x="237960" y="114300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Text Box 67"/>
            <p:cNvSpPr/>
            <p:nvPr/>
          </p:nvSpPr>
          <p:spPr>
            <a:xfrm>
              <a:off x="262440" y="1905120"/>
              <a:ext cx="16909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Group 68"/>
          <p:cNvGrpSpPr/>
          <p:nvPr/>
        </p:nvGrpSpPr>
        <p:grpSpPr>
          <a:xfrm>
            <a:off x="2098800" y="1143000"/>
            <a:ext cx="1406160" cy="1294560"/>
            <a:chOff x="2098800" y="1143000"/>
            <a:chExt cx="1406160" cy="1294560"/>
          </a:xfrm>
        </p:grpSpPr>
        <p:sp>
          <p:nvSpPr>
            <p:cNvPr id="375" name="Text Box 69"/>
            <p:cNvSpPr/>
            <p:nvPr/>
          </p:nvSpPr>
          <p:spPr>
            <a:xfrm>
              <a:off x="2098800" y="114300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70"/>
            <p:cNvSpPr/>
            <p:nvPr/>
          </p:nvSpPr>
          <p:spPr>
            <a:xfrm>
              <a:off x="2130840" y="190512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Line 71"/>
          <p:cNvSpPr/>
          <p:nvPr/>
        </p:nvSpPr>
        <p:spPr>
          <a:xfrm flipV="1">
            <a:off x="2590920" y="2438280"/>
            <a:ext cx="759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72"/>
          <p:cNvSpPr/>
          <p:nvPr/>
        </p:nvSpPr>
        <p:spPr>
          <a:xfrm flipH="1" flipV="1">
            <a:off x="1218960" y="2438280"/>
            <a:ext cx="5331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2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s synchronous serial communicatio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wo wire transmit or receive (half duplex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e wire transmit and receive (full duplex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ftware configurable as master or slav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28x provides clock signal in master mo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ta length programmable from 1-16 bi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25 different programmable baud rat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382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Data Flow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143000" y="3627360"/>
            <a:ext cx="2666880" cy="1676520"/>
            <a:chOff x="1143000" y="3627360"/>
            <a:chExt cx="2666880" cy="1676520"/>
          </a:xfrm>
        </p:grpSpPr>
        <p:sp>
          <p:nvSpPr>
            <p:cNvPr id="72" name="Rectangle 4"/>
            <p:cNvSpPr/>
            <p:nvPr/>
          </p:nvSpPr>
          <p:spPr>
            <a:xfrm>
              <a:off x="1143000" y="3627360"/>
              <a:ext cx="2666880" cy="16765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1380960" y="4236840"/>
              <a:ext cx="2314440" cy="33768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 Shift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6"/>
          <p:cNvGrpSpPr/>
          <p:nvPr/>
        </p:nvGrpSpPr>
        <p:grpSpPr>
          <a:xfrm>
            <a:off x="5181480" y="3627360"/>
            <a:ext cx="2667240" cy="1676520"/>
            <a:chOff x="5181480" y="3627360"/>
            <a:chExt cx="2667240" cy="1676520"/>
          </a:xfrm>
        </p:grpSpPr>
        <p:sp>
          <p:nvSpPr>
            <p:cNvPr id="75" name="Rectangle 7"/>
            <p:cNvSpPr/>
            <p:nvPr/>
          </p:nvSpPr>
          <p:spPr>
            <a:xfrm>
              <a:off x="5181480" y="3627360"/>
              <a:ext cx="2667240" cy="16765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5419800" y="4236840"/>
              <a:ext cx="2314440" cy="33768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 Shift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9"/>
          <p:cNvSpPr/>
          <p:nvPr/>
        </p:nvSpPr>
        <p:spPr>
          <a:xfrm flipH="1">
            <a:off x="3714480" y="4414680"/>
            <a:ext cx="1695240" cy="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Freeform 10"/>
          <p:cNvSpPr/>
          <p:nvPr/>
        </p:nvSpPr>
        <p:spPr>
          <a:xfrm>
            <a:off x="642960" y="2928960"/>
            <a:ext cx="8172360" cy="1493640"/>
          </a:xfrm>
          <a:custGeom>
            <a:avLst/>
            <a:gdLst>
              <a:gd name="textAreaLeft" fmla="*/ 0 w 8172360"/>
              <a:gd name="textAreaRight" fmla="*/ 8172720 w 8172360"/>
              <a:gd name="textAreaTop" fmla="*/ 0 h 1493640"/>
              <a:gd name="textAreaBottom" fmla="*/ 1494000 h 1493640"/>
            </a:gdLst>
            <a:ahLst/>
            <a:rect l="textAreaLeft" t="textAreaTop" r="textAreaRight" b="textAreaBottom"/>
            <a:pathLst>
              <a:path w="4968" h="941">
                <a:moveTo>
                  <a:pt x="455" y="941"/>
                </a:moveTo>
                <a:lnTo>
                  <a:pt x="0" y="937"/>
                </a:lnTo>
                <a:lnTo>
                  <a:pt x="0" y="0"/>
                </a:lnTo>
                <a:lnTo>
                  <a:pt x="4968" y="0"/>
                </a:lnTo>
                <a:lnTo>
                  <a:pt x="4968" y="937"/>
                </a:lnTo>
                <a:lnTo>
                  <a:pt x="4356" y="937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045440" y="3246480"/>
            <a:ext cx="2881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 Device #1 - Ma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5180760" y="3246480"/>
            <a:ext cx="2724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 Device #2 - Sl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205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ultaneous transmits and receiv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I Master provides the clock sign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14"/>
          <p:cNvSpPr/>
          <p:nvPr/>
        </p:nvSpPr>
        <p:spPr>
          <a:xfrm flipH="1">
            <a:off x="1447560" y="408456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213280" y="3747960"/>
            <a:ext cx="71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i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16"/>
          <p:cNvSpPr/>
          <p:nvPr/>
        </p:nvSpPr>
        <p:spPr>
          <a:xfrm flipH="1">
            <a:off x="5486040" y="407844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6251760" y="3741840"/>
            <a:ext cx="71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i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3809880" y="499896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118760" y="4997520"/>
            <a:ext cx="831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33520" y="1066680"/>
            <a:ext cx="6102360" cy="5562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Block Diagra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2971800" y="2717640"/>
            <a:ext cx="2133720" cy="393840"/>
            <a:chOff x="2971800" y="2717640"/>
            <a:chExt cx="2133720" cy="393840"/>
          </a:xfrm>
        </p:grpSpPr>
        <p:sp>
          <p:nvSpPr>
            <p:cNvPr id="91" name="Rectangle 5"/>
            <p:cNvSpPr/>
            <p:nvPr/>
          </p:nvSpPr>
          <p:spPr>
            <a:xfrm>
              <a:off x="2971800" y="2717640"/>
              <a:ext cx="213372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3051360" y="2717640"/>
              <a:ext cx="1989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PIRXBUF.15-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Group 7"/>
          <p:cNvGrpSpPr/>
          <p:nvPr/>
        </p:nvGrpSpPr>
        <p:grpSpPr>
          <a:xfrm>
            <a:off x="2971800" y="3467160"/>
            <a:ext cx="2133720" cy="393840"/>
            <a:chOff x="2971800" y="3467160"/>
            <a:chExt cx="2133720" cy="393840"/>
          </a:xfrm>
        </p:grpSpPr>
        <p:sp>
          <p:nvSpPr>
            <p:cNvPr id="94" name="Rectangle 8"/>
            <p:cNvSpPr/>
            <p:nvPr/>
          </p:nvSpPr>
          <p:spPr>
            <a:xfrm>
              <a:off x="2971800" y="3479760"/>
              <a:ext cx="2133720" cy="367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3229200" y="3467160"/>
              <a:ext cx="1649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PIDAT.15-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Rectangle 10"/>
          <p:cNvSpPr/>
          <p:nvPr/>
        </p:nvSpPr>
        <p:spPr>
          <a:xfrm>
            <a:off x="7398000" y="605808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7402680" y="3457440"/>
            <a:ext cx="123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SO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7402680" y="1143000"/>
            <a:ext cx="123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S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5105160" y="3668760"/>
            <a:ext cx="225108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14"/>
          <p:cNvSpPr/>
          <p:nvPr/>
        </p:nvSpPr>
        <p:spPr>
          <a:xfrm>
            <a:off x="1752480" y="1320840"/>
            <a:ext cx="5540400" cy="2362320"/>
          </a:xfrm>
          <a:custGeom>
            <a:avLst/>
            <a:gdLst>
              <a:gd name="textAreaLeft" fmla="*/ 0 w 5540400"/>
              <a:gd name="textAreaRight" fmla="*/ 5540760 w 554040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3490" h="1184">
                <a:moveTo>
                  <a:pt x="770" y="1184"/>
                </a:moveTo>
                <a:lnTo>
                  <a:pt x="0" y="1181"/>
                </a:lnTo>
                <a:lnTo>
                  <a:pt x="0" y="3"/>
                </a:lnTo>
                <a:lnTo>
                  <a:pt x="349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792000" y="6070320"/>
            <a:ext cx="1198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SP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2438280" y="5969160"/>
            <a:ext cx="838440" cy="533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465640" y="6132600"/>
            <a:ext cx="7340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3768840" y="5969160"/>
            <a:ext cx="968400" cy="533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744360" y="6107400"/>
            <a:ext cx="1044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l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5230800" y="5969160"/>
            <a:ext cx="890640" cy="533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297760" y="6107400"/>
            <a:ext cx="8038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3276720" y="6235560"/>
            <a:ext cx="4824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4749840" y="6235560"/>
            <a:ext cx="4698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6121440" y="6235560"/>
            <a:ext cx="119376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1955880" y="6235560"/>
            <a:ext cx="4824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344160" y="681480"/>
            <a:ext cx="4704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28x - SPI Master Mode Sh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7"/>
          <p:cNvGrpSpPr/>
          <p:nvPr/>
        </p:nvGrpSpPr>
        <p:grpSpPr>
          <a:xfrm>
            <a:off x="2971800" y="4267080"/>
            <a:ext cx="2133720" cy="393840"/>
            <a:chOff x="2971800" y="4267080"/>
            <a:chExt cx="2133720" cy="393840"/>
          </a:xfrm>
        </p:grpSpPr>
        <p:sp>
          <p:nvSpPr>
            <p:cNvPr id="114" name="Rectangle 28"/>
            <p:cNvSpPr/>
            <p:nvPr/>
          </p:nvSpPr>
          <p:spPr>
            <a:xfrm>
              <a:off x="2971800" y="4276800"/>
              <a:ext cx="2133720" cy="3715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3048840" y="4267080"/>
              <a:ext cx="197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PITXBUF.15-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Text Box 30"/>
          <p:cNvSpPr/>
          <p:nvPr/>
        </p:nvSpPr>
        <p:spPr>
          <a:xfrm>
            <a:off x="5271840" y="3402360"/>
            <a:ext cx="5176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2387880" y="3412080"/>
            <a:ext cx="566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32"/>
          <p:cNvSpPr/>
          <p:nvPr/>
        </p:nvSpPr>
        <p:spPr>
          <a:xfrm flipV="1">
            <a:off x="4038480" y="3098520"/>
            <a:ext cx="0" cy="393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33"/>
          <p:cNvSpPr/>
          <p:nvPr/>
        </p:nvSpPr>
        <p:spPr>
          <a:xfrm flipV="1">
            <a:off x="4038480" y="3882960"/>
            <a:ext cx="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Group 34"/>
          <p:cNvGrpSpPr/>
          <p:nvPr/>
        </p:nvGrpSpPr>
        <p:grpSpPr>
          <a:xfrm>
            <a:off x="2971800" y="4645080"/>
            <a:ext cx="2138400" cy="1158480"/>
            <a:chOff x="2971800" y="4645080"/>
            <a:chExt cx="2138400" cy="1158480"/>
          </a:xfrm>
        </p:grpSpPr>
        <p:sp>
          <p:nvSpPr>
            <p:cNvPr id="121" name="Rectangle 35"/>
            <p:cNvSpPr/>
            <p:nvPr/>
          </p:nvSpPr>
          <p:spPr>
            <a:xfrm>
              <a:off x="2971800" y="4645080"/>
              <a:ext cx="2133360" cy="114624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36"/>
            <p:cNvSpPr/>
            <p:nvPr/>
          </p:nvSpPr>
          <p:spPr>
            <a:xfrm>
              <a:off x="3275640" y="4660920"/>
              <a:ext cx="159048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X FIFO_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X FIFO_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2976480" y="49960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2977920" y="514836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>
              <a:off x="2979720" y="530064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>
              <a:off x="2974680" y="54532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Group 41"/>
          <p:cNvGrpSpPr/>
          <p:nvPr/>
        </p:nvGrpSpPr>
        <p:grpSpPr>
          <a:xfrm>
            <a:off x="2971800" y="1574640"/>
            <a:ext cx="2138400" cy="1158480"/>
            <a:chOff x="2971800" y="1574640"/>
            <a:chExt cx="2138400" cy="1158480"/>
          </a:xfrm>
        </p:grpSpPr>
        <p:sp>
          <p:nvSpPr>
            <p:cNvPr id="128" name="Rectangle 42"/>
            <p:cNvSpPr/>
            <p:nvPr/>
          </p:nvSpPr>
          <p:spPr>
            <a:xfrm>
              <a:off x="2971800" y="1574640"/>
              <a:ext cx="2133720" cy="1145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43"/>
            <p:cNvSpPr/>
            <p:nvPr/>
          </p:nvSpPr>
          <p:spPr>
            <a:xfrm>
              <a:off x="3275640" y="1590480"/>
              <a:ext cx="160560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X FIFO_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X FIFO_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44"/>
            <p:cNvSpPr/>
            <p:nvPr/>
          </p:nvSpPr>
          <p:spPr>
            <a:xfrm>
              <a:off x="2976480" y="19252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45"/>
            <p:cNvSpPr/>
            <p:nvPr/>
          </p:nvSpPr>
          <p:spPr>
            <a:xfrm>
              <a:off x="2978280" y="2077560"/>
              <a:ext cx="2130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46"/>
            <p:cNvSpPr/>
            <p:nvPr/>
          </p:nvSpPr>
          <p:spPr>
            <a:xfrm>
              <a:off x="2979720" y="223020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47"/>
            <p:cNvSpPr/>
            <p:nvPr/>
          </p:nvSpPr>
          <p:spPr>
            <a:xfrm>
              <a:off x="2975040" y="23824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Data Character Justifica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7480" y="14479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mable data length of 1 to 16 b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mitted data of less than 16 bits must be left justifi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173160">
              <a:lnSpc>
                <a:spcPct val="70000"/>
              </a:lnSpc>
              <a:spcBef>
                <a:spcPts val="1324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SB transmitted firs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35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eived data of less than 16 bits are right justifi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35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 software must mask-off unused MSB’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099040" y="2371680"/>
            <a:ext cx="3206880" cy="454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01001XXXXXXX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029200" y="4495680"/>
            <a:ext cx="3200400" cy="454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XXX11001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6189840" y="3560760"/>
            <a:ext cx="1106280" cy="307800"/>
          </a:xfrm>
          <a:prstGeom prst="rightArrow">
            <a:avLst>
              <a:gd name="adj1" fmla="val 50000"/>
              <a:gd name="adj2" fmla="val 17972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259960" y="2000520"/>
            <a:ext cx="257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DAT – Device #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501880" y="4143600"/>
            <a:ext cx="251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DAT - Device #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4741920" y="2590920"/>
            <a:ext cx="4097160" cy="2158920"/>
          </a:xfrm>
          <a:custGeom>
            <a:avLst/>
            <a:gdLst>
              <a:gd name="textAreaLeft" fmla="*/ 0 w 4097160"/>
              <a:gd name="textAreaRight" fmla="*/ 4097520 w 409716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581" h="1360">
                <a:moveTo>
                  <a:pt x="223" y="0"/>
                </a:moveTo>
                <a:lnTo>
                  <a:pt x="0" y="4"/>
                </a:lnTo>
                <a:lnTo>
                  <a:pt x="0" y="711"/>
                </a:lnTo>
                <a:lnTo>
                  <a:pt x="2581" y="711"/>
                </a:lnTo>
                <a:lnTo>
                  <a:pt x="2581" y="1360"/>
                </a:lnTo>
                <a:lnTo>
                  <a:pt x="2298" y="136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43" name="Gruppieren 11"/>
          <p:cNvGrpSpPr/>
          <p:nvPr/>
        </p:nvGrpSpPr>
        <p:grpSpPr>
          <a:xfrm>
            <a:off x="285840" y="714240"/>
            <a:ext cx="8636040" cy="5338800"/>
            <a:chOff x="285840" y="714240"/>
            <a:chExt cx="8636040" cy="5338800"/>
          </a:xfrm>
        </p:grpSpPr>
        <p:sp>
          <p:nvSpPr>
            <p:cNvPr id="144" name="Rectangle 2"/>
            <p:cNvSpPr/>
            <p:nvPr/>
          </p:nvSpPr>
          <p:spPr>
            <a:xfrm>
              <a:off x="285840" y="714240"/>
              <a:ext cx="8534520" cy="6094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85840" y="1323720"/>
              <a:ext cx="8534520" cy="47246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311040" y="714240"/>
              <a:ext cx="8610840" cy="51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ress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gist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0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CC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configuration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1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CTL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operation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STS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tatus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4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BR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baud rate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6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RXEMU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receive emulation buffer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7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RXBUF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erial receive buffer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8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TXBUF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erial transmit buffer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9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DAT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erial data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A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FFTX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FIFO transmit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B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FFRX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FIFO receive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FFCT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FIFO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F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PRI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priority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1758960" y="726840"/>
              <a:ext cx="0" cy="5326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 flipH="1">
              <a:off x="3841920" y="726840"/>
              <a:ext cx="2880" cy="5326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285840" y="292392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285840" y="330516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285840" y="446076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285840" y="560376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52280" y="1604880"/>
            <a:ext cx="190512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574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8954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733920" y="1604880"/>
            <a:ext cx="25146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24852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0866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Configuration Control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CCR @ 0x007040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815472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79246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36740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656100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36988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0184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4497480" y="1300320"/>
            <a:ext cx="48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-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4196880" y="166896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778360" y="2604600"/>
            <a:ext cx="298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 CHAR.3-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8"/>
          <p:cNvSpPr/>
          <p:nvPr/>
        </p:nvSpPr>
        <p:spPr>
          <a:xfrm rot="5400000">
            <a:off x="6973560" y="572760"/>
            <a:ext cx="225720" cy="3353040"/>
          </a:xfrm>
          <a:custGeom>
            <a:avLst/>
            <a:gdLst>
              <a:gd name="textAreaLeft" fmla="*/ 0 w 225720"/>
              <a:gd name="textAreaRight" fmla="*/ 81360 w 2257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5489280" y="2937600"/>
            <a:ext cx="35074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racter length = number +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000b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length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11b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length = 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2692440" y="5312880"/>
            <a:ext cx="26146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 SW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SPI flags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normal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497760" y="4106520"/>
            <a:ext cx="355824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CLOCK POL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rising edge data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falling edge data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22"/>
          <p:cNvSpPr/>
          <p:nvPr/>
        </p:nvSpPr>
        <p:spPr>
          <a:xfrm>
            <a:off x="2476440" y="2062080"/>
            <a:ext cx="190440" cy="3429000"/>
          </a:xfrm>
          <a:custGeom>
            <a:avLst/>
            <a:gdLst>
              <a:gd name="textAreaLeft" fmla="*/ 0 w 190440"/>
              <a:gd name="textAreaRight" fmla="*/ 190800 w 19044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44" h="2304">
                <a:moveTo>
                  <a:pt x="0" y="0"/>
                </a:moveTo>
                <a:lnTo>
                  <a:pt x="0" y="2304"/>
                </a:lnTo>
                <a:lnTo>
                  <a:pt x="144" y="230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23"/>
          <p:cNvSpPr/>
          <p:nvPr/>
        </p:nvSpPr>
        <p:spPr>
          <a:xfrm>
            <a:off x="3276720" y="2062080"/>
            <a:ext cx="228600" cy="2210040"/>
          </a:xfrm>
          <a:custGeom>
            <a:avLst/>
            <a:gdLst>
              <a:gd name="textAreaLeft" fmla="*/ 0 w 228600"/>
              <a:gd name="textAreaRight" fmla="*/ 228960 w 22860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144" h="1344">
                <a:moveTo>
                  <a:pt x="0" y="0"/>
                </a:move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91560" y="166752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871560" y="130032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5410080" y="16095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5722920" y="12952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5800" y="3321000"/>
            <a:ext cx="312408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809880" y="33210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48320" y="33210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486400" y="33210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324480" y="33210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Operation Control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CTL @ 0x007041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739296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7162920" y="33210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660528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79888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836720" y="301608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403992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487836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1682280" y="340272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1853280" y="4851000"/>
            <a:ext cx="302292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CLOCK 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no CLK de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CLK delayed 1/2 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404280" y="1333080"/>
            <a:ext cx="30520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OVERRUN INT EN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888000" y="1333080"/>
            <a:ext cx="21726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MASTER/SL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sl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ma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5214960" y="4853520"/>
            <a:ext cx="40784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TA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transmission disabl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ISIMO at high imped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transmission en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6449040" y="1561680"/>
            <a:ext cx="21862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 INT EN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7543800" y="2558880"/>
            <a:ext cx="0" cy="40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4952880" y="2435400"/>
            <a:ext cx="990720" cy="504720"/>
          </a:xfrm>
          <a:custGeom>
            <a:avLst/>
            <a:gdLst>
              <a:gd name="textAreaLeft" fmla="*/ 0 w 990720"/>
              <a:gd name="textAreaRight" fmla="*/ 991080 w 9907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624" h="318">
                <a:moveTo>
                  <a:pt x="624" y="318"/>
                </a:moveTo>
                <a:lnTo>
                  <a:pt x="624" y="161"/>
                </a:lnTo>
                <a:lnTo>
                  <a:pt x="0" y="161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6781680" y="3778200"/>
            <a:ext cx="685800" cy="99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80" h="816">
                <a:moveTo>
                  <a:pt x="0" y="0"/>
                </a:moveTo>
                <a:lnTo>
                  <a:pt x="0" y="336"/>
                </a:lnTo>
                <a:lnTo>
                  <a:pt x="480" y="336"/>
                </a:lnTo>
                <a:lnTo>
                  <a:pt x="480" y="81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3887640" y="3778200"/>
            <a:ext cx="1214640" cy="10018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765" h="631">
                <a:moveTo>
                  <a:pt x="764" y="0"/>
                </a:moveTo>
                <a:lnTo>
                  <a:pt x="765" y="343"/>
                </a:lnTo>
                <a:lnTo>
                  <a:pt x="0" y="343"/>
                </a:lnTo>
                <a:lnTo>
                  <a:pt x="0" y="631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1828800" y="2406600"/>
            <a:ext cx="2362320" cy="533520"/>
          </a:xfrm>
          <a:custGeom>
            <a:avLst/>
            <a:gdLst>
              <a:gd name="textAreaLeft" fmla="*/ 0 w 2362320"/>
              <a:gd name="textAreaRight" fmla="*/ 2362320 w 2362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488" h="576">
                <a:moveTo>
                  <a:pt x="1488" y="576"/>
                </a:moveTo>
                <a:lnTo>
                  <a:pt x="1488" y="288"/>
                </a:lnTo>
                <a:lnTo>
                  <a:pt x="0" y="2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838080" y="2209680"/>
            <a:ext cx="335304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191120" y="2209680"/>
            <a:ext cx="39621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62120" y="3400560"/>
            <a:ext cx="7619760" cy="24382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Baud Rate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BRR @ 0x007044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287800" y="190512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989680" y="1905120"/>
            <a:ext cx="48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085480" y="227376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382000" y="2297880"/>
            <a:ext cx="167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I BIT 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839160" y="4475880"/>
            <a:ext cx="2404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ICLK signal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Group 11"/>
          <p:cNvGrpSpPr/>
          <p:nvPr/>
        </p:nvGrpSpPr>
        <p:grpSpPr>
          <a:xfrm>
            <a:off x="3754800" y="3716280"/>
            <a:ext cx="1686600" cy="740160"/>
            <a:chOff x="3754800" y="3716280"/>
            <a:chExt cx="1686600" cy="740160"/>
          </a:xfrm>
        </p:grpSpPr>
        <p:sp>
          <p:nvSpPr>
            <p:cNvPr id="213" name="Text Box 12"/>
            <p:cNvSpPr/>
            <p:nvPr/>
          </p:nvSpPr>
          <p:spPr>
            <a:xfrm>
              <a:off x="3754800" y="3716280"/>
              <a:ext cx="168660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SPCL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SPIBRR + 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3778200" y="4086360"/>
              <a:ext cx="1662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Group 14"/>
          <p:cNvGrpSpPr/>
          <p:nvPr/>
        </p:nvGrpSpPr>
        <p:grpSpPr>
          <a:xfrm>
            <a:off x="3913200" y="4949640"/>
            <a:ext cx="1569960" cy="740160"/>
            <a:chOff x="3913200" y="4949640"/>
            <a:chExt cx="1569960" cy="740160"/>
          </a:xfrm>
        </p:grpSpPr>
        <p:sp>
          <p:nvSpPr>
            <p:cNvPr id="216" name="Text Box 15"/>
            <p:cNvSpPr/>
            <p:nvPr/>
          </p:nvSpPr>
          <p:spPr>
            <a:xfrm>
              <a:off x="4117680" y="4949640"/>
              <a:ext cx="119880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SPCL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3913200" y="5319720"/>
              <a:ext cx="1569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Text Box 17"/>
          <p:cNvSpPr/>
          <p:nvPr/>
        </p:nvSpPr>
        <p:spPr>
          <a:xfrm>
            <a:off x="5437440" y="3857040"/>
            <a:ext cx="2698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IBRR = 3 to 1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5442480" y="5121000"/>
            <a:ext cx="2789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IBRR = 0, 1, 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19"/>
          <p:cNvSpPr/>
          <p:nvPr/>
        </p:nvSpPr>
        <p:spPr>
          <a:xfrm rot="10800000">
            <a:off x="3276360" y="370512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2"/>
                </a:lnTo>
                <a:cubicBezTo>
                  <a:pt x="10800" y="9912"/>
                  <a:pt x="16200" y="10812"/>
                  <a:pt x="21600" y="10812"/>
                </a:cubicBezTo>
                <a:cubicBezTo>
                  <a:pt x="16200" y="10812"/>
                  <a:pt x="10800" y="11712"/>
                  <a:pt x="10800" y="1261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1204560" y="1294560"/>
            <a:ext cx="7509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to set this only when in master mod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143000" y="1371600"/>
            <a:ext cx="18288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Status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STS @ 0x007042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971800" y="13716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809880" y="13716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284280" y="10666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16240" y="10666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510240" y="1066680"/>
            <a:ext cx="48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524480" y="3363840"/>
            <a:ext cx="430704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69920" indent="-169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SPI INT FLA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read on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to 1 when transfer comple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rupt requested if SPI INT 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t set (SPICTL.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eared by reading SPIBRXU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056960" y="4987800"/>
            <a:ext cx="72680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69920" indent="-169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RECEIVER OVERRU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read/clear on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to 1 if next reception completes before SPIRXBUF 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rupt requested if OVERRUN INT ENA bit set (SPICTL.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eared by writing a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4648320" y="1371600"/>
            <a:ext cx="350496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330600" y="144684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551960" y="144684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760760" y="106668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Freeform 15"/>
          <p:cNvSpPr/>
          <p:nvPr/>
        </p:nvSpPr>
        <p:spPr>
          <a:xfrm>
            <a:off x="4267080" y="1828800"/>
            <a:ext cx="228600" cy="1700280"/>
          </a:xfrm>
          <a:custGeom>
            <a:avLst/>
            <a:gdLst>
              <a:gd name="textAreaLeft" fmla="*/ 0 w 228600"/>
              <a:gd name="textAreaRight" fmla="*/ 228960 w 228600"/>
              <a:gd name="textAreaTop" fmla="*/ 0 h 1700280"/>
              <a:gd name="textAreaBottom" fmla="*/ 1700640 h 1700280"/>
            </a:gdLst>
            <a:ahLst/>
            <a:rect l="textAreaLeft" t="textAreaTop" r="textAreaRight" b="textAreaBottom"/>
            <a:pathLst>
              <a:path w="1152" h="576">
                <a:moveTo>
                  <a:pt x="0" y="0"/>
                </a:moveTo>
                <a:lnTo>
                  <a:pt x="0" y="576"/>
                </a:lnTo>
                <a:lnTo>
                  <a:pt x="1152" y="57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3429000" y="1828800"/>
            <a:ext cx="0" cy="312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4648320" y="13716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5255280" y="2107080"/>
            <a:ext cx="373752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TX BUF FU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read on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to 1 when char writ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SPITXBU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eared when char in SPID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986360" y="10666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20"/>
          <p:cNvSpPr/>
          <p:nvPr/>
        </p:nvSpPr>
        <p:spPr>
          <a:xfrm>
            <a:off x="5057640" y="18288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152" h="576">
                <a:moveTo>
                  <a:pt x="0" y="0"/>
                </a:moveTo>
                <a:lnTo>
                  <a:pt x="0" y="576"/>
                </a:lnTo>
                <a:lnTo>
                  <a:pt x="1152" y="57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7</cp:keywords>
  <dc:language>en-US</dc:language>
  <cp:lastModifiedBy>Windows-Benutzer</cp:lastModifiedBy>
  <dcterms:modified xsi:type="dcterms:W3CDTF">2009-09-18T06:06:17Z</dcterms:modified>
  <cp:revision>57</cp:revision>
  <dc:subject/>
  <dc:title>Part 1 Module 6 Analogue Digital Converter</dc:title>
</cp:coreProperties>
</file>